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chimes.wav" ContentType="audio/x-wav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B8D2-1829-4A6D-878C-1E62DE3D6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E767-6AC8-40BD-9664-9C91EFB94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95AC-3530-4056-B69E-0D2D31624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42A0-CBE3-421C-871B-F26150C4F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16BA-20E8-4C8F-9FBC-7759FCE26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10AB-A984-48C1-A0F0-6099384D7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EF0F-07E5-4A01-89E6-216E4E01E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94CD-24F4-455A-BEB5-F222B7D67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4234-FA36-4A85-9113-1ABF1217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C8D9-8CEF-4DCB-AA68-47FC9CB8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B06B8-4E50-4469-B86E-19E3D097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02EAC-E676-49E6-B1AE-A8689E86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26BCB-0F23-4EA9-BD61-5FDEAEF2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D735D-9403-4FD5-BB43-D85EF62C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AB773-B215-433B-A34D-9C20D54A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66EB2-9E3A-4E9D-8FD8-B5335630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C48F7-4116-4F12-9236-6096FBD7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55D46-5472-4D65-89B3-827AE2CD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71D46-44C5-4BD9-BDFC-3933071A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EC90E-2762-4885-ACA1-9C1FB98C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51A5-EBB3-4862-8259-D7E929C4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D7950-86CA-4460-8AC4-41752F98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3A775-7F87-4538-A1D5-36434732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A1E5D-E9BA-4B3F-9961-CC5827D5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AC9B5-407D-4C71-B162-05751608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9426C-9166-4F83-A565-4C1C3C0F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6CABD-3D01-4663-8104-D4AE94E5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A2C39-0D62-47A4-A280-C588E17A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729A6-4AA0-4E38-AFF5-0D6FEF69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ADDFA-25B4-4A53-96A0-8974BD5B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085AB-EF47-46AF-ACEF-DB5E5AA3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D995-1F97-47AE-AD5E-0A757317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2C7A3-750F-49FE-86F8-AC5CB910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B09F3-4691-4003-8456-59B99F2F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19AC1-7E80-49D2-A139-7601A816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2FEBA-E204-46FD-A719-2C9AED64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8802A-0E93-4EF6-8532-23E2AAB2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2DEFA-0C71-464C-B5AC-6E2C5829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ADFF7-D10E-4995-8A61-C05DCC33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2512F-9084-43CC-869C-AF236055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CFD3A-DDBA-4C56-91BE-8B6727D7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0810C-F0A6-4C78-8BDA-30FD91BA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01D4-3423-4112-A7DB-F8C78E8F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D6045-25FE-4F5D-9E02-DE1A5112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3FFCB-C30A-4F47-B1C0-EFFBDC61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AD075-F81F-4A0E-98EE-54FB9B09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A0847-5F31-4C7B-9B8F-16121D12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15BB4-301F-4F2B-ADFC-09710C42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0C2E0-ADCE-4969-8217-2D31BA78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9F5E4-23C2-4707-A989-C886EE53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9D974-8BC6-4A62-ADB5-40C8B0CE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188BE-A2B6-4591-A4E1-59D96378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CCB6F-09E3-4896-88D4-CB5A61F4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B7FF-B33C-4638-BC62-E9EB4370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2BE59-32AB-43DF-932F-8D95D23C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50147-BAED-4338-9D2A-6F26A65C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3540A-AB97-4897-8675-1104085C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9D9F4-D3CA-4044-9CEA-745EE5B7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A5CA1-31C7-405A-8A2B-B5BDBECE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FEC732-DEC4-4B80-8732-4A9F927E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4498F-562F-458F-AA29-45AA9421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B3234-6D84-4D1D-9C03-DF17B3B6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D58095-87CB-456C-BA35-E297E10A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277F5E-1E8E-4032-8206-F8928145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72E1-1A03-4B9B-97B7-E078ED38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65D861-BB2C-46C8-9D51-B6161C80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0D390B-2195-4C85-BE9A-FDF4FCA5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E30A4-52F9-401D-A098-A925B90F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8382C7-6D2E-45B9-BE79-CD7652B4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36E288-E3AC-44CB-94DA-56764413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00576C-A1B0-4187-8827-D931EC6E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0A172-9AA7-4CAD-827C-3DD8F97B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06A0-D11B-4181-B7E0-9F1BF321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9E4F-58D6-4913-B7D5-C70ACF01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D024-C1AE-4A40-8091-4760BF54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1259-BC76-4B32-8FC5-640B0883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31F1-46E9-4D68-81FE-B2B33900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EFD2-580A-4891-943D-B5E722CD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64A4-395B-41C9-BCE9-08A71BB1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3F89-3FFE-4E51-B3B0-45EB4C42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6355-877A-4C8B-BB08-A8A43488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724B-E321-4004-B207-C1371D82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6ED2F-7DE9-4C37-AC29-0B91751D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81D1B-1FA9-4E81-BA7A-26001692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A3E34-186E-457A-9CFF-F758F1B0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A5E35-A5CE-4B29-8792-EFB6A88A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F4523-01D5-4258-802C-7A89E4C9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42B7-D65E-4774-9CC5-6A8C593B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94ABA-8D3F-464F-B076-E58861D1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A298A-5A13-4B02-8AD0-BA96B37F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DF86E-4A9D-44AB-A4FF-307D99A6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05281-587E-42DB-A66D-CBC26995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E0150-D228-472D-8AA4-0C41D0A3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4D2BB-39B2-4A3F-B1C0-BA2E97E5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23651-FAE4-482E-819A-E26803CE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AE51B-77F7-4724-8A66-F5AF8216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6B7B6-6B15-4204-9232-6FF17D4D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90FFF-B645-418A-B422-B5B66396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ED5D-0EAB-41C4-8A19-2EA3F2BF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E3872-809F-40AE-B93D-7AC3EAC9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B9BE2-F0A0-48C1-889C-11412908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DA3E2-A668-4190-8B95-CEBAE2F0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55960-26B5-4D6C-81CF-859AD597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067E7-D626-432F-855B-464C5742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9E30E-31AB-49B2-90CE-2EFEDF55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A597A-DEA4-456F-ACDF-FD95FDC5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172C5-6BA6-418C-8A70-AC67C36C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7EB04-6DB3-40C9-945C-6D4964E0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E34AB-51BF-48C7-B70A-961D62AE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6AD8-F257-46EF-927B-3F4C7EFF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99DA5-1078-4F95-81F2-DDFF8C89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7F658-AAC9-412E-B9AB-0B67431A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E588B-F1D5-4F8B-99A4-706A3852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F31FA-B0B2-4ED3-8D7C-0F349B27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1EC28-6E5A-46BF-91DA-F4A692FE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D2986-0C84-4CC8-8E92-4DF0B9AC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E2425-729A-42B6-9CC9-61C05198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C6810-5390-430C-89AC-9D7A3CFF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7ED4D-7757-4587-871C-5C83D3C9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3893A-D72D-43E5-9BC0-14489C97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8F00-278B-4011-B0B9-22E9810B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8DD84-B933-4634-93EA-74F28E15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49830-3D36-4CBB-95E2-FFCE7239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D0F23-34E3-4563-A7DF-5F20983B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6D4F7-3589-4E21-8EF8-A0833826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CC743-44F5-4349-818B-37AB3E32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53C82-05A0-4F65-AE4D-9D6C2F1F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EA872-D4EA-4EE7-9580-3FD39501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9ACA3-7336-4467-A4B1-8C0DAFBB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E8181-E408-42FD-A1C1-D2932E5B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D21E7-C8BD-46C9-B183-EFF8A878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B81A-DFFC-464D-B795-2EECB053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C3BDB-66B1-4356-B477-EC9EE2A0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8BDD4-24A2-4A18-97DE-696ECD35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C0FD8-26FE-4855-B03E-54C475DD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9035B-97E0-41BE-A722-3099336E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5A6DD-1B50-4EFA-BED9-8E52780F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CD59D-3A92-4482-96A8-A00996E7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70402-44BB-417C-A9BB-835B9FD1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B40A0-4A38-4E39-A9B8-33F6E6FC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67B76-240D-4027-ABF7-1C06F872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62F7D-CF14-4776-A367-7EC1247D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0E20-5BAC-411F-BA6D-B1E2BE53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C3366-47C2-4668-95AE-74277974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ED449-FA05-47E2-8B1B-7501D903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7B950-2009-4D68-9818-FC8CE426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26705-0555-4F88-89EA-06DB310D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D2939-D252-4FDD-86A0-8ADEDD4E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27A3B-D9A9-45CC-97A3-54DE9F71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242DB-ADE5-4AE4-B89E-1E9033E1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9B97E-50B2-4034-9B8D-9C67E395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8C679-44C9-454A-BB6C-D4BE158E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E0584-44A5-4A8C-8D35-3305539B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57BA-0FF2-461D-9F97-11CA3F85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E12F4-AA69-474F-9D46-0FCD72C5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AAAAC-1DC1-4E73-ACB8-686E3ADE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8DB17-CA70-4787-ACB7-7399D4E4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A8751-07B7-46BE-A002-707BCF18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37D65-F2EF-4540-B3E5-C521617F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A82C5-8CA5-42C5-99F1-A17AE1B7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21E77-46B4-44AC-BB36-DB5F44CD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BFE00-AC5B-4BC4-AE97-24D3F921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948CC-2512-4969-AA05-AAFE68E4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1FEE2-2512-477B-A916-0F41FD81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8951-7632-492B-A240-6CDDD6D2D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E753-AD58-4F88-A0FA-203D4DB33E1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CCE6-3F6A-467A-8E5E-7324DD3CEC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EF6B-3F9B-4AE2-9465-66EE441671A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8987-7578-488D-8EE2-B7141C0B83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BC5C-4663-4684-82D7-BA859746E6B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D4AD-6393-4EEF-8BE5-01467F81E0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3F7D-1714-426E-8C93-0A9CFB8AD3F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6979-D373-46AD-9933-8C4A0CAC2F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4C9F-FFFB-435F-ADD7-3640A9E897C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E609-6A69-4CE9-A817-3708D48090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DEA1-6375-4B2E-ACC7-3F2EDE22B21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3AE9-769C-47D0-AC54-41F569C50E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B4EE-1C27-427E-8F3E-C98818B9C43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B629-85CB-476B-9EBB-B541F62E91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412A-6EC4-42B1-96FA-63C1297ACB8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5AC3-455C-4178-A12B-F6FEB33BDA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7C2B-FEB4-47B5-9CE5-35F784D583C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D181-E93F-4B1F-820B-1FC9A5C45D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BB6B-C914-4038-A720-05647AD25F4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E1C4-53DC-49D0-B3B7-8D79FFE95E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A2CF-889F-4A94-B094-331E7F3488B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E6C1-4F66-4F7D-BA60-F97D748D8A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B32E-FA6D-4AE3-809A-2CA63F26205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8613-E4D7-414B-BBD4-127A260513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WordArt 7"/>
          <p:cNvSpPr txBox="1"/>
          <p:nvPr/>
        </p:nvSpPr>
        <p:spPr>
          <a:xfrm>
            <a:off x="2133720" y="1295280"/>
            <a:ext cx="472428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金色的脚印</a:t>
            </a:r>
            <a:endParaRPr b="1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3249720" y="4673520"/>
            <a:ext cx="1514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执教：喻兰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10-01爱的罗曼史.mp3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2598840" y="838080"/>
            <a:ext cx="4447800" cy="35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Times New Roman"/>
                <a:ea typeface="隶书"/>
              </a:rPr>
              <a:t>狐狸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黑体"/>
              </a:rPr>
              <a:t>：一种哺乳动物，形状有点像狼，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黑体"/>
              </a:rPr>
              <a:t>但形体比狼要小一些。狐狸嘴尖面长，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黑体"/>
              </a:rPr>
              <a:t>脸呈三角形，耳朵也是三角形的，尾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黑体"/>
              </a:rPr>
              <a:t>巴蓬松且长，毛色一般为赤黄色。这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黑体"/>
              </a:rPr>
              <a:t>种动物生性狡猾多疑，常昼伏夜出，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黑体"/>
              </a:rPr>
              <a:t>以鼠类、鸟类或家禽为食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3" descr="017"/>
          <p:cNvPicPr/>
          <p:nvPr/>
        </p:nvPicPr>
        <p:blipFill>
          <a:blip r:embed="rId1"/>
          <a:stretch/>
        </p:blipFill>
        <p:spPr>
          <a:xfrm>
            <a:off x="762120" y="5105520"/>
            <a:ext cx="754380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2127240" y="787320"/>
            <a:ext cx="500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5000" spc="-1" strike="noStrike">
                <a:solidFill>
                  <a:srgbClr val="00cc99"/>
                </a:solidFill>
                <a:latin typeface="华文新魏"/>
                <a:ea typeface="华文新魏"/>
              </a:rPr>
              <a:t> </a:t>
            </a:r>
            <a:r>
              <a:rPr b="0" lang="zh-CN" sz="5000" spc="-1" strike="noStrike">
                <a:solidFill>
                  <a:srgbClr val="3333cc"/>
                </a:solidFill>
                <a:latin typeface="华文新魏"/>
                <a:ea typeface="华文新魏"/>
              </a:rPr>
              <a:t>起因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：正太郎家的佣人从山里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捉回一只小狐狸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2501280" y="2752560"/>
            <a:ext cx="47829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5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结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正太郎从邻居家要回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狐狸，和爸爸一起把它放回山里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狐狸一家终于团聚并回到了树林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9" descr="9-424"/>
          <p:cNvPicPr/>
          <p:nvPr/>
        </p:nvPicPr>
        <p:blipFill>
          <a:blip r:embed="rId1"/>
          <a:stretch/>
        </p:blipFill>
        <p:spPr>
          <a:xfrm>
            <a:off x="533520" y="499104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0" descr="9-424"/>
          <p:cNvPicPr/>
          <p:nvPr/>
        </p:nvPicPr>
        <p:blipFill>
          <a:blip r:embed="rId2"/>
          <a:stretch/>
        </p:blipFill>
        <p:spPr>
          <a:xfrm>
            <a:off x="6705720" y="521964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1219320" y="609480"/>
            <a:ext cx="71784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3300"/>
                </a:solidFill>
                <a:latin typeface="Times New Roman"/>
                <a:ea typeface="隶书"/>
              </a:rPr>
              <a:t>经过：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两只老狐狸想尽办法要救小狐狸出去，冒着生命危险住在正太郎家的地板下面照顾小狐狸，并和十分同情小狐狸，并偷偷给老狐狸喂食的正太郎建立了亲密信任的关系。后来，小狐狸被送给邻居，正太郎为要回小狐狸，不慎掉下悬崖，两只老狐狸救护了严寒中昏迷的正太郎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990720" y="485640"/>
            <a:ext cx="739116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阅读提示：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在你的心目中，狐狸可能是一种非常狡猾的动物。读读这篇课文，看看狐狸是什么样子。读课文的时候，想一想：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老狐狸为了救小狐狸做了哪些事？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.“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我”是怎样做的，狐狸和“我”之间发生了哪些变化，为什么会有这些变化？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再说说你读了课文后的感受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小树 拷贝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pic>
        <p:nvPicPr>
          <p:cNvPr id="553" name="11-07梦幻曲.mp3" descr=""/>
          <p:cNvPicPr/>
          <p:nvPr/>
        </p:nvPicPr>
        <p:blipFill>
          <a:blip r:embed="rId2"/>
          <a:stretch/>
        </p:blipFill>
        <p:spPr>
          <a:xfrm>
            <a:off x="2286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1066680" y="101916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大自然是人和动物共同的家园，人们要和动物和谐相处，这个世界才更加美丽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3" descr="0362"/>
          <p:cNvPicPr/>
          <p:nvPr/>
        </p:nvPicPr>
        <p:blipFill>
          <a:blip r:embed="rId1"/>
          <a:stretch/>
        </p:blipFill>
        <p:spPr>
          <a:xfrm>
            <a:off x="762120" y="3733920"/>
            <a:ext cx="761976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8:04:45Z</dcterms:created>
  <dc:creator>qfxx</dc:creator>
  <dc:description/>
  <dc:language>en-US</dc:language>
  <cp:lastModifiedBy>a</cp:lastModifiedBy>
  <dcterms:modified xsi:type="dcterms:W3CDTF">2015-02-10T11:16:07Z</dcterms:modified>
  <cp:revision>11</cp:revision>
  <dc:subject/>
  <dc:title>PowerPoint 演示文稿</dc:title>
</cp:coreProperties>
</file>