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086-5AAC-4493-9085-B566F9F1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462-11FE-4733-9229-DF7FFC0D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6AA-996F-42BC-B4A1-EDE7F165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E4ED-E082-4769-AEBC-D12257F9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4427-EAD4-49AF-B38D-5332C2CD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C801-E709-45FE-90BA-E2349D4C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B56F-E1B0-4613-89CD-E4081C96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AC7E-FF9A-41F9-80E1-0A175AF1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B281-61A4-4253-957F-1687322C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8339-D0BD-4B41-8E92-409F3B4E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187A-41D7-4A64-972E-BBE3143B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7465-A06F-4F9C-928C-D6A64134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EC29-103D-4A87-A921-B1EE4583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AB40-31D2-4A29-AB6A-E15610CC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39E5-B598-42A4-83A9-6933E0AF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0ECA-C14B-487D-A9E2-11F4F9ED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063F-A379-44D9-ABC1-7D5C36D3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193B-7AE0-4CE1-8246-755FB509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9420-5FEA-4C1D-922D-9A814EA5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48CB-722C-4603-96B1-E55B7AF9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5937-6F6B-42EC-B047-F2EEE8D5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61C-B901-4BEC-8105-1561C864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DD7-8D22-42FC-BE1B-1392E58E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9261-5399-4E2F-A7C1-A53E7731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D900-6865-4811-B04B-40A398616E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2A43-1136-452C-8882-1703D04BD32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CB56-2D25-4BA2-B922-50DB128590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724360" y="3414600"/>
            <a:ext cx="42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2555640" y="0"/>
            <a:ext cx="1421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7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www.1ppt.com/jier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071720" y="2565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16440" y="2805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321520" y="22766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375680" y="2781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03280" y="170028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562120" y="3187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769760" y="4627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877000" y="2755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55480" y="42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816520" y="57340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5364000" y="1413000"/>
            <a:ext cx="34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588000" y="4076640"/>
            <a:ext cx="22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08000" y="3502080"/>
            <a:ext cx="23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739800" y="578016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372360" y="595008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dc:language>en-US</dc:language>
  <cp:lastModifiedBy>a</cp:lastModifiedBy>
  <cp:lastPrinted>1899-12-30T00:00:00Z</cp:lastPrinted>
  <dcterms:modified xsi:type="dcterms:W3CDTF">2015-03-18T05:51:49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