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711-DDE0-438F-A3EB-76A7C736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48C9-185A-497D-AB3F-08CE7938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E2F-0472-4B1E-83CC-31A36D8C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F785-1735-4DC5-8682-79792ECE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A0BB-3076-4176-9FB1-EDAD93B0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B8A7-F92C-40E1-BA21-072A09D7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7C54-19D5-4AD4-8CD1-390FC66B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50AC-EEA5-4C76-99A6-8831F335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CB9C-181A-4F44-89AD-FDACD1D0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99DB-A26B-46E0-816F-AD461183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5597-E64C-4C11-AE3D-09DA1605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A45-B3F7-469F-B027-B36EF35A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C080-75B8-4E44-9DAA-DB6FEFD3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569B-41B6-4D2A-97CD-A9AB0430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1185-2771-4086-AEBB-CD8FAD09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FF31-46D9-4E54-BD01-B5F42770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1220-EDAC-4E09-947A-0CC0870E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5D54-E289-4225-9B9B-E3DD2BCA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0062-2FA8-4269-A27D-BE8C9CB9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D8A-93AD-446B-861E-90C8EDB2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AB9F-5079-4737-B87E-AAA5F59A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00B-8E8F-4738-9233-5037FC84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49F-DD03-429E-B889-6D35F178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0DBA-E76E-4C1E-9122-EF26BA53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0B5F-BCAF-46EB-B906-4C9F8AD6AE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A380-1950-4687-A6DC-08F85E48E2A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5633-3718-4E92-9FB4-F62305E5D8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410080" y="2306520"/>
            <a:ext cx="398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Arial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580000" y="2960640"/>
            <a:ext cx="475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适用于教师节、感恩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135240" y="3213000"/>
            <a:ext cx="5461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064760" y="3213000"/>
            <a:ext cx="9118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217480" y="3213000"/>
            <a:ext cx="91188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514560" y="3213000"/>
            <a:ext cx="91188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995640" y="141300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362120" y="313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290840" y="4581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877000" y="2755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5548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816520" y="57340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4068720" y="1123920"/>
            <a:ext cx="47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924360" y="2492280"/>
            <a:ext cx="22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556000" y="386064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332000" y="515772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dc:language>en-US</dc:language>
  <cp:lastModifiedBy>a</cp:lastModifiedBy>
  <cp:lastPrinted>1899-12-30T00:00:00Z</cp:lastPrinted>
  <dcterms:modified xsi:type="dcterms:W3CDTF">2015-03-18T05:52:07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