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wmf" ContentType="image/x-wmf"/>
  <Override PartName="/ppt/media/image13.jpeg" ContentType="image/jpeg"/>
  <Override PartName="/ppt/media/image18.gif" ContentType="image/gif"/>
  <Override PartName="/ppt/media/image23.png" ContentType="image/png"/>
  <Override PartName="/ppt/media/image4.png" ContentType="image/png"/>
  <Override PartName="/ppt/media/TYPE.WAV" ContentType="audio/x-wav"/>
  <Override PartName="/ppt/media/image25.jpeg" ContentType="image/jpeg"/>
  <Override PartName="/ppt/media/image2.jpeg" ContentType="image/jpeg"/>
  <Override PartName="/ppt/media/image22.wmf" ContentType="image/x-wmf"/>
  <Override PartName="/ppt/media/image21.wmf" ContentType="image/x-wmf"/>
  <Override PartName="/ppt/media/image19.jpeg" ContentType="image/jpeg"/>
  <Override PartName="/ppt/media/CAMERA.WAV" ContentType="audio/x-wav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3D39-53A2-4872-B132-E50AB9B2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AB3-D1B6-457A-8AA1-6D0A69B8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4965C-E9AB-46D5-BFDF-F5E77924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A673D-C871-47E1-9639-95D8A492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CD848-B5D5-4CB5-B527-FB127C1C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1684D-D5D2-4660-ABF2-A6C1650F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11066-F2C5-4BA5-8508-423E4B82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C1B8B-9D92-46A0-BAE9-653ECA87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1BA95-CCB6-4D21-B125-C8522AC8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100BF-9EF2-4211-9C17-5692C3F6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550A6-A86C-4E5D-80DE-FF6BB2D7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1DF12-83EB-42AB-975C-E86FB554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331C-4BC5-448B-B860-F4DEA1AA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C4F37-0C87-4069-81EB-97FEACB2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5BE68-A776-4D5F-9B1B-45057F70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B8747-393C-44FF-AEAF-9EA51547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22B6B-EFE5-4CB9-9130-661E5A76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422A1-80AC-4733-BF01-54505E94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FBE36-1633-4D6B-9D47-D546B247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996F6-CD05-44CB-8334-C1B0479B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C9BFF-077B-45E4-A089-404AB636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3E32A-D4B4-48A1-B095-5E57EA0F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81D4E-E34C-48FC-987F-CB796F80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241F-060F-4534-B2B8-0D07BD5D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7977F-9FF3-424F-8882-9F8BAF8E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98597-357B-41FC-A919-2CCC5418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AB0C7-8216-4D24-9FD8-37D2542A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E7D78-8FAD-4967-A3E5-754A9C63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C25C1-1195-4FFC-B85F-3DE2BF9F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D6D99-3911-44E2-B323-28988F8E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76F99-6353-4B8D-B195-15860C59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C7583-EB06-4C9D-AA36-20BE39C6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CF311-C761-492F-B5A1-2EE7E155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F6E91-84C5-4559-AB81-25310535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9236-9B17-4153-BDBC-B84C4563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4533F-115C-4663-96FB-33F674C3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F2DBF-5A77-4D67-B1B7-DF83ADB3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92837-78BD-4985-9052-1867E238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69744-8DE1-4CAE-9A42-F5337F28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FA0C1-633D-4C07-9882-AEDD9DCC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E66C5-6946-4F8A-B75B-D49D30AC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02687-7377-402F-B2F0-886F45CC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61F3D-DAD3-4BD3-97E3-4141405D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F9D94-8E98-4302-A266-57B5F108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18D75-019F-4C7F-9D97-D23C4B62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3BE6-7B79-4DE9-B56E-D2886A8C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46728-DC14-4CE5-A053-CA8DA945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BE51B-22D3-4159-9868-8CFABC47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6F791-AD21-4A35-8C1F-17578E50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F8689-63E7-4CED-B230-2DB9DB3B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1197E-596F-4782-9B8F-A22004DB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EC951-A843-44CF-9B0E-ECB83551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E5E78-2C12-47F2-886E-16F530B9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E4DB7-DEBE-4624-ACF9-84D312F4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012A0-993B-401B-9999-465BC4D3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39186E-2ECF-4D91-B73B-F7EEAE46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91C3-E051-495D-A87A-DE181DCD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49583-3486-4D65-8F42-A632C4B5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54D887-5A98-4D61-B6F5-D3F2E818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60C8D-403F-4710-9AD2-3D3EBFA0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8EA8D-FB39-4133-A82C-4A1DD742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6E76F-B94E-4575-B989-BDF28ED0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6502D-913B-4455-85AD-05006A7B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2A51A-6AC9-48AB-AE10-2EA3A3A4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325318-AFAC-45D7-B0F8-026AD54E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C604E1-5137-4EB8-9991-ACECBE95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87D3E6-AF92-4043-BC52-646467F7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D45C-9405-4F95-80AD-E689935F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7C8D57-2153-4C85-83BA-A59EC0CB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FD13B2-4FF4-4F84-A61D-082F0187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262F9-33F2-4D21-8DCC-908193CF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764ED9-E462-4340-970F-9E442541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8A0EB-94D7-401E-891E-CE16CADE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12A0BC-3DDA-4C64-856E-6619139D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4D994E-3783-4FB3-A2CD-F63F765E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3B9942-D05F-471A-B7B9-DB5D85AE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000319-9E37-4B66-9670-D4FFF76F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E39C-A370-44D3-817F-5A5A124D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14A5-000E-4E4C-99C7-F45DF6E9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AF42-DC93-439B-8542-BA957C91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8BB9-894F-41D6-B96C-0828DFF5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3126-C344-40C8-83A7-06D91133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A025-5444-48A3-BEA4-BB3C869B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B7D7-04F5-47B4-A78E-01BAC4A5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4E87-5309-4A1A-AADE-039AA94C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CBD3-7523-4AAA-A3D9-39B31475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6FE5E-73F6-426E-8AF4-5BACCEBD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144C3-17F9-4AA0-B4A8-812F1AE4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13C88-3212-467C-98C3-BAEE1AEB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18361-0FC1-4C7E-A599-9AE9934F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49237-C16A-4067-8980-9F121378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577C-9A75-4663-A012-4F2A5546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15007-AF3F-4E70-A5C8-6F04F5B0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3C312-CB11-4CA4-B99B-703295F7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E0DF6-F8EC-4521-B6C4-1283F728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7A1FA-72D5-4481-A30A-B3E1FD7F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37D3D-14CD-411C-AE5E-C7542398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D0F3C-0C95-455F-8CB9-75C778C9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951FF-88B7-4647-8903-EDBA3526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2EEF3-5B91-454D-8349-52852B28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A2A12-E607-439D-B6ED-5F6E9716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E5B35-ACC5-41E7-B3E6-926F63F8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69D2-77A1-4563-9B43-921DF644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572D4-8B34-4B81-B3EF-EEF22502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F2554-B5B0-4DF2-B86F-DE8005E1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24286-5069-43A8-9B34-EAD40940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91720-DDB8-43E1-B086-7A909981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3394E-4F5E-452F-B937-7671280C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2DB67-E4AC-4DB0-B47D-04CAF740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2BDB2-6538-4FCB-B004-458EE66B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B0561-2D2B-4886-BF0D-7CA01827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6FC72-B70A-4CC9-8B17-131558C7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BBF53-312F-47B8-AF6F-F6802331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466-42E8-4270-8FF2-44C5E516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09589-DA8C-4D55-9FB0-9845E0BD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5AB68-CA67-47B8-B913-D2D45E8B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28F38-7A2E-43DF-94DE-B792D7A1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5A3DC-E2DD-46ED-9C40-40D63B64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C9F39-FB0C-4220-A40D-EB29F2E7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39531-7BB2-4691-A99A-680E56A8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C5DFF-23BD-4A92-873B-D24106C0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83D90-A982-4D2D-8CBE-26ED5B3C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E7B6D-37C6-4D74-B1C7-13835146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95A94-F0DE-40C0-8A20-28E55D85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0A24-5E67-4124-9CD9-C0334956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5AA7B-8EE8-4506-8DFC-3E69EB3F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F9300-A6BB-4650-9E50-005E1077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2F9E4-CD24-4ADA-A35A-3C56EF80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43DF8-A498-4A19-8E57-A3FED01A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BAD3A-72CA-4197-8A4D-A89EA65C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65341-CA21-42A8-80A9-AB885788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C8574-12BB-4CEF-96F2-BE0139F9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43616-C723-484E-B43D-FF269BB9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97015-F539-417E-A551-CA4F852B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4F320-35D0-4899-9A32-6897BE6A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6AA-7673-4CCC-81CB-878934C4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EB892-0137-49D6-8004-F5B3DE50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2B51D-9DC5-4CAE-BEAF-128A36C6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89E1E-07FD-455C-8D17-DF60AE9F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ECF5A-C27E-4B55-AE79-CCA6DAAB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4CB7B-3D39-460C-A7B4-BBDDAD74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EEFEF-4334-465A-8D39-93D2BC30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DA260-FCF6-4CBD-B7B1-9B6CE893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7CA65-42C5-4B5C-9FD6-05EE2987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6272D-1EE6-428F-8086-7B89BBB7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283A4-BA05-45BA-91D8-71845B17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10B3-F3FD-41D9-9922-F843E319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9A506-D5BC-4414-89D4-94DC159D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17120-942E-4A0A-AB0C-A2E5B3AF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3D352-F36C-450C-99C1-5BB467BC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6564A-746C-491B-B1F9-97C31EFF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96458-0B82-48BC-97EC-C744FD51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032CF-4287-4AA4-BBE1-6D685C1D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34459-B0D7-432E-9E0A-E8FD39D9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0E4A9-B4CE-4E7E-8C0C-17C603BA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CD469-48C6-455B-A3EE-49A429B8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F8234-ABAB-47A1-9CAF-2819ACFB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B1E-2BDF-46E3-B28E-4D8C358F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DA9BC-EFBE-407B-BA6C-676261A8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AC489-15FA-47F4-B393-B902F7B1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C1C8E-B163-4282-9DE7-1BEACEA1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9224E-42E1-431E-B24F-50788B1C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8E996-1F6A-47F8-9010-65A2654F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4B9E4-FFB1-44A6-9D8E-E9F052FD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1560E-9EEE-4084-897E-E233A350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4538D-AE43-4257-A0C9-9ACFDD98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0A681-E363-44BA-AD82-FDB04880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7EB16-A469-459E-9098-0ACED3C0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1EA9-FBAB-4546-B389-7756CB8EC80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6D91-14B7-4FBC-9014-19D12CE52CA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956E-9749-419D-929C-EE48185BF2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B244-0160-4F93-9BB2-A39298ADA10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4B40-BAB1-43FF-BBBB-C1188FFCCA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42EE-D423-42AB-885E-FD2ED4B95C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0204-9992-480A-96B7-5C9B89804D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33C0-527A-41DB-BF6D-5DBBCA7EAC8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A550-DFE8-491E-96C5-06707FD8B6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24FB-02D8-4473-8E8D-096E9CF5899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D237-A5D3-4CCC-B98E-E59BD998DB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C155-C779-4D96-AB34-3EC6014AC89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159A-6414-4897-A2C8-B57ECB7AAF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87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88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BFF1-33DF-47DC-935D-DBB032EF3C2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0994-9153-47DE-B340-B57C54E19A4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F931-E857-4DD3-8866-464AF0EDCD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C5BD-343B-47AC-8BBF-6D7EBD73545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645D-D3AD-42F3-AE82-308F848C92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BA29-EE44-4FF2-9212-5E17DBEB42D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F478-F4B1-4DF2-BC74-2CCBBBCE31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A8FD-FDE5-45A3-9911-2AF3606F510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FD59-D6DB-4BB8-B9AF-45D1C26A7D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8196-AF67-474D-A047-11C9D3DD73C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48DA-1C7F-4C3B-9148-82953E6C7D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BEA0-AED8-4C56-89EE-22C678D0241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A8D4-98BE-4EB1-B763-A37CE804A4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054" descr="C:\My Documents\李良义文件\课件素材\课件图片素材\画框造型\FR_055.BMP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2051"/>
          <p:cNvSpPr/>
          <p:nvPr/>
        </p:nvSpPr>
        <p:spPr>
          <a:xfrm>
            <a:off x="2057400" y="10666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3" name="Text Box 2052"/>
          <p:cNvSpPr/>
          <p:nvPr/>
        </p:nvSpPr>
        <p:spPr>
          <a:xfrm>
            <a:off x="1676520" y="213372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0000ff"/>
                </a:solidFill>
                <a:latin typeface="Times New Roman"/>
              </a:rPr>
              <a:t>多媒体课件</a:t>
            </a:r>
            <a:endParaRPr b="0" lang="en-US" sz="8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4" name="Text Box 2053"/>
          <p:cNvSpPr/>
          <p:nvPr/>
        </p:nvSpPr>
        <p:spPr>
          <a:xfrm>
            <a:off x="1219320" y="5943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制作    卢文芳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5" name="AutoShape 2055"/>
          <p:cNvSpPr/>
          <p:nvPr/>
        </p:nvSpPr>
        <p:spPr>
          <a:xfrm>
            <a:off x="8305920" y="6172200"/>
            <a:ext cx="363240" cy="306360"/>
          </a:xfrm>
          <a:prstGeom prst="rightArrow">
            <a:avLst>
              <a:gd name="adj1" fmla="val 50000"/>
              <a:gd name="adj2" fmla="val 29642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586" name="a.mid" descr=""/>
          <p:cNvPicPr/>
          <p:nvPr/>
        </p:nvPicPr>
        <p:blipFill>
          <a:blip r:embed="rId2"/>
          <a:stretch/>
        </p:blipFill>
        <p:spPr>
          <a:xfrm>
            <a:off x="6095880" y="4800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3" descr="E:\tupian\历史图片\中国历史第三册\12\甲午海戰歷史人物.files\cyh3.gif"/>
          <p:cNvPicPr/>
          <p:nvPr/>
        </p:nvPicPr>
        <p:blipFill>
          <a:blip r:embed="rId1"/>
          <a:stretch/>
        </p:blipFill>
        <p:spPr>
          <a:xfrm>
            <a:off x="5715000" y="1905120"/>
            <a:ext cx="2516040" cy="37335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" descr="E:\tupian\历史图片\中国历史第三册\12\甲午海戰北洋軍艦.files\cyh6.gif"/>
          <p:cNvPicPr/>
          <p:nvPr/>
        </p:nvPicPr>
        <p:blipFill>
          <a:blip r:embed="rId2"/>
          <a:stretch/>
        </p:blipFill>
        <p:spPr>
          <a:xfrm>
            <a:off x="1143000" y="1905120"/>
            <a:ext cx="4191120" cy="380988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6"/>
          <p:cNvSpPr/>
          <p:nvPr/>
        </p:nvSpPr>
        <p:spPr>
          <a:xfrm>
            <a:off x="3315960" y="7621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定远舰及管带刘步蟾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1" name="AutoShape 7"/>
          <p:cNvSpPr/>
          <p:nvPr/>
        </p:nvSpPr>
        <p:spPr>
          <a:xfrm>
            <a:off x="8001000" y="609588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3" descr="E:\tupian\历史图片\中国历史第三册\12\mgty.BMP"/>
          <p:cNvPicPr/>
          <p:nvPr/>
        </p:nvPicPr>
        <p:blipFill>
          <a:blip r:embed="rId1"/>
          <a:stretch/>
        </p:blipFill>
        <p:spPr>
          <a:xfrm>
            <a:off x="1066680" y="1752480"/>
            <a:ext cx="4419720" cy="403884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4"/>
          <p:cNvSpPr/>
          <p:nvPr/>
        </p:nvSpPr>
        <p:spPr>
          <a:xfrm>
            <a:off x="5791320" y="1828800"/>
            <a:ext cx="2911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1895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月，李鸿章和日本首相伊藤博文，在日本马关签定了中日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马关条约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，大大加深了中国的半殖民地化程度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8458200" y="632448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3" descr="E:\tupian\历史图片\中国历史第三册\12\mda045p.BMP"/>
          <p:cNvPicPr/>
          <p:nvPr/>
        </p:nvPicPr>
        <p:blipFill>
          <a:blip r:embed="rId1"/>
          <a:srcRect l="0" t="0" r="68" b="-53"/>
          <a:stretch/>
        </p:blipFill>
        <p:spPr>
          <a:xfrm>
            <a:off x="990720" y="533520"/>
            <a:ext cx="7010280" cy="5715000"/>
          </a:xfrm>
          <a:prstGeom prst="rect">
            <a:avLst/>
          </a:prstGeom>
          <a:ln w="0">
            <a:noFill/>
          </a:ln>
        </p:spPr>
      </p:pic>
      <p:sp>
        <p:nvSpPr>
          <p:cNvPr id="626" name="AutoShape 4"/>
          <p:cNvSpPr/>
          <p:nvPr/>
        </p:nvSpPr>
        <p:spPr>
          <a:xfrm>
            <a:off x="8458200" y="632448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WordArt 2" descr=""/>
          <p:cNvPicPr/>
          <p:nvPr/>
        </p:nvPicPr>
        <p:blipFill>
          <a:blip r:embed="rId2"/>
          <a:stretch/>
        </p:blipFill>
        <p:spPr>
          <a:xfrm>
            <a:off x="517680" y="285840"/>
            <a:ext cx="2670120" cy="799920"/>
          </a:xfrm>
          <a:prstGeom prst="rect">
            <a:avLst/>
          </a:prstGeom>
          <a:ln w="0">
            <a:noFill/>
          </a:ln>
        </p:spPr>
      </p:pic>
      <p:sp>
        <p:nvSpPr>
          <p:cNvPr id="628" name="WordArt 3"/>
          <p:cNvSpPr txBox="1"/>
          <p:nvPr/>
        </p:nvSpPr>
        <p:spPr>
          <a:xfrm>
            <a:off x="3581280" y="380880"/>
            <a:ext cx="838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宋体"/>
              </a:rPr>
              <a:t>割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宋体"/>
              <a:ea typeface="宋体"/>
            </a:endParaRPr>
          </a:p>
        </p:txBody>
      </p:sp>
      <p:sp>
        <p:nvSpPr>
          <p:cNvPr id="629" name="WordArt 4"/>
          <p:cNvSpPr txBox="1"/>
          <p:nvPr/>
        </p:nvSpPr>
        <p:spPr>
          <a:xfrm>
            <a:off x="4952880" y="380880"/>
            <a:ext cx="762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宋体"/>
              </a:rPr>
              <a:t>赔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宋体"/>
              <a:ea typeface="宋体"/>
            </a:endParaRPr>
          </a:p>
        </p:txBody>
      </p:sp>
      <p:sp>
        <p:nvSpPr>
          <p:cNvPr id="630" name="WordArt 5"/>
          <p:cNvSpPr txBox="1"/>
          <p:nvPr/>
        </p:nvSpPr>
        <p:spPr>
          <a:xfrm>
            <a:off x="7315200" y="438120"/>
            <a:ext cx="838080" cy="6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宋体"/>
              </a:rPr>
              <a:t>设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宋体"/>
              <a:ea typeface="宋体"/>
            </a:endParaRPr>
          </a:p>
        </p:txBody>
      </p:sp>
      <p:sp>
        <p:nvSpPr>
          <p:cNvPr id="631" name="WordArt 6"/>
          <p:cNvSpPr txBox="1"/>
          <p:nvPr/>
        </p:nvSpPr>
        <p:spPr>
          <a:xfrm>
            <a:off x="6248520" y="399960"/>
            <a:ext cx="609480" cy="6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宋体"/>
              </a:rPr>
              <a:t>开埠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宋体"/>
              <a:ea typeface="宋体"/>
            </a:endParaRPr>
          </a:p>
        </p:txBody>
      </p:sp>
      <p:sp>
        <p:nvSpPr>
          <p:cNvPr id="632" name="WordArt 7"/>
          <p:cNvSpPr txBox="1"/>
          <p:nvPr/>
        </p:nvSpPr>
        <p:spPr>
          <a:xfrm>
            <a:off x="457200" y="5457960"/>
            <a:ext cx="22860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分组讨论：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33" name="WordArt 8"/>
          <p:cNvSpPr txBox="1"/>
          <p:nvPr/>
        </p:nvSpPr>
        <p:spPr>
          <a:xfrm>
            <a:off x="3352680" y="5410080"/>
            <a:ext cx="5029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条约给中国社会造成的严重危害</a:t>
            </a:r>
            <a:endParaRPr b="0" lang="en-US" sz="3200" spc="1" strike="noStrike">
              <a:ln w="1260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4" name="WordArt 9"/>
          <p:cNvSpPr txBox="1"/>
          <p:nvPr/>
        </p:nvSpPr>
        <p:spPr>
          <a:xfrm>
            <a:off x="380880" y="1295280"/>
            <a:ext cx="1600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请思考：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635" name="Text Box 10"/>
          <p:cNvSpPr/>
          <p:nvPr/>
        </p:nvSpPr>
        <p:spPr>
          <a:xfrm>
            <a:off x="2209680" y="19810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②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马关条约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开放的口岸在地理位置上有何变化？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2209680" y="29718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③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过去的不平等条约有过允许外国开设工厂的规定吗？这一变化反映了什么问题？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7" name="Text Box 12"/>
          <p:cNvSpPr/>
          <p:nvPr/>
        </p:nvSpPr>
        <p:spPr>
          <a:xfrm>
            <a:off x="2209680" y="39625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④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俄、德、法三国干涉还辽，是在保护中国的权益吗？为什么？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8" name="Text Box 13"/>
          <p:cNvSpPr/>
          <p:nvPr/>
        </p:nvSpPr>
        <p:spPr>
          <a:xfrm>
            <a:off x="2209680" y="1447920"/>
            <a:ext cx="693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①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马关条约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中赔款数额较前有何变化？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639" name="Picture 14" descr="C:\Program Files\Microsoft Office\Clipart\HOMEANIM\AG00218_.GIF"/>
          <p:cNvPicPr/>
          <p:nvPr/>
        </p:nvPicPr>
        <p:blipFill>
          <a:blip r:embed="rId3"/>
          <a:stretch/>
        </p:blipFill>
        <p:spPr>
          <a:xfrm>
            <a:off x="457200" y="3429000"/>
            <a:ext cx="1417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3061800" y="7300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二、民族危机的加强：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3147480" y="2048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帝国主义经济侵略的加剧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1981080" y="2590920"/>
            <a:ext cx="510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开设银行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强迫贷款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俄、法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投资铁路、开采矿山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法国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开矿设厂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日本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3" name="AutoShape 8"/>
          <p:cNvSpPr/>
          <p:nvPr/>
        </p:nvSpPr>
        <p:spPr>
          <a:xfrm>
            <a:off x="8458200" y="632448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15"/>
          <p:cNvSpPr/>
          <p:nvPr/>
        </p:nvSpPr>
        <p:spPr>
          <a:xfrm>
            <a:off x="1371600" y="4572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大家看时局图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645" name="Picture 16" descr="C:\My Documents\李良义文件\李良义\时局图.jpg"/>
          <p:cNvPicPr/>
          <p:nvPr/>
        </p:nvPicPr>
        <p:blipFill>
          <a:blip r:embed="rId1"/>
          <a:stretch/>
        </p:blipFill>
        <p:spPr>
          <a:xfrm>
            <a:off x="3962520" y="228600"/>
            <a:ext cx="4876560" cy="640080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17"/>
          <p:cNvSpPr/>
          <p:nvPr/>
        </p:nvSpPr>
        <p:spPr>
          <a:xfrm>
            <a:off x="1143000" y="10666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划分“势力范围”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7" name="AutoShape 18"/>
          <p:cNvSpPr/>
          <p:nvPr/>
        </p:nvSpPr>
        <p:spPr>
          <a:xfrm>
            <a:off x="8458200" y="647712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2"/>
          <p:cNvGrpSpPr/>
          <p:nvPr/>
        </p:nvGrpSpPr>
        <p:grpSpPr>
          <a:xfrm>
            <a:off x="838080" y="1981080"/>
            <a:ext cx="8534520" cy="3047760"/>
            <a:chOff x="838080" y="1981080"/>
            <a:chExt cx="8534520" cy="3047760"/>
          </a:xfrm>
        </p:grpSpPr>
        <p:pic>
          <p:nvPicPr>
            <p:cNvPr id="649" name="Object 3" descr=""/>
            <p:cNvPicPr/>
            <p:nvPr/>
          </p:nvPicPr>
          <p:blipFill>
            <a:blip r:embed="rId1"/>
            <a:stretch/>
          </p:blipFill>
          <p:spPr>
            <a:xfrm>
              <a:off x="838080" y="1981080"/>
              <a:ext cx="853452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Line 4"/>
            <p:cNvSpPr/>
            <p:nvPr/>
          </p:nvSpPr>
          <p:spPr>
            <a:xfrm>
              <a:off x="5389920" y="1981080"/>
              <a:ext cx="0" cy="27590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1" name="Line 5"/>
            <p:cNvSpPr/>
            <p:nvPr/>
          </p:nvSpPr>
          <p:spPr>
            <a:xfrm flipV="1">
              <a:off x="1833480" y="1981080"/>
              <a:ext cx="0" cy="27590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652" name="Text Box 6"/>
          <p:cNvSpPr/>
          <p:nvPr/>
        </p:nvSpPr>
        <p:spPr>
          <a:xfrm>
            <a:off x="2514600" y="228600"/>
            <a:ext cx="5334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隶书"/>
                <a:ea typeface="隶书"/>
              </a:rPr>
              <a:t>19</a:t>
            </a:r>
            <a:r>
              <a:rPr b="0" lang="zh-CN" sz="4000" spc="-1" strike="noStrike">
                <a:solidFill>
                  <a:srgbClr val="6600cc"/>
                </a:solidFill>
                <a:latin typeface="隶书"/>
                <a:ea typeface="隶书"/>
              </a:rPr>
              <a:t>世纪末帝国主义瓜分中国简表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653" name="Picture 8" descr="C:\Program Files\Microsoft Office\Clipart\Popular\lion.wmf"/>
          <p:cNvPicPr/>
          <p:nvPr/>
        </p:nvPicPr>
        <p:blipFill>
          <a:blip r:embed="rId2"/>
          <a:stretch/>
        </p:blipFill>
        <p:spPr>
          <a:xfrm>
            <a:off x="5486400" y="5181480"/>
            <a:ext cx="3200400" cy="16765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9" descr="C:\Program Files\Common Files\Microsoft Shared\Clipart\cagcat50\AN01124_.wmf"/>
          <p:cNvPicPr/>
          <p:nvPr/>
        </p:nvPicPr>
        <p:blipFill>
          <a:blip r:embed="rId3"/>
          <a:stretch/>
        </p:blipFill>
        <p:spPr>
          <a:xfrm>
            <a:off x="380880" y="57240"/>
            <a:ext cx="1409760" cy="17161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4" name="CAMERA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1600200" y="838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“门户开放”政策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1828800" y="1828800"/>
            <a:ext cx="5791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时间：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899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年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意义：是美国侵略中国新阶段的标志；使帝国主义掀起瓜分中国的狂潮，暂时取得表面上的一致；帝国主义宰割中国的同盟在一定程度上形成了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7" name="AutoShape 4"/>
          <p:cNvSpPr/>
          <p:nvPr/>
        </p:nvSpPr>
        <p:spPr>
          <a:xfrm>
            <a:off x="8458200" y="624852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1371600" y="10666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三、巩固练习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1523880" y="1828800"/>
            <a:ext cx="6934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选择题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）、平壤战役中牺牲的中国将领是：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左宝贵     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刘步蟾   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邓世昌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6705720" y="3809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1" name="Text Box 5"/>
          <p:cNvSpPr/>
          <p:nvPr/>
        </p:nvSpPr>
        <p:spPr>
          <a:xfrm>
            <a:off x="1295280" y="4419720"/>
            <a:ext cx="7239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）、标志北洋舰队全军覆灭的事件是：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黄海战役   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辽东战役  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威海卫之战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6781680" y="57913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3" name="AutoShape 7"/>
          <p:cNvSpPr/>
          <p:nvPr/>
        </p:nvSpPr>
        <p:spPr>
          <a:xfrm>
            <a:off x="8381880" y="632448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3"/>
          <p:cNvSpPr/>
          <p:nvPr/>
        </p:nvSpPr>
        <p:spPr>
          <a:xfrm>
            <a:off x="1066680" y="1143000"/>
            <a:ext cx="7391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）下列哪一项是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马关条约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的内容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开放广州、厦门、福州、宁波、上海为通商口岸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开放重庆、沙市、苏州、杭州为通商口岸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开放烟台、琼州等到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处为通商口岸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开放天律为通商口岸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5" name="Text Box 4"/>
          <p:cNvSpPr/>
          <p:nvPr/>
        </p:nvSpPr>
        <p:spPr>
          <a:xfrm>
            <a:off x="6095880" y="51055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答案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6" name="AutoShape 5"/>
          <p:cNvSpPr/>
          <p:nvPr/>
        </p:nvSpPr>
        <p:spPr>
          <a:xfrm>
            <a:off x="8229600" y="617220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3" descr="C:\My Documents\李良义文件\课件素材\课件图片素材\底纹素材库\火与光\GH_001.jpg"/>
          <p:cNvPicPr/>
          <p:nvPr/>
        </p:nvPicPr>
        <p:blipFill>
          <a:blip r:embed="rId1"/>
          <a:stretch/>
        </p:blipFill>
        <p:spPr>
          <a:xfrm>
            <a:off x="533520" y="228600"/>
            <a:ext cx="8381880" cy="640080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2"/>
          <p:cNvSpPr/>
          <p:nvPr/>
        </p:nvSpPr>
        <p:spPr>
          <a:xfrm>
            <a:off x="1676520" y="2362320"/>
            <a:ext cx="571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00"/>
                </a:solidFill>
                <a:latin typeface="Times New Roman"/>
              </a:rPr>
              <a:t>甲午中日战争和民族危机的加深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9" name="AutoShape 4"/>
          <p:cNvSpPr/>
          <p:nvPr/>
        </p:nvSpPr>
        <p:spPr>
          <a:xfrm>
            <a:off x="8229600" y="617220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3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1295280" y="1066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小结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8" name="Text Box 3"/>
          <p:cNvSpPr/>
          <p:nvPr/>
        </p:nvSpPr>
        <p:spPr>
          <a:xfrm>
            <a:off x="1066680" y="1676520"/>
            <a:ext cx="73915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一、甲午中日战争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原因：日本为了掠夺市场和原料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经过：平壤战役、黄海战役、辽东战役、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威海卫战役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马关条约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的签定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民族危机的进一步加深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贷款、修路、开矿、开工厂、势力范围 、 门户开放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9" name="AutoShape 4"/>
          <p:cNvSpPr/>
          <p:nvPr/>
        </p:nvSpPr>
        <p:spPr>
          <a:xfrm>
            <a:off x="8305920" y="6248520"/>
            <a:ext cx="363240" cy="306360"/>
          </a:xfrm>
          <a:prstGeom prst="rightArrow">
            <a:avLst>
              <a:gd name="adj1" fmla="val 50000"/>
              <a:gd name="adj2" fmla="val 296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3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3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1026"/>
          <p:cNvSpPr/>
          <p:nvPr/>
        </p:nvSpPr>
        <p:spPr>
          <a:xfrm>
            <a:off x="152388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隶书"/>
              </a:rPr>
              <a:t>甲午战争的惨败，除了暴露清政府的腐败可欺之外，这场战争对中国、日本，对世界其他帝国主义还会造成什么影响？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671" name="WordArt 1027" descr=""/>
          <p:cNvPicPr/>
          <p:nvPr/>
        </p:nvPicPr>
        <p:blipFill>
          <a:blip r:embed="rId1"/>
          <a:stretch/>
        </p:blipFill>
        <p:spPr>
          <a:xfrm>
            <a:off x="371520" y="304920"/>
            <a:ext cx="1085760" cy="60948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1028"/>
          <p:cNvSpPr/>
          <p:nvPr/>
        </p:nvSpPr>
        <p:spPr>
          <a:xfrm>
            <a:off x="914400" y="19051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  <a:ea typeface="隶书"/>
              </a:rPr>
              <a:t>A. </a:t>
            </a:r>
            <a:r>
              <a:rPr b="0" lang="zh-CN" sz="2800" spc="-1" strike="noStrike">
                <a:solidFill>
                  <a:srgbClr val="6600cc"/>
                </a:solidFill>
                <a:latin typeface="Times New Roman"/>
                <a:ea typeface="隶书"/>
              </a:rPr>
              <a:t>甲午战争的惨败，为中国人民敲响了警钟，有识之士普遍认识到亡国之祸近在眼前。但是深重的民族灾难反而可以促成一个民族的觉醒和奋起，中华民族必然将战争失败带来的耻辱转化成奋进的动力，中国人民决不会长期沉默下去！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3" name="Text Box 1029"/>
          <p:cNvSpPr/>
          <p:nvPr/>
        </p:nvSpPr>
        <p:spPr>
          <a:xfrm>
            <a:off x="914400" y="40384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隶书"/>
                <a:ea typeface="隶书"/>
              </a:rPr>
              <a:t>B.</a:t>
            </a:r>
            <a:r>
              <a:rPr b="0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对日本来说战争的胜利提高了它的国际地位</a:t>
            </a:r>
            <a:r>
              <a:rPr b="0" lang="en-US" sz="2800" spc="-1" strike="noStrike">
                <a:solidFill>
                  <a:srgbClr val="6600cc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日本凭借这笔不义之财疯狂扩军备战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4" name="Text Box 1030"/>
          <p:cNvSpPr/>
          <p:nvPr/>
        </p:nvSpPr>
        <p:spPr>
          <a:xfrm>
            <a:off x="914400" y="5105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隶书"/>
                <a:ea typeface="隶书"/>
              </a:rPr>
              <a:t>C.</a:t>
            </a:r>
            <a:r>
              <a:rPr b="0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对其他帝国主义来说，中国就像一个奄奄一息的</a:t>
            </a:r>
            <a:r>
              <a:rPr b="0" lang="zh-CN" sz="2800" spc="-1" strike="noStrike">
                <a:solidFill>
                  <a:srgbClr val="6600cc"/>
                </a:solidFill>
                <a:latin typeface="Times New Roman"/>
                <a:ea typeface="隶书"/>
              </a:rPr>
              <a:t>“</a:t>
            </a:r>
            <a:r>
              <a:rPr b="0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病人</a:t>
            </a:r>
            <a:r>
              <a:rPr b="0" lang="zh-CN" sz="2800" spc="-1" strike="noStrike">
                <a:solidFill>
                  <a:srgbClr val="6600cc"/>
                </a:solidFill>
                <a:latin typeface="Times New Roman"/>
                <a:ea typeface="隶书"/>
              </a:rPr>
              <a:t>”</a:t>
            </a:r>
            <a:r>
              <a:rPr b="0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，甲午战后帝国主义掀起瓜分中国的狂潮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5" name="AutoShape 1035"/>
          <p:cNvSpPr/>
          <p:nvPr/>
        </p:nvSpPr>
        <p:spPr>
          <a:xfrm>
            <a:off x="7238880" y="6019920"/>
            <a:ext cx="685800" cy="485640"/>
          </a:xfrm>
          <a:prstGeom prst="rightArrow">
            <a:avLst>
              <a:gd name="adj1" fmla="val 50000"/>
              <a:gd name="adj2" fmla="val 35304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6" name="Text Box 1036"/>
          <p:cNvSpPr/>
          <p:nvPr/>
        </p:nvSpPr>
        <p:spPr>
          <a:xfrm>
            <a:off x="6351480" y="60958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下一页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4"/>
          <p:cNvSpPr/>
          <p:nvPr/>
        </p:nvSpPr>
        <p:spPr>
          <a:xfrm>
            <a:off x="1931400" y="1162080"/>
            <a:ext cx="13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思考题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2682000" y="2209680"/>
            <a:ext cx="477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甲午战争以后，清政府向列强大借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外债同今天资本主义国家贷款给我们，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二者有何不同？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2818440" y="4362480"/>
            <a:ext cx="477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列强的租借地和今天外资企业在我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国租用土地有何不同？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1600200" y="22860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681" name="Picture 5" descr="D:\李良义文件夹\李良义图3.jpg"/>
          <p:cNvPicPr/>
          <p:nvPr/>
        </p:nvPicPr>
        <p:blipFill>
          <a:blip r:embed="rId1"/>
          <a:stretch/>
        </p:blipFill>
        <p:spPr>
          <a:xfrm>
            <a:off x="533520" y="228600"/>
            <a:ext cx="8305560" cy="6400800"/>
          </a:xfrm>
          <a:prstGeom prst="rect">
            <a:avLst/>
          </a:prstGeom>
          <a:ln w="0">
            <a:noFill/>
          </a:ln>
        </p:spPr>
      </p:pic>
      <p:sp>
        <p:nvSpPr>
          <p:cNvPr id="682" name="WordArt 3"/>
          <p:cNvSpPr txBox="1"/>
          <p:nvPr/>
        </p:nvSpPr>
        <p:spPr>
          <a:xfrm>
            <a:off x="1981080" y="2133720"/>
            <a:ext cx="53596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同学们，再见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83" name="01.MP3" descr=""/>
          <p:cNvPicPr/>
          <p:nvPr/>
        </p:nvPicPr>
        <p:blipFill>
          <a:blip r:embed="rId2"/>
          <a:stretch/>
        </p:blipFill>
        <p:spPr>
          <a:xfrm>
            <a:off x="7391520" y="5486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686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3"/>
          <p:cNvSpPr/>
          <p:nvPr/>
        </p:nvSpPr>
        <p:spPr>
          <a:xfrm>
            <a:off x="1522080" y="1828800"/>
            <a:ext cx="1978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一、</a:t>
            </a:r>
            <a:r>
              <a:rPr b="0" lang="zh-CN" sz="2800" spc="-1" strike="noStrike" u="sng">
                <a:solidFill>
                  <a:srgbClr val="9a7f32"/>
                </a:solidFill>
                <a:uFillTx/>
                <a:latin typeface="Times New Roman"/>
                <a:hlinkClick r:id="rId1" action="ppaction://hlinksldjump"/>
              </a:rPr>
              <a:t>甲午中日战争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4539600" y="2514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战争的原因：日本为了掠夺市场和原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2575080" y="3352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战争的经过：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2627280" y="4038480"/>
            <a:ext cx="4897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</a:t>
            </a:r>
            <a:r>
              <a:rPr b="0" lang="zh-CN" sz="2800" spc="-1" strike="noStrike" u="sng">
                <a:solidFill>
                  <a:srgbClr val="9a7f32"/>
                </a:solidFill>
                <a:uFillTx/>
                <a:latin typeface="Times New Roman"/>
                <a:hlinkClick r:id="rId2" action="ppaction://hlinksldjump"/>
              </a:rPr>
              <a:t>丰岛之战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战争开始（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1894.7.25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3029400" y="502920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平壤战役       左宝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5" name="AutoShape 14"/>
          <p:cNvSpPr/>
          <p:nvPr/>
        </p:nvSpPr>
        <p:spPr>
          <a:xfrm>
            <a:off x="8229600" y="624852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3" descr="E:\tupian\历史图片\中国历史第三册\12\gaosheng.BMP"/>
          <p:cNvPicPr/>
          <p:nvPr/>
        </p:nvPicPr>
        <p:blipFill>
          <a:blip r:embed="rId1"/>
          <a:stretch/>
        </p:blipFill>
        <p:spPr>
          <a:xfrm>
            <a:off x="1447920" y="1447920"/>
            <a:ext cx="6476760" cy="502920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4"/>
          <p:cNvSpPr/>
          <p:nvPr/>
        </p:nvSpPr>
        <p:spPr>
          <a:xfrm>
            <a:off x="3078720" y="8380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丰岛之战中高升号被击沉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AutoShape 5"/>
          <p:cNvSpPr/>
          <p:nvPr/>
        </p:nvSpPr>
        <p:spPr>
          <a:xfrm>
            <a:off x="8153280" y="617220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1371600" y="19810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黄海海战      邓世昌        </a:t>
            </a:r>
            <a:r>
              <a:rPr b="1" lang="zh-CN" sz="2800" spc="-1" strike="noStrike" u="sng">
                <a:solidFill>
                  <a:srgbClr val="402000"/>
                </a:solidFill>
                <a:uFillTx/>
                <a:latin typeface="Times New Roman"/>
              </a:rPr>
              <a:t>林永升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1371600" y="30481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旅顺陷落        旅顺大屠杀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1371600" y="40384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威海卫战役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1143000" y="49528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马关条约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的签订     （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1895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年）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3" name="AutoShape 7"/>
          <p:cNvSpPr/>
          <p:nvPr/>
        </p:nvSpPr>
        <p:spPr>
          <a:xfrm>
            <a:off x="8077320" y="6095880"/>
            <a:ext cx="363240" cy="306360"/>
          </a:xfrm>
          <a:prstGeom prst="rightArrow">
            <a:avLst>
              <a:gd name="adj1" fmla="val 50000"/>
              <a:gd name="adj2" fmla="val 296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4419720" y="40384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a7f32"/>
                </a:solidFill>
                <a:latin typeface="Times New Roman"/>
              </a:rPr>
              <a:t>北洋舰队全军覆灭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3" descr="E:\tupian\历史图片\中国历史第三册\12\甲午海戰歷史人物.files\cyh4.gif"/>
          <p:cNvPicPr/>
          <p:nvPr/>
        </p:nvPicPr>
        <p:blipFill>
          <a:blip r:embed="rId1"/>
          <a:stretch/>
        </p:blipFill>
        <p:spPr>
          <a:xfrm>
            <a:off x="1371600" y="1752480"/>
            <a:ext cx="2844720" cy="411480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4"/>
          <p:cNvSpPr/>
          <p:nvPr/>
        </p:nvSpPr>
        <p:spPr>
          <a:xfrm>
            <a:off x="5029200" y="2057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威海卫战役中，提督丁汝昌宁死不降，最后，自杀殉国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7" name="AutoShape 5"/>
          <p:cNvSpPr/>
          <p:nvPr/>
        </p:nvSpPr>
        <p:spPr>
          <a:xfrm>
            <a:off x="8458200" y="617220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027" descr="C:\My Documents\李良义文件\李良义\00.jpg"/>
          <p:cNvPicPr/>
          <p:nvPr/>
        </p:nvPicPr>
        <p:blipFill>
          <a:blip r:embed="rId1"/>
          <a:stretch/>
        </p:blipFill>
        <p:spPr>
          <a:xfrm>
            <a:off x="2743200" y="762120"/>
            <a:ext cx="5562720" cy="548640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028"/>
          <p:cNvSpPr/>
          <p:nvPr/>
        </p:nvSpPr>
        <p:spPr>
          <a:xfrm>
            <a:off x="1313280" y="2057400"/>
            <a:ext cx="667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日军侵略中国一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0" name="AutoShape 1029"/>
          <p:cNvSpPr/>
          <p:nvPr/>
        </p:nvSpPr>
        <p:spPr>
          <a:xfrm>
            <a:off x="8381880" y="624852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1026" descr="E:\tupian\历史图片\中国历史第三册\12\mda044p.JPG"/>
          <p:cNvPicPr/>
          <p:nvPr/>
        </p:nvPicPr>
        <p:blipFill>
          <a:blip r:embed="rId1"/>
          <a:srcRect l="0" t="0" r="12" b="0"/>
          <a:stretch/>
        </p:blipFill>
        <p:spPr>
          <a:xfrm>
            <a:off x="1143000" y="1066680"/>
            <a:ext cx="7391520" cy="475776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1027"/>
          <p:cNvSpPr/>
          <p:nvPr/>
        </p:nvSpPr>
        <p:spPr>
          <a:xfrm>
            <a:off x="3248280" y="380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甲午战争形势图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3" name="AutoShape 1029"/>
          <p:cNvSpPr/>
          <p:nvPr/>
        </p:nvSpPr>
        <p:spPr>
          <a:xfrm>
            <a:off x="8229600" y="617220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3" descr="E:\tupian\历史图片\中国历史第三册\12\致远舰.files\ziyuan.jpeg"/>
          <p:cNvPicPr/>
          <p:nvPr/>
        </p:nvPicPr>
        <p:blipFill>
          <a:blip r:embed="rId1"/>
          <a:stretch/>
        </p:blipFill>
        <p:spPr>
          <a:xfrm>
            <a:off x="1143000" y="2133720"/>
            <a:ext cx="4114800" cy="3581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E:\tupian\历史图片\中国历史第三册\12\PDA037P.bmp"/>
          <p:cNvPicPr/>
          <p:nvPr/>
        </p:nvPicPr>
        <p:blipFill>
          <a:blip r:embed="rId2"/>
          <a:stretch/>
        </p:blipFill>
        <p:spPr>
          <a:xfrm>
            <a:off x="5715000" y="2133720"/>
            <a:ext cx="2335320" cy="350496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5"/>
          <p:cNvSpPr/>
          <p:nvPr/>
        </p:nvSpPr>
        <p:spPr>
          <a:xfrm>
            <a:off x="3391920" y="8380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致远舰及管带邓世昌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7" name="AutoShape 6"/>
          <p:cNvSpPr/>
          <p:nvPr/>
        </p:nvSpPr>
        <p:spPr>
          <a:xfrm>
            <a:off x="8381880" y="609588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2T02:36:23Z</dcterms:created>
  <dc:creator>xzj</dc:creator>
  <dc:description/>
  <dc:language>en-US</dc:language>
  <cp:lastModifiedBy>a</cp:lastModifiedBy>
  <dcterms:modified xsi:type="dcterms:W3CDTF">2015-03-17T07:11:01Z</dcterms:modified>
  <cp:revision>72</cp:revision>
  <dc:subject/>
  <dc:title>没有幻灯片标题</dc:title>
</cp:coreProperties>
</file>