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chimes.wav" ContentType="audio/x-wav"/>
  <Override PartName="/ppt/media/image8.gif" ContentType="image/gif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ABB-AB3D-4454-A3F3-0164949D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A51-7921-4032-8F54-59002A61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57481-F071-40B3-A540-5B43326A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1D5D4-06DA-426A-AAEC-955CF775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7A334-30A2-460C-8BAF-C3A9BBD7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61202-3FC5-40F7-BCD2-1B7688B1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9CAD9-18BE-4E32-B445-1F535725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C7D2E-BBCF-422B-A546-97DED58A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E995B-C576-471F-A2AD-BB6D6971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34B00-4F30-4561-BF4F-C866D756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6A656-69E0-4373-BA05-4648826C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B8010-975A-41E6-8F73-650DCE3E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145-7AB4-4763-AD38-4DC4CDA0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5EF01-2F2C-43D5-AA17-35D7DB76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67863-7646-40C3-9F2D-104EB3B1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08786-09AA-4CCD-82D7-91719805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3D58B-C4C3-4C66-9A7D-68B3595E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7AF56-24D3-4037-813D-9D7AC31E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574E7-EB70-42F4-9C59-78334A1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7B3EB-4072-4F1D-A6C6-CF04315B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45D09-F0D2-48A8-B335-0AC8BBF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CD84F-376B-4777-89A4-D27BB845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701FD-5C22-48CC-BAB2-0C944E5E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36E-9DE7-4EA8-B658-36376F2D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AD61D-5A77-45E6-A11F-02D14576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AF54D-AC3B-491E-9251-32B61AC4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C1601-CB81-4A62-9CA0-676509EE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14C2C-22A5-4E18-AABD-DC340DAE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0325A-2442-4F8C-B5ED-4D56DAB2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8A05E-7DA6-475D-BADA-D160DF3C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3C93F-3F64-4325-BAB4-2FB87277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8F5E9-1A6A-4703-AB2C-230B52F8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25E6E-01DF-4D18-B5AC-4DBF7661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4E17B-06F6-4D34-BD55-75C0D0C0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8BB8-24B0-4EFF-87BE-3B461B25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33AD6-70FD-4322-BDEF-C28B3EBB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50C91-F403-4F50-B6A2-B6315804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75C8B-9C0F-4523-AE7C-490B4C66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71D28-88CA-4DB5-B15B-7B49CB79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B0915-3259-42F8-90C4-99308534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26632-7EF6-4B08-B26B-DF324055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FD742-6D3B-4EC7-8181-7FC429D7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18EDF-8063-41F0-B42F-DFDF3906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1D6C7-5D2A-4B41-B1B5-88FA8E92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AE8F3-E4A2-41F3-B290-3B4FCFB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6946-5078-409B-981C-DAD596E1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96D12-92B2-4479-92E6-B6E50E58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84397-954C-4203-A4AC-87DA1BFB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59AAC-5783-4694-A574-25AC1BAA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51892-0E55-4F8D-AD27-9ED06E12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1E3CE-6E72-4E68-B22C-B0423E54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5ABB9-C90D-4E6A-8CAB-92E99DF2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FFBA9-F1F7-4E49-B4DF-98557D7C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03E33-77A3-41DD-B4FE-2CF8880D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0992B-67DD-4B0F-AB15-C9FD0CA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A51D9-2607-438E-A585-E90D6183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76C5-66D8-49F4-9BCA-6B9181A1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23F53-4E60-40BF-9643-61AD5099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57C29-FA01-46AF-95A9-7542025C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B1DE4-2828-41E6-AFAC-38D1255F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7AF98-98D6-431A-AD7C-EA13DFC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DF138-B705-4F50-A814-9C4DB0D3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BD257-DD87-494B-9727-01090206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09078-EC75-4788-AAA6-44448FBE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6F273-DB56-465F-848B-971148E0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A341F-8A31-4BB5-8A0F-94FC08D8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03ACE-E063-4E9C-9BBD-24FAE26E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BAAA-841D-4B65-9C7F-DEBED43C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CCF38-7932-4A2A-89F7-67B6AB95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FF91A-A7FF-440D-850B-2359DF4C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7D6E2-B8C6-446C-B1C5-577EFC2C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3405C-BC81-4B7B-9E40-6E8BC08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F5B9D-0EC8-47B9-ADA4-99C19BF8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5E411-7E45-4997-983D-92CC0A0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2D8FC-FC9C-4E34-8508-CA34B24F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CC86E-E827-4C96-ADBA-732624D3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B220F-71B0-41CC-823F-C22745ED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7C845-C09B-4CC3-AB79-3995EF2F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D9F0-5965-4864-997B-A32D04B6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067FA-9611-4731-9FE6-69A73E71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528E6-CBF0-45C6-8A2C-480CC1C4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9AD1E-01E7-491B-BD9F-FB20AD04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D216C-A9B1-4908-A8C9-745DDD68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378194-92DD-4DD1-92E0-9E520F59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DB0D0-ACCA-4F49-82B5-990B3EE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7E37B-6305-441A-B3C5-AEB105FA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37CD6-0763-4FBA-B70F-CB15AC0C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9CB9B-4CBE-4157-83B9-ADC71E47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EED0A-B9FB-409E-90BC-EB2F4589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35A4-A5E6-4CA6-85CF-9466F0D4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11945-44C1-450A-9BD3-9D1664EF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93D0-2BC1-465F-8199-5332E3FD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32C-D279-4D08-B42D-F1B0AE1A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A795-611D-4AE3-B3F0-178597CC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C02B-DC28-4BDD-88BB-A13ABE99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A8AC-B890-4318-8924-E80BF2BE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7FB0-77CB-407D-AB4B-8B8927B6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7644-52B3-4A39-A8B9-6FEA3481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BB8E-3152-42D9-9A12-C9DDE37F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1CAF-8A9A-48B2-8319-EFEA5CF7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86CA3-E9FF-4C08-A536-DA0FA5FB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A299-959C-47F6-9942-A7B9B05E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3FCD-8310-4677-B61C-CB8526BC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7B9-2DD7-4E04-86A8-AEE375F6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4679A-7962-4B39-A19F-173BFD37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E0C0D-1A83-4BE2-B52E-5409933F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E4E1-C01D-46DB-BE77-997DE796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DAC2-F15A-4967-B3F4-0D09918D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9C05-A909-4D56-BA78-24FBDB50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0EFAE-147D-436D-88EA-A0B6B216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DDCC-6267-40C3-9B35-3D1C7AFF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E1B06-F94B-4A2C-8928-63B15EBE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76EC1-C2FE-4B40-AB39-7769A31B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79155-6BEC-4620-8023-B4F4BC98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722-DFC3-411C-B76D-B61369A1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8EC5-8993-47B2-8379-45DF6CB0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7833B-B9E0-474C-8C87-0CB64E04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1F8C1-CC51-460B-B6AD-04C709EB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2BB58-B6C2-4A21-9D14-9DBA644D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80301-DD94-4DC4-AA8D-88619265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8C33B-AE87-4475-94A7-BA7F13FE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C101C-A868-488B-B578-9889E065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E2873-467F-431B-9A44-26807ABA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9DCF3-EEF6-4748-AF4E-658A5645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CFC7A-45FE-4CD2-A7EF-77701161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82B-93FB-4F10-BBBE-773BE0D0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B20DA-CFB6-43DC-98AE-E7F6FF83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BD812-6F3A-49A1-A0AC-B69E48E0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9835E-3339-404E-A137-D2D780ED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0BA5D-3AE1-4A1E-88DE-014FF1ED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A28D-C244-4E57-8D75-4EFD6CC2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FA9A7-8B37-4D41-958A-E45F61D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D510C-0408-4455-BC89-DD3D50E1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DE65C-7C81-45C7-B3FF-8EB197E3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0DC37-B047-44F8-9FB1-67B01FDB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DF080-CB8B-45D9-A08B-A7ADD0DA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D77-731E-4CC7-8567-043079DF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84E3-0BBC-4E7C-8DDD-9B0581FF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A7949-8380-4ECE-98C8-C2058D8F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F1737-20EC-4C95-9209-807F6C5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C0B2A-147F-467B-A1C4-7A950F60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6CED9-C38D-4FFC-A03E-CC18BE4D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E7C08-9895-4AA9-A7D7-3525BE19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8F9CF-12D2-44D3-B8AF-589162DC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3D50F-6C81-41C7-BFD7-8362CE3E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E858B-4971-4A1F-B94A-EA454909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AFD9-FA0B-4565-A6A2-0F46C085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75E-009B-4BD7-8222-FB4D05E1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17A23-4569-41CB-ADF1-56E265DF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47EAE-A0DC-4625-B462-BC1AB5A0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05E8F-53CA-42A3-93B7-1F113D2A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3B14F-34D1-4990-B1E5-27452A3D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D0ED8-0108-4D1A-AC11-26F4E396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ED194-1D99-4C30-8D45-D2CAB6F7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19641-95C7-4A78-8F05-9BD6C34A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E9374-D550-40BD-B315-19DDD446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B8D63-AB71-4413-AFF1-C8C35C6B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ABDA-AA43-47D1-89A7-F5694190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4B2-2269-4ECC-B32A-53DC16A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0CA91-A7A1-435F-94B9-E57534F4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64028-611C-4587-974F-3ABE43A8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15C05-3CB8-4E8F-ABBB-5650BB5D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4FFD5-23E1-4DC5-AF2C-B8C77A45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A872C-081E-4957-8DF6-3F7052EF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0A72C-B686-4013-B9B3-FD61D58C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660FF-C84B-4A78-8415-D366F019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A6352-DE9A-4618-B16C-3EE1D786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84DBC-7B62-4459-B52E-CE173953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34856-578E-4041-B1C7-59F14D6D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636-F632-42BD-97D1-3B78600F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3E19E-EC53-4C16-9AD3-55BFD52B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4E2B4-CA54-4EF5-80BB-8AC61155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A686C-E417-4272-86A8-70FBEF60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CC467-A25B-46D1-A8AB-A2868515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3851F-6416-4269-96CC-3C2386B3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01711-CC77-403A-B1F4-6774003C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0D96A-BCFD-4C3E-9FC9-7CE9C3EB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2C36C-8209-4830-B4E6-40A5E8F3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69CB5-E96A-48A6-A89E-9C4ECA22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CB6AA-7B0A-4F4A-A04B-6147FEBE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AC50-C313-4B09-963A-F3C321DC4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B2B6-7ED0-4A7C-981B-1D93A71924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E356-B75C-4CF0-874A-11801F586E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2B6E-1834-474D-9E35-B2FC646267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1239-078A-4214-96D3-10993A8DAC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1F5D-CB68-46DF-8426-8C595F50C17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065F-A136-4CA8-81A0-FFA498F1CC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DCE5-C376-4234-9E15-1F613F287F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1C4A-CFC6-4518-A5E9-8E9831E5EA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D707-7F56-4BDD-BD5F-282E214048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CC81-BBE8-469C-A103-4BA3737F11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B17C-FEAB-4E1A-AA84-190920EEBC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32A5-6782-4ACD-B7F7-6B59838EEE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42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65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95F1-FA7A-41BF-A2BC-60A54A8CF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6D80-ECF4-4B7A-AC39-6AC607DA45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310-1056-4DA8-BA6F-F3D541C467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51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74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26D5-5EBA-4730-AE68-37BE55BD2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A975-6BD7-4CBF-8BE4-3F577FE3164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B294-546F-44DD-AA95-D44D6B9C51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A8F6-7929-40EA-80C2-58BCB1E8FE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B178-C2CB-49DC-864F-3BF4B898AE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E42B-B3F4-4FFA-9A22-A373B059F37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996D-587A-4D06-9BEB-AF134A1FB5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14D9-4C0E-486F-8B33-D267873464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11AE-90D5-429F-A25D-CB34C03660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5F21-2074-40F5-8A61-64F149E9E1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773D-336C-439F-9D01-3E8BE868BB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611280" y="1125360"/>
            <a:ext cx="61056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将心比心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ea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20051118145001827"/>
          <p:cNvPicPr/>
          <p:nvPr/>
        </p:nvPicPr>
        <p:blipFill>
          <a:blip r:embed="rId1"/>
          <a:stretch/>
        </p:blipFill>
        <p:spPr>
          <a:xfrm>
            <a:off x="304920" y="177840"/>
            <a:ext cx="8458200" cy="645156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3"/>
          <p:cNvSpPr/>
          <p:nvPr/>
        </p:nvSpPr>
        <p:spPr>
          <a:xfrm>
            <a:off x="137160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台湾的作家罗兰曾经这样说：“如果每一个人在与别人相处的时候，都能先想到别人，后想到自己，多想到别人，少想到自己，那么世界上不但可以增加很多欢乐与和气，而且可以减少很多悲剧和烦恼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ahoma"/>
              </a:rPr>
              <a:t>课外作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以日记的形式写一段话，以生活中的一个事例来说明“将心比心”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5943600" cy="1067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9157c"/>
                </a:solidFill>
                <a:latin typeface="Tahoma"/>
              </a:rPr>
              <a:t>将心比心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380520" y="34290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zh-CN" sz="4000" spc="-1" strike="noStrike">
                <a:solidFill>
                  <a:srgbClr val="0000cc"/>
                </a:solidFill>
                <a:latin typeface="Tahoma"/>
              </a:rPr>
              <a:t>将心比心：</a:t>
            </a: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《</a:t>
            </a:r>
            <a:r>
              <a:rPr b="0" lang="zh-CN" sz="4000" spc="-1" strike="noStrike">
                <a:solidFill>
                  <a:srgbClr val="0000cc"/>
                </a:solidFill>
                <a:latin typeface="Tahoma"/>
              </a:rPr>
              <a:t>现代汉语词典</a:t>
            </a: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》</a:t>
            </a:r>
            <a:r>
              <a:rPr b="0" lang="zh-CN" sz="4000" spc="-1" strike="noStrike">
                <a:solidFill>
                  <a:srgbClr val="0000cc"/>
                </a:solidFill>
                <a:latin typeface="Tahoma"/>
              </a:rPr>
              <a:t>上解释为拿自己的心比照别人的心，指遇事设身处地为别人着想。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121932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ahoma"/>
              </a:rPr>
              <a:t>自学提示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362320" y="11426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ahoma"/>
              </a:rPr>
              <a:t>自由朗读全文，同桌之间进行朗读检查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Tahoma"/>
              </a:rPr>
              <a:t>想一想，课文写了几件将心比心的事情？是哪几件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1447920"/>
            <a:ext cx="731520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003300"/>
                </a:solidFill>
                <a:latin typeface="Tahoma"/>
              </a:rPr>
              <a:t>当奶奶向她道谢时，那位阿姨轻轻地说：“我的妈妈和您的年龄差不多，我希望她遇到这种时候，也有人为她开门。</a:t>
            </a:r>
            <a:r>
              <a:rPr b="0" lang="zh-CN" sz="3200" spc="-1" strike="noStrike">
                <a:solidFill>
                  <a:srgbClr val="0033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1447920"/>
            <a:ext cx="731520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003300"/>
                </a:solidFill>
                <a:latin typeface="Tahoma"/>
              </a:rPr>
              <a:t>当奶奶向她道谢时，那位阿姨轻轻地说：“</a:t>
            </a:r>
            <a:r>
              <a:rPr b="0" lang="zh-CN" sz="3600" spc="-1" strike="noStrike">
                <a:solidFill>
                  <a:srgbClr val="0000cc"/>
                </a:solidFill>
                <a:latin typeface="Tahoma"/>
              </a:rPr>
              <a:t>我的妈妈和您的年龄差不多，我希望她遇到这种时候，也有人为她开门</a:t>
            </a:r>
            <a:r>
              <a:rPr b="0" lang="zh-CN" sz="3600" spc="-1" strike="noStrike">
                <a:solidFill>
                  <a:srgbClr val="0033cc"/>
                </a:solidFill>
                <a:latin typeface="Tahoma"/>
              </a:rPr>
              <a:t>。</a:t>
            </a:r>
            <a:r>
              <a:rPr b="0" lang="zh-CN" sz="3600" spc="-1" strike="noStrike">
                <a:solidFill>
                  <a:srgbClr val="003300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838080" y="3505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母亲用另一只手拉着我，平静地对护士说：</a:t>
            </a: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这是我的女儿，和你差不多大小，正在医科大学读书，她也将面对自己的第一个患者。我真希望她第一次扎针的时候，也能得到患者的宽容和鼓励。</a:t>
            </a: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”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838080" y="3505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母亲用另一只手拉着我，平静地对护士说：</a:t>
            </a: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cc"/>
                </a:solidFill>
                <a:latin typeface="Tahoma"/>
              </a:rPr>
              <a:t>这是我的女儿，和你差不多大小，正在医科大学读书，她也将面对自己的第一个患者。我真希望她第一次扎针的时候，也能得到患者的宽容和鼓励</a:t>
            </a: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。</a:t>
            </a: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”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520" y="3962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4400" spc="-1" strike="noStrike">
                <a:solidFill>
                  <a:srgbClr val="0000cc"/>
                </a:solidFill>
                <a:latin typeface="Tahoma"/>
              </a:rPr>
              <a:t>是啊，如果我们在生活中能将心比心，就会对老人生出一份尊重，对孩子增加一份关爱，就会使人与人之间多一些宽容和理解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2742840" y="16002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ahoma"/>
              </a:rPr>
              <a:t>在公共汽车上，一位红领巾给一个老大爷让座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教室里，一位同学不小心把钢笔墨甩到了别人身上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533520" y="1828800"/>
            <a:ext cx="167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0000cc"/>
                </a:solidFill>
                <a:latin typeface="Tahoma"/>
              </a:rPr>
              <a:t>展开想象，模仿课文中的语言描写，写几句人物的对话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3:33:02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7:11:34Z</dcterms:modified>
  <cp:revision>4</cp:revision>
  <dc:subject>第一PPT模板网-WWW.1PPT.COM</dc:subject>
  <dc:title>第一PPT模板网-WWW.1PPT.COM</dc:title>
</cp:coreProperties>
</file>