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8E2-F4C8-4D37-999D-347C7537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A7C-0AAE-44F0-B686-7F363C31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603CA-D794-42CA-BBC1-2D41FBD6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D5214-3AA0-418D-87E6-8EC3B59E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0E398-6117-451F-9BE9-F05BAC02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2DA02-5D51-450B-B12E-2031AE66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56416-54A5-4029-A6A6-273A95E3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A874A-FB90-42D2-A2D9-7D9314C5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3C722-C309-4AF8-B16C-13183182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28C44-B53C-4E64-8B00-283CE715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B2E16-F0D6-4F8A-88EF-55C4CE4C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ECCFB-EE54-448C-84A5-2439E125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473-8112-4430-AF11-1E451BC2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D2496-4F17-4796-8B9B-56090A9B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6F989-ED4B-4E3D-BA11-3F3884E4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71FC3-FEB2-40E9-A44C-0D73A97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3068C-8CFF-4474-AAC8-9F5F0C90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B08F0-2AAD-4396-973D-13F60AF9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8A35B-CA52-4E57-A5F0-9197DBA6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FC064-6958-457E-8924-A1ED3EC9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03108-80EB-4628-8C47-59C574B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14A27-42B4-4B31-9DFA-5A836A24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145AD-BAF3-4FE4-BF40-E094D863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1C8-C7EB-4AC8-AD13-225C5463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4E0EB-0018-4BED-81FF-912272CF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E3DDF-BDE4-4D7D-B249-3E99A60C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E5D9A-B746-492B-B7A5-5EC79764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28B01-2F2D-4897-91BD-BEE0FDE8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65E49-859E-4D22-AED2-C73C1AEA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A9F05-3AFF-47F7-AFF2-29AA41BD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F806B-FF0A-42AD-A3FC-F757B1B2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CDB05-A0C4-447E-A978-74143AE3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BA4A0-12F4-47ED-96D4-2E3D17A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EB166-98B7-4D8F-B690-E905FEA1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0746-91C4-412B-B93D-4EFC9218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12869-D91F-4CAA-AE5C-6C9CA04A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18CF7-35C6-4771-86B2-303D3CFF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403EC-D947-49A6-B9F9-37406607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2E38F-CD55-4A9B-957D-459C8DCB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9980D-5618-4E01-B3A5-7654226C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B398D-7F0D-4C22-974B-08CD7FF4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84FC3-1D04-41A2-878E-F2E254F2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B7FF2-D623-436D-ADF7-0056C2BF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A6415-C8CF-47D1-B2A9-D38C172E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7F852-FF94-4896-B613-899A922A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5A29-3C0B-441D-AFFC-8CF049C7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33304-0603-4F49-BB65-DC1684B8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E3908-2FE0-49D6-B8FA-67F7D61D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DD247-6BE3-4B49-9783-0F893D02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F6A83-D729-44BD-A305-1D388656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FCB75-B0AA-4EAE-914D-C4CB7B41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AFD3E-7D6B-438E-8884-32C89017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D3EAA-99C6-4668-8335-B9391F2B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7DE0C-D949-4A91-87A9-CA1E1710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6AE63-FC1A-45D6-83A4-4DA6CE6F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85B9C-D3BA-46A9-B882-0A849931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724A-C99C-492E-A601-2D24F33C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D3746-C085-4379-89F6-C776F16D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DDEFF-60C2-456A-9168-63585E79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65D77-B3F8-4121-B1A8-E2EF2B46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E6977-D6C6-404E-AB22-E2F82909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3797F-1B53-46CA-93D0-77D864E4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DF42F-02F8-4522-AD18-38A37F0A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0B21A-0BE2-4A45-A885-2D247D82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F02E-563D-4387-AD96-E41E6BDF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78DB-A413-44E7-AE84-EAB0E7A6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3A7F-01C5-4A8A-9E0E-6B681CEB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F9C8-24CC-4272-9AD2-EB9B7593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E9A-3B4B-40A4-9BA9-6D95DA7A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7BBB-B451-4FEA-B71A-08F8BC90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6D6A-1BA9-47B9-B03C-9A52560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93F7-7C38-4D21-9D71-ADEC76CE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D6D5-8B66-47AF-AAB3-36B4060E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4169-9FA6-4247-9230-E9C2AF44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1C6D-5968-4A31-AA28-700747F1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EAD3-FA33-41E8-A003-BBA94EF6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42E59-2ED5-4BCF-990C-5A6C75A1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56CA-A026-49B0-9839-8F2F0616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42206-224A-4E7C-8D7B-C366E615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411-BC34-4835-B66E-A954001C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2CAE8-E8ED-48F9-BB1F-CB017FA5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7F8D-994C-4A8A-9A6B-1C443E8F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91A4-C1B8-49F1-B20B-FA43ED2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ED0C-318B-4703-9808-05430BA7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4229-9296-402E-8A5E-9C8D33B7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3BAF-C4C3-4844-9E71-247174CB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E58B-25A0-4487-9258-5BF44962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72A52-74E6-4702-9A72-81B85862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01E8-9A36-4784-B232-49C9CE97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6EE60-28A8-4735-8936-F0157824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E2F-0298-4F16-B41D-13FB4AA1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9655-5A1C-4EE4-812C-23CD7C7A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55A6-9C4F-4F47-87DE-0B6E21A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F58F5-C959-4810-A834-8FB58933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2726D-9B47-46F3-AB27-5F8B3D19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8F44D-B1DD-41CC-95F8-5EA97F2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949D-41D3-454F-8F33-3C3FE8DA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0A57E-01FB-4F79-BC45-92081F03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26B8C-513F-4A81-B672-6C4D98CD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9238-2613-4C6C-B3FD-26AE1DBA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6B9B2-2E9F-4EC0-BCE2-AB2CC0AB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2E9-18EF-415B-85DD-7C9081B7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C5F52-E7DE-49AB-95C2-FE5C1DC2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4B84D-ED4B-4E51-B15C-358FE1EA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DDE1-3473-4F2C-B777-33CB0802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E9641-558A-449C-9916-FEB0DF35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28A47-8737-4E38-83C7-06D3F78E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9F76F-D6A3-40AC-835F-ED9CEF9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1B03-2D45-40ED-9205-C45E37D9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26F3E-6C33-4A62-BA14-2C83EABA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14ABD-2CFE-4EC4-84F1-E32EF210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56185-463D-4112-9825-6551A1BD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4EF-7343-4D56-9D80-B2AE3FB1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A22D-EC69-473C-BB8F-A86C2221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76DFF-CF05-4CC0-841D-C3631D19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81BCF-97A9-4EC2-801F-E1E8662F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FE3D0-ED0E-448F-B4DC-B73D5B2F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7994F-6677-49BC-899C-3F0E7CC2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1A8E3-B48F-4F01-A867-DDC9115A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1C096-BF9E-498B-ACA9-A43FF02F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A7485-7403-41D0-9507-70311EBE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D74FF-636E-4C08-91B5-3DDE9969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85C29-B114-45DD-A84B-BBD9BFC1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7DC-0D64-4EF8-9910-AA281D5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50137-5F5F-4819-B02C-6081963D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A3E75-A782-4C4F-931F-A98EC0B3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27C6A-210D-473F-ADA5-97FE37DE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54054-65EE-41FC-8CE9-17E26468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F20BF-6F35-497D-9AC2-21FE0C6D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2792C-1398-42FA-8DF2-56EE92EC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68739-184D-4A98-A899-832F84B5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AAF30-A89C-41DE-B6F6-3B7BDB75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8B665-1DC9-4B56-9C00-A1DE9E18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E7729-F6CE-4FEE-859B-3A43EF8E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C38-906E-4C77-9DFB-2073512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5995F-DD92-4216-83F7-2C05FF45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62AD0-5421-44C8-802C-502E7ACC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1E651-E2FE-4DF5-B398-5B2C056D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9583E-7E1E-4079-B43D-9F12CB59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470A-C770-478E-9034-D598C76C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6AE7C-28FB-4FFF-83EF-E8DF686E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01344-790D-44CA-BC14-C6324E64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AD01A-BFE1-4878-81EE-3F82C19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9226A-F1A9-440B-91BB-56C16FF7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D73CC-BDC4-4BC6-8966-F78270D2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3AB-4391-495C-8FC3-34756CC5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3F9C1-0D51-407B-9C92-2ED214B2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9BBD6-9606-4350-8227-8EA8249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6E1CC-A70B-4783-AA5E-DDC4D0B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CFC62-0C82-47F0-B6A6-13DD3839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DA3B5-692B-4119-AF47-F159CE28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A8E3B-0AF9-4285-9CC3-EBB75D17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2F52E-7CF7-4D2A-89AD-000CD408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900E6-E873-491D-82F5-01AF7E12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F6217-62E1-43E6-B341-DEADE0C9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7369F-2927-4CE2-9304-0E838943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AAC4-1962-4AA6-A9D9-A3565A8F45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956C-BD11-4CFC-9459-4F4ED9A464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96B1-6656-431C-A75B-45C836E351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7A30-12D9-4692-9396-7815284FCC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CA0A-BEEF-4242-8BA2-640C3F1A69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C71C-E4F4-40CB-AC15-CE56C2E8C4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F104-1D95-45C5-AB8A-87CBA4089C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7F82-2A59-44FE-A618-0BCE1F4DFB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CBF3-8B20-4D9A-8E6C-BD6E263E8D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37A2-27CF-48D4-990F-F2CC905569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CE2D-5E82-4F6D-8E43-14EF1C5E74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AB45-E980-4008-98C3-3506A458C2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B484-9CE7-4812-B0AA-4E3BA05F1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F7F2-5C24-4630-8E96-F551991467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AE99-16F6-440F-A5F9-1BFDA453F2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41FF-53D4-4792-8CFB-E94FBA6159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FF21-2220-437E-BB1E-AC72354BA7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DA03-C7A2-414B-B5B5-F6C62E6CE2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6C5A-4200-42A0-AA04-A19176A540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A787-ABD7-43F3-8148-F81536C40F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FE3C-F35B-477B-9A24-B88DD44E7A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1CF0-E614-4DC2-8335-20B479199A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9005-CFA3-477B-B3E0-4BD56E043E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6A10-166C-43A3-845C-5F3CD3D6BB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B94F-8DE1-4FDE-AA57-27B63886D0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2714760" y="4000680"/>
            <a:ext cx="4857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2786040" y="45007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10" descr="1.png"/>
          <p:cNvPicPr/>
          <p:nvPr/>
        </p:nvPicPr>
        <p:blipFill>
          <a:blip r:embed="rId2"/>
          <a:stretch/>
        </p:blipFill>
        <p:spPr>
          <a:xfrm>
            <a:off x="2000160" y="11476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11" descr="2.png"/>
          <p:cNvPicPr/>
          <p:nvPr/>
        </p:nvPicPr>
        <p:blipFill>
          <a:blip r:embed="rId3"/>
          <a:stretch/>
        </p:blipFill>
        <p:spPr>
          <a:xfrm>
            <a:off x="4500720" y="1147680"/>
            <a:ext cx="2374920" cy="281952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12" descr="1.png"/>
          <p:cNvPicPr/>
          <p:nvPr/>
        </p:nvPicPr>
        <p:blipFill>
          <a:blip r:embed="rId4"/>
          <a:stretch/>
        </p:blipFill>
        <p:spPr>
          <a:xfrm>
            <a:off x="4375080" y="3610080"/>
            <a:ext cx="2743200" cy="281916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13" descr="2.png"/>
          <p:cNvPicPr/>
          <p:nvPr/>
        </p:nvPicPr>
        <p:blipFill>
          <a:blip r:embed="rId5"/>
          <a:stretch/>
        </p:blipFill>
        <p:spPr>
          <a:xfrm>
            <a:off x="2286000" y="3610080"/>
            <a:ext cx="2374920" cy="2819160"/>
          </a:xfrm>
          <a:prstGeom prst="rect">
            <a:avLst/>
          </a:prstGeom>
          <a:ln w="0">
            <a:noFill/>
          </a:ln>
        </p:spPr>
      </p:pic>
      <p:sp>
        <p:nvSpPr>
          <p:cNvPr id="6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2"/>
          <p:cNvSpPr/>
          <p:nvPr/>
        </p:nvSpPr>
        <p:spPr>
          <a:xfrm>
            <a:off x="2926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5"/>
          <p:cNvSpPr/>
          <p:nvPr/>
        </p:nvSpPr>
        <p:spPr>
          <a:xfrm>
            <a:off x="5426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21"/>
          <p:cNvSpPr/>
          <p:nvPr/>
        </p:nvSpPr>
        <p:spPr>
          <a:xfrm>
            <a:off x="5212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25"/>
          <p:cNvSpPr/>
          <p:nvPr/>
        </p:nvSpPr>
        <p:spPr>
          <a:xfrm>
            <a:off x="285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33" descr="1.png"/>
          <p:cNvPicPr/>
          <p:nvPr/>
        </p:nvPicPr>
        <p:blipFill>
          <a:blip r:embed="rId2"/>
          <a:stretch/>
        </p:blipFill>
        <p:spPr>
          <a:xfrm>
            <a:off x="2773440" y="15127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4" descr="2.png"/>
          <p:cNvPicPr/>
          <p:nvPr/>
        </p:nvPicPr>
        <p:blipFill>
          <a:blip r:embed="rId3"/>
          <a:stretch/>
        </p:blipFill>
        <p:spPr>
          <a:xfrm>
            <a:off x="4143240" y="1674720"/>
            <a:ext cx="2438640" cy="9892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36" descr="3.png"/>
          <p:cNvPicPr/>
          <p:nvPr/>
        </p:nvPicPr>
        <p:blipFill>
          <a:blip r:embed="rId4"/>
          <a:stretch/>
        </p:blipFill>
        <p:spPr>
          <a:xfrm>
            <a:off x="2879640" y="2575080"/>
            <a:ext cx="1182600" cy="14572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37" descr="2.png"/>
          <p:cNvPicPr/>
          <p:nvPr/>
        </p:nvPicPr>
        <p:blipFill>
          <a:blip r:embed="rId5"/>
          <a:stretch/>
        </p:blipFill>
        <p:spPr>
          <a:xfrm>
            <a:off x="4133880" y="2746440"/>
            <a:ext cx="2438280" cy="98892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38" descr="1.png"/>
          <p:cNvPicPr/>
          <p:nvPr/>
        </p:nvPicPr>
        <p:blipFill>
          <a:blip r:embed="rId6"/>
          <a:stretch/>
        </p:blipFill>
        <p:spPr>
          <a:xfrm>
            <a:off x="2773440" y="37465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39" descr="2.png"/>
          <p:cNvPicPr/>
          <p:nvPr/>
        </p:nvPicPr>
        <p:blipFill>
          <a:blip r:embed="rId7"/>
          <a:stretch/>
        </p:blipFill>
        <p:spPr>
          <a:xfrm>
            <a:off x="4143240" y="3960720"/>
            <a:ext cx="2438640" cy="989280"/>
          </a:xfrm>
          <a:prstGeom prst="rect">
            <a:avLst/>
          </a:prstGeom>
          <a:ln w="0">
            <a:noFill/>
          </a:ln>
        </p:spPr>
      </p:pic>
      <p:sp>
        <p:nvSpPr>
          <p:cNvPr id="5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4000680" y="4046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1"/>
          <p:cNvSpPr/>
          <p:nvPr/>
        </p:nvSpPr>
        <p:spPr>
          <a:xfrm flipH="1">
            <a:off x="4357080" y="42148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2"/>
          <p:cNvSpPr/>
          <p:nvPr/>
        </p:nvSpPr>
        <p:spPr>
          <a:xfrm>
            <a:off x="4429080" y="19288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1"/>
          <p:cNvSpPr/>
          <p:nvPr/>
        </p:nvSpPr>
        <p:spPr>
          <a:xfrm flipH="1">
            <a:off x="4500720" y="29289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26" descr="1.png"/>
          <p:cNvPicPr/>
          <p:nvPr/>
        </p:nvPicPr>
        <p:blipFill>
          <a:blip r:embed="rId2"/>
          <a:stretch/>
        </p:blipFill>
        <p:spPr>
          <a:xfrm>
            <a:off x="4635360" y="2260440"/>
            <a:ext cx="2079720" cy="23115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27" descr="2.png"/>
          <p:cNvPicPr/>
          <p:nvPr/>
        </p:nvPicPr>
        <p:blipFill>
          <a:blip r:embed="rId3"/>
          <a:stretch/>
        </p:blipFill>
        <p:spPr>
          <a:xfrm>
            <a:off x="3643200" y="14288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28" descr="1.png"/>
          <p:cNvPicPr/>
          <p:nvPr/>
        </p:nvPicPr>
        <p:blipFill>
          <a:blip r:embed="rId4"/>
          <a:stretch/>
        </p:blipFill>
        <p:spPr>
          <a:xfrm>
            <a:off x="2571840" y="2371680"/>
            <a:ext cx="2079360" cy="23115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29" descr="2.png"/>
          <p:cNvPicPr/>
          <p:nvPr/>
        </p:nvPicPr>
        <p:blipFill>
          <a:blip r:embed="rId5"/>
          <a:stretch/>
        </p:blipFill>
        <p:spPr>
          <a:xfrm>
            <a:off x="3556080" y="341316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5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2"/>
          <p:cNvSpPr/>
          <p:nvPr/>
        </p:nvSpPr>
        <p:spPr>
          <a:xfrm>
            <a:off x="2568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21"/>
          <p:cNvSpPr/>
          <p:nvPr/>
        </p:nvSpPr>
        <p:spPr>
          <a:xfrm>
            <a:off x="4283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25"/>
          <p:cNvSpPr/>
          <p:nvPr/>
        </p:nvSpPr>
        <p:spPr>
          <a:xfrm>
            <a:off x="4069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0" descr="1.png"/>
          <p:cNvPicPr/>
          <p:nvPr/>
        </p:nvPicPr>
        <p:blipFill>
          <a:blip r:embed="rId2"/>
          <a:stretch/>
        </p:blipFill>
        <p:spPr>
          <a:xfrm>
            <a:off x="3603600" y="3763800"/>
            <a:ext cx="2090880" cy="25941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1" descr="2.png"/>
          <p:cNvPicPr/>
          <p:nvPr/>
        </p:nvPicPr>
        <p:blipFill>
          <a:blip r:embed="rId3"/>
          <a:stretch/>
        </p:blipFill>
        <p:spPr>
          <a:xfrm>
            <a:off x="2071800" y="2708280"/>
            <a:ext cx="2336760" cy="19130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2" descr="3.png"/>
          <p:cNvPicPr/>
          <p:nvPr/>
        </p:nvPicPr>
        <p:blipFill>
          <a:blip r:embed="rId4"/>
          <a:stretch/>
        </p:blipFill>
        <p:spPr>
          <a:xfrm>
            <a:off x="3746520" y="1270080"/>
            <a:ext cx="1795320" cy="22082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3" descr="4.png"/>
          <p:cNvPicPr/>
          <p:nvPr/>
        </p:nvPicPr>
        <p:blipFill>
          <a:blip r:embed="rId5"/>
          <a:stretch/>
        </p:blipFill>
        <p:spPr>
          <a:xfrm>
            <a:off x="4960800" y="2573280"/>
            <a:ext cx="2376720" cy="2071800"/>
          </a:xfrm>
          <a:prstGeom prst="rect">
            <a:avLst/>
          </a:prstGeom>
          <a:ln w="0">
            <a:noFill/>
          </a:ln>
        </p:spPr>
      </p:pic>
      <p:sp>
        <p:nvSpPr>
          <p:cNvPr id="5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2"/>
          <p:cNvSpPr/>
          <p:nvPr/>
        </p:nvSpPr>
        <p:spPr>
          <a:xfrm>
            <a:off x="4140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21"/>
          <p:cNvSpPr/>
          <p:nvPr/>
        </p:nvSpPr>
        <p:spPr>
          <a:xfrm>
            <a:off x="42120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25"/>
          <p:cNvSpPr/>
          <p:nvPr/>
        </p:nvSpPr>
        <p:spPr>
          <a:xfrm>
            <a:off x="2354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10" descr="1.png"/>
          <p:cNvPicPr/>
          <p:nvPr/>
        </p:nvPicPr>
        <p:blipFill>
          <a:blip r:embed="rId2"/>
          <a:stretch/>
        </p:blipFill>
        <p:spPr>
          <a:xfrm>
            <a:off x="1857240" y="2714760"/>
            <a:ext cx="6755040" cy="209520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11" descr="2.png"/>
          <p:cNvPicPr/>
          <p:nvPr/>
        </p:nvPicPr>
        <p:blipFill>
          <a:blip r:embed="rId3"/>
          <a:stretch/>
        </p:blipFill>
        <p:spPr>
          <a:xfrm>
            <a:off x="1357200" y="3897360"/>
            <a:ext cx="6247080" cy="203184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12" descr="2.png"/>
          <p:cNvPicPr/>
          <p:nvPr/>
        </p:nvPicPr>
        <p:blipFill>
          <a:blip r:embed="rId4"/>
          <a:stretch/>
        </p:blipFill>
        <p:spPr>
          <a:xfrm>
            <a:off x="1357200" y="1611360"/>
            <a:ext cx="6247080" cy="2031840"/>
          </a:xfrm>
          <a:prstGeom prst="rect">
            <a:avLst/>
          </a:prstGeom>
          <a:ln w="0">
            <a:noFill/>
          </a:ln>
        </p:spPr>
      </p:pic>
      <p:sp>
        <p:nvSpPr>
          <p:cNvPr id="5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5"/>
          <p:cNvSpPr/>
          <p:nvPr/>
        </p:nvSpPr>
        <p:spPr>
          <a:xfrm>
            <a:off x="5140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21"/>
          <p:cNvSpPr/>
          <p:nvPr/>
        </p:nvSpPr>
        <p:spPr>
          <a:xfrm>
            <a:off x="3211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25"/>
          <p:cNvSpPr/>
          <p:nvPr/>
        </p:nvSpPr>
        <p:spPr>
          <a:xfrm>
            <a:off x="3569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0" descr="1.png"/>
          <p:cNvPicPr/>
          <p:nvPr/>
        </p:nvPicPr>
        <p:blipFill>
          <a:blip r:embed="rId2"/>
          <a:stretch/>
        </p:blipFill>
        <p:spPr>
          <a:xfrm>
            <a:off x="2286000" y="1000080"/>
            <a:ext cx="5129280" cy="500544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11" descr="2.png"/>
          <p:cNvPicPr/>
          <p:nvPr/>
        </p:nvPicPr>
        <p:blipFill>
          <a:blip r:embed="rId3"/>
          <a:stretch/>
        </p:blipFill>
        <p:spPr>
          <a:xfrm>
            <a:off x="3929040" y="2571840"/>
            <a:ext cx="1879560" cy="16761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2"/>
          <p:cNvSpPr/>
          <p:nvPr/>
        </p:nvSpPr>
        <p:spPr>
          <a:xfrm>
            <a:off x="4426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5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21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5"/>
          <p:cNvSpPr/>
          <p:nvPr/>
        </p:nvSpPr>
        <p:spPr>
          <a:xfrm>
            <a:off x="2568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图片 10" descr="1.png"/>
          <p:cNvPicPr/>
          <p:nvPr/>
        </p:nvPicPr>
        <p:blipFill>
          <a:blip r:embed="rId2"/>
          <a:stretch/>
        </p:blipFill>
        <p:spPr>
          <a:xfrm>
            <a:off x="4545000" y="2282760"/>
            <a:ext cx="2455920" cy="31464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11" descr="2.png"/>
          <p:cNvPicPr/>
          <p:nvPr/>
        </p:nvPicPr>
        <p:blipFill>
          <a:blip r:embed="rId3"/>
          <a:stretch/>
        </p:blipFill>
        <p:spPr>
          <a:xfrm>
            <a:off x="2844720" y="3500280"/>
            <a:ext cx="2766960" cy="24782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12" descr="1.png"/>
          <p:cNvPicPr/>
          <p:nvPr/>
        </p:nvPicPr>
        <p:blipFill>
          <a:blip r:embed="rId4"/>
          <a:stretch/>
        </p:blipFill>
        <p:spPr>
          <a:xfrm>
            <a:off x="2300400" y="1568520"/>
            <a:ext cx="2454120" cy="314640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13" descr="2.png"/>
          <p:cNvPicPr/>
          <p:nvPr/>
        </p:nvPicPr>
        <p:blipFill>
          <a:blip r:embed="rId5"/>
          <a:stretch/>
        </p:blipFill>
        <p:spPr>
          <a:xfrm>
            <a:off x="3683160" y="1071720"/>
            <a:ext cx="2766960" cy="2477880"/>
          </a:xfrm>
          <a:prstGeom prst="rect">
            <a:avLst/>
          </a:prstGeom>
          <a:ln w="0">
            <a:noFill/>
          </a:ln>
        </p:spPr>
      </p:pic>
      <p:sp>
        <p:nvSpPr>
          <p:cNvPr id="6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2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5"/>
          <p:cNvSpPr/>
          <p:nvPr/>
        </p:nvSpPr>
        <p:spPr>
          <a:xfrm>
            <a:off x="5069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1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2568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10" descr="1.png"/>
          <p:cNvPicPr/>
          <p:nvPr/>
        </p:nvPicPr>
        <p:blipFill>
          <a:blip r:embed="rId2"/>
          <a:stretch/>
        </p:blipFill>
        <p:spPr>
          <a:xfrm>
            <a:off x="3081240" y="1357200"/>
            <a:ext cx="2990880" cy="441972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11" descr="2.png"/>
          <p:cNvPicPr/>
          <p:nvPr/>
        </p:nvPicPr>
        <p:blipFill>
          <a:blip r:embed="rId3"/>
          <a:stretch/>
        </p:blipFill>
        <p:spPr>
          <a:xfrm>
            <a:off x="2394000" y="1935000"/>
            <a:ext cx="4464000" cy="3137040"/>
          </a:xfrm>
          <a:prstGeom prst="rect">
            <a:avLst/>
          </a:prstGeom>
          <a:ln w="0">
            <a:noFill/>
          </a:ln>
        </p:spPr>
      </p:pic>
      <p:sp>
        <p:nvSpPr>
          <p:cNvPr id="6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2"/>
          <p:cNvSpPr/>
          <p:nvPr/>
        </p:nvSpPr>
        <p:spPr>
          <a:xfrm>
            <a:off x="22831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5"/>
          <p:cNvSpPr/>
          <p:nvPr/>
        </p:nvSpPr>
        <p:spPr>
          <a:xfrm>
            <a:off x="42138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1"/>
          <p:cNvSpPr/>
          <p:nvPr/>
        </p:nvSpPr>
        <p:spPr>
          <a:xfrm>
            <a:off x="4283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2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10" descr="1.png"/>
          <p:cNvPicPr/>
          <p:nvPr/>
        </p:nvPicPr>
        <p:blipFill>
          <a:blip r:embed="rId2"/>
          <a:stretch/>
        </p:blipFill>
        <p:spPr>
          <a:xfrm>
            <a:off x="2738520" y="3417840"/>
            <a:ext cx="3678120" cy="265428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1" descr="2.png"/>
          <p:cNvPicPr/>
          <p:nvPr/>
        </p:nvPicPr>
        <p:blipFill>
          <a:blip r:embed="rId3"/>
          <a:stretch/>
        </p:blipFill>
        <p:spPr>
          <a:xfrm>
            <a:off x="2071800" y="1679400"/>
            <a:ext cx="2665440" cy="367848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12" descr="1.png"/>
          <p:cNvPicPr/>
          <p:nvPr/>
        </p:nvPicPr>
        <p:blipFill>
          <a:blip r:embed="rId4"/>
          <a:stretch/>
        </p:blipFill>
        <p:spPr>
          <a:xfrm>
            <a:off x="2773440" y="1131840"/>
            <a:ext cx="3679920" cy="265428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13" descr="2.png"/>
          <p:cNvPicPr/>
          <p:nvPr/>
        </p:nvPicPr>
        <p:blipFill>
          <a:blip r:embed="rId5"/>
          <a:stretch/>
        </p:blipFill>
        <p:spPr>
          <a:xfrm>
            <a:off x="4452840" y="1822320"/>
            <a:ext cx="2665440" cy="3678480"/>
          </a:xfrm>
          <a:prstGeom prst="rect">
            <a:avLst/>
          </a:prstGeom>
          <a:ln w="0">
            <a:noFill/>
          </a:ln>
        </p:spPr>
      </p:pic>
      <p:sp>
        <p:nvSpPr>
          <p:cNvPr id="6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2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21"/>
          <p:cNvSpPr/>
          <p:nvPr/>
        </p:nvSpPr>
        <p:spPr>
          <a:xfrm>
            <a:off x="4069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5"/>
          <p:cNvSpPr/>
          <p:nvPr/>
        </p:nvSpPr>
        <p:spPr>
          <a:xfrm>
            <a:off x="2283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3-16T09:43:58Z</dcterms:modified>
  <cp:revision>320</cp:revision>
  <dc:subject/>
  <dc:title>幻灯片 1</dc:title>
</cp:coreProperties>
</file>