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4D4-AE30-4BB7-A2FA-2D0FBDE9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D11-8998-4C93-8D6A-17FAD39B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85373-DAA9-4CB9-B627-B1200F2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12687-A500-4CE8-8147-89D69178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C06C8-59CE-469E-8523-2D2BDBE3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C4941-89D7-45DD-AA70-02540508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2C040-DB0D-4672-8D11-3CAE668D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6935D-4444-4E41-8CCA-DCD030AF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CE513-9380-4B69-B410-7D3446F5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4A9E1-6686-48AC-BCDB-16F46B2F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877EC-BD0E-4ED2-9BD2-50BC5092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87EC9-B493-4DD4-A75D-CA36BF82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585-8F07-4A5D-9A36-A56F8F0B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685B3-BF4B-4977-BBF8-0E772A87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4AE45-80DE-4E36-9E3B-EE876030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8CF4B-7BB9-4389-943A-36792010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5B6AB-A7F0-4D80-AB8C-DCE76E5A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2F2B3-58F6-45D7-B571-9775FFF9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61E78-C1A1-4AD9-A595-C55624F5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B632F-4449-4801-A5BD-0C5CFE44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19058-EB86-480B-9C7A-FAED2811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BC951-1883-47B0-84FD-6EC25ACC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3C79F-E754-46C5-9943-208ADBB5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0C6-C39E-4A4A-AB52-89EAECA9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7A2DA-8292-48D1-98FE-A3486E4A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3C6DC-F8FF-40A1-99EE-DD63C4DC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3157F-B82C-4372-AD31-FF3519F5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8A7A8-357D-4FDB-BE4F-7764D56B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93ADF-AB23-49CB-B3A3-F7FD1BB2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10E14-1916-45CC-A395-0D4CC3ED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F0806-D385-4180-82BF-3CDD312A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85D7A-727C-4113-8EB9-D4E34FB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B40BC-9CB4-4603-A7D7-E8530D6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BF337-701F-4F44-9F23-45935886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AEC1-A8CF-46F8-B14A-C2E3423B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A0A2A-CCFC-4638-82E0-F3B8385F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AF4FF-FB7B-4BEA-8104-F5E7CC73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63521-F182-478D-BEF8-FCFB9F34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25294-0F78-4816-84DA-AF44D24D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6D125-BE7C-405B-AA48-18802A25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CC27C-4DB1-46B0-ACD0-EF959DFC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D01F3-2EDD-4726-A1D6-CAA40EAA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757E6-85C5-43F0-8CEE-CCF6520B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08799-0712-4E86-945B-FE4B343C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AB32D-3791-45A2-A0FA-90DE247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691F-F82E-4F4C-A396-09E54D77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24172-11A1-4B25-AFCC-E2D09550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03712-D659-48AE-9DBF-BD36B7AA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3ADD2-E112-4B50-B1D8-FBF682BA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81DA9-8276-44B2-9F19-6D879DAE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04CB0-224D-46C1-AD7B-23485571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EAEA8-C00F-4F11-9D65-94756045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C124A-B2CD-4981-B713-CAE0AEE2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5B345-03D6-4F74-A0ED-A6212142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0DF38-7EB7-4893-B9CE-A57AB361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CC15B-F965-48B7-A8B5-4E77E1EE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BBAC-6944-44E0-B661-6476A2C3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1469B-F50C-4A86-8705-5C3100B9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04D46-C64D-4D97-83BD-9BE2629D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3A2D7-A5AD-4FD1-A9B2-4EA74C7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2B8D6-D88A-4603-9324-DD5523CF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7A767-F231-4366-9EF2-1B415D33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04045-7AF4-4F09-989C-AE67916B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0690E-35BB-425D-8559-20673184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4883-7454-4E39-AF57-03FE420E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8B53-3E41-4DB6-9F08-75D579A6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33D4-D77B-4237-A1E5-9AC2F8D7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4362-DF19-49B8-AE6B-131BBB57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2FE-2BB9-4950-987C-E5285D01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D49C-5BE3-4981-AA87-C419DD35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1F7C-E276-45AD-AEFB-E78C3082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7B39-63A6-497B-96F0-21DA5FEE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8511-F8AC-41AE-B66A-01E7494D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4F62-7A8F-46B7-A114-7062AC33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B439-45E2-44DA-A374-2BBF11B0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7D52-5504-453F-8DD7-DC6E9085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01BA9-2133-4FA0-8774-2B019454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12BB-CE38-4535-8DD7-027762DF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C2F3-2435-458C-BC88-2884855A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976-7AA2-4351-AFE1-9CF7B211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FD03-5F66-4A55-82A1-DC32DB3E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41620-A41F-40DA-9C72-48DFFA64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D3BE-098D-4393-A8EF-CA3A3AD5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4856-0717-4CA2-8287-EC5E1C7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6EDD-71E6-45E2-8FE9-4CFADD7B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F6F37-2A2D-4F99-A2B0-DC205EFF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B468-84D1-4A9E-85AD-EA8E7447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0DA9-7997-4F6C-B32B-6F334D66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1BC6-CD63-48C6-90B7-50983801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CBD64-A70F-4485-9ACD-026F0070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69F-B6A6-4919-BC5F-7E749C5C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DC2C-757E-41B8-A104-88FC3440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BBFBE-0426-4D39-8CAB-C2BD7E55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4F9F3-D7E2-4D71-AFA6-F0A241BB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50681-D1EB-4C61-B440-C8DC516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BC16-B2B7-46A1-8DB5-CE81EE88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8C068-BC01-4AA4-ADA9-4F8F139A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7E5F-71E3-480C-98A3-49213E2B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9FD2-A2AB-4830-AF6E-86DA7B73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8640E-1D13-4B07-82A8-36A7EEAA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E4236-C944-4F59-920D-29AFAAB3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D77-33BA-4C1C-935B-96EC1C2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4F187-DC9A-4AA4-AEE0-4EBB3073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7D2C0-0C9F-4810-941A-765D4AF4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559B4-DF9E-4603-84A5-A8B0850C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01683-D45D-4DCE-95BF-A4310BE0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8E0D6-99AB-47DB-9339-01BA87FF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CDACC-0846-4A9F-9A6E-3F50B139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8BBCD-CC1B-4252-B913-6A248FBE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C919F-7CE3-4D21-9CDE-90DB4253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7FAB4-EE7C-4298-9B7C-4FCB820D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973C-C616-4152-B8BA-EAEBE994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B53-9285-4439-90E5-D902F3E5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D7501-6169-4741-8E9C-46D3FE88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C91F5-1D14-44A5-8E85-ADBA447F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6D2CE-35A3-4107-B524-C0205488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4DFA-2E6E-48A6-88C6-89C4D40D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8BC53-51E8-44D5-9722-9A7C1501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4FF9-3640-45A9-ABAE-935AAAAF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552E8-6D92-4992-83C3-D53B2BEE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1D47A-B9B4-4D4B-BA3A-4617AF70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5AE30-4E34-4EAA-9E52-E83974A4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33426-BA40-4FE2-8713-19FF25DE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04C-A4F3-49A5-88E6-FB478A82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19BFB-F37A-4F93-88AA-EE4B7EA5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ABA5B-03EC-4B84-ADC1-3A417D95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4411E-5AC8-4F1B-8A76-6BB89DD1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48DE3-E03D-41C1-8FB3-A0A75A66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AF044-0AB0-40FE-BAB0-5427DBEA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077F1-44A3-435F-8A90-8DA66A04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5F4D-D428-4F39-B4F5-9C9C71AC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C6646-CF2A-4448-973B-E4AD445F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00F8D-6666-45E8-8A09-7921BFFC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27F17-8C2D-4C44-9F22-F05E1F9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6F0-51D9-406C-8040-E87C8F4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0D3BB-E1F8-4834-B95F-54889A55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3BE1F-14CF-41D2-9040-33327D54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2E4CD-C78F-4CDB-8CCE-11ECC5FF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F76A3-2003-49A2-9A38-CE8C75DB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FADA0-F8D4-460D-B80B-2C00E699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9CFBB-9229-4F6A-BF2C-E5C7D270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B7A9B-C293-4D58-8E31-B00D5560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7B7C2-E1C6-4245-B304-43A7A478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D96D8-9B82-4CAB-8A8D-1F1EB952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CEF76-E91E-4631-9550-5E21E49E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A6A-55D4-4595-B93D-C7E6AC76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DE5A5-2E2E-431F-8371-5F89DB07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9958E-BAEF-44BA-A040-AE5B7C3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8D64A-876A-43EA-9155-F1E6587A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C655B-3C5A-4224-B55A-35A9E5DE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B1D5B-6143-4F7F-86A7-C5F20E3E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7397E-2B37-491C-B4B4-0DEA3C69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72A62-649C-4852-A8AC-1347DC8A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DF413-54B3-4617-8284-53EC3F38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6D72C-860F-48E1-AAF5-9B08EB53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EF942-E3CE-4A7C-9D6E-5C108410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74DA-6EE0-41E5-B60C-E987F6DA63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C6C4-9811-4E03-8471-D8EC1B672B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DDE6-434F-4D82-ABF0-FA0341F985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C649-D329-426D-AE92-E2CD3AB8ED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430D-0551-4380-AD37-970EF4A59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C38B-6215-4EB2-BE7A-82AF17180C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02D4-BA2F-47A6-B9D2-D57F6BB13A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7C7D-6786-45A1-9C88-E3E74DDDA7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8CE4-59CD-44E2-9A6F-C359C6C383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507D-22EE-4DE4-B64C-BC82DE7EB7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FF3A-42E0-4E43-9A7A-72B5D3D8CA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AE1F-8B2F-4B64-93B3-CA2FFCF5FE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8F0C-B5CA-4407-8946-BCC250DD8C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E707-5BDE-4E5B-932A-668558E242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F38F-4DA6-4E49-8CD7-19D5687913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DAC7-8839-440B-AC75-9D995ADE07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12F4-CBEA-4410-85E9-C95714F637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6F48-7BF2-4830-B0B2-06602F7C39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1D0B-4BCB-43F3-8D99-900DBEC704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066A-6728-451B-8950-E938D46068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5FDA-28DF-4E63-8DE5-66D309BD91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9441-81DC-4962-A88D-30334E353D5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07DA-09DF-4E27-9A23-998D5F6452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065E-DB05-45F3-A4AD-5B17FE63C8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5D04-8376-4804-B589-CCECDFBDBF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3000240" y="185724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429000" y="26924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3-16T09:46:11Z</dcterms:modified>
  <cp:revision>80</cp:revision>
  <dc:subject/>
  <dc:title>幻灯片 1</dc:title>
</cp:coreProperties>
</file>