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F4F-0636-4C49-8116-C8B65108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719-D3A1-4A86-8A8E-DC85816A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83ADB-9E24-4B38-8174-D33AD1D9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0731E-E16C-4F7E-A1B2-11EDE6D3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E0191-650E-457F-8935-884DADE4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A3F83-4DA6-4E4B-9FC2-77861A86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211C3-1630-4D5E-B28D-C3DD9B4C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903BA-2792-44C7-9587-D3AD7101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1A285-C2C9-4C91-827E-841F8012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3C259-9DA2-4A22-A2B3-00934A35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68B8A-F145-4645-B9F4-FFD28395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AD003-57AD-43FC-9E4B-79633053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529-19A0-4F7D-B64E-C9883BC4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099F8-EBEE-48E8-8B38-62C2A3B5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AB12C-31CD-47B1-9F18-1098B86E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27E91-3F93-4EE0-9B44-96696767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EFE18-7065-4C59-9D9C-A2F0868C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CBB84-9121-40AE-83D3-275D90C3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011FC-2FA0-4521-825C-F3BD2B90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8B9B4-D609-42E3-9BE6-96DD4831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59388-FAB5-49B1-BE38-A991ED67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781AB-8B23-4B42-9CC2-1DCBF18E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0AED0-EA03-49CA-AF2D-0C081D00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2DCF-9147-4FDD-87F1-087765C7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BB5E7-92D4-4D61-A98D-AB15DB49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0EE47-17FB-46CE-8D0D-B8280C8F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9F0CC-298F-4EFA-9215-AA5C4F5E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92317-8C3C-444A-8562-41A5721F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C7B58-940E-42B6-8D21-45DA6B05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03083-B036-4000-A89B-C4F21D73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56B44-8D9C-4CAB-B726-9BDA98D7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0122F-378C-4816-9C7C-E5D96006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732B7-5E85-43DB-95F6-4AED3316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17762-6D56-4A12-B825-A503B66E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5153-1260-4F13-AEEB-E3B0CCC4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4A403-A80A-44E1-9145-1B0AE360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07656-6610-45DC-8C55-F689F8D3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399AA-8FC1-49ED-A6B5-37596437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09005-98DA-4996-8266-CF58997C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38471-8AF4-4170-91A7-F72854DC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D8C9E-B282-4FAE-8456-E511AC99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2D2AB-3B6A-4E8F-AF7C-35F364AA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1842C-01A4-49C4-A22A-56B03A5C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7318F-1648-4C3D-8F32-BAAEF2B7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5F8AB-EB6D-4FEC-8EB3-1EAE7ACB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8291-0DD2-46D8-9999-61B72068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E301C-544C-4DF4-8661-B9B6E2FE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D3567-B8F6-46F5-89C3-C9123CFC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F78CE-8D84-4982-A682-3137CDC4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7029F-FE87-4876-88E4-7E9209FC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39D90-DFEA-409A-BF1B-4D5B8119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49A7E-2A57-4894-B37C-32C681AC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EC8B0-714E-46DA-B6BF-A99CA5C3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E6FF9-6C6D-4C9C-8BAB-27780595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EAFC1-254A-410B-8932-91D4EC39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42236A-F7F9-4D0B-8070-0CEA9546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D101-C327-40AD-ADCC-565B6834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69D869-F177-4F11-9F7F-755BEBF7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603EF-8D83-4BD4-A4CC-F3AEDAA2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D9630-2674-4717-88E6-6B60167B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07B5DD-22D3-4EFB-AE7E-4E7B32BC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F8388-3EDC-4D0C-989E-B96A2C49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337966-38BA-4897-BF23-53DC2106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E1065-CA18-4EF6-840D-4C78D322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3DE1-8779-4A43-8C83-DF51703C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9076-C414-4CA9-87E7-5048B5E8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8072-78FF-4C21-A681-D983ECBF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8E7C-1469-4427-B260-28BAED79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753-261C-48A3-9733-8833D7DF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64DE-93EE-4DA9-B154-00DC4AD0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07FB-075C-4B81-9CA8-83EF1536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BE15-B163-423D-AC78-721228D4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A0FE-E0AD-4D34-A886-96E7A187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8011-2F47-4D55-B0EC-C17BA6FE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E6E7D-9170-484E-B1FA-E1DA3D33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9EF03-A8CB-4E92-8C47-FCA49412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54CBF-E1EF-4797-AAD2-9D4DE39C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B0E67-1EB2-4333-A8D6-411E4461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7D73E-4707-4FEC-812A-41A432B8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C55-FCC6-4262-89B4-9C1C1455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0FEED-2C73-4E51-9FB2-D6157C17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18A7A-0614-45BB-91AB-2D4088E1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3C787-8933-4630-9C1F-E93A1E47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3E0D7-EF76-4549-95CB-CD673574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018E6-5494-47DE-85E8-7C8CB7A4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E7281-E8F2-4795-B3C3-122D41A4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470E0-8D0A-4341-8430-26D06056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AE365-1AB6-4880-A126-4DC55CC0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FB077-DB08-491D-928C-9B1672F4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CD1A4-775E-4DD4-A8A5-63A38A29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2759-178F-4F17-9C53-639F5FB0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7FA6D-272A-4573-B14B-1ED43852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CE844-D6CE-41A8-A08C-AFE10876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7CED1-B0E6-43C0-B01F-26A4C5AF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A223D-4923-479C-AE2C-ACF3FD7A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C3199-C739-40D2-93FB-D52BBC35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90BA2-AF02-4C67-BDF7-66972C30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32EDA-9967-4027-BF07-3A3FFE7B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25430-39D5-4EED-945B-FF0AA2E6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5BB69-C3FE-4539-99B0-259B02A7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B71B5-5970-48A2-A4D1-638AD022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EC7-FE96-4E7B-A9CB-88DF1E6E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7BE03-F37D-4A59-8BCC-5BDE2BCF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79FE0-F4A3-43B9-9E58-86CE237D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DF4CE-D63E-4514-A7C2-E136E70D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398B6-4CB4-472C-852D-AAD59BC2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7E059-AC91-41B8-9B75-78C3A11D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FF351-2F72-43A8-A722-8AEAD511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3B60B-3079-40E7-B5F7-C2DD1D3C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D12F6-A6B3-4F7B-89BF-FC326AD0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F55DF-9A7D-4698-8432-AAFCA139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BC1BD-414A-48F6-83ED-2C776A7A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66A-1CDE-4A61-890C-62CCD3D8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F29FA-CE9E-4437-976B-0F04EE24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2B3CC-8DA7-459D-945B-898C52AD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F1309-E5BD-4FD1-837C-9CAAC777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2341E-B49D-431C-9CEE-183853E3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295EB-9034-4EE3-9C4A-B1B012C4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C4035-CB6C-43D1-B95B-8096BA15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AD6D0-B292-403F-B9AD-6D4F3ECF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423D2-FF6E-4689-A3CD-91D95FC2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AAC3D-CB61-4875-8338-B146051B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CD544-2097-4925-B97C-89310F80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288B-A244-40D7-AB6A-3AC1C7D1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C053F-07D7-46C7-8EBE-6204EE7A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BE930-DF02-4811-9DBA-27269F78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058CC-0254-49C1-89F8-57D33203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436D9-7AC8-4E78-884A-66AFDEB8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0BE98-6A39-49CB-B73B-2DFED0B5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7CCB2-173B-49C8-AF51-B22DDAE3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09D1D-39BA-48EE-B2E4-59E7B597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E0BAD-181A-4B6D-B6E9-AFB2C422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6461B-A4D1-436F-B5C3-DB8F3955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00798-69BD-4DE6-8BF4-351F441D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DE9-521F-45D0-9E80-91FA9BCB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31122-98DF-4207-911E-36979CD2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5CCCA-F320-4C64-A6FF-A0C5FAE4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56765-D786-489C-8A2A-A197AB04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FBB17-AC5A-4EA8-8253-A7850F61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54997-3D16-4FA5-93FC-449E968A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5E4B4-A404-43CE-9BE2-92CB6641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8D5AF-F7E8-4D0F-A25F-08BE8C7D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87211-19F9-4CEC-9B34-D45D9112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DD1EA-D841-4D42-9C7A-4D753FCF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34AF9-CA33-47B4-9BCF-94884AD1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D09F-9ADA-4DDA-9ECC-FB450230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718B3-59E4-48C8-BD71-59A4DC48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59C9C-83E4-4C11-AA4A-8E9E8012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BBCA2-83B4-408E-8B8B-279E5FEE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E6B9B-99DD-4C29-A5D7-1919AA42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EBC60-3418-4FE4-A9C9-9956D546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221CB-4F76-4FA1-9C6F-79A82860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C254C-00B2-445D-8A57-D4B60DCA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E5978-01AE-49AA-AACD-6014DB71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A90EB-01B1-434F-9E45-7972C7EE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4331E-10EA-4987-ABC0-0D2DC754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17E8-5F1F-40F7-B2AD-5C7D1609DD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C2B7-423E-432E-BC35-0A51174E461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A38E-D308-4727-BD74-7C09310FB2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910F-7E00-4D0C-9500-C20B4889E4F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60D4-F6E5-4DC4-93B5-2D7E5AFB6F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A22C-8633-48FD-AF06-4F7F037B78B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6666-6D03-47E4-ACB6-1E10AA103A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2CA1-6DD8-4450-AFEE-39E37CD8B50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209A-4680-4978-AF38-52E92D60C6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3FBE-0530-4DA4-89BC-A8BA2414434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DA00-5272-4A83-AE26-7DF235D467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E147-DC22-4415-811D-75BDD0CFF7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4D14-DACB-4307-917C-35D2065173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9AB6-3889-433E-9DCC-366B40F4AF9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35F7-4DB8-4241-AE73-1C6F8DCD2E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94DF-CE98-4075-8D9A-BB130EFE66C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7B74-F05C-457C-A40F-24FF9733F6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E488-5174-455F-AC6C-000348481F8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6F04-389B-4868-8E6F-709A8DF555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91FD-6BC9-4810-B710-6DA3E002090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AF9F-77F4-43F5-8091-31F94F93AA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9126-3BCC-4145-976F-8202665E10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B293-1069-4F4D-8778-2D017C020A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B8B6-F0AD-4DBF-AF29-CAB91EA4ED4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B9C2-8E9E-4932-B1B8-2F08B20E19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19.xml"/><Relationship Id="rId5" Type="http://schemas.openxmlformats.org/officeDocument/2006/relationships/slide" Target="slide24.xml"/><Relationship Id="rId6" Type="http://schemas.openxmlformats.org/officeDocument/2006/relationships/slide" Target="slide20.xml"/><Relationship Id="rId7" Type="http://schemas.openxmlformats.org/officeDocument/2006/relationships/slide" Target="slide30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3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slide" Target="slide7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5"/>
          <p:cNvSpPr/>
          <p:nvPr/>
        </p:nvSpPr>
        <p:spPr>
          <a:xfrm>
            <a:off x="1547640" y="76500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机械效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oup 2"/>
          <p:cNvGrpSpPr/>
          <p:nvPr/>
        </p:nvGrpSpPr>
        <p:grpSpPr>
          <a:xfrm>
            <a:off x="4191120" y="3124080"/>
            <a:ext cx="1371600" cy="2743200"/>
            <a:chOff x="4191120" y="3124080"/>
            <a:chExt cx="1371600" cy="2743200"/>
          </a:xfrm>
        </p:grpSpPr>
        <p:sp>
          <p:nvSpPr>
            <p:cNvPr id="584" name="AutoShape 3"/>
            <p:cNvSpPr/>
            <p:nvPr/>
          </p:nvSpPr>
          <p:spPr>
            <a:xfrm>
              <a:off x="4191120" y="4800600"/>
              <a:ext cx="1371600" cy="1066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4"/>
            <p:cNvSpPr/>
            <p:nvPr/>
          </p:nvSpPr>
          <p:spPr>
            <a:xfrm flipV="1">
              <a:off x="4876920" y="3580920"/>
              <a:ext cx="0" cy="129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WordArt 5"/>
            <p:cNvSpPr txBox="1"/>
            <p:nvPr/>
          </p:nvSpPr>
          <p:spPr>
            <a:xfrm>
              <a:off x="4762800" y="3124080"/>
              <a:ext cx="342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F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87" name="WordArt 6"/>
          <p:cNvSpPr txBox="1"/>
          <p:nvPr/>
        </p:nvSpPr>
        <p:spPr>
          <a:xfrm>
            <a:off x="4495680" y="5257800"/>
            <a:ext cx="49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4191120" y="2924280"/>
            <a:ext cx="1371600" cy="2743200"/>
            <a:chOff x="4191120" y="2924280"/>
            <a:chExt cx="1371600" cy="2743200"/>
          </a:xfrm>
        </p:grpSpPr>
        <p:sp>
          <p:nvSpPr>
            <p:cNvPr id="589" name="AutoShape 3"/>
            <p:cNvSpPr/>
            <p:nvPr/>
          </p:nvSpPr>
          <p:spPr>
            <a:xfrm>
              <a:off x="4191120" y="4600800"/>
              <a:ext cx="1371600" cy="1066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4"/>
            <p:cNvSpPr/>
            <p:nvPr/>
          </p:nvSpPr>
          <p:spPr>
            <a:xfrm flipV="1">
              <a:off x="4876920" y="3381120"/>
              <a:ext cx="0" cy="129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WordArt 5"/>
            <p:cNvSpPr txBox="1"/>
            <p:nvPr/>
          </p:nvSpPr>
          <p:spPr>
            <a:xfrm>
              <a:off x="4762800" y="2924280"/>
              <a:ext cx="342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F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92" name="WordArt 6"/>
          <p:cNvSpPr txBox="1"/>
          <p:nvPr/>
        </p:nvSpPr>
        <p:spPr>
          <a:xfrm>
            <a:off x="4495680" y="5057640"/>
            <a:ext cx="49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4191120" y="2781360"/>
            <a:ext cx="1371600" cy="2743200"/>
            <a:chOff x="4191120" y="2781360"/>
            <a:chExt cx="1371600" cy="2743200"/>
          </a:xfrm>
        </p:grpSpPr>
        <p:sp>
          <p:nvSpPr>
            <p:cNvPr id="594" name="AutoShape 3"/>
            <p:cNvSpPr/>
            <p:nvPr/>
          </p:nvSpPr>
          <p:spPr>
            <a:xfrm>
              <a:off x="4191120" y="4457880"/>
              <a:ext cx="1371600" cy="1066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4"/>
            <p:cNvSpPr/>
            <p:nvPr/>
          </p:nvSpPr>
          <p:spPr>
            <a:xfrm flipV="1">
              <a:off x="4876920" y="3238200"/>
              <a:ext cx="0" cy="129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WordArt 5"/>
            <p:cNvSpPr txBox="1"/>
            <p:nvPr/>
          </p:nvSpPr>
          <p:spPr>
            <a:xfrm>
              <a:off x="4762800" y="2781360"/>
              <a:ext cx="342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F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97" name="WordArt 6"/>
          <p:cNvSpPr txBox="1"/>
          <p:nvPr/>
        </p:nvSpPr>
        <p:spPr>
          <a:xfrm>
            <a:off x="4495680" y="4915080"/>
            <a:ext cx="49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4191120" y="2209680"/>
            <a:ext cx="1371600" cy="2743200"/>
            <a:chOff x="4191120" y="2209680"/>
            <a:chExt cx="1371600" cy="2743200"/>
          </a:xfrm>
        </p:grpSpPr>
        <p:sp>
          <p:nvSpPr>
            <p:cNvPr id="599" name="AutoShape 3"/>
            <p:cNvSpPr/>
            <p:nvPr/>
          </p:nvSpPr>
          <p:spPr>
            <a:xfrm>
              <a:off x="4191120" y="3886200"/>
              <a:ext cx="1371600" cy="1066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4"/>
            <p:cNvSpPr/>
            <p:nvPr/>
          </p:nvSpPr>
          <p:spPr>
            <a:xfrm flipV="1">
              <a:off x="4876920" y="2666520"/>
              <a:ext cx="0" cy="129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WordArt 5"/>
            <p:cNvSpPr txBox="1"/>
            <p:nvPr/>
          </p:nvSpPr>
          <p:spPr>
            <a:xfrm>
              <a:off x="4762800" y="2209680"/>
              <a:ext cx="342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F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602" name="WordArt 6"/>
          <p:cNvSpPr txBox="1"/>
          <p:nvPr/>
        </p:nvSpPr>
        <p:spPr>
          <a:xfrm>
            <a:off x="4495680" y="4343400"/>
            <a:ext cx="49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2"/>
          <p:cNvGrpSpPr/>
          <p:nvPr/>
        </p:nvGrpSpPr>
        <p:grpSpPr>
          <a:xfrm>
            <a:off x="4191120" y="2133720"/>
            <a:ext cx="1371600" cy="2743200"/>
            <a:chOff x="4191120" y="2133720"/>
            <a:chExt cx="1371600" cy="2743200"/>
          </a:xfrm>
        </p:grpSpPr>
        <p:sp>
          <p:nvSpPr>
            <p:cNvPr id="604" name="AutoShape 3"/>
            <p:cNvSpPr/>
            <p:nvPr/>
          </p:nvSpPr>
          <p:spPr>
            <a:xfrm>
              <a:off x="4191120" y="3810240"/>
              <a:ext cx="1371600" cy="1066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4"/>
            <p:cNvSpPr/>
            <p:nvPr/>
          </p:nvSpPr>
          <p:spPr>
            <a:xfrm flipV="1">
              <a:off x="4876920" y="2590560"/>
              <a:ext cx="0" cy="129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WordArt 5"/>
            <p:cNvSpPr txBox="1"/>
            <p:nvPr/>
          </p:nvSpPr>
          <p:spPr>
            <a:xfrm>
              <a:off x="4762800" y="2133720"/>
              <a:ext cx="342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F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607" name="WordArt 6"/>
          <p:cNvSpPr txBox="1"/>
          <p:nvPr/>
        </p:nvSpPr>
        <p:spPr>
          <a:xfrm>
            <a:off x="4495680" y="4267080"/>
            <a:ext cx="49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4191120" y="1600200"/>
            <a:ext cx="1371600" cy="2743200"/>
            <a:chOff x="4191120" y="1600200"/>
            <a:chExt cx="1371600" cy="2743200"/>
          </a:xfrm>
        </p:grpSpPr>
        <p:sp>
          <p:nvSpPr>
            <p:cNvPr id="609" name="AutoShape 3"/>
            <p:cNvSpPr/>
            <p:nvPr/>
          </p:nvSpPr>
          <p:spPr>
            <a:xfrm>
              <a:off x="4191120" y="3276720"/>
              <a:ext cx="1371600" cy="1066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4"/>
            <p:cNvSpPr/>
            <p:nvPr/>
          </p:nvSpPr>
          <p:spPr>
            <a:xfrm flipV="1">
              <a:off x="4876920" y="2057040"/>
              <a:ext cx="0" cy="129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WordArt 5"/>
            <p:cNvSpPr txBox="1"/>
            <p:nvPr/>
          </p:nvSpPr>
          <p:spPr>
            <a:xfrm>
              <a:off x="4762800" y="1600200"/>
              <a:ext cx="342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F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612" name="WordArt 6"/>
          <p:cNvSpPr txBox="1"/>
          <p:nvPr/>
        </p:nvSpPr>
        <p:spPr>
          <a:xfrm>
            <a:off x="4495680" y="3733920"/>
            <a:ext cx="49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43"/>
          <p:cNvGrpSpPr/>
          <p:nvPr/>
        </p:nvGrpSpPr>
        <p:grpSpPr>
          <a:xfrm>
            <a:off x="1371600" y="0"/>
            <a:ext cx="7010280" cy="6400800"/>
            <a:chOff x="1371600" y="0"/>
            <a:chExt cx="7010280" cy="6400800"/>
          </a:xfrm>
        </p:grpSpPr>
        <p:sp>
          <p:nvSpPr>
            <p:cNvPr id="614" name="Rectangle 3"/>
            <p:cNvSpPr/>
            <p:nvPr/>
          </p:nvSpPr>
          <p:spPr>
            <a:xfrm>
              <a:off x="1371600" y="380880"/>
              <a:ext cx="7010280" cy="6019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Group 5"/>
            <p:cNvGrpSpPr/>
            <p:nvPr/>
          </p:nvGrpSpPr>
          <p:grpSpPr>
            <a:xfrm>
              <a:off x="3124080" y="457200"/>
              <a:ext cx="1577880" cy="2743200"/>
              <a:chOff x="3124080" y="457200"/>
              <a:chExt cx="1577880" cy="2743200"/>
            </a:xfrm>
          </p:grpSpPr>
          <p:sp>
            <p:nvSpPr>
              <p:cNvPr id="616" name="AutoShape 6"/>
              <p:cNvSpPr/>
              <p:nvPr/>
            </p:nvSpPr>
            <p:spPr>
              <a:xfrm>
                <a:off x="3124080" y="2133720"/>
                <a:ext cx="1577880" cy="10666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7"/>
              <p:cNvSpPr/>
              <p:nvPr/>
            </p:nvSpPr>
            <p:spPr>
              <a:xfrm flipV="1">
                <a:off x="3912840" y="914400"/>
                <a:ext cx="0" cy="1295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WordArt 8"/>
              <p:cNvSpPr txBox="1"/>
              <p:nvPr/>
            </p:nvSpPr>
            <p:spPr>
              <a:xfrm>
                <a:off x="3781800" y="457200"/>
                <a:ext cx="3942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宋体"/>
                  </a:rPr>
                  <a:t>F</a:t>
                </a:r>
                <a:endPara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619" name="WordArt 9"/>
              <p:cNvSpPr txBox="1"/>
              <p:nvPr/>
            </p:nvSpPr>
            <p:spPr>
              <a:xfrm>
                <a:off x="3518640" y="2590920"/>
                <a:ext cx="56952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宋体"/>
                  </a:rPr>
                  <a:t>M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宋体"/>
                  <a:ea typeface="宋体"/>
                </a:endParaRPr>
              </a:p>
            </p:txBody>
          </p:sp>
        </p:grpSp>
        <p:grpSp>
          <p:nvGrpSpPr>
            <p:cNvPr id="620" name="Group 10"/>
            <p:cNvGrpSpPr/>
            <p:nvPr/>
          </p:nvGrpSpPr>
          <p:grpSpPr>
            <a:xfrm>
              <a:off x="3124080" y="3505320"/>
              <a:ext cx="1577880" cy="2743200"/>
              <a:chOff x="3124080" y="3505320"/>
              <a:chExt cx="1577880" cy="2743200"/>
            </a:xfrm>
          </p:grpSpPr>
          <p:sp>
            <p:nvSpPr>
              <p:cNvPr id="621" name="AutoShape 11"/>
              <p:cNvSpPr/>
              <p:nvPr/>
            </p:nvSpPr>
            <p:spPr>
              <a:xfrm>
                <a:off x="3124080" y="5181840"/>
                <a:ext cx="1577880" cy="10666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Line 12"/>
              <p:cNvSpPr/>
              <p:nvPr/>
            </p:nvSpPr>
            <p:spPr>
              <a:xfrm flipV="1">
                <a:off x="3912840" y="3962520"/>
                <a:ext cx="0" cy="1295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WordArt 13"/>
              <p:cNvSpPr txBox="1"/>
              <p:nvPr/>
            </p:nvSpPr>
            <p:spPr>
              <a:xfrm>
                <a:off x="3781800" y="3505320"/>
                <a:ext cx="3942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宋体"/>
                  </a:rPr>
                  <a:t>F</a:t>
                </a:r>
                <a:endPara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624" name="WordArt 14"/>
              <p:cNvSpPr txBox="1"/>
              <p:nvPr/>
            </p:nvSpPr>
            <p:spPr>
              <a:xfrm>
                <a:off x="3518640" y="5639040"/>
                <a:ext cx="56952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宋体"/>
                  </a:rPr>
                  <a:t>M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625" name="Line 15"/>
            <p:cNvSpPr/>
            <p:nvPr/>
          </p:nvSpPr>
          <p:spPr>
            <a:xfrm>
              <a:off x="2247840" y="3200400"/>
              <a:ext cx="87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16"/>
            <p:cNvSpPr/>
            <p:nvPr/>
          </p:nvSpPr>
          <p:spPr>
            <a:xfrm>
              <a:off x="2335320" y="6248520"/>
              <a:ext cx="87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17"/>
            <p:cNvSpPr/>
            <p:nvPr/>
          </p:nvSpPr>
          <p:spPr>
            <a:xfrm>
              <a:off x="2511360" y="3200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18"/>
            <p:cNvSpPr/>
            <p:nvPr/>
          </p:nvSpPr>
          <p:spPr>
            <a:xfrm>
              <a:off x="2511360" y="51814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WordArt 19"/>
            <p:cNvSpPr txBox="1"/>
            <p:nvPr/>
          </p:nvSpPr>
          <p:spPr>
            <a:xfrm>
              <a:off x="2362320" y="4343400"/>
              <a:ext cx="4381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h</a:t>
              </a:r>
              <a:endParaRPr b="0" lang="en-US" sz="32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630" name="WordArt 20"/>
            <p:cNvSpPr txBox="1"/>
            <p:nvPr/>
          </p:nvSpPr>
          <p:spPr>
            <a:xfrm>
              <a:off x="3475080" y="2590920"/>
              <a:ext cx="5698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M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631" name="Text Box 21"/>
            <p:cNvSpPr/>
            <p:nvPr/>
          </p:nvSpPr>
          <p:spPr>
            <a:xfrm>
              <a:off x="6518160" y="1523880"/>
              <a:ext cx="54936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22"/>
            <p:cNvSpPr/>
            <p:nvPr/>
          </p:nvSpPr>
          <p:spPr>
            <a:xfrm>
              <a:off x="5288400" y="0"/>
              <a:ext cx="200916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提沙子   做功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4"/>
          <p:cNvGrpSpPr/>
          <p:nvPr/>
        </p:nvGrpSpPr>
        <p:grpSpPr>
          <a:xfrm>
            <a:off x="1763640" y="549360"/>
            <a:ext cx="2590920" cy="1523880"/>
            <a:chOff x="1763640" y="549360"/>
            <a:chExt cx="2590920" cy="1523880"/>
          </a:xfrm>
        </p:grpSpPr>
        <p:sp>
          <p:nvSpPr>
            <p:cNvPr id="634" name="AutoShape 2"/>
            <p:cNvSpPr/>
            <p:nvPr/>
          </p:nvSpPr>
          <p:spPr>
            <a:xfrm>
              <a:off x="1763640" y="549360"/>
              <a:ext cx="2590920" cy="1523880"/>
            </a:xfrm>
            <a:custGeom>
              <a:avLst/>
              <a:gdLst>
                <a:gd name="textAreaLeft" fmla="*/ 98640 w 2590920"/>
                <a:gd name="textAreaRight" fmla="*/ 2492280 w 2590920"/>
                <a:gd name="textAreaTop" fmla="*/ 98640 h 1523880"/>
                <a:gd name="textAreaBottom" fmla="*/ 1425240 h 1523880"/>
              </a:gdLst>
              <a:ahLst/>
              <a:rect l="textAreaLeft" t="textAreaTop" r="textAreaRight" b="textAreaBottom"/>
              <a:pathLst>
                <a:path w="36721" h="21600">
                  <a:moveTo>
                    <a:pt x="0" y="0"/>
                  </a:moveTo>
                  <a:lnTo>
                    <a:pt x="36721" y="0"/>
                  </a:lnTo>
                  <a:lnTo>
                    <a:pt x="36721" y="21600"/>
                  </a:lnTo>
                  <a:lnTo>
                    <a:pt x="0" y="21600"/>
                  </a:lnTo>
                  <a:close/>
                </a:path>
                <a:path fill="lightenLess" w="36721" h="21600">
                  <a:moveTo>
                    <a:pt x="0" y="0"/>
                  </a:moveTo>
                  <a:lnTo>
                    <a:pt x="36721" y="0"/>
                  </a:lnTo>
                  <a:lnTo>
                    <a:pt x="35321" y="1400"/>
                  </a:lnTo>
                  <a:lnTo>
                    <a:pt x="1400" y="1400"/>
                  </a:lnTo>
                  <a:close/>
                </a:path>
                <a:path fill="darken" w="36721" h="21600">
                  <a:moveTo>
                    <a:pt x="36721" y="0"/>
                  </a:moveTo>
                  <a:lnTo>
                    <a:pt x="36721" y="21600"/>
                  </a:lnTo>
                  <a:lnTo>
                    <a:pt x="35321" y="20200"/>
                  </a:lnTo>
                  <a:lnTo>
                    <a:pt x="35321" y="1400"/>
                  </a:lnTo>
                  <a:close/>
                </a:path>
                <a:path fill="darkenLess" w="36721" h="21600">
                  <a:moveTo>
                    <a:pt x="3672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321" y="20200"/>
                  </a:lnTo>
                  <a:close/>
                </a:path>
                <a:path fill="lighten" w="3672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Text Box 3"/>
            <p:cNvSpPr/>
            <p:nvPr/>
          </p:nvSpPr>
          <p:spPr>
            <a:xfrm>
              <a:off x="2144520" y="930240"/>
              <a:ext cx="1905120" cy="64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额外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Text Box 5"/>
          <p:cNvSpPr/>
          <p:nvPr/>
        </p:nvSpPr>
        <p:spPr>
          <a:xfrm>
            <a:off x="457200" y="2438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1619280" y="2349360"/>
            <a:ext cx="5184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在做有用功的同时，人们不需要但又不得不做的功，叫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额外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6"/>
          <p:cNvGrpSpPr/>
          <p:nvPr/>
        </p:nvGrpSpPr>
        <p:grpSpPr>
          <a:xfrm>
            <a:off x="395280" y="404640"/>
            <a:ext cx="2089080" cy="1150920"/>
            <a:chOff x="395280" y="404640"/>
            <a:chExt cx="2089080" cy="1150920"/>
          </a:xfrm>
        </p:grpSpPr>
        <p:sp>
          <p:nvSpPr>
            <p:cNvPr id="639" name="AutoShape 4"/>
            <p:cNvSpPr/>
            <p:nvPr/>
          </p:nvSpPr>
          <p:spPr>
            <a:xfrm>
              <a:off x="395280" y="404640"/>
              <a:ext cx="2089080" cy="1150920"/>
            </a:xfrm>
            <a:custGeom>
              <a:avLst/>
              <a:gdLst>
                <a:gd name="textAreaLeft" fmla="*/ 74520 w 2089080"/>
                <a:gd name="textAreaRight" fmla="*/ 2014560 w 2089080"/>
                <a:gd name="textAreaTop" fmla="*/ 74520 h 1150920"/>
                <a:gd name="textAreaBottom" fmla="*/ 1076400 h 1150920"/>
              </a:gdLst>
              <a:ahLst/>
              <a:rect l="textAreaLeft" t="textAreaTop" r="textAreaRight" b="textAreaBottom"/>
              <a:pathLst>
                <a:path w="39202" h="21600">
                  <a:moveTo>
                    <a:pt x="0" y="0"/>
                  </a:moveTo>
                  <a:lnTo>
                    <a:pt x="39202" y="0"/>
                  </a:lnTo>
                  <a:lnTo>
                    <a:pt x="39202" y="21600"/>
                  </a:lnTo>
                  <a:lnTo>
                    <a:pt x="0" y="21600"/>
                  </a:lnTo>
                  <a:close/>
                </a:path>
                <a:path fill="lightenLess" w="39202" h="21600">
                  <a:moveTo>
                    <a:pt x="0" y="0"/>
                  </a:moveTo>
                  <a:lnTo>
                    <a:pt x="39202" y="0"/>
                  </a:lnTo>
                  <a:lnTo>
                    <a:pt x="37802" y="1400"/>
                  </a:lnTo>
                  <a:lnTo>
                    <a:pt x="1400" y="1400"/>
                  </a:lnTo>
                  <a:close/>
                </a:path>
                <a:path fill="darken" w="39202" h="21600">
                  <a:moveTo>
                    <a:pt x="39202" y="0"/>
                  </a:moveTo>
                  <a:lnTo>
                    <a:pt x="39202" y="21600"/>
                  </a:lnTo>
                  <a:lnTo>
                    <a:pt x="37802" y="20200"/>
                  </a:lnTo>
                  <a:lnTo>
                    <a:pt x="37802" y="1400"/>
                  </a:lnTo>
                  <a:close/>
                </a:path>
                <a:path fill="darkenLess" w="39202" h="21600">
                  <a:moveTo>
                    <a:pt x="3920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02" y="20200"/>
                  </a:lnTo>
                  <a:close/>
                </a:path>
                <a:path fill="lighten" w="3920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Text Box 5"/>
            <p:cNvSpPr/>
            <p:nvPr/>
          </p:nvSpPr>
          <p:spPr>
            <a:xfrm>
              <a:off x="611280" y="620280"/>
              <a:ext cx="187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总  功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Text Box 7"/>
          <p:cNvSpPr/>
          <p:nvPr/>
        </p:nvSpPr>
        <p:spPr>
          <a:xfrm>
            <a:off x="468360" y="19890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有用功加额外功是总共做的功，叫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总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8"/>
          <p:cNvSpPr/>
          <p:nvPr/>
        </p:nvSpPr>
        <p:spPr>
          <a:xfrm>
            <a:off x="826920" y="3645000"/>
            <a:ext cx="6050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即：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W</a:t>
            </a:r>
            <a:r>
              <a:rPr b="1" lang="zh-CN" sz="40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总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=W</a:t>
            </a:r>
            <a:r>
              <a:rPr b="1" lang="zh-CN" sz="40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有用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+W</a:t>
            </a:r>
            <a:r>
              <a:rPr b="1" lang="zh-CN" sz="40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额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Group 12"/>
          <p:cNvGrpSpPr/>
          <p:nvPr/>
        </p:nvGrpSpPr>
        <p:grpSpPr>
          <a:xfrm>
            <a:off x="0" y="333360"/>
            <a:ext cx="2916360" cy="1224000"/>
            <a:chOff x="0" y="333360"/>
            <a:chExt cx="2916360" cy="1224000"/>
          </a:xfrm>
        </p:grpSpPr>
        <p:sp>
          <p:nvSpPr>
            <p:cNvPr id="644" name="AutoShape 4"/>
            <p:cNvSpPr/>
            <p:nvPr/>
          </p:nvSpPr>
          <p:spPr>
            <a:xfrm>
              <a:off x="0" y="333360"/>
              <a:ext cx="2916360" cy="1224000"/>
            </a:xfrm>
            <a:custGeom>
              <a:avLst/>
              <a:gdLst>
                <a:gd name="textAreaLeft" fmla="*/ 79200 w 2916360"/>
                <a:gd name="textAreaRight" fmla="*/ 2837160 w 2916360"/>
                <a:gd name="textAreaTop" fmla="*/ 79200 h 1224000"/>
                <a:gd name="textAreaBottom" fmla="*/ 1144800 h 1224000"/>
              </a:gdLst>
              <a:ahLst/>
              <a:rect l="textAreaLeft" t="textAreaTop" r="textAreaRight" b="textAreaBottom"/>
              <a:pathLst>
                <a:path w="51456" h="21600">
                  <a:moveTo>
                    <a:pt x="0" y="0"/>
                  </a:moveTo>
                  <a:lnTo>
                    <a:pt x="51456" y="0"/>
                  </a:lnTo>
                  <a:lnTo>
                    <a:pt x="51456" y="21600"/>
                  </a:lnTo>
                  <a:lnTo>
                    <a:pt x="0" y="21600"/>
                  </a:lnTo>
                  <a:close/>
                </a:path>
                <a:path fill="lightenLess" w="51456" h="21600">
                  <a:moveTo>
                    <a:pt x="0" y="0"/>
                  </a:moveTo>
                  <a:lnTo>
                    <a:pt x="51456" y="0"/>
                  </a:lnTo>
                  <a:lnTo>
                    <a:pt x="50056" y="1400"/>
                  </a:lnTo>
                  <a:lnTo>
                    <a:pt x="1400" y="1400"/>
                  </a:lnTo>
                  <a:close/>
                </a:path>
                <a:path fill="darken" w="51456" h="21600">
                  <a:moveTo>
                    <a:pt x="51456" y="0"/>
                  </a:moveTo>
                  <a:lnTo>
                    <a:pt x="51456" y="21600"/>
                  </a:lnTo>
                  <a:lnTo>
                    <a:pt x="50056" y="20200"/>
                  </a:lnTo>
                  <a:lnTo>
                    <a:pt x="50056" y="1400"/>
                  </a:lnTo>
                  <a:close/>
                </a:path>
                <a:path fill="darkenLess" w="51456" h="21600">
                  <a:moveTo>
                    <a:pt x="5145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0056" y="20200"/>
                  </a:lnTo>
                  <a:close/>
                </a:path>
                <a:path fill="lighten" w="5145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5"/>
            <p:cNvSpPr/>
            <p:nvPr/>
          </p:nvSpPr>
          <p:spPr>
            <a:xfrm>
              <a:off x="250920" y="476280"/>
              <a:ext cx="2449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机械效率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Text Box 6"/>
          <p:cNvSpPr/>
          <p:nvPr/>
        </p:nvSpPr>
        <p:spPr>
          <a:xfrm>
            <a:off x="468360" y="191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有用功跟总功的比值叫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机械效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Group 11"/>
          <p:cNvGrpSpPr/>
          <p:nvPr/>
        </p:nvGrpSpPr>
        <p:grpSpPr>
          <a:xfrm>
            <a:off x="2700360" y="2781360"/>
            <a:ext cx="3024000" cy="1608120"/>
            <a:chOff x="2700360" y="2781360"/>
            <a:chExt cx="3024000" cy="1608120"/>
          </a:xfrm>
        </p:grpSpPr>
        <p:sp>
          <p:nvSpPr>
            <p:cNvPr id="648" name="Text Box 7"/>
            <p:cNvSpPr/>
            <p:nvPr/>
          </p:nvSpPr>
          <p:spPr>
            <a:xfrm>
              <a:off x="2700360" y="2924280"/>
              <a:ext cx="136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6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η</a:t>
              </a:r>
              <a:r>
                <a:rPr b="0" lang="en-US" sz="4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9" name="Object 8" descr=""/>
            <p:cNvPicPr/>
            <p:nvPr/>
          </p:nvPicPr>
          <p:blipFill>
            <a:blip r:embed="rId1"/>
            <a:stretch/>
          </p:blipFill>
          <p:spPr>
            <a:xfrm>
              <a:off x="3995640" y="2781360"/>
              <a:ext cx="1728720" cy="160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0" name="Text Box 10"/>
          <p:cNvSpPr/>
          <p:nvPr/>
        </p:nvSpPr>
        <p:spPr>
          <a:xfrm>
            <a:off x="324000" y="465300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有用功总小于总功，所以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机械效率总小于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5"/>
          <p:cNvSpPr/>
          <p:nvPr/>
        </p:nvSpPr>
        <p:spPr>
          <a:xfrm>
            <a:off x="309600" y="692280"/>
            <a:ext cx="2374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宋体"/>
              </a:rPr>
              <a:t>机械效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4284720" y="692280"/>
            <a:ext cx="2160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  <a:ea typeface="宋体"/>
                <a:hlinkClick r:id="rId2" action="ppaction://hlinksldjump"/>
              </a:rPr>
              <a:t>提出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4067280" y="1773360"/>
            <a:ext cx="3600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  <a:hlinkClick r:id="rId3" action="ppaction://hlinksldjump"/>
              </a:rPr>
              <a:t>有用功和额外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4140360" y="2924280"/>
            <a:ext cx="25207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  <a:hlinkClick r:id="rId4" action="ppaction://hlinksldjump"/>
              </a:rPr>
              <a:t>机械效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4211640" y="4005360"/>
            <a:ext cx="19429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  <a:hlinkClick r:id="rId5" action="ppaction://hlinksldjump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4284720" y="4941720"/>
            <a:ext cx="20890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  <a:hlinkClick r:id="rId6" action="ppaction://hlinksldjump"/>
              </a:rPr>
              <a:t>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4356000" y="5950080"/>
            <a:ext cx="21607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  <a:hlinkClick r:id="rId7" action="ppaction://hlinksldjump"/>
              </a:rPr>
              <a:t>退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4" descr="f374"/>
          <p:cNvPicPr/>
          <p:nvPr/>
        </p:nvPicPr>
        <p:blipFill>
          <a:blip r:embed="rId1"/>
          <a:stretch/>
        </p:blipFill>
        <p:spPr>
          <a:xfrm>
            <a:off x="0" y="0"/>
            <a:ext cx="9144000" cy="704844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8"/>
          <p:cNvGrpSpPr/>
          <p:nvPr/>
        </p:nvGrpSpPr>
        <p:grpSpPr>
          <a:xfrm>
            <a:off x="2556000" y="5445000"/>
            <a:ext cx="2305080" cy="1081080"/>
            <a:chOff x="2556000" y="5445000"/>
            <a:chExt cx="2305080" cy="1081080"/>
          </a:xfrm>
        </p:grpSpPr>
        <p:sp>
          <p:nvSpPr>
            <p:cNvPr id="653" name="AutoShape 9"/>
            <p:cNvSpPr/>
            <p:nvPr/>
          </p:nvSpPr>
          <p:spPr>
            <a:xfrm>
              <a:off x="2556000" y="5445000"/>
              <a:ext cx="2305080" cy="1081080"/>
            </a:xfrm>
            <a:custGeom>
              <a:avLst/>
              <a:gdLst>
                <a:gd name="textAreaLeft" fmla="*/ 69840 w 2305080"/>
                <a:gd name="textAreaRight" fmla="*/ 2235240 w 2305080"/>
                <a:gd name="textAreaTop" fmla="*/ 69840 h 1081080"/>
                <a:gd name="textAreaBottom" fmla="*/ 1011240 h 1081080"/>
              </a:gdLst>
              <a:ahLst/>
              <a:rect l="textAreaLeft" t="textAreaTop" r="textAreaRight" b="textAreaBottom"/>
              <a:pathLst>
                <a:path w="46047" h="21600">
                  <a:moveTo>
                    <a:pt x="0" y="0"/>
                  </a:moveTo>
                  <a:lnTo>
                    <a:pt x="46047" y="0"/>
                  </a:lnTo>
                  <a:lnTo>
                    <a:pt x="46047" y="21600"/>
                  </a:lnTo>
                  <a:lnTo>
                    <a:pt x="0" y="21600"/>
                  </a:lnTo>
                  <a:close/>
                </a:path>
                <a:path fill="lightenLess" w="46047" h="21600">
                  <a:moveTo>
                    <a:pt x="0" y="0"/>
                  </a:moveTo>
                  <a:lnTo>
                    <a:pt x="46047" y="0"/>
                  </a:lnTo>
                  <a:lnTo>
                    <a:pt x="44647" y="1400"/>
                  </a:lnTo>
                  <a:lnTo>
                    <a:pt x="1400" y="1400"/>
                  </a:lnTo>
                  <a:close/>
                </a:path>
                <a:path fill="darken" w="46047" h="21600">
                  <a:moveTo>
                    <a:pt x="46047" y="0"/>
                  </a:moveTo>
                  <a:lnTo>
                    <a:pt x="46047" y="21600"/>
                  </a:lnTo>
                  <a:lnTo>
                    <a:pt x="44647" y="20200"/>
                  </a:lnTo>
                  <a:lnTo>
                    <a:pt x="44647" y="1400"/>
                  </a:lnTo>
                  <a:close/>
                </a:path>
                <a:path fill="darkenLess" w="46047" h="21600">
                  <a:moveTo>
                    <a:pt x="4604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4647" y="20200"/>
                  </a:lnTo>
                  <a:close/>
                </a:path>
                <a:path fill="lighten" w="4604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Text Box 10"/>
            <p:cNvSpPr/>
            <p:nvPr/>
          </p:nvSpPr>
          <p:spPr>
            <a:xfrm>
              <a:off x="2845080" y="5661000"/>
              <a:ext cx="18349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 u="sng">
                  <a:solidFill>
                    <a:srgbClr val="ff0066"/>
                  </a:solidFill>
                  <a:uFillTx/>
                  <a:latin typeface="Times New Roman"/>
                  <a:ea typeface="宋体"/>
                  <a:hlinkClick r:id="rId2" action="ppaction://hlinksldjump"/>
                </a:rPr>
                <a:t>达标检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11"/>
          <p:cNvGrpSpPr/>
          <p:nvPr/>
        </p:nvGrpSpPr>
        <p:grpSpPr>
          <a:xfrm>
            <a:off x="2484360" y="2492280"/>
            <a:ext cx="2305080" cy="1081080"/>
            <a:chOff x="2484360" y="2492280"/>
            <a:chExt cx="2305080" cy="1081080"/>
          </a:xfrm>
        </p:grpSpPr>
        <p:sp>
          <p:nvSpPr>
            <p:cNvPr id="656" name="AutoShape 12"/>
            <p:cNvSpPr/>
            <p:nvPr/>
          </p:nvSpPr>
          <p:spPr>
            <a:xfrm>
              <a:off x="2484360" y="2492280"/>
              <a:ext cx="2305080" cy="1081080"/>
            </a:xfrm>
            <a:custGeom>
              <a:avLst/>
              <a:gdLst>
                <a:gd name="textAreaLeft" fmla="*/ 69840 w 2305080"/>
                <a:gd name="textAreaRight" fmla="*/ 2235240 w 2305080"/>
                <a:gd name="textAreaTop" fmla="*/ 69840 h 1081080"/>
                <a:gd name="textAreaBottom" fmla="*/ 1011240 h 1081080"/>
              </a:gdLst>
              <a:ahLst/>
              <a:rect l="textAreaLeft" t="textAreaTop" r="textAreaRight" b="textAreaBottom"/>
              <a:pathLst>
                <a:path w="46047" h="21600">
                  <a:moveTo>
                    <a:pt x="0" y="0"/>
                  </a:moveTo>
                  <a:lnTo>
                    <a:pt x="46047" y="0"/>
                  </a:lnTo>
                  <a:lnTo>
                    <a:pt x="46047" y="21600"/>
                  </a:lnTo>
                  <a:lnTo>
                    <a:pt x="0" y="21600"/>
                  </a:lnTo>
                  <a:close/>
                </a:path>
                <a:path fill="lightenLess" w="46047" h="21600">
                  <a:moveTo>
                    <a:pt x="0" y="0"/>
                  </a:moveTo>
                  <a:lnTo>
                    <a:pt x="46047" y="0"/>
                  </a:lnTo>
                  <a:lnTo>
                    <a:pt x="44647" y="1400"/>
                  </a:lnTo>
                  <a:lnTo>
                    <a:pt x="1400" y="1400"/>
                  </a:lnTo>
                  <a:close/>
                </a:path>
                <a:path fill="darken" w="46047" h="21600">
                  <a:moveTo>
                    <a:pt x="46047" y="0"/>
                  </a:moveTo>
                  <a:lnTo>
                    <a:pt x="46047" y="21600"/>
                  </a:lnTo>
                  <a:lnTo>
                    <a:pt x="44647" y="20200"/>
                  </a:lnTo>
                  <a:lnTo>
                    <a:pt x="44647" y="1400"/>
                  </a:lnTo>
                  <a:close/>
                </a:path>
                <a:path fill="darkenLess" w="46047" h="21600">
                  <a:moveTo>
                    <a:pt x="4604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4647" y="20200"/>
                  </a:lnTo>
                  <a:close/>
                </a:path>
                <a:path fill="lighten" w="4604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 Box 13"/>
            <p:cNvSpPr/>
            <p:nvPr/>
          </p:nvSpPr>
          <p:spPr>
            <a:xfrm>
              <a:off x="2773440" y="2708280"/>
              <a:ext cx="18349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 u="sng">
                  <a:solidFill>
                    <a:srgbClr val="ff0066"/>
                  </a:solidFill>
                  <a:uFillTx/>
                  <a:latin typeface="Times New Roman"/>
                  <a:ea typeface="宋体"/>
                  <a:hlinkClick r:id="rId3" action="ppaction://hlinksldjump"/>
                </a:rPr>
                <a:t>练习</a:t>
              </a:r>
              <a:r>
                <a:rPr b="0" lang="en-US" sz="3200" spc="-1" strike="noStrike" u="sng">
                  <a:solidFill>
                    <a:srgbClr val="ff0066"/>
                  </a:solidFill>
                  <a:uFillTx/>
                  <a:latin typeface="Times New Roman"/>
                  <a:ea typeface="宋体"/>
                  <a:hlinkClick r:id="rId4" action="ppaction://hlinksldjump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Group 14"/>
          <p:cNvGrpSpPr/>
          <p:nvPr/>
        </p:nvGrpSpPr>
        <p:grpSpPr>
          <a:xfrm>
            <a:off x="2484360" y="3860640"/>
            <a:ext cx="2305080" cy="1081080"/>
            <a:chOff x="2484360" y="3860640"/>
            <a:chExt cx="2305080" cy="1081080"/>
          </a:xfrm>
        </p:grpSpPr>
        <p:sp>
          <p:nvSpPr>
            <p:cNvPr id="659" name="AutoShape 15"/>
            <p:cNvSpPr/>
            <p:nvPr/>
          </p:nvSpPr>
          <p:spPr>
            <a:xfrm>
              <a:off x="2484360" y="3860640"/>
              <a:ext cx="2305080" cy="1081080"/>
            </a:xfrm>
            <a:custGeom>
              <a:avLst/>
              <a:gdLst>
                <a:gd name="textAreaLeft" fmla="*/ 69840 w 2305080"/>
                <a:gd name="textAreaRight" fmla="*/ 2235240 w 2305080"/>
                <a:gd name="textAreaTop" fmla="*/ 69840 h 1081080"/>
                <a:gd name="textAreaBottom" fmla="*/ 1011240 h 1081080"/>
              </a:gdLst>
              <a:ahLst/>
              <a:rect l="textAreaLeft" t="textAreaTop" r="textAreaRight" b="textAreaBottom"/>
              <a:pathLst>
                <a:path w="46047" h="21600">
                  <a:moveTo>
                    <a:pt x="0" y="0"/>
                  </a:moveTo>
                  <a:lnTo>
                    <a:pt x="46047" y="0"/>
                  </a:lnTo>
                  <a:lnTo>
                    <a:pt x="46047" y="21600"/>
                  </a:lnTo>
                  <a:lnTo>
                    <a:pt x="0" y="21600"/>
                  </a:lnTo>
                  <a:close/>
                </a:path>
                <a:path fill="lightenLess" w="46047" h="21600">
                  <a:moveTo>
                    <a:pt x="0" y="0"/>
                  </a:moveTo>
                  <a:lnTo>
                    <a:pt x="46047" y="0"/>
                  </a:lnTo>
                  <a:lnTo>
                    <a:pt x="44647" y="1400"/>
                  </a:lnTo>
                  <a:lnTo>
                    <a:pt x="1400" y="1400"/>
                  </a:lnTo>
                  <a:close/>
                </a:path>
                <a:path fill="darken" w="46047" h="21600">
                  <a:moveTo>
                    <a:pt x="46047" y="0"/>
                  </a:moveTo>
                  <a:lnTo>
                    <a:pt x="46047" y="21600"/>
                  </a:lnTo>
                  <a:lnTo>
                    <a:pt x="44647" y="20200"/>
                  </a:lnTo>
                  <a:lnTo>
                    <a:pt x="44647" y="1400"/>
                  </a:lnTo>
                  <a:close/>
                </a:path>
                <a:path fill="darkenLess" w="46047" h="21600">
                  <a:moveTo>
                    <a:pt x="4604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4647" y="20200"/>
                  </a:lnTo>
                  <a:close/>
                </a:path>
                <a:path fill="lighten" w="4604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 Box 16"/>
            <p:cNvSpPr/>
            <p:nvPr/>
          </p:nvSpPr>
          <p:spPr>
            <a:xfrm>
              <a:off x="2773440" y="4076640"/>
              <a:ext cx="18349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 u="sng">
                  <a:solidFill>
                    <a:srgbClr val="ff0066"/>
                  </a:solidFill>
                  <a:uFillTx/>
                  <a:latin typeface="Times New Roman"/>
                  <a:ea typeface="宋体"/>
                  <a:hlinkClick r:id="rId5" action="ppaction://hlinksldjump"/>
                </a:rPr>
                <a:t>练习</a:t>
              </a:r>
              <a:r>
                <a:rPr b="0" lang="en-US" sz="3200" spc="-1" strike="noStrike" u="sng">
                  <a:solidFill>
                    <a:srgbClr val="ff0066"/>
                  </a:solidFill>
                  <a:uFillTx/>
                  <a:latin typeface="Times New Roman"/>
                  <a:ea typeface="宋体"/>
                  <a:hlinkClick r:id="rId6" action="ppaction://hlinksldjump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WordArt 17"/>
          <p:cNvSpPr txBox="1"/>
          <p:nvPr/>
        </p:nvSpPr>
        <p:spPr>
          <a:xfrm>
            <a:off x="2484360" y="0"/>
            <a:ext cx="30956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训练场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662" name="Group 21"/>
          <p:cNvGrpSpPr/>
          <p:nvPr/>
        </p:nvGrpSpPr>
        <p:grpSpPr>
          <a:xfrm>
            <a:off x="6588000" y="5607000"/>
            <a:ext cx="2556000" cy="1143000"/>
            <a:chOff x="6588000" y="5607000"/>
            <a:chExt cx="2556000" cy="1143000"/>
          </a:xfrm>
        </p:grpSpPr>
        <p:sp>
          <p:nvSpPr>
            <p:cNvPr id="663" name="AutoShape 19">
              <a:hlinkClick r:id="rId7" action="ppaction://hlinksldjump"/>
            </p:cNvPr>
            <p:cNvSpPr/>
            <p:nvPr/>
          </p:nvSpPr>
          <p:spPr>
            <a:xfrm>
              <a:off x="6588000" y="5607000"/>
              <a:ext cx="2556000" cy="1143000"/>
            </a:xfrm>
            <a:prstGeom prst="leftArrow">
              <a:avLst>
                <a:gd name="adj1" fmla="val 50000"/>
                <a:gd name="adj2" fmla="val 5590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cc99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20"/>
            <p:cNvSpPr/>
            <p:nvPr/>
          </p:nvSpPr>
          <p:spPr>
            <a:xfrm>
              <a:off x="7236000" y="5877000"/>
              <a:ext cx="16268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ff0066"/>
                  </a:solidFill>
                  <a:uFillTx/>
                  <a:latin typeface="Arial"/>
                  <a:ea typeface="宋体"/>
                  <a:hlinkClick r:id="rId8" action="ppaction://hlinksldjump"/>
                </a:rPr>
                <a:t>返回主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4"/>
          <p:cNvSpPr/>
          <p:nvPr/>
        </p:nvSpPr>
        <p:spPr>
          <a:xfrm>
            <a:off x="179280" y="26028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练习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Picture 5" descr="jixiexiaolv"/>
          <p:cNvPicPr/>
          <p:nvPr/>
        </p:nvPicPr>
        <p:blipFill>
          <a:blip r:embed="rId1"/>
          <a:srcRect l="0" t="0" r="-19" b="16646"/>
          <a:stretch/>
        </p:blipFill>
        <p:spPr>
          <a:xfrm>
            <a:off x="2050920" y="0"/>
            <a:ext cx="7093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7" name="Group 11"/>
          <p:cNvGrpSpPr/>
          <p:nvPr/>
        </p:nvGrpSpPr>
        <p:grpSpPr>
          <a:xfrm>
            <a:off x="0" y="3141720"/>
            <a:ext cx="2133720" cy="990720"/>
            <a:chOff x="0" y="3141720"/>
            <a:chExt cx="2133720" cy="990720"/>
          </a:xfrm>
        </p:grpSpPr>
        <p:sp>
          <p:nvSpPr>
            <p:cNvPr id="668" name="AutoShape 9">
              <a:hlinkClick r:id="" action="ppaction://hlinkshowjump?jump=nextslide"/>
            </p:cNvPr>
            <p:cNvSpPr/>
            <p:nvPr/>
          </p:nvSpPr>
          <p:spPr>
            <a:xfrm>
              <a:off x="228600" y="3141720"/>
              <a:ext cx="1523880" cy="990720"/>
            </a:xfrm>
            <a:custGeom>
              <a:avLst/>
              <a:gdLst>
                <a:gd name="textAreaLeft" fmla="*/ 64080 w 1523880"/>
                <a:gd name="textAreaRight" fmla="*/ 1459800 w 152388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3220" h="21600">
                  <a:moveTo>
                    <a:pt x="0" y="0"/>
                  </a:moveTo>
                  <a:lnTo>
                    <a:pt x="33220" y="0"/>
                  </a:lnTo>
                  <a:lnTo>
                    <a:pt x="33220" y="21600"/>
                  </a:lnTo>
                  <a:lnTo>
                    <a:pt x="0" y="21600"/>
                  </a:lnTo>
                  <a:close/>
                </a:path>
                <a:path fill="lightenLess" w="33220" h="21600">
                  <a:moveTo>
                    <a:pt x="0" y="0"/>
                  </a:moveTo>
                  <a:lnTo>
                    <a:pt x="33220" y="0"/>
                  </a:lnTo>
                  <a:lnTo>
                    <a:pt x="31820" y="1400"/>
                  </a:lnTo>
                  <a:lnTo>
                    <a:pt x="1400" y="1400"/>
                  </a:lnTo>
                  <a:close/>
                </a:path>
                <a:path fill="darken" w="33220" h="21600">
                  <a:moveTo>
                    <a:pt x="33220" y="0"/>
                  </a:moveTo>
                  <a:lnTo>
                    <a:pt x="33220" y="21600"/>
                  </a:lnTo>
                  <a:lnTo>
                    <a:pt x="31820" y="20200"/>
                  </a:lnTo>
                  <a:lnTo>
                    <a:pt x="31820" y="1400"/>
                  </a:lnTo>
                  <a:close/>
                </a:path>
                <a:path fill="darkenLess" w="33220" h="21600">
                  <a:moveTo>
                    <a:pt x="3322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820" y="20200"/>
                  </a:lnTo>
                  <a:close/>
                </a:path>
                <a:path fill="lighten" w="3322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10"/>
            <p:cNvSpPr/>
            <p:nvPr/>
          </p:nvSpPr>
          <p:spPr>
            <a:xfrm>
              <a:off x="0" y="32940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案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Text Box 13"/>
          <p:cNvSpPr/>
          <p:nvPr/>
        </p:nvSpPr>
        <p:spPr>
          <a:xfrm>
            <a:off x="2050920" y="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计算这三种办法运沙子的机械效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4"/>
          <p:cNvSpPr/>
          <p:nvPr/>
        </p:nvSpPr>
        <p:spPr>
          <a:xfrm>
            <a:off x="324000" y="692280"/>
            <a:ext cx="16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324000" y="260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练习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24000" y="836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水桶从井中提水的时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所做的功哪部分是有用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哪部分是额外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395280" y="2060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提水所做的功是有用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提水桶所做的功是额外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468360" y="328464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桶掉到井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从井里捞桶的时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捞上的桶里带了一些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这种情况下哪部分是有用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哪部分是额外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0"/>
          <p:cNvSpPr/>
          <p:nvPr/>
        </p:nvSpPr>
        <p:spPr>
          <a:xfrm>
            <a:off x="468360" y="486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提水桶所做的功是有用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提水所做的功是额外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indefinite"/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8"/>
          <p:cNvGrpSpPr/>
          <p:nvPr/>
        </p:nvGrpSpPr>
        <p:grpSpPr>
          <a:xfrm>
            <a:off x="0" y="260280"/>
            <a:ext cx="2305080" cy="1081080"/>
            <a:chOff x="0" y="260280"/>
            <a:chExt cx="2305080" cy="1081080"/>
          </a:xfrm>
        </p:grpSpPr>
        <p:sp>
          <p:nvSpPr>
            <p:cNvPr id="678" name="AutoShape 6"/>
            <p:cNvSpPr/>
            <p:nvPr/>
          </p:nvSpPr>
          <p:spPr>
            <a:xfrm>
              <a:off x="0" y="260280"/>
              <a:ext cx="2305080" cy="1081080"/>
            </a:xfrm>
            <a:custGeom>
              <a:avLst/>
              <a:gdLst>
                <a:gd name="textAreaLeft" fmla="*/ 69840 w 2305080"/>
                <a:gd name="textAreaRight" fmla="*/ 2235240 w 2305080"/>
                <a:gd name="textAreaTop" fmla="*/ 69840 h 1081080"/>
                <a:gd name="textAreaBottom" fmla="*/ 1011240 h 1081080"/>
              </a:gdLst>
              <a:ahLst/>
              <a:rect l="textAreaLeft" t="textAreaTop" r="textAreaRight" b="textAreaBottom"/>
              <a:pathLst>
                <a:path w="46047" h="21600">
                  <a:moveTo>
                    <a:pt x="0" y="0"/>
                  </a:moveTo>
                  <a:lnTo>
                    <a:pt x="46047" y="0"/>
                  </a:lnTo>
                  <a:lnTo>
                    <a:pt x="46047" y="21600"/>
                  </a:lnTo>
                  <a:lnTo>
                    <a:pt x="0" y="21600"/>
                  </a:lnTo>
                  <a:close/>
                </a:path>
                <a:path fill="lightenLess" w="46047" h="21600">
                  <a:moveTo>
                    <a:pt x="0" y="0"/>
                  </a:moveTo>
                  <a:lnTo>
                    <a:pt x="46047" y="0"/>
                  </a:lnTo>
                  <a:lnTo>
                    <a:pt x="44647" y="1400"/>
                  </a:lnTo>
                  <a:lnTo>
                    <a:pt x="1400" y="1400"/>
                  </a:lnTo>
                  <a:close/>
                </a:path>
                <a:path fill="darken" w="46047" h="21600">
                  <a:moveTo>
                    <a:pt x="46047" y="0"/>
                  </a:moveTo>
                  <a:lnTo>
                    <a:pt x="46047" y="21600"/>
                  </a:lnTo>
                  <a:lnTo>
                    <a:pt x="44647" y="20200"/>
                  </a:lnTo>
                  <a:lnTo>
                    <a:pt x="44647" y="1400"/>
                  </a:lnTo>
                  <a:close/>
                </a:path>
                <a:path fill="darkenLess" w="46047" h="21600">
                  <a:moveTo>
                    <a:pt x="4604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4647" y="20200"/>
                  </a:lnTo>
                  <a:close/>
                </a:path>
                <a:path fill="lighten" w="4604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Text Box 4"/>
            <p:cNvSpPr/>
            <p:nvPr/>
          </p:nvSpPr>
          <p:spPr>
            <a:xfrm>
              <a:off x="289080" y="476280"/>
              <a:ext cx="18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达标检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Text Box 9"/>
          <p:cNvSpPr/>
          <p:nvPr/>
        </p:nvSpPr>
        <p:spPr>
          <a:xfrm>
            <a:off x="250920" y="148428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用一个动滑轮把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00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沙子提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9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的脚手架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所用的力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0N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那么做的总功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J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有用功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J 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机械效率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1"/>
          <p:cNvSpPr/>
          <p:nvPr/>
        </p:nvSpPr>
        <p:spPr>
          <a:xfrm>
            <a:off x="324000" y="342900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用动力臂是阻力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倍的杠杆将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00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货物抬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0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手向下压杠杆的力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20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手下降的高度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人做的总功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J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用功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J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这根杠杆的机械效率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2"/>
          <p:cNvSpPr/>
          <p:nvPr/>
        </p:nvSpPr>
        <p:spPr>
          <a:xfrm>
            <a:off x="7308720" y="198900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10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3"/>
          <p:cNvSpPr/>
          <p:nvPr/>
        </p:nvSpPr>
        <p:spPr>
          <a:xfrm>
            <a:off x="1908000" y="2492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4"/>
          <p:cNvSpPr/>
          <p:nvPr/>
        </p:nvSpPr>
        <p:spPr>
          <a:xfrm>
            <a:off x="5580000" y="2421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83.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5"/>
          <p:cNvSpPr/>
          <p:nvPr/>
        </p:nvSpPr>
        <p:spPr>
          <a:xfrm>
            <a:off x="2916360" y="443700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6"/>
          <p:cNvSpPr/>
          <p:nvPr/>
        </p:nvSpPr>
        <p:spPr>
          <a:xfrm>
            <a:off x="7308720" y="443700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7"/>
          <p:cNvSpPr/>
          <p:nvPr/>
        </p:nvSpPr>
        <p:spPr>
          <a:xfrm>
            <a:off x="2771640" y="48690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8"/>
          <p:cNvSpPr/>
          <p:nvPr/>
        </p:nvSpPr>
        <p:spPr>
          <a:xfrm>
            <a:off x="755640" y="53737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90.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6"/>
          <p:cNvGrpSpPr/>
          <p:nvPr/>
        </p:nvGrpSpPr>
        <p:grpSpPr>
          <a:xfrm>
            <a:off x="0" y="260280"/>
            <a:ext cx="2305080" cy="1081080"/>
            <a:chOff x="0" y="260280"/>
            <a:chExt cx="2305080" cy="1081080"/>
          </a:xfrm>
        </p:grpSpPr>
        <p:sp>
          <p:nvSpPr>
            <p:cNvPr id="690" name="AutoShape 7"/>
            <p:cNvSpPr/>
            <p:nvPr/>
          </p:nvSpPr>
          <p:spPr>
            <a:xfrm>
              <a:off x="0" y="260280"/>
              <a:ext cx="2305080" cy="1081080"/>
            </a:xfrm>
            <a:custGeom>
              <a:avLst/>
              <a:gdLst>
                <a:gd name="textAreaLeft" fmla="*/ 69840 w 2305080"/>
                <a:gd name="textAreaRight" fmla="*/ 2235240 w 2305080"/>
                <a:gd name="textAreaTop" fmla="*/ 69840 h 1081080"/>
                <a:gd name="textAreaBottom" fmla="*/ 1011240 h 1081080"/>
              </a:gdLst>
              <a:ahLst/>
              <a:rect l="textAreaLeft" t="textAreaTop" r="textAreaRight" b="textAreaBottom"/>
              <a:pathLst>
                <a:path w="46047" h="21600">
                  <a:moveTo>
                    <a:pt x="0" y="0"/>
                  </a:moveTo>
                  <a:lnTo>
                    <a:pt x="46047" y="0"/>
                  </a:lnTo>
                  <a:lnTo>
                    <a:pt x="46047" y="21600"/>
                  </a:lnTo>
                  <a:lnTo>
                    <a:pt x="0" y="21600"/>
                  </a:lnTo>
                  <a:close/>
                </a:path>
                <a:path fill="lightenLess" w="46047" h="21600">
                  <a:moveTo>
                    <a:pt x="0" y="0"/>
                  </a:moveTo>
                  <a:lnTo>
                    <a:pt x="46047" y="0"/>
                  </a:lnTo>
                  <a:lnTo>
                    <a:pt x="44647" y="1400"/>
                  </a:lnTo>
                  <a:lnTo>
                    <a:pt x="1400" y="1400"/>
                  </a:lnTo>
                  <a:close/>
                </a:path>
                <a:path fill="darken" w="46047" h="21600">
                  <a:moveTo>
                    <a:pt x="46047" y="0"/>
                  </a:moveTo>
                  <a:lnTo>
                    <a:pt x="46047" y="21600"/>
                  </a:lnTo>
                  <a:lnTo>
                    <a:pt x="44647" y="20200"/>
                  </a:lnTo>
                  <a:lnTo>
                    <a:pt x="44647" y="1400"/>
                  </a:lnTo>
                  <a:close/>
                </a:path>
                <a:path fill="darkenLess" w="46047" h="21600">
                  <a:moveTo>
                    <a:pt x="4604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4647" y="20200"/>
                  </a:lnTo>
                  <a:close/>
                </a:path>
                <a:path fill="lighten" w="4604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289080" y="476280"/>
              <a:ext cx="18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小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12"/>
          <p:cNvGrpSpPr/>
          <p:nvPr/>
        </p:nvGrpSpPr>
        <p:grpSpPr>
          <a:xfrm>
            <a:off x="468360" y="3213000"/>
            <a:ext cx="2819520" cy="776160"/>
            <a:chOff x="468360" y="3213000"/>
            <a:chExt cx="2819520" cy="776160"/>
          </a:xfrm>
        </p:grpSpPr>
        <p:sp>
          <p:nvSpPr>
            <p:cNvPr id="693" name="AutoShape 10"/>
            <p:cNvSpPr/>
            <p:nvPr/>
          </p:nvSpPr>
          <p:spPr>
            <a:xfrm>
              <a:off x="468360" y="3213000"/>
              <a:ext cx="2819520" cy="776160"/>
            </a:xfrm>
            <a:custGeom>
              <a:avLst/>
              <a:gdLst>
                <a:gd name="textAreaLeft" fmla="*/ 50040 w 2819520"/>
                <a:gd name="textAreaRight" fmla="*/ 2769480 w 2819520"/>
                <a:gd name="textAreaTop" fmla="*/ 50040 h 776160"/>
                <a:gd name="textAreaBottom" fmla="*/ 726120 h 776160"/>
              </a:gdLst>
              <a:ahLst/>
              <a:rect l="textAreaLeft" t="textAreaTop" r="textAreaRight" b="textAreaBottom"/>
              <a:pathLst>
                <a:path w="78439" h="21600">
                  <a:moveTo>
                    <a:pt x="0" y="0"/>
                  </a:moveTo>
                  <a:lnTo>
                    <a:pt x="78439" y="0"/>
                  </a:lnTo>
                  <a:lnTo>
                    <a:pt x="78439" y="21600"/>
                  </a:lnTo>
                  <a:lnTo>
                    <a:pt x="0" y="21600"/>
                  </a:lnTo>
                  <a:close/>
                </a:path>
                <a:path fill="lightenLess" w="78439" h="21600">
                  <a:moveTo>
                    <a:pt x="0" y="0"/>
                  </a:moveTo>
                  <a:lnTo>
                    <a:pt x="78439" y="0"/>
                  </a:lnTo>
                  <a:lnTo>
                    <a:pt x="77039" y="1400"/>
                  </a:lnTo>
                  <a:lnTo>
                    <a:pt x="1400" y="1400"/>
                  </a:lnTo>
                  <a:close/>
                </a:path>
                <a:path fill="darken" w="78439" h="21600">
                  <a:moveTo>
                    <a:pt x="78439" y="0"/>
                  </a:moveTo>
                  <a:lnTo>
                    <a:pt x="78439" y="21600"/>
                  </a:lnTo>
                  <a:lnTo>
                    <a:pt x="77039" y="20200"/>
                  </a:lnTo>
                  <a:lnTo>
                    <a:pt x="77039" y="1400"/>
                  </a:lnTo>
                  <a:close/>
                </a:path>
                <a:path fill="darkenLess" w="78439" h="21600">
                  <a:moveTo>
                    <a:pt x="7843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7039" y="20200"/>
                  </a:lnTo>
                  <a:close/>
                </a:path>
                <a:path fill="lighten" w="7843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Text Box 11"/>
            <p:cNvSpPr/>
            <p:nvPr/>
          </p:nvSpPr>
          <p:spPr>
            <a:xfrm>
              <a:off x="1001880" y="326232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有用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Group 16"/>
          <p:cNvGrpSpPr/>
          <p:nvPr/>
        </p:nvGrpSpPr>
        <p:grpSpPr>
          <a:xfrm>
            <a:off x="611280" y="5084640"/>
            <a:ext cx="2881080" cy="773280"/>
            <a:chOff x="611280" y="5084640"/>
            <a:chExt cx="2881080" cy="773280"/>
          </a:xfrm>
        </p:grpSpPr>
        <p:sp>
          <p:nvSpPr>
            <p:cNvPr id="696" name="AutoShape 14"/>
            <p:cNvSpPr/>
            <p:nvPr/>
          </p:nvSpPr>
          <p:spPr>
            <a:xfrm>
              <a:off x="611280" y="5084640"/>
              <a:ext cx="2881080" cy="773280"/>
            </a:xfrm>
            <a:custGeom>
              <a:avLst/>
              <a:gdLst>
                <a:gd name="textAreaLeft" fmla="*/ 50040 w 2881080"/>
                <a:gd name="textAreaRight" fmla="*/ 2831040 w 2881080"/>
                <a:gd name="textAreaTop" fmla="*/ 50040 h 773280"/>
                <a:gd name="textAreaBottom" fmla="*/ 723240 h 773280"/>
              </a:gdLst>
              <a:ahLst/>
              <a:rect l="textAreaLeft" t="textAreaTop" r="textAreaRight" b="textAreaBottom"/>
              <a:pathLst>
                <a:path w="80450" h="21600">
                  <a:moveTo>
                    <a:pt x="0" y="0"/>
                  </a:moveTo>
                  <a:lnTo>
                    <a:pt x="80450" y="0"/>
                  </a:lnTo>
                  <a:lnTo>
                    <a:pt x="80450" y="21600"/>
                  </a:lnTo>
                  <a:lnTo>
                    <a:pt x="0" y="21600"/>
                  </a:lnTo>
                  <a:close/>
                </a:path>
                <a:path fill="lightenLess" w="80450" h="21600">
                  <a:moveTo>
                    <a:pt x="0" y="0"/>
                  </a:moveTo>
                  <a:lnTo>
                    <a:pt x="80450" y="0"/>
                  </a:lnTo>
                  <a:lnTo>
                    <a:pt x="79050" y="1400"/>
                  </a:lnTo>
                  <a:lnTo>
                    <a:pt x="1400" y="1400"/>
                  </a:lnTo>
                  <a:close/>
                </a:path>
                <a:path fill="darken" w="80450" h="21600">
                  <a:moveTo>
                    <a:pt x="80450" y="0"/>
                  </a:moveTo>
                  <a:lnTo>
                    <a:pt x="80450" y="21600"/>
                  </a:lnTo>
                  <a:lnTo>
                    <a:pt x="79050" y="20200"/>
                  </a:lnTo>
                  <a:lnTo>
                    <a:pt x="79050" y="1400"/>
                  </a:lnTo>
                  <a:close/>
                </a:path>
                <a:path fill="darkenLess" w="80450" h="21600">
                  <a:moveTo>
                    <a:pt x="8045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9050" y="20200"/>
                  </a:lnTo>
                  <a:close/>
                </a:path>
                <a:path fill="lighten" w="8045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Text Box 15"/>
            <p:cNvSpPr/>
            <p:nvPr/>
          </p:nvSpPr>
          <p:spPr>
            <a:xfrm>
              <a:off x="1116000" y="508464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额外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AutoShape 17"/>
          <p:cNvSpPr/>
          <p:nvPr/>
        </p:nvSpPr>
        <p:spPr>
          <a:xfrm>
            <a:off x="3635280" y="3284640"/>
            <a:ext cx="1079640" cy="2736720"/>
          </a:xfrm>
          <a:custGeom>
            <a:avLst/>
            <a:gdLst>
              <a:gd name="textAreaLeft" fmla="*/ 0 w 1079640"/>
              <a:gd name="textAreaRight" fmla="*/ 389880 w 107964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Group 21"/>
          <p:cNvGrpSpPr/>
          <p:nvPr/>
        </p:nvGrpSpPr>
        <p:grpSpPr>
          <a:xfrm>
            <a:off x="4859280" y="4292640"/>
            <a:ext cx="2376720" cy="1150920"/>
            <a:chOff x="4859280" y="4292640"/>
            <a:chExt cx="2376720" cy="1150920"/>
          </a:xfrm>
        </p:grpSpPr>
        <p:sp>
          <p:nvSpPr>
            <p:cNvPr id="700" name="AutoShape 19"/>
            <p:cNvSpPr/>
            <p:nvPr/>
          </p:nvSpPr>
          <p:spPr>
            <a:xfrm>
              <a:off x="4859280" y="4292640"/>
              <a:ext cx="2376720" cy="1150920"/>
            </a:xfrm>
            <a:custGeom>
              <a:avLst/>
              <a:gdLst>
                <a:gd name="textAreaLeft" fmla="*/ 74520 w 2376720"/>
                <a:gd name="textAreaRight" fmla="*/ 2302200 w 2376720"/>
                <a:gd name="textAreaTop" fmla="*/ 74520 h 1150920"/>
                <a:gd name="textAreaBottom" fmla="*/ 1076400 h 1150920"/>
              </a:gdLst>
              <a:ahLst/>
              <a:rect l="textAreaLeft" t="textAreaTop" r="textAreaRight" b="textAreaBottom"/>
              <a:pathLst>
                <a:path w="44598" h="21600">
                  <a:moveTo>
                    <a:pt x="0" y="0"/>
                  </a:moveTo>
                  <a:lnTo>
                    <a:pt x="44598" y="0"/>
                  </a:lnTo>
                  <a:lnTo>
                    <a:pt x="44598" y="21600"/>
                  </a:lnTo>
                  <a:lnTo>
                    <a:pt x="0" y="21600"/>
                  </a:lnTo>
                  <a:close/>
                </a:path>
                <a:path fill="lightenLess" w="44598" h="21600">
                  <a:moveTo>
                    <a:pt x="0" y="0"/>
                  </a:moveTo>
                  <a:lnTo>
                    <a:pt x="44598" y="0"/>
                  </a:lnTo>
                  <a:lnTo>
                    <a:pt x="43198" y="1400"/>
                  </a:lnTo>
                  <a:lnTo>
                    <a:pt x="1400" y="1400"/>
                  </a:lnTo>
                  <a:close/>
                </a:path>
                <a:path fill="darken" w="44598" h="21600">
                  <a:moveTo>
                    <a:pt x="44598" y="0"/>
                  </a:moveTo>
                  <a:lnTo>
                    <a:pt x="44598" y="21600"/>
                  </a:lnTo>
                  <a:lnTo>
                    <a:pt x="43198" y="20200"/>
                  </a:lnTo>
                  <a:lnTo>
                    <a:pt x="43198" y="1400"/>
                  </a:lnTo>
                  <a:close/>
                </a:path>
                <a:path fill="darkenLess" w="44598" h="21600">
                  <a:moveTo>
                    <a:pt x="4459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3198" y="20200"/>
                  </a:lnTo>
                  <a:close/>
                </a:path>
                <a:path fill="lighten" w="4459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20"/>
            <p:cNvSpPr/>
            <p:nvPr/>
          </p:nvSpPr>
          <p:spPr>
            <a:xfrm>
              <a:off x="5105520" y="4508640"/>
              <a:ext cx="2130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总  功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24"/>
          <p:cNvGrpSpPr/>
          <p:nvPr/>
        </p:nvGrpSpPr>
        <p:grpSpPr>
          <a:xfrm>
            <a:off x="4952880" y="533520"/>
            <a:ext cx="2916360" cy="1224000"/>
            <a:chOff x="4952880" y="533520"/>
            <a:chExt cx="2916360" cy="1224000"/>
          </a:xfrm>
        </p:grpSpPr>
        <p:sp>
          <p:nvSpPr>
            <p:cNvPr id="703" name="AutoShape 25"/>
            <p:cNvSpPr/>
            <p:nvPr/>
          </p:nvSpPr>
          <p:spPr>
            <a:xfrm>
              <a:off x="4952880" y="533520"/>
              <a:ext cx="2916360" cy="1224000"/>
            </a:xfrm>
            <a:custGeom>
              <a:avLst/>
              <a:gdLst>
                <a:gd name="textAreaLeft" fmla="*/ 79200 w 2916360"/>
                <a:gd name="textAreaRight" fmla="*/ 2837160 w 2916360"/>
                <a:gd name="textAreaTop" fmla="*/ 79200 h 1224000"/>
                <a:gd name="textAreaBottom" fmla="*/ 1144800 h 1224000"/>
              </a:gdLst>
              <a:ahLst/>
              <a:rect l="textAreaLeft" t="textAreaTop" r="textAreaRight" b="textAreaBottom"/>
              <a:pathLst>
                <a:path w="51456" h="21600">
                  <a:moveTo>
                    <a:pt x="0" y="0"/>
                  </a:moveTo>
                  <a:lnTo>
                    <a:pt x="51456" y="0"/>
                  </a:lnTo>
                  <a:lnTo>
                    <a:pt x="51456" y="21600"/>
                  </a:lnTo>
                  <a:lnTo>
                    <a:pt x="0" y="21600"/>
                  </a:lnTo>
                  <a:close/>
                </a:path>
                <a:path fill="lightenLess" w="51456" h="21600">
                  <a:moveTo>
                    <a:pt x="0" y="0"/>
                  </a:moveTo>
                  <a:lnTo>
                    <a:pt x="51456" y="0"/>
                  </a:lnTo>
                  <a:lnTo>
                    <a:pt x="50056" y="1400"/>
                  </a:lnTo>
                  <a:lnTo>
                    <a:pt x="1400" y="1400"/>
                  </a:lnTo>
                  <a:close/>
                </a:path>
                <a:path fill="darken" w="51456" h="21600">
                  <a:moveTo>
                    <a:pt x="51456" y="0"/>
                  </a:moveTo>
                  <a:lnTo>
                    <a:pt x="51456" y="21600"/>
                  </a:lnTo>
                  <a:lnTo>
                    <a:pt x="50056" y="20200"/>
                  </a:lnTo>
                  <a:lnTo>
                    <a:pt x="50056" y="1400"/>
                  </a:lnTo>
                  <a:close/>
                </a:path>
                <a:path fill="darkenLess" w="51456" h="21600">
                  <a:moveTo>
                    <a:pt x="5145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0056" y="20200"/>
                  </a:lnTo>
                  <a:close/>
                </a:path>
                <a:path fill="lighten" w="5145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Text Box 26"/>
            <p:cNvSpPr/>
            <p:nvPr/>
          </p:nvSpPr>
          <p:spPr>
            <a:xfrm>
              <a:off x="5203800" y="676440"/>
              <a:ext cx="2449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机械效率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Group 27"/>
          <p:cNvGrpSpPr/>
          <p:nvPr/>
        </p:nvGrpSpPr>
        <p:grpSpPr>
          <a:xfrm>
            <a:off x="4800600" y="1981080"/>
            <a:ext cx="3200040" cy="1371600"/>
            <a:chOff x="4800600" y="1981080"/>
            <a:chExt cx="3200040" cy="1371600"/>
          </a:xfrm>
        </p:grpSpPr>
        <p:sp>
          <p:nvSpPr>
            <p:cNvPr id="706" name="Text Box 28"/>
            <p:cNvSpPr/>
            <p:nvPr/>
          </p:nvSpPr>
          <p:spPr>
            <a:xfrm>
              <a:off x="4800600" y="2102760"/>
              <a:ext cx="144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6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η</a:t>
              </a:r>
              <a:r>
                <a:rPr b="0" lang="en-US" sz="4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7" name="Object 29" descr=""/>
            <p:cNvPicPr/>
            <p:nvPr/>
          </p:nvPicPr>
          <p:blipFill>
            <a:blip r:embed="rId1"/>
            <a:stretch/>
          </p:blipFill>
          <p:spPr>
            <a:xfrm>
              <a:off x="6171120" y="1981080"/>
              <a:ext cx="1829520" cy="137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3"/>
          <p:cNvSpPr/>
          <p:nvPr/>
        </p:nvSpPr>
        <p:spPr>
          <a:xfrm>
            <a:off x="457200" y="609480"/>
            <a:ext cx="5943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有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G·h=100N×6m=600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609480" y="1523880"/>
            <a:ext cx="5257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额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 +G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=400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6m+20N ×6m=2520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5"/>
          <p:cNvSpPr/>
          <p:nvPr/>
        </p:nvSpPr>
        <p:spPr>
          <a:xfrm>
            <a:off x="609480" y="3505320"/>
            <a:ext cx="52578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有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额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6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J+2520J=3120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7"/>
          <p:cNvSpPr/>
          <p:nvPr/>
        </p:nvSpPr>
        <p:spPr>
          <a:xfrm>
            <a:off x="609480" y="60958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0J/3120J=19.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Group 8"/>
          <p:cNvGrpSpPr/>
          <p:nvPr/>
        </p:nvGrpSpPr>
        <p:grpSpPr>
          <a:xfrm>
            <a:off x="457200" y="4724280"/>
            <a:ext cx="3200040" cy="1371600"/>
            <a:chOff x="457200" y="4724280"/>
            <a:chExt cx="3200040" cy="1371600"/>
          </a:xfrm>
        </p:grpSpPr>
        <p:sp>
          <p:nvSpPr>
            <p:cNvPr id="713" name="Text Box 9"/>
            <p:cNvSpPr/>
            <p:nvPr/>
          </p:nvSpPr>
          <p:spPr>
            <a:xfrm>
              <a:off x="457200" y="4845960"/>
              <a:ext cx="144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6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η</a:t>
              </a:r>
              <a:r>
                <a:rPr b="0" lang="en-US" sz="4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4" name="Object 10" descr=""/>
            <p:cNvPicPr/>
            <p:nvPr/>
          </p:nvPicPr>
          <p:blipFill>
            <a:blip r:embed="rId1"/>
            <a:stretch/>
          </p:blipFill>
          <p:spPr>
            <a:xfrm>
              <a:off x="1827720" y="4724280"/>
              <a:ext cx="1829520" cy="137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5" name="Picture 15" descr="11"/>
          <p:cNvPicPr/>
          <p:nvPr/>
        </p:nvPicPr>
        <p:blipFill>
          <a:blip r:embed="rId2"/>
          <a:stretch/>
        </p:blipFill>
        <p:spPr>
          <a:xfrm>
            <a:off x="6089760" y="0"/>
            <a:ext cx="30542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6" name="Group 19"/>
          <p:cNvGrpSpPr/>
          <p:nvPr/>
        </p:nvGrpSpPr>
        <p:grpSpPr>
          <a:xfrm>
            <a:off x="684360" y="2637000"/>
            <a:ext cx="3022560" cy="914400"/>
            <a:chOff x="684360" y="2637000"/>
            <a:chExt cx="3022560" cy="914400"/>
          </a:xfrm>
        </p:grpSpPr>
        <p:sp>
          <p:nvSpPr>
            <p:cNvPr id="717" name="AutoShape 17"/>
            <p:cNvSpPr/>
            <p:nvPr/>
          </p:nvSpPr>
          <p:spPr>
            <a:xfrm>
              <a:off x="684360" y="2637000"/>
              <a:ext cx="3022560" cy="914400"/>
            </a:xfrm>
            <a:prstGeom prst="leftArrow">
              <a:avLst>
                <a:gd name="adj1" fmla="val 50000"/>
                <a:gd name="adj2" fmla="val 82638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 Box 18"/>
            <p:cNvSpPr/>
            <p:nvPr/>
          </p:nvSpPr>
          <p:spPr>
            <a:xfrm>
              <a:off x="1476360" y="2852640"/>
              <a:ext cx="18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返回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W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额外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3"/>
          <p:cNvSpPr/>
          <p:nvPr/>
        </p:nvSpPr>
        <p:spPr>
          <a:xfrm>
            <a:off x="380880" y="457200"/>
            <a:ext cx="5943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有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G·h=100N×6m=600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380880" y="1219320"/>
            <a:ext cx="586764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额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+G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=10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6m+20N ×6m=180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6"/>
          <p:cNvSpPr/>
          <p:nvPr/>
        </p:nvSpPr>
        <p:spPr>
          <a:xfrm>
            <a:off x="609480" y="3048120"/>
            <a:ext cx="52578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有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额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6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J+180J=780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609480" y="56386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0J/780J=76.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8"/>
          <p:cNvGrpSpPr/>
          <p:nvPr/>
        </p:nvGrpSpPr>
        <p:grpSpPr>
          <a:xfrm>
            <a:off x="457200" y="4267080"/>
            <a:ext cx="3200040" cy="1371600"/>
            <a:chOff x="457200" y="4267080"/>
            <a:chExt cx="3200040" cy="1371600"/>
          </a:xfrm>
        </p:grpSpPr>
        <p:sp>
          <p:nvSpPr>
            <p:cNvPr id="724" name="Text Box 9"/>
            <p:cNvSpPr/>
            <p:nvPr/>
          </p:nvSpPr>
          <p:spPr>
            <a:xfrm>
              <a:off x="457200" y="4388760"/>
              <a:ext cx="144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6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η</a:t>
              </a:r>
              <a:r>
                <a:rPr b="0" lang="en-US" sz="4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5" name="Object 10" descr=""/>
            <p:cNvPicPr/>
            <p:nvPr/>
          </p:nvPicPr>
          <p:blipFill>
            <a:blip r:embed="rId1"/>
            <a:stretch/>
          </p:blipFill>
          <p:spPr>
            <a:xfrm>
              <a:off x="1827720" y="4267080"/>
              <a:ext cx="1829520" cy="137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6" name="Group 15"/>
          <p:cNvGrpSpPr/>
          <p:nvPr/>
        </p:nvGrpSpPr>
        <p:grpSpPr>
          <a:xfrm>
            <a:off x="685800" y="2209680"/>
            <a:ext cx="3022560" cy="914400"/>
            <a:chOff x="685800" y="2209680"/>
            <a:chExt cx="3022560" cy="914400"/>
          </a:xfrm>
        </p:grpSpPr>
        <p:sp>
          <p:nvSpPr>
            <p:cNvPr id="727" name="AutoShape 12"/>
            <p:cNvSpPr/>
            <p:nvPr/>
          </p:nvSpPr>
          <p:spPr>
            <a:xfrm>
              <a:off x="685800" y="2209680"/>
              <a:ext cx="3022560" cy="914400"/>
            </a:xfrm>
            <a:prstGeom prst="leftArrow">
              <a:avLst>
                <a:gd name="adj1" fmla="val 50000"/>
                <a:gd name="adj2" fmla="val 82638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3"/>
            <p:cNvSpPr/>
            <p:nvPr/>
          </p:nvSpPr>
          <p:spPr>
            <a:xfrm>
              <a:off x="1763640" y="2421000"/>
              <a:ext cx="181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返回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W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额外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9" name="Picture 14" descr="22"/>
          <p:cNvPicPr/>
          <p:nvPr/>
        </p:nvPicPr>
        <p:blipFill>
          <a:blip r:embed="rId2"/>
          <a:srcRect l="0" t="0" r="0" b="-35"/>
          <a:stretch/>
        </p:blipFill>
        <p:spPr>
          <a:xfrm>
            <a:off x="6122880" y="0"/>
            <a:ext cx="302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3"/>
          <p:cNvSpPr/>
          <p:nvPr/>
        </p:nvSpPr>
        <p:spPr>
          <a:xfrm>
            <a:off x="228600" y="304920"/>
            <a:ext cx="5943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有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G·h=100N×6m=600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4"/>
          <p:cNvSpPr/>
          <p:nvPr/>
        </p:nvSpPr>
        <p:spPr>
          <a:xfrm>
            <a:off x="304920" y="1295280"/>
            <a:ext cx="60195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额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+G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=10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6m+5N ×6m=90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609480" y="3124080"/>
            <a:ext cx="52578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有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额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6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J+90J=690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609480" y="57150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0J/690J=8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457200" y="4343400"/>
            <a:ext cx="3200040" cy="1371600"/>
            <a:chOff x="457200" y="4343400"/>
            <a:chExt cx="3200040" cy="1371600"/>
          </a:xfrm>
        </p:grpSpPr>
        <p:sp>
          <p:nvSpPr>
            <p:cNvPr id="735" name="Text Box 8"/>
            <p:cNvSpPr/>
            <p:nvPr/>
          </p:nvSpPr>
          <p:spPr>
            <a:xfrm>
              <a:off x="457200" y="4465080"/>
              <a:ext cx="144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6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η</a:t>
              </a:r>
              <a:r>
                <a:rPr b="0" lang="en-US" sz="4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6" name="Object 9" descr=""/>
            <p:cNvPicPr/>
            <p:nvPr/>
          </p:nvPicPr>
          <p:blipFill>
            <a:blip r:embed="rId1"/>
            <a:stretch/>
          </p:blipFill>
          <p:spPr>
            <a:xfrm>
              <a:off x="1827720" y="4343400"/>
              <a:ext cx="1829520" cy="137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7" name="Picture 14" descr="33"/>
          <p:cNvPicPr/>
          <p:nvPr/>
        </p:nvPicPr>
        <p:blipFill>
          <a:blip r:embed="rId2"/>
          <a:srcRect l="0" t="0" r="0" b="79"/>
          <a:stretch/>
        </p:blipFill>
        <p:spPr>
          <a:xfrm>
            <a:off x="5791320" y="0"/>
            <a:ext cx="33526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18"/>
          <p:cNvGrpSpPr/>
          <p:nvPr/>
        </p:nvGrpSpPr>
        <p:grpSpPr>
          <a:xfrm>
            <a:off x="684360" y="2276640"/>
            <a:ext cx="3022560" cy="914400"/>
            <a:chOff x="684360" y="2276640"/>
            <a:chExt cx="3022560" cy="914400"/>
          </a:xfrm>
        </p:grpSpPr>
        <p:sp>
          <p:nvSpPr>
            <p:cNvPr id="739" name="AutoShape 16"/>
            <p:cNvSpPr/>
            <p:nvPr/>
          </p:nvSpPr>
          <p:spPr>
            <a:xfrm>
              <a:off x="684360" y="2276640"/>
              <a:ext cx="3022560" cy="914400"/>
            </a:xfrm>
            <a:prstGeom prst="leftArrow">
              <a:avLst>
                <a:gd name="adj1" fmla="val 50000"/>
                <a:gd name="adj2" fmla="val 82638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Text Box 17"/>
            <p:cNvSpPr/>
            <p:nvPr/>
          </p:nvSpPr>
          <p:spPr>
            <a:xfrm>
              <a:off x="1476360" y="2492280"/>
              <a:ext cx="18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返回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W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额外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380880" y="1522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图所示，用力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沿长为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高为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光滑斜面把重为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物体从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端匀速拉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端。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对物体所做的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3"/>
          <p:cNvSpPr/>
          <p:nvPr/>
        </p:nvSpPr>
        <p:spPr>
          <a:xfrm>
            <a:off x="4160880" y="2252520"/>
            <a:ext cx="4419720" cy="15242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4"/>
          <p:cNvSpPr/>
          <p:nvPr/>
        </p:nvSpPr>
        <p:spPr>
          <a:xfrm rot="1149000">
            <a:off x="6620040" y="2739600"/>
            <a:ext cx="1077840" cy="511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5"/>
          <p:cNvSpPr/>
          <p:nvPr/>
        </p:nvSpPr>
        <p:spPr>
          <a:xfrm>
            <a:off x="8534520" y="34005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6"/>
          <p:cNvSpPr/>
          <p:nvPr/>
        </p:nvSpPr>
        <p:spPr>
          <a:xfrm>
            <a:off x="3995640" y="162864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7"/>
          <p:cNvSpPr/>
          <p:nvPr/>
        </p:nvSpPr>
        <p:spPr>
          <a:xfrm flipH="1" flipV="1">
            <a:off x="5997600" y="2517840"/>
            <a:ext cx="781200" cy="355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8"/>
          <p:cNvSpPr/>
          <p:nvPr/>
        </p:nvSpPr>
        <p:spPr>
          <a:xfrm>
            <a:off x="5410080" y="18003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9"/>
          <p:cNvSpPr/>
          <p:nvPr/>
        </p:nvSpPr>
        <p:spPr>
          <a:xfrm>
            <a:off x="826920" y="508464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斜面长是斜面高的几倍，则推力是物重的几分之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0"/>
          <p:cNvSpPr/>
          <p:nvPr/>
        </p:nvSpPr>
        <p:spPr>
          <a:xfrm>
            <a:off x="1187280" y="429264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 Narrow"/>
                <a:ea typeface="宋体"/>
              </a:rPr>
              <a:t>FL = 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1"/>
          <p:cNvSpPr/>
          <p:nvPr/>
        </p:nvSpPr>
        <p:spPr>
          <a:xfrm>
            <a:off x="900000" y="3357720"/>
            <a:ext cx="388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 Narrow"/>
                <a:ea typeface="宋体"/>
              </a:rPr>
              <a:t>所以 </a:t>
            </a:r>
            <a:r>
              <a:rPr b="1" lang="en-US" sz="3600" spc="-1" strike="noStrike">
                <a:solidFill>
                  <a:srgbClr val="3333ff"/>
                </a:solidFill>
                <a:latin typeface="Arial Narrow"/>
                <a:ea typeface="宋体"/>
              </a:rPr>
              <a:t>W </a:t>
            </a:r>
            <a:r>
              <a:rPr b="1" lang="en-US" sz="3600" spc="-1" strike="noStrike" baseline="-25000">
                <a:solidFill>
                  <a:srgbClr val="3333ff"/>
                </a:solidFill>
                <a:latin typeface="Arial Narrow"/>
                <a:ea typeface="宋体"/>
              </a:rPr>
              <a:t>1</a:t>
            </a:r>
            <a:r>
              <a:rPr b="1" lang="en-US" sz="3600" spc="-1" strike="noStrike">
                <a:solidFill>
                  <a:srgbClr val="3333ff"/>
                </a:solidFill>
                <a:latin typeface="Arial Narrow"/>
                <a:ea typeface="宋体"/>
              </a:rPr>
              <a:t>= W</a:t>
            </a:r>
            <a:r>
              <a:rPr b="1" lang="en-US" sz="3600" spc="-1" strike="noStrike" baseline="-25000">
                <a:solidFill>
                  <a:srgbClr val="3333ff"/>
                </a:solidFill>
                <a:latin typeface="Arial Narrow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2"/>
          <p:cNvSpPr/>
          <p:nvPr/>
        </p:nvSpPr>
        <p:spPr>
          <a:xfrm>
            <a:off x="3419640" y="42926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 Narrow"/>
                <a:ea typeface="宋体"/>
              </a:rPr>
              <a:t>即 </a:t>
            </a:r>
            <a:r>
              <a:rPr b="1" lang="en-US" sz="3600" spc="-1" strike="noStrike">
                <a:solidFill>
                  <a:srgbClr val="3333ff"/>
                </a:solidFill>
                <a:latin typeface="Arial Narrow"/>
                <a:ea typeface="宋体"/>
              </a:rPr>
              <a:t>F / G = h /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3"/>
          <p:cNvSpPr/>
          <p:nvPr/>
        </p:nvSpPr>
        <p:spPr>
          <a:xfrm>
            <a:off x="539640" y="2060640"/>
            <a:ext cx="30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 Narrow"/>
                <a:ea typeface="宋体"/>
              </a:rPr>
              <a:t>因为使用任何机械都不能省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2"/>
          <p:cNvGrpSpPr/>
          <p:nvPr/>
        </p:nvGrpSpPr>
        <p:grpSpPr>
          <a:xfrm>
            <a:off x="4421160" y="1413000"/>
            <a:ext cx="4722840" cy="2318760"/>
            <a:chOff x="4421160" y="1413000"/>
            <a:chExt cx="4722840" cy="2318760"/>
          </a:xfrm>
        </p:grpSpPr>
        <p:sp>
          <p:nvSpPr>
            <p:cNvPr id="754" name="AutoShape 3"/>
            <p:cNvSpPr/>
            <p:nvPr/>
          </p:nvSpPr>
          <p:spPr>
            <a:xfrm>
              <a:off x="4731480" y="1941480"/>
              <a:ext cx="3913200" cy="15242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4"/>
            <p:cNvSpPr/>
            <p:nvPr/>
          </p:nvSpPr>
          <p:spPr>
            <a:xfrm rot="1255800">
              <a:off x="6798960" y="2397240"/>
              <a:ext cx="954360" cy="511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5"/>
            <p:cNvSpPr/>
            <p:nvPr/>
          </p:nvSpPr>
          <p:spPr>
            <a:xfrm>
              <a:off x="8604360" y="3089160"/>
              <a:ext cx="53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4421160" y="1413000"/>
              <a:ext cx="53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7"/>
            <p:cNvSpPr/>
            <p:nvPr/>
          </p:nvSpPr>
          <p:spPr>
            <a:xfrm flipH="1" flipV="1">
              <a:off x="6097680" y="2180880"/>
              <a:ext cx="738000" cy="336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8"/>
            <p:cNvSpPr/>
            <p:nvPr/>
          </p:nvSpPr>
          <p:spPr>
            <a:xfrm>
              <a:off x="5837760" y="1488960"/>
              <a:ext cx="53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Text Box 9"/>
          <p:cNvSpPr/>
          <p:nvPr/>
        </p:nvSpPr>
        <p:spPr>
          <a:xfrm>
            <a:off x="755640" y="333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若斜面光滑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米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牛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米，那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多少？拉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做功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0"/>
          <p:cNvSpPr/>
          <p:nvPr/>
        </p:nvSpPr>
        <p:spPr>
          <a:xfrm>
            <a:off x="936720" y="378936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若斜面不光滑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牛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米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牛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米，那么拉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做功多少？机械效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多少？摩擦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11"/>
          <p:cNvSpPr/>
          <p:nvPr/>
        </p:nvSpPr>
        <p:spPr>
          <a:xfrm>
            <a:off x="1116000" y="1700280"/>
            <a:ext cx="2881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 Narrow"/>
                <a:ea typeface="宋体"/>
              </a:rPr>
              <a:t>W</a:t>
            </a:r>
            <a:r>
              <a:rPr b="1" lang="zh-CN" sz="3600" spc="-1" strike="noStrike" baseline="-25000">
                <a:solidFill>
                  <a:srgbClr val="3333ff"/>
                </a:solidFill>
                <a:latin typeface="Arial Narrow"/>
                <a:ea typeface="宋体"/>
              </a:rPr>
              <a:t>有用 </a:t>
            </a:r>
            <a:r>
              <a:rPr b="1" lang="en-US" sz="3600" spc="-1" strike="noStrike">
                <a:solidFill>
                  <a:srgbClr val="3333ff"/>
                </a:solidFill>
                <a:latin typeface="Arial Narrow"/>
                <a:ea typeface="宋体"/>
              </a:rPr>
              <a:t>= 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2"/>
          <p:cNvSpPr/>
          <p:nvPr/>
        </p:nvSpPr>
        <p:spPr>
          <a:xfrm>
            <a:off x="1187280" y="2565360"/>
            <a:ext cx="2881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 Narrow"/>
                <a:ea typeface="宋体"/>
              </a:rPr>
              <a:t>W</a:t>
            </a:r>
            <a:r>
              <a:rPr b="1" lang="zh-CN" sz="3600" spc="-1" strike="noStrike" baseline="-25000">
                <a:solidFill>
                  <a:srgbClr val="3333ff"/>
                </a:solidFill>
                <a:latin typeface="Arial Narrow"/>
                <a:ea typeface="宋体"/>
              </a:rPr>
              <a:t>总 </a:t>
            </a:r>
            <a:r>
              <a:rPr b="1" lang="en-US" sz="3600" spc="-1" strike="noStrike">
                <a:solidFill>
                  <a:srgbClr val="3333ff"/>
                </a:solidFill>
                <a:latin typeface="Arial Narrow"/>
                <a:ea typeface="宋体"/>
              </a:rPr>
              <a:t>=  F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13"/>
          <p:cNvSpPr/>
          <p:nvPr/>
        </p:nvSpPr>
        <p:spPr>
          <a:xfrm>
            <a:off x="1258920" y="54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：课时训练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P65-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7"/>
          <p:cNvGrpSpPr/>
          <p:nvPr/>
        </p:nvGrpSpPr>
        <p:grpSpPr>
          <a:xfrm>
            <a:off x="838080" y="2057400"/>
            <a:ext cx="7118640" cy="2743200"/>
            <a:chOff x="838080" y="2057400"/>
            <a:chExt cx="7118640" cy="2743200"/>
          </a:xfrm>
        </p:grpSpPr>
        <p:sp>
          <p:nvSpPr>
            <p:cNvPr id="544" name="AutoShape 4"/>
            <p:cNvSpPr/>
            <p:nvPr/>
          </p:nvSpPr>
          <p:spPr>
            <a:xfrm>
              <a:off x="838080" y="2057400"/>
              <a:ext cx="7118640" cy="2743200"/>
            </a:xfrm>
            <a:custGeom>
              <a:avLst/>
              <a:gdLst>
                <a:gd name="textAreaLeft" fmla="*/ 177480 w 7118640"/>
                <a:gd name="textAreaRight" fmla="*/ 6941160 w 7118640"/>
                <a:gd name="textAreaTop" fmla="*/ 177480 h 2743200"/>
                <a:gd name="textAreaBottom" fmla="*/ 2565720 h 2743200"/>
              </a:gdLst>
              <a:ahLst/>
              <a:rect l="textAreaLeft" t="textAreaTop" r="textAreaRight" b="textAreaBottom"/>
              <a:pathLst>
                <a:path w="56048" h="21600">
                  <a:moveTo>
                    <a:pt x="0" y="0"/>
                  </a:moveTo>
                  <a:lnTo>
                    <a:pt x="56048" y="0"/>
                  </a:lnTo>
                  <a:lnTo>
                    <a:pt x="56048" y="21600"/>
                  </a:lnTo>
                  <a:lnTo>
                    <a:pt x="0" y="21600"/>
                  </a:lnTo>
                  <a:close/>
                </a:path>
                <a:path fill="lightenLess" w="56048" h="21600">
                  <a:moveTo>
                    <a:pt x="0" y="0"/>
                  </a:moveTo>
                  <a:lnTo>
                    <a:pt x="56048" y="0"/>
                  </a:lnTo>
                  <a:lnTo>
                    <a:pt x="54648" y="1400"/>
                  </a:lnTo>
                  <a:lnTo>
                    <a:pt x="1400" y="1400"/>
                  </a:lnTo>
                  <a:close/>
                </a:path>
                <a:path fill="darken" w="56048" h="21600">
                  <a:moveTo>
                    <a:pt x="56048" y="0"/>
                  </a:moveTo>
                  <a:lnTo>
                    <a:pt x="56048" y="21600"/>
                  </a:lnTo>
                  <a:lnTo>
                    <a:pt x="54648" y="20200"/>
                  </a:lnTo>
                  <a:lnTo>
                    <a:pt x="54648" y="1400"/>
                  </a:lnTo>
                  <a:close/>
                </a:path>
                <a:path fill="darkenLess" w="56048" h="21600">
                  <a:moveTo>
                    <a:pt x="560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4648" y="20200"/>
                  </a:lnTo>
                  <a:close/>
                </a:path>
                <a:path fill="lighten" w="560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Text Box 5"/>
            <p:cNvSpPr/>
            <p:nvPr/>
          </p:nvSpPr>
          <p:spPr>
            <a:xfrm>
              <a:off x="1134720" y="2590920"/>
              <a:ext cx="6673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要把重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100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N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的沙子运上三楼。下图画了三种办法。同学们讨论一下：哪种办法最好，哪种办法最不好，为什么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WordArt 9"/>
          <p:cNvSpPr txBox="1"/>
          <p:nvPr/>
        </p:nvSpPr>
        <p:spPr>
          <a:xfrm>
            <a:off x="826920" y="549360"/>
            <a:ext cx="367380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提出问题</a:t>
            </a:r>
            <a:endParaRPr b="0" lang="en-US" sz="3200" spc="1" strike="noStrike">
              <a:ln w="1260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2" descr="kato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6" name="WordArt 15"/>
          <p:cNvSpPr txBox="1"/>
          <p:nvPr/>
        </p:nvSpPr>
        <p:spPr>
          <a:xfrm>
            <a:off x="2057400" y="1143000"/>
            <a:ext cx="41911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再见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6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jixiexiaolv"/>
          <p:cNvPicPr/>
          <p:nvPr/>
        </p:nvPicPr>
        <p:blipFill>
          <a:blip r:embed="rId1"/>
          <a:srcRect l="0" t="0" r="-19" b="17"/>
          <a:stretch/>
        </p:blipFill>
        <p:spPr>
          <a:xfrm>
            <a:off x="1774800" y="0"/>
            <a:ext cx="73692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4"/>
          <p:cNvSpPr/>
          <p:nvPr/>
        </p:nvSpPr>
        <p:spPr>
          <a:xfrm>
            <a:off x="-586800" y="0"/>
            <a:ext cx="20091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  生   讨   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18"/>
          <p:cNvGrpSpPr/>
          <p:nvPr/>
        </p:nvGrpSpPr>
        <p:grpSpPr>
          <a:xfrm>
            <a:off x="304920" y="304920"/>
            <a:ext cx="2819160" cy="1523880"/>
            <a:chOff x="304920" y="304920"/>
            <a:chExt cx="2819160" cy="1523880"/>
          </a:xfrm>
        </p:grpSpPr>
        <p:sp>
          <p:nvSpPr>
            <p:cNvPr id="550" name="AutoShape 2"/>
            <p:cNvSpPr/>
            <p:nvPr/>
          </p:nvSpPr>
          <p:spPr>
            <a:xfrm>
              <a:off x="304920" y="304920"/>
              <a:ext cx="2819160" cy="1523880"/>
            </a:xfrm>
            <a:custGeom>
              <a:avLst/>
              <a:gdLst>
                <a:gd name="textAreaLeft" fmla="*/ 98640 w 2819160"/>
                <a:gd name="textAreaRight" fmla="*/ 2720520 w 2819160"/>
                <a:gd name="textAreaTop" fmla="*/ 98640 h 1523880"/>
                <a:gd name="textAreaBottom" fmla="*/ 1425240 h 1523880"/>
              </a:gdLst>
              <a:ahLst/>
              <a:rect l="textAreaLeft" t="textAreaTop" r="textAreaRight" b="textAreaBottom"/>
              <a:pathLst>
                <a:path w="39955" h="21600">
                  <a:moveTo>
                    <a:pt x="0" y="0"/>
                  </a:moveTo>
                  <a:lnTo>
                    <a:pt x="39955" y="0"/>
                  </a:lnTo>
                  <a:lnTo>
                    <a:pt x="39955" y="21600"/>
                  </a:lnTo>
                  <a:lnTo>
                    <a:pt x="0" y="21600"/>
                  </a:lnTo>
                  <a:close/>
                </a:path>
                <a:path fill="lightenLess" w="39955" h="21600">
                  <a:moveTo>
                    <a:pt x="0" y="0"/>
                  </a:moveTo>
                  <a:lnTo>
                    <a:pt x="39955" y="0"/>
                  </a:lnTo>
                  <a:lnTo>
                    <a:pt x="38555" y="1400"/>
                  </a:lnTo>
                  <a:lnTo>
                    <a:pt x="1400" y="1400"/>
                  </a:lnTo>
                  <a:close/>
                </a:path>
                <a:path fill="darken" w="39955" h="21600">
                  <a:moveTo>
                    <a:pt x="39955" y="0"/>
                  </a:moveTo>
                  <a:lnTo>
                    <a:pt x="39955" y="21600"/>
                  </a:lnTo>
                  <a:lnTo>
                    <a:pt x="38555" y="20200"/>
                  </a:lnTo>
                  <a:lnTo>
                    <a:pt x="38555" y="1400"/>
                  </a:lnTo>
                  <a:close/>
                </a:path>
                <a:path fill="darkenLess" w="39955" h="21600">
                  <a:moveTo>
                    <a:pt x="3995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555" y="20200"/>
                  </a:lnTo>
                  <a:close/>
                </a:path>
                <a:path fill="lighten" w="3995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15"/>
            <p:cNvSpPr/>
            <p:nvPr/>
          </p:nvSpPr>
          <p:spPr>
            <a:xfrm>
              <a:off x="838080" y="68580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有用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Text Box 16"/>
          <p:cNvSpPr/>
          <p:nvPr/>
        </p:nvSpPr>
        <p:spPr>
          <a:xfrm>
            <a:off x="250920" y="20574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机械的时候，对人们有用的功叫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有用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7"/>
          <p:cNvSpPr/>
          <p:nvPr/>
        </p:nvSpPr>
        <p:spPr>
          <a:xfrm>
            <a:off x="468360" y="3789360"/>
            <a:ext cx="5943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有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G·h=100N×6m=600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Group 19"/>
          <p:cNvGrpSpPr/>
          <p:nvPr/>
        </p:nvGrpSpPr>
        <p:grpSpPr>
          <a:xfrm>
            <a:off x="6443640" y="3645000"/>
            <a:ext cx="1371600" cy="2743200"/>
            <a:chOff x="6443640" y="3645000"/>
            <a:chExt cx="1371600" cy="2743200"/>
          </a:xfrm>
        </p:grpSpPr>
        <p:grpSp>
          <p:nvGrpSpPr>
            <p:cNvPr id="555" name="Group 20"/>
            <p:cNvGrpSpPr/>
            <p:nvPr/>
          </p:nvGrpSpPr>
          <p:grpSpPr>
            <a:xfrm>
              <a:off x="6443640" y="3645000"/>
              <a:ext cx="1371600" cy="2743200"/>
              <a:chOff x="6443640" y="3645000"/>
              <a:chExt cx="1371600" cy="2743200"/>
            </a:xfrm>
          </p:grpSpPr>
          <p:sp>
            <p:nvSpPr>
              <p:cNvPr id="556" name="AutoShape 21"/>
              <p:cNvSpPr/>
              <p:nvPr/>
            </p:nvSpPr>
            <p:spPr>
              <a:xfrm>
                <a:off x="6443640" y="5321520"/>
                <a:ext cx="1371600" cy="10666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Line 22"/>
              <p:cNvSpPr/>
              <p:nvPr/>
            </p:nvSpPr>
            <p:spPr>
              <a:xfrm flipV="1">
                <a:off x="7129440" y="4101840"/>
                <a:ext cx="0" cy="12956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WordArt 23"/>
              <p:cNvSpPr txBox="1"/>
              <p:nvPr/>
            </p:nvSpPr>
            <p:spPr>
              <a:xfrm>
                <a:off x="7015320" y="3645000"/>
                <a:ext cx="34272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宋体"/>
                  </a:rPr>
                  <a:t>F</a:t>
                </a:r>
                <a:endPara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  <a:ea typeface="宋体"/>
                </a:endParaRPr>
              </a:p>
            </p:txBody>
          </p:sp>
        </p:grpSp>
        <p:sp>
          <p:nvSpPr>
            <p:cNvPr id="559" name="WordArt 24"/>
            <p:cNvSpPr txBox="1"/>
            <p:nvPr/>
          </p:nvSpPr>
          <p:spPr>
            <a:xfrm>
              <a:off x="6748200" y="5778720"/>
              <a:ext cx="495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M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560" name="AutoShape 26">
            <a:hlinkClick r:id="" action="ppaction://hlinkshowjump?jump=nextslide"/>
          </p:cNvPr>
          <p:cNvSpPr/>
          <p:nvPr/>
        </p:nvSpPr>
        <p:spPr>
          <a:xfrm>
            <a:off x="912960" y="507672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27"/>
          <p:cNvSpPr/>
          <p:nvPr/>
        </p:nvSpPr>
        <p:spPr>
          <a:xfrm>
            <a:off x="1042920" y="5229360"/>
            <a:ext cx="1297080" cy="71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  <a:hlinkClick r:id="rId1" action="ppaction://hlinksldjump"/>
              </a:rPr>
              <a:t>演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0"/>
          <p:cNvSpPr/>
          <p:nvPr/>
        </p:nvSpPr>
        <p:spPr>
          <a:xfrm>
            <a:off x="250920" y="2852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提起重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100N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的沙子提高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6m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所做的有用功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4191120" y="3733920"/>
            <a:ext cx="1371600" cy="2743200"/>
            <a:chOff x="4191120" y="3733920"/>
            <a:chExt cx="1371600" cy="2743200"/>
          </a:xfrm>
        </p:grpSpPr>
        <p:sp>
          <p:nvSpPr>
            <p:cNvPr id="564" name="AutoShape 3"/>
            <p:cNvSpPr/>
            <p:nvPr/>
          </p:nvSpPr>
          <p:spPr>
            <a:xfrm>
              <a:off x="4191120" y="5410440"/>
              <a:ext cx="1371600" cy="1066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4"/>
            <p:cNvSpPr/>
            <p:nvPr/>
          </p:nvSpPr>
          <p:spPr>
            <a:xfrm flipV="1">
              <a:off x="4876920" y="4190760"/>
              <a:ext cx="0" cy="129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WordArt 5"/>
            <p:cNvSpPr txBox="1"/>
            <p:nvPr/>
          </p:nvSpPr>
          <p:spPr>
            <a:xfrm>
              <a:off x="4762800" y="3733920"/>
              <a:ext cx="342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F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67" name="WordArt 6"/>
          <p:cNvSpPr txBox="1"/>
          <p:nvPr/>
        </p:nvSpPr>
        <p:spPr>
          <a:xfrm>
            <a:off x="4495680" y="5867280"/>
            <a:ext cx="49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2"/>
          <p:cNvGrpSpPr/>
          <p:nvPr/>
        </p:nvGrpSpPr>
        <p:grpSpPr>
          <a:xfrm>
            <a:off x="4191120" y="3645000"/>
            <a:ext cx="1371600" cy="2743200"/>
            <a:chOff x="4191120" y="3645000"/>
            <a:chExt cx="1371600" cy="2743200"/>
          </a:xfrm>
        </p:grpSpPr>
        <p:sp>
          <p:nvSpPr>
            <p:cNvPr id="569" name="AutoShape 3"/>
            <p:cNvSpPr/>
            <p:nvPr/>
          </p:nvSpPr>
          <p:spPr>
            <a:xfrm>
              <a:off x="4191120" y="5321520"/>
              <a:ext cx="1371600" cy="1066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4"/>
            <p:cNvSpPr/>
            <p:nvPr/>
          </p:nvSpPr>
          <p:spPr>
            <a:xfrm flipV="1">
              <a:off x="4876920" y="4101840"/>
              <a:ext cx="0" cy="129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WordArt 5"/>
            <p:cNvSpPr txBox="1"/>
            <p:nvPr/>
          </p:nvSpPr>
          <p:spPr>
            <a:xfrm>
              <a:off x="4762800" y="3645000"/>
              <a:ext cx="342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F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72" name="WordArt 6"/>
          <p:cNvSpPr txBox="1"/>
          <p:nvPr/>
        </p:nvSpPr>
        <p:spPr>
          <a:xfrm>
            <a:off x="4495680" y="5778360"/>
            <a:ext cx="49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4191120" y="3500280"/>
            <a:ext cx="1371600" cy="2743200"/>
            <a:chOff x="4191120" y="3500280"/>
            <a:chExt cx="1371600" cy="2743200"/>
          </a:xfrm>
        </p:grpSpPr>
        <p:sp>
          <p:nvSpPr>
            <p:cNvPr id="574" name="AutoShape 3"/>
            <p:cNvSpPr/>
            <p:nvPr/>
          </p:nvSpPr>
          <p:spPr>
            <a:xfrm>
              <a:off x="4191120" y="5176800"/>
              <a:ext cx="1371600" cy="1066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4"/>
            <p:cNvSpPr/>
            <p:nvPr/>
          </p:nvSpPr>
          <p:spPr>
            <a:xfrm flipV="1">
              <a:off x="4876920" y="3957120"/>
              <a:ext cx="0" cy="129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WordArt 5"/>
            <p:cNvSpPr txBox="1"/>
            <p:nvPr/>
          </p:nvSpPr>
          <p:spPr>
            <a:xfrm>
              <a:off x="4762800" y="3500280"/>
              <a:ext cx="342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F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77" name="WordArt 6"/>
          <p:cNvSpPr txBox="1"/>
          <p:nvPr/>
        </p:nvSpPr>
        <p:spPr>
          <a:xfrm>
            <a:off x="4495680" y="5634000"/>
            <a:ext cx="49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"/>
          <p:cNvGrpSpPr/>
          <p:nvPr/>
        </p:nvGrpSpPr>
        <p:grpSpPr>
          <a:xfrm>
            <a:off x="4191120" y="3357720"/>
            <a:ext cx="1371600" cy="2743200"/>
            <a:chOff x="4191120" y="3357720"/>
            <a:chExt cx="1371600" cy="2743200"/>
          </a:xfrm>
        </p:grpSpPr>
        <p:sp>
          <p:nvSpPr>
            <p:cNvPr id="579" name="AutoShape 3"/>
            <p:cNvSpPr/>
            <p:nvPr/>
          </p:nvSpPr>
          <p:spPr>
            <a:xfrm>
              <a:off x="4191120" y="5034240"/>
              <a:ext cx="1371600" cy="1066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"/>
            <p:cNvSpPr/>
            <p:nvPr/>
          </p:nvSpPr>
          <p:spPr>
            <a:xfrm flipV="1">
              <a:off x="4876920" y="3814560"/>
              <a:ext cx="0" cy="129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WordArt 5"/>
            <p:cNvSpPr txBox="1"/>
            <p:nvPr/>
          </p:nvSpPr>
          <p:spPr>
            <a:xfrm>
              <a:off x="4762800" y="3357720"/>
              <a:ext cx="342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F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82" name="WordArt 6"/>
          <p:cNvSpPr txBox="1"/>
          <p:nvPr/>
        </p:nvSpPr>
        <p:spPr>
          <a:xfrm>
            <a:off x="4495680" y="5491080"/>
            <a:ext cx="49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3-18T05:50:36Z</dcterms:modified>
  <cp:revision>25</cp:revision>
  <dc:subject/>
  <dc:title>PowerPoint Presentation</dc:title>
</cp:coreProperties>
</file>