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B85-33C5-4C04-9FA7-528C7A60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31F-C119-4B5D-B4F7-01D2528A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21CA1-3D15-4626-9905-3B2F64B9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C5D9C-6317-44A9-8E1C-6598E5BE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C8D0A-EFD2-4DCD-ABCE-6CE00974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95DAA-5252-4296-9F9B-026F99F2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B3EE9-0896-46A7-99F9-DFB5C7CE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9307F-1BC3-47B1-91E0-C6DF83FE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59419-60F3-483B-BE5D-A83D5B42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ABC76-2CB8-42C4-B03D-DF2CDCD5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79B1A-E960-4447-8FBC-E1523111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429A5-452F-4A6B-BBEC-3F734E6D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D77-C5C4-4B96-9654-58BC0A48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E0CC0-188D-450C-A2E4-A341C2F9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9FD66-4193-4649-89B0-1C3724B9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30263-D895-4F2B-AAE7-A36C1731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FFBA6-839C-482B-87F8-383FA474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EAB6B-CC97-472F-8D6C-1D6DD36F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4D71A-8A7C-4950-949A-00326655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8BD93-5A43-4B57-9563-0A3D1B7F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E6FA3-AA09-4FA5-88F6-116D1B19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0DA77-9EDB-45B0-857C-441FC719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14338-2FAC-4422-99A0-A8F58BCF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B8A-6796-4C8B-B2D8-8317692A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C9C2F-82FD-42E9-8E62-5DAA3FAE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8F7D8-31C9-4663-84A9-ECF94427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14988-DBA3-4DB5-9D18-75C0060A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1AC74-3634-4E17-832F-9CD94D5B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DAF18-13DC-4D29-AE0C-71509B24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9FFE-7E26-454C-A8E5-BCB1BCE9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04E91-C01F-463E-9228-0E39F7EF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1C700-7135-4A69-A3E5-CB978ED5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34AA1-E7A0-4E45-96EF-FA5B970A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5B2F6-A522-47B2-B6CB-9E2AF8A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4D64-7792-4F77-9993-E5DCE834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C1AC4-B85E-493B-9C64-BFC5227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6DB8-31C2-4019-982C-23A466DD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8A3B2-DE94-4366-81D7-BD530C63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B9D40-9C7E-432C-8593-A65A43DC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504CA-7246-4932-816D-B993840C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833D3-FB0C-4BF2-8287-B54D60E2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06815-E7E1-4A13-9E4F-66778A20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EA65D-FE48-4049-8FB7-39B77016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438DA-9E0E-4AC0-8B72-0E90CDA1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33517-6CC6-4A47-9AEE-5AD18FC1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C580-44C2-4E80-A70F-C75609C3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917AF-0005-47CE-8A50-5CF54B5C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0EB36-F591-43CC-896D-8FC9E01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36DF3-4A41-4D74-A4B5-C7B6E23A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5C83C-9991-4398-AA6C-08C5EAC6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265EB-6212-4BBC-8E3D-42BD82EE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CD94F-72B7-4B4F-AF66-3B5DFAD4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112C4-D773-4EE5-AD3E-9B154C47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FE635-B6DC-4501-8C63-F1714182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B9D08-6C52-4B24-B4C9-EC6BABC7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3709A-6B56-4AB1-9856-18B451B0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99B8-F2A4-43B4-9A5D-0E76C293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B3BDDD-2897-4068-917E-533B65CD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338B3-0B3C-472A-9AED-6BE87F3D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34150-3969-4FB7-9662-D44CF357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E5FB2-93BD-4FC5-B68E-C284B753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1C075-3B17-48AF-8940-A22CBFD2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B80A0-5687-41F7-A0B9-4C50A8AC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BAA03-A84A-424A-852A-6AC889C2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7CD5-467B-4918-B854-A43F210E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CB93-6B96-427A-B3F1-4867115A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9C0F-C0EB-4003-937E-7749B47C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A903-E8F6-496C-B971-0BDF5D21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F75-F7C4-47AC-BF94-F6D4C854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86EC-2641-49EA-9261-C78B701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41AF-28CA-449F-8CEE-468B0A95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6535-812C-4B0C-8070-93C99C19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F045-B5D8-4431-97F6-6F517E4C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C2F8-E28C-4843-BD95-D6C3BFDA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4EF7-CF8A-4D64-BBC0-4DA96E59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8B8E-D9E5-438D-A9A6-9A404FA8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6939-6F3A-42A6-ACB0-1F61B0AB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2A3F-CA9C-4ADB-9784-66F45FCF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57C4-1C4A-4080-AAEE-3E5B9106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6B6-CB82-4857-9724-A893A7F5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70E5B-9C92-4091-A893-CE64C0B2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4589-211F-4645-BF1C-72C641F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A902A-24C9-46D2-98C8-CF6A557C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8C1E-1C8C-4B5C-B645-2453D6C5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A12A-5D61-46E1-A735-0C5089A8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2268-B74C-412E-AD89-BC421CA6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62DA-6A38-4390-B735-5CC1325E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414E3-4B2E-46DD-A0B1-B8807E70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04E00-9B3F-46DE-8EFD-9FEA5963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91055-BD1A-405B-B803-BD26B724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515-E57E-4473-B78A-0D187129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1F95-3760-4B49-926F-906D0F8B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3280-CB4D-49FD-A005-29446653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C3974-810A-4364-BA6F-31A0A471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53228-481F-47AC-ACEC-7BA67B6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D18CF-B02E-4275-BB91-D2246E21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BB219-713D-48C2-A262-1198D67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4BFA0-39B1-4D93-A095-981735EF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F3885-47F7-4484-8D98-6C9D8C1C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8362B-2E01-49DA-93E8-EAA031A3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6CCEC-CCEF-4CF0-A500-02893AAD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DD4-8B76-46E5-B326-BB083F2D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E5C9-EA0A-41A2-92AC-AAE87E00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FC9B-2B7C-437C-8C01-565ACA79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EFA24-69C7-447A-BB22-77F6B61A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63D51-5256-48C7-BD0F-EFF3D00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E3E0F-0F7E-492E-9145-1CE7EFF7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0B8E-CAFC-4B85-8BB5-A48BBDF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38341-F0A0-4E8C-884E-658D5A1E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2B5A4-F0EF-4006-83EC-2FED8722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2D664-A71B-4E2A-B0B3-64CF6577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78AC-A687-43F2-A8DF-C414DE84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7C1-1EEC-4819-B75A-7631808B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9B589-4D3D-4832-8203-10597BE1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57BE5-58FE-48D8-84FF-389E9370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4F30B-2D77-460C-AF64-B9785127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B399C-C8CD-4759-9810-74799C89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6333-0C2D-4D5E-B215-AB4B4C32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670E2-52A2-42BC-A272-B53349A4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E94BE-334C-4B12-B28D-0E3D4606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6D3AE-172E-4C15-BD90-AE5390DD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18B6-F904-4DB0-A38A-97D9764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1C782-10C3-4246-8D11-EF4E5BD0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4D9-1B5C-4EB3-8B5B-457114A1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60133-51FF-4543-8DC1-F88D9CAE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A6D89-5B41-4B63-BAB1-6A59BB65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B93B9-4D63-457E-80F2-672CD7F6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585ED-964C-491C-B382-7D075E89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7739F-7076-42C6-9A78-82391408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A9C0F-5C53-4E6E-8277-E80D5A13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0EC94-8C7A-4919-83BF-D12AAB5F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2ABF8-0B98-42F6-98F4-723112F1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8CAA6-6D1D-482E-A979-FA338F68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3C289-3407-4579-899B-2C5A0996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47C-C157-4EEC-88C5-55169DF4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D8B59-092A-4786-BC9C-D88ABFEA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9DA22-8E98-4D9A-BDC1-74EC5592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74B97-A862-4362-9092-4A5AFE72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5888-18C8-4C53-8B82-C2390AC0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0CAA6-891F-4E8C-A865-A8B66B80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F2552-EB42-4424-8018-38EB0C93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F6BFD-4894-4A07-996C-34938BFC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63437-3DC8-4A5B-8F20-840D5DC3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9E70F-9160-45C8-8FEE-6FDC4288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BF471-8DF2-40C2-AF48-5EE5396B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8B7-5380-47F2-B7B3-5159C57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CE51D-3DBA-454A-9E28-41C5A5E8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84C4A-3FE9-4026-9598-338E3F7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C28F-F7FA-47B6-AFB0-603F1492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F08C4-BDB5-4DD3-A3B1-021CC1E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C886-583B-4BF4-B1AE-94C62781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0D14C-1CB7-4CCB-A01F-6FEAA7E2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F756C-0560-4ABE-B829-BC3F24B1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87722-C235-46CB-BBF7-C0E657D7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0F334-415C-448C-8C4D-67F3FE6A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FBFC3-DABC-4786-B7B3-F55DD8F8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565C-A47A-4C41-8100-55425DDE9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F7CB-243F-41CC-B3C5-E30DCBEF5CA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3D4E-D71E-4F3A-8157-22251930D9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D54D-167E-4EFB-8DA3-16C54D51BE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5434-E937-447B-9911-94D61D5589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10C0-2221-4990-930A-51486AFF62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A476-E963-4F1D-88B2-771D39DE6B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B787-7EE1-4C2F-A0C9-902EB680E4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FF41-45DA-47ED-954E-EE3CD88AF9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9EB7-04B5-4EBE-AE53-0BC90E5234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5D0-12AE-4B78-A752-F501E3D2A6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E8B7-2CE7-4FBA-B381-29CFAC45BC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4C7B-C946-4062-AF89-7E5BC35F64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E9D-B242-4360-AE8F-2037C78E32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2470-BD1C-4832-838A-972C30D560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F48C-5AB8-4241-9035-7E6435AC24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2CB6-3C4E-4057-8431-E48E7DB3C6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35E3-F921-4F7D-8FDB-1C5A9DE9063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75C3-F34E-402C-9B6B-F6D1D7370A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C011-E735-4FD9-94B5-5A4598C8F0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C38B-DA32-4BF2-8030-0013BE7E3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00E5-7DA0-4C3E-A0C4-E63B5BC13C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C3BD-6DCB-403B-8D17-6077BC8D18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756C-AC5A-436E-81E9-661883611D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ECC6-123F-4555-918F-A97C0FF0D2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Object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982080" cy="74818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16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景阳冈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执教 朱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单元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默读要提高速度，一是要看得快、从一眼看一个字一个词，变为一眼看一句或者几句；二是要想得快，脑子跟着眼睛的扫视迅速思考，弄清楚看到的文字说的是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默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景阳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段，只看几秒钟就把书合起来，你能说说这一自然段告诉我们什么吗？我们可以试着用这样的方法提高默读的速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景阳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本文是根据我国著名古典小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２３回改写的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浒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描写北宋末年山东农民起义的长篇小说，作者施耐庵。这部小说写宋江等１０８条好汉，在封建统治者残酷压迫下，被迫在梁山泊聚义反抗的故事，武松是这部书中的英雄人物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景阳冈，在山东阳谷县城东１７公里处，传说这里古木参天，荒草无涯，是虎狼藏身，野兽出没的地方。清代末年在山冈修建了“山神庙”，庙内有武松大虎的塑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默读课文给课文列小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（晌午时候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路至阳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进店喝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店家劝阻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三碗不过冈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４不听劝阻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酒后上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５（红日落下山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继续上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６（红日坠下去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继续上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言自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冈上睡觉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跳出大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冈上打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梢棒打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１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奄奄一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打死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３（天色已黑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走下冈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事情发展顺序将课文分四段，说说段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—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进店喝酒，不听店家劝告，执意要过景阳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—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上冈，见到庙门上有官司的榜文，才知有虎，但怕回去被店家耻笑，决定继续上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—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赤手空拳与虎搏斗，终于打死了猛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武松打死老虎以后，一步步挨下冈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-686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48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课文主要讲了一件什么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武松在酒店喝了几碗酒？我们可以看出武松怎样的性格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武松靠什么打死了老虎？这反映了武松的什么精神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7T06:13:34Z</dcterms:modified>
  <cp:revision>5</cp:revision>
  <dc:subject/>
  <dc:title>　　　　１６景阳冈</dc:title>
</cp:coreProperties>
</file>