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A36-6D0A-4E42-B688-8FEEDEA3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510-D439-4FEE-93BC-65C9B40F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A3664-1128-4A2A-B126-2610E56D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E3455-F806-4972-9F49-41E09AC1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964D9-499D-4380-B32E-6C31E767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A13AB-4178-4D01-A0EB-392E0A2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46ADA-8E0E-4027-93DB-1CA53981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297D3-8EE5-43A1-9610-FAF8F0DC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4F960-4EF8-4858-B6DF-47A9A676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7EB40-9923-44F1-B008-5616A728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4CD71-F99D-42CA-B06E-0C951C68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101EB-83F7-47C3-B95D-AB996978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0A6-1A48-4811-8260-222F5CB8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DC2B6-C39E-4EE6-85B5-09CCAFC5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169ED-73FE-4900-8B95-E8CDF5FB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F62B1-8EAE-4E4E-A7A1-1FC0561B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75260-51F4-4169-B4F5-D860066D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3AE75-C177-4E14-BDE1-792E2694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4CC82-E42F-42F9-8388-CB15CBA1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3AAC8-0999-4936-8888-65FC604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B1502-7B07-402B-9E36-EF220CA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CA6A9-DA47-41C1-9CAF-DC4AF044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5ACBF-0EB2-46B1-83BF-C508E166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15C-714E-428D-BF97-155B76CB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DB690-F27F-4544-98B3-B1C8C3AD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83427-D946-4464-B6A9-274221DB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00C21-D612-492A-A333-1B49F670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578C9-AE2D-48D2-B3E0-036970B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CD8C0-DF1F-4D52-A9CE-5EA23C65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A4C1E-0CA8-43E9-AD58-13CFE57E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99CD4-2E9E-47AB-B789-D37CA898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C40E5-5B86-44E5-861A-2EF4DF83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075F4-4218-4E45-B799-259E375A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292F4-3231-4A0D-83C5-BF7EE7B5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E347-1257-4C5C-A2BF-FE1399F0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0CDDC-C2C9-4C9C-BBCF-D2BD9424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BAC1B-A102-42B3-836A-74551E1C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1A955-B42C-46C8-AFFE-5B9705ED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594D2-A263-4CE2-9D7E-22012585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83E22-5355-495C-982E-529E4A9C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F18FC-D1CC-4D5D-94D9-511AB2E4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BBCB6-759F-49EB-AB1F-E86723E3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28D1A-5BC7-4A4A-B892-36FD81D0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8DEBF-D663-4713-BAF1-2568B2B6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2161C-F460-4D18-BCAD-74D182D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61D8-EEC4-4531-902B-6D620049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96A8A-7DCF-4FA7-9A15-70233707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BB394-C3BD-4F6C-BBFC-531E8B33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B0AD9-7251-486F-A238-1FBB0C20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EC777-EFFB-48C9-B0C9-BC779EC9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11872-368D-4968-A16D-1D5A528B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1EA38-4D8C-49A9-B7A3-B69A3651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E871E-3433-4FB6-94C2-BA247C10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583DC-1D0B-4637-9E8B-9754B225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D788F-FD00-4AB6-AA44-DDD24C31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98AA1-70F8-4217-BCAC-256E9CFF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2B1F-7DA4-4AD0-9AC1-279C2010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D426A-0762-4650-AE75-71D49A2D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10F08-DB16-44DC-97A8-B93B1AE6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7A798-8C16-46A1-98C4-3A1CE41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DBFF7-5B4E-4E57-9EF6-388EBC2F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C1808-C238-40BA-98CF-62D7F921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73E6F-FEEF-417E-B9F8-A4154D34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D49B3-BF3D-4C91-BF61-72273985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36D5-022B-4FF2-BF88-4301CCFD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7903-DC31-4D2E-B9E5-8D32729E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A868-3C16-419E-AD79-D5132E96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E84B-022D-46D2-B306-16C6952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686-9BD4-4D82-8752-3D1A1367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A63C-923B-446C-B7A0-8835AD80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AB24-A00B-4984-989D-3192D610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2060-5F80-4C6F-B4B0-B5C1C2C1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AE4B-5631-487D-9458-D77DDF06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8988-9D61-438E-8CE8-2ED723C4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655E-F975-4EDB-A47A-BE1C09A3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A246-D278-4617-A49E-B498A706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09BF7-5C90-4720-B18C-CDDA7B89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5032-0560-4B5E-843C-6F65CF31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CF5C-6D37-4CE0-A7A9-39622A0E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047-F1B2-4C45-8270-CC7D38C3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6F74-56DF-4A82-8103-058B5DF1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9337-1229-403A-9DC8-F0C7CF62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6163-BE17-47A7-A576-A930609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C5A6-0C59-4996-B1EC-8789B8BA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AFCD-3CF4-4C18-B268-37FDC0E3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3A7E1-D76C-45D5-96B0-74AA97CF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7BC8-6C84-4EA7-85B7-2ED2F844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7E48C-914A-402B-BC70-7D1D1E5A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3997-9027-4D8C-8273-6BD324BB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F27CF-CACB-4D88-A38F-9D3CECA5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249-7ABD-4B5F-AAA4-A00A3642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0762A-A2D5-4F23-AF58-DDE99F3F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A78A5-47AC-4526-9C4D-4F39156A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BCD3-3D07-4B28-9340-5A94083E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61A1F-912C-4230-B998-35E7D43C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A6D7E-4AB2-4F73-B4B5-DA3E0ECC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4540-DA11-4D85-998D-5423BA62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AA87-C2EE-4B41-A591-242F356E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8A856-360D-4F71-8FE7-C9C666A8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B125-D490-4A93-B06E-1392D2D5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4B1ED-32AC-496E-A6A9-E82704D4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27D-CDBB-431F-8A6B-3E1D973C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68F4B-AEAA-43F0-B587-ADEC664F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CF518-9FE4-4781-8735-5C2D2C60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D4A25-C082-457A-A441-DA608B21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E8D40-4023-4CDB-AD3A-8BEEFFFD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88E7-461B-44D1-9682-753261A3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52AB9-9208-45B0-B737-7DAB86E0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D9A2C-9EF5-4F2F-A2B8-46694D7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2057E-2B69-4121-99E8-D71A5D37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FBE59-655B-41DA-B7BD-4B7CF409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41454-6170-44FA-BEDE-067BD03C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7BF-FF8A-4102-8B78-0D7DFC42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96C81-7597-4447-AACF-40AB0377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09B6A-0B39-436D-934F-550EFC34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FB0CA-6F1D-43CF-9891-1157BB0B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37D70-0B2F-4B70-B7E4-797F94CF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7D2C1-8598-4C10-95F4-327F629E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29EE5-F553-418E-A27C-AAD082FF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FEB0A-72E6-446D-A0F8-DB1C4A71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48AD2-D53A-4F4F-9AC4-CFC8703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44A0F-B23A-4FA0-860B-D839F918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38C85-0226-4D81-B2E6-A796B57C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800-57CB-4634-9E51-CC799EB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8EB4C-6775-4C54-8B35-250986E5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A1CFB-9C5B-4B69-8BCB-B24A669A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EF66D-F850-44FD-8B23-6472CEA0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1ED7A-1CE0-4096-9A67-3BFFDEDF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3DFAC-4063-43AA-94ED-1E206AB1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99E96-6927-4E9D-93FB-340EE9BC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17AD0-A2D5-4783-A698-79A5F659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9B633-AED6-44BF-B17E-860E1919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104E9-3B38-426C-9F69-5BE13BC8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BAD2A-F957-4056-BB22-955F737B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B90-1508-4D32-A2C3-83EDB126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EA25-2D9F-48B5-B870-140C2BEA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69BFC-39E2-46FD-94C4-5FF28E53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094E3-F3A2-4446-94E2-14B8AF60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F6347-0412-4328-89AE-042A9399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41562-B145-4FA6-BFBC-F7914BFE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69D44-169E-4B90-AC1F-45C809D3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29237-481B-4E56-B13A-F5B40D4C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2142-D3BD-46E6-8B75-26EECD9C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558CE-89F2-4318-B05B-D87F12BD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1D95F-0BA3-4788-8A8D-71DB9DB4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781-4B96-48C1-BB28-E9AEDF17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1A193-BBF3-49D9-AE7F-F45A7267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7C3FF-4892-48B5-BA0D-5F1731FD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20A44-B87C-47D7-A54B-D60E0BAE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ADF7C-D40E-4594-B4E4-F6DBF39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69543-0C5E-438E-B882-E7DA0ABE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1E56C-5C60-453A-8423-F092FF9D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6714B-DD8B-408D-AC7E-A9D25C4A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9BB3B-B31D-471F-86C4-1026DCD0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EEE03-4E75-431C-AAE9-B26C52A7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D1553-62E2-4C23-85CE-1140F1F4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EFAC-5ECC-4AE1-89F5-779B68370F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7AB5-01A0-4E32-8F5E-360ED591AC8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1A88-066D-4CAA-ADF4-2307C152152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5A53-DC08-4A69-8925-1E81A0E223A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007E-3EB0-4D07-AF2A-F41636997D1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C3A7-0BCD-4975-BD7A-C4EB508B993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4BE7-BDA8-4F03-8DF4-0E3CE07926B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3DFC-70B8-43C0-9833-AFB0E79C42A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1E5D-9BB1-4B02-AF41-4726726F675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3CE3-64CD-4CB4-AB4D-EE62627ADB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007-1826-4615-B08B-BB700EC5A4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6AD1-4CEC-4990-A985-BC1307C037A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F4B6-0195-4695-9DD5-EDE6B2B71E3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8C59-639F-4163-9983-DAFF8506455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4958-8EF5-4D25-83EE-8421A749EFE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2526-7CB8-4B5F-B471-9F2FD2F5298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DF9C-B823-47FC-A60C-1DD7E5203B8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E08A-039D-4C5E-8472-06DE7E37480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4C43-6B19-47C4-9374-909C2D6F7B6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5120-1DDA-44C9-9110-08810D6207C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0B59-4019-4B22-9E5A-3B14232A5DC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77C9-5FFA-40AD-B895-361F00237E4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C8D7-1B04-4F1C-B73B-7841CA6527F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997F-EF9D-418E-BFEC-30F88DC7ECE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FD77-5272-4FB9-8992-257F25D6CDC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1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2" descr="封面-01"/>
          <p:cNvPicPr/>
          <p:nvPr/>
        </p:nvPicPr>
        <p:blipFill>
          <a:blip r:embed="rId1"/>
          <a:stretch/>
        </p:blipFill>
        <p:spPr>
          <a:xfrm>
            <a:off x="0" y="0"/>
            <a:ext cx="1218708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6"/>
          <p:cNvSpPr/>
          <p:nvPr/>
        </p:nvSpPr>
        <p:spPr>
          <a:xfrm>
            <a:off x="5700600" y="1031760"/>
            <a:ext cx="542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华文中宋"/>
                <a:ea typeface="华文中宋"/>
              </a:rPr>
              <a:t>简洁</a:t>
            </a:r>
            <a:r>
              <a:rPr b="0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艺术</a:t>
            </a:r>
            <a:r>
              <a:rPr b="0" lang="zh-CN" sz="4800" spc="-1" strike="noStrike">
                <a:solidFill>
                  <a:srgbClr val="ff9900"/>
                </a:solidFill>
                <a:latin typeface="华文中宋"/>
                <a:ea typeface="华文中宋"/>
              </a:rPr>
              <a:t>时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090-CAI978"/>
              </a:rPr>
              <a:t>PowerPoint Templ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接连接符 9"/>
          <p:cNvSpPr/>
          <p:nvPr/>
        </p:nvSpPr>
        <p:spPr>
          <a:xfrm>
            <a:off x="5830920" y="2478240"/>
            <a:ext cx="52974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E:/益客/PPT 设计/2背景-02-02.png2背景-02-02"/>
          <p:cNvPicPr/>
          <p:nvPr/>
        </p:nvPicPr>
        <p:blipFill>
          <a:blip r:embed="rId1"/>
          <a:stretch/>
        </p:blipFill>
        <p:spPr>
          <a:xfrm>
            <a:off x="1440" y="0"/>
            <a:ext cx="1220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封面-01"/>
          <p:cNvPicPr/>
          <p:nvPr/>
        </p:nvPicPr>
        <p:blipFill>
          <a:blip r:embed="rId1"/>
          <a:stretch/>
        </p:blipFill>
        <p:spPr>
          <a:xfrm>
            <a:off x="0" y="0"/>
            <a:ext cx="1218708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6048360" y="1638360"/>
            <a:ext cx="39196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Calibri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000"/>
                </a:solidFill>
                <a:latin typeface="Calibri"/>
                <a:ea typeface="微软雅黑"/>
              </a:rPr>
              <a:t>     </a:t>
            </a:r>
            <a:r>
              <a:rPr b="0" i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1ppt.com</dc:creator>
  <dc:description/>
  <cp:keywords/>
  <dc:language>en-US</dc:language>
  <cp:lastModifiedBy>a</cp:lastModifiedBy>
  <cp:lastPrinted>1899-12-30T00:00:00Z</cp:lastPrinted>
  <dcterms:modified xsi:type="dcterms:W3CDTF">2015-02-10T02:11:0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9</vt:lpwstr>
  </property>
</Properties>
</file>