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003-548B-4413-8008-5A99C4E7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F6E-1E98-46AF-A153-18D18A73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5FCE0-51AE-4A1E-98DA-B3A882C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CB795-DFB6-42C8-8C99-B52902E4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6332C-20A5-4E13-A90F-B187F318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DDF86-1228-4959-A105-3CE217D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55962-0335-4CAE-9B9B-56B0F99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C5D97-506C-459C-97DF-083DB84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CC8D7-BE41-4A1D-A436-7EB5FDC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BB092-FC5C-45AE-A602-74B79E3E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951C9-4621-4AFA-AAAD-2946A3AD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70C6C-54C0-4323-9272-6B604921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849-38C2-4DBA-9C15-840411C4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CFAE9-D215-4B97-8BC1-7AB85EF6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46A70-DC2F-4109-BA60-37EAD484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CB9F0-892A-4FCD-AE78-35130DA9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EB9B1-6884-4609-8142-7DCB6DC3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55D6E-2719-44B3-B7FD-F598C4C0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3DE50-F803-4DE7-BFD2-A257482D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0386C-CDCD-4713-BF52-04BC4B9C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01E32-88F2-4BC5-A246-F0BB8E59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7D36D-537E-4F3F-BF3B-BBCEEAE3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6DF62-5197-4410-8663-87EF4CAC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2B7-D103-40B8-93F0-EFA665E4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98A81-F43A-4180-9FC3-960BF43A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053C2-260A-4B72-8B2C-4ADF0D15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46ED2-9A04-43FD-B75D-A3B3F69E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0BB01-413C-4218-AF86-460259AD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08D2E-CF15-407E-9ECD-5FF684A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A6FC2-4348-443B-B532-F8054A1E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DCD6B-5D2F-417B-90BB-D9BF3123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E89C-F6D9-4D67-AC5C-1FB3B49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DA9C3-20CB-4941-9089-2409FE48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CD23C-D5E3-48FA-A658-E57C36B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2479-DF6F-484D-A761-ECA53733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4DA31-9D7E-497C-99BC-1BCF4E0D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2C903-D9A4-483C-9788-A530F11C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B7838-450E-4F07-B6A9-0B847CEC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09A57-5358-4F5B-92F5-845C02CB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9824A-0F8C-48FA-9D0C-36CD213B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4A554-E14D-439B-B081-625C1085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DC073-2A1D-4DD0-AA6A-3733604E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10A19-812C-460D-97A8-D1F96806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41935-B76C-491A-B0D1-846991F8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2770-C0E0-4AAD-ABB8-D392D3E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1B1-CF12-40B4-B1C8-78198C7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A8708-446B-434F-BFAA-0FE54576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933F3-627F-487E-A347-B03F90D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834A4-9D8D-4543-B81F-E270DC63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DAE27-8334-4F93-93FF-1FAFC673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700A3-8F80-4A32-A28D-6DBD3E9F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DB2E6-8C9E-4F9A-A067-E95022DB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4545B-AB2E-4886-B9A3-E4222E3B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ED38B-DDA2-4BBB-9577-60FBEFB1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17387-EF29-4AF0-9503-9D4761EC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6262A-BAD1-4BE7-A2B8-2AB1B31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F4A-6BA8-4106-9922-4FA9466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1940D-BAD0-42A0-B1E4-39EF8834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E039E-A475-45BE-A78C-B6082DF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0091D-836D-42A6-BCEE-469D4BFB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AA240-0BCF-4547-A44F-706D527F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178B6-4ED8-410E-AE96-AC16E751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FE9B9-EDC9-4707-80E9-E39798EE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F2D00-D80A-4C77-9B47-6F340A67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C3C15-915D-4188-A53C-DDA52B6F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93A97-5C7A-4AC9-AFBE-733C6DC7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FC2D3-83DA-4DEE-A640-C0C8388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F337-5643-48C9-80F5-11E1790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49CE0-CB14-4A07-886D-16AFF7E8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A8C20-B4B0-413F-B5B4-17AD1DF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34AA6-7195-4CAC-B706-9B166E91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F2604-3B51-4A3F-BB96-F437B65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72263-CE13-4A58-B4D3-D5CFFC0A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D2F0F-AB02-4985-9326-45FDB062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8399D-28D6-4B0D-BFA7-E0C76CBD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2BE29-F0CF-4479-90ED-8BC2FC0D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2759F-6EED-4010-B51A-6A027329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8812-748D-4A2B-A6AE-63DFA53F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61F1-C596-4EB3-AFED-5331E62F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AC1-BA7D-4F78-A2A2-880EBA65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0FF-2A7D-46EA-9258-B71CA2C2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A44B-F899-43C3-9822-AC1BAE7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8C82-4AF8-4F5D-A8DE-CD20724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0CBE-75A1-41C2-A66B-2FC618CB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FA59-067D-4918-94BC-BA28A413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E89F-FF68-4DAC-9849-41FECF04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E043F-ABDD-4A44-8826-928BA427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C4859-8669-44A0-B0F3-7A696DDD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C104A-BC38-472B-92A2-CC8D0456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11CDA-984A-437B-A56C-C9F11BFB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3ECAB-2558-4D5C-A50B-8912C49B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D11-8BC0-4C8B-B0AF-D5D91B4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27871-7A53-4968-BE82-BFA28CB8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FC016-EA60-4F89-8119-9392DB1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B3B28-E3E4-40C4-AC8D-A4F6CC4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6BCE0-ED6C-45ED-9F3A-ED37FF81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1E360-91F1-4A52-A37C-AD854D0B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A968D-85EB-4750-BE2D-E0EE9F5E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C57A3-41B3-4532-8921-06A7B8E1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08AA-F2FD-4093-8818-8A46BA8E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1994-4A64-4B6C-A9DD-CFC8F57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50BC-275E-4AD6-8CE4-EF81202C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B54-2E25-407B-BBC0-DE0C415E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24D7-E095-4E0E-ACF7-909504F7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68A5-AC83-4D59-B710-7863F84B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CBE60-E748-46B9-BAA0-106E1DF3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0627-B6D5-4605-97DB-53B5EBC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20D6-1AE8-4F45-9FAC-A0BB799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4B588-CF3D-4F4C-BEE7-D674CE9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EE20-70EC-4D21-B476-370AC1D9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D555-6F1B-44B5-BC41-0D58AF26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597A-24F6-47E5-836D-1C29E724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FC77-03A0-469B-AEA0-2DF9EBFB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3A0-AC06-4FE3-AD61-CEE1F3C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A8C5-F054-4F67-B4A0-50F3A5BB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B937-AC9D-4C0E-A8BB-176B6B4B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3862-6702-4B57-8EE1-72F1B3BF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FC8C-554A-438A-836C-0F4DBD35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BC06-ACC8-4A40-B9B6-438ADF56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76D8-9240-417F-A902-2949620D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F84FA-F775-4AF6-8A54-9ECC589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B7A2-3AFE-4954-A6F8-489DA6D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A27D5-843F-40AC-A3D3-676555E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93B94-EF36-429C-BD76-833C5095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932-163C-4DFF-8EA8-F47B4534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1B6A-E7C0-45F7-8DB9-8F5944FE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E5D24-FBEA-4CC6-90F6-E55628A3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54EF-B84E-4C9C-BAAE-CEFC4B82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F910-7166-4842-8197-093F953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4AC46-81DC-4AA9-B24B-D8C6E316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DC7EF-5DA8-4FD5-9553-3353E518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0C4F-68F3-41CD-9A42-150E6916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F0AF7-358C-4AFB-8285-390CD97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7D0A8-BB04-4DB4-9394-C493564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2AE1-A8E3-4E23-ABAA-EF8B4DEB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580-5FC6-4C26-A599-4A16C20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8B85-4A09-46C4-B382-FC4BAD0C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A3534-DED9-4FC3-9DDC-D370CCC6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564C7-05F8-4810-9EA8-ED04BEF7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942AC-D1E2-4A30-A2D1-8473B67B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E4D8-98DD-42E4-8CD3-AA49A5B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5588-F421-4D1E-AAEC-764305E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A4F81-C087-4FAA-85FA-D7DB1D93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1646-0737-48DF-8A1D-FDC0E297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E686-A5DF-45D3-A6F4-23C8A124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456F-198E-4512-8C8D-65193AB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18D-4239-4A2D-9091-9D09739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2F39A-8D1E-4699-A7F3-2206DC69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190B7-010D-431F-814D-1A108E8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8A06-5FDF-4E3B-A001-F2FEA92E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0F38C-C40F-4080-A242-83B1D863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DA1C-F200-426C-B811-0BC1CEF5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E586B-50CC-4483-86D4-AFA14874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DDD5-D16B-4356-9194-0FB4E1FA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68749-350D-4407-A7F3-6B5A931B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EA7CA-45D0-410A-AB58-B49D93B1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F3AB7-FE9B-4D0F-BE24-798CE837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32E-2A6F-43BA-A385-355FFA7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A5206-1FEF-4503-A850-57C5161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09B4-CD83-4D59-A5AC-C2359894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78BE5-F249-4FF2-9049-2625B56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90EB3-88BB-4AB3-9BF8-6E4394C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A28CC-4831-4EF2-9F3C-E2DF410E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D79EB-80B6-4B01-89C2-A31345F3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14F31-A519-414B-9E3A-F1C770BC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BFFA7-70E0-4B15-864A-5BDEFF5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5E411-F17B-404E-A8CE-99587A7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2C1D9-F6E3-4E07-BD7A-D27542F6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B7B-7402-4E12-A041-511A7E434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0A5-E66A-4F7E-B6E8-21E5FF1430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D763-A6F9-4F90-BF6D-B639A3A16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125-A639-433D-BE42-0CF28D7D7B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1A94-7F19-4E59-B7F6-02685E0EF0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A4CF-B6DF-4CA7-9A56-D19E7EE466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2030-97F2-43C0-93C2-FADADC683F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A4C-4845-4034-8246-3F22B54DE2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A461-2D52-4CA0-BCFF-FE1D300257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A08F-F52B-4957-B880-450B04C900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CE9-4733-48F1-96BE-9897C1D625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78DF-3451-444A-929C-33A34F33A1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417A-A51F-455D-B873-0C01348B1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7F46-9508-48EF-9DE7-C98136416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2CD-E429-4869-8E8C-5170C2161C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A27-554D-4DFD-A6F9-8FE206E9D5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C85-564C-44A3-B4B9-80BB93CB1D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24EC-A4FC-42E3-814A-6465845324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F5A8-5CA9-43C8-A674-17231D589F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73C-44E3-4DCC-B459-4133235FE4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D99D-7537-4157-8A88-4FEFD200BB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EE99-26E0-4D3D-8AEB-F96C562478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C75-752C-42E0-BFC8-CAE8A89E08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AFE1-88C7-4AAA-B56E-E02DACE3E6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1B3E-8463-46E1-BD86-D1E8833BD5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8BA-9821-4007-B34D-A825EB4BF3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  <a:ea typeface="楷体_GB2312"/>
              </a:rPr>
              <a:t>敬业与乐业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梁启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作者简介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梁启超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873-1929)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中国近代维新派领袖，学者。字卓如，号任公，又号饮冰室主人。广东新会人。清光绪举人。和其师康有为一起，倡导变法维新，并称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康梁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著述涉及政治、经济、哲学、历史、语言、宗教及文化艺术、文字音韵等。其著作编为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冰室全集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敬业乐群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 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断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取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不二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法门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旁骛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承蜩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佝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偻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  骈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进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聒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不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2411280" y="2349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5508720" y="2276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hā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1476360" y="3068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3132000" y="476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5651640" y="3068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23"/>
          <p:cNvSpPr/>
          <p:nvPr/>
        </p:nvSpPr>
        <p:spPr>
          <a:xfrm>
            <a:off x="1332000" y="3860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Text Box 24"/>
          <p:cNvSpPr/>
          <p:nvPr/>
        </p:nvSpPr>
        <p:spPr>
          <a:xfrm>
            <a:off x="4859280" y="3860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ō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6659640" y="3860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26"/>
          <p:cNvSpPr/>
          <p:nvPr/>
        </p:nvSpPr>
        <p:spPr>
          <a:xfrm>
            <a:off x="75564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27"/>
          <p:cNvSpPr/>
          <p:nvPr/>
        </p:nvSpPr>
        <p:spPr>
          <a:xfrm>
            <a:off x="4788000" y="4653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28"/>
          <p:cNvSpPr/>
          <p:nvPr/>
        </p:nvSpPr>
        <p:spPr>
          <a:xfrm>
            <a:off x="826920" y="551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uō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29"/>
          <p:cNvSpPr/>
          <p:nvPr/>
        </p:nvSpPr>
        <p:spPr>
          <a:xfrm>
            <a:off x="0" y="69228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读准字音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阅读课文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．把不理解的字词，难懂的语句做上记号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．试把每一段的段意归纳出来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97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课文共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七段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，总体结构是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式：开头              ；再分别论述              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两个分论点平行并列；最后                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条理清晰，纲举目张。全文可分为三个部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第一部分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：揭示全篇论述中心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第二部分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)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：论述敬业和乐业的重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第三部分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9)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：总结全篇，勉励人敬业乐业。</a:t>
            </a: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5724360" y="17002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"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总一分一总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1835280" y="2349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总起全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5796000" y="30686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总结全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6588000" y="234936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敬业和乐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学习第一部分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讲演词开头交代题目的来源其用意是什么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哪句话揭示了全篇论述的中心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6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3:12:51Z</dcterms:created>
  <dc:creator>user</dc:creator>
  <dc:description/>
  <dc:language>en-US</dc:language>
  <cp:lastModifiedBy>a</cp:lastModifiedBy>
  <dcterms:modified xsi:type="dcterms:W3CDTF">2015-02-10T11:30:40Z</dcterms:modified>
  <cp:revision>3</cp:revision>
  <dc:subject/>
  <dc:title>敬业与乐业</dc:title>
</cp:coreProperties>
</file>