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3.wmf" ContentType="image/x-wmf"/>
  <Override PartName="/ppt/media/image4.wmf" ContentType="image/x-wmf"/>
  <Override PartName="/ppt/media/image12.wmf" ContentType="image/x-wmf"/>
  <Override PartName="/ppt/media/image1.gif" ContentType="image/gif"/>
  <Override PartName="/ppt/media/image2.wmf" ContentType="image/x-wmf"/>
  <Override PartName="/ppt/media/image3.wmf" ContentType="image/x-wmf"/>
  <Override PartName="/ppt/media/image10.png" ContentType="image/png"/>
  <Override PartName="/ppt/media/applause.wav" ContentType="audio/x-wav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F43-46D8-4F64-A81D-048980C0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920-E758-4E51-9E96-80093872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B6B73-7441-42D3-B4CD-F99442DE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F4141-E7B0-4C7F-BB2D-53E29B64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DEBB6-0066-4A73-A190-C15B832E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AA67A-5D62-42F2-9641-9A4475A2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7CA13-64A0-4C69-9206-A80CA3E0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3C44A-85F2-4532-AF48-03F92AE9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973BC-20A2-4C9A-B6DE-95AFDA38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96998-6ED8-4BE8-BEEA-660416B7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20AA4-49B9-4748-9E16-E1AB5E38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0BF16-24E3-4311-8629-A3C19FA1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CEA-9926-48A8-B13B-29612B67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7525F-D050-425B-8243-BFB1BC2C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D4336-CACB-4B83-A5C8-966E79DA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A0163-117D-429A-8E73-F74674BD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A5DF4-9318-4BEA-9606-8A41D2AE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14513-D755-4945-A83B-FC2F2AC0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F31A7-A7CF-4571-BD81-9E910916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81188-07C7-477B-B8BB-503FB636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F40EB-DFE1-44CE-B0ED-E58A434A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6DE93-06D0-4CAA-BD2C-69C73C1F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20B9A-F9B5-4F18-AAFA-DFFC6144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B85A-5C07-430C-9036-DE4A8A7C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AF98A-3233-4FE8-AE10-CF4A7EC5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C807A-6700-40C2-BA04-A5401924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E3D8A-A1C8-435A-A8D2-F71177B5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440EC-785F-4A3E-8D8C-C589177B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2169F-0CDD-4D1F-90B3-52AE712D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EB548-33CE-42DF-AF32-35919D83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567CA-3113-42B6-BC4E-E716BE01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FBC5A-25F2-4893-9887-EFE0058A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C2D93-F52C-4EB3-ABD0-29EA77CA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46C6B-50C1-4B7A-99A4-B869BDDA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3805-04CE-44CC-BE7C-978C93D5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C4EAA-4430-41B2-9B80-F19794A3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49BF7-3C42-4531-9357-87664A34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392DF-B311-41CB-A259-9DE1A5F4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ED98B-DB07-4519-BE95-4C3F3DD5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5EC67-5B44-4E78-AF46-C10ACDD5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1F77F-9C50-4F2D-A43B-E649989B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0178A-080F-401E-93CF-48679DED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546E9-6430-4DE2-903A-5E94220A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D759C-677A-4A7F-A678-628A0AB8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F8B13-21B4-4BA9-B77A-53564F21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848E-E9FF-4FAB-A949-B5709D9C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A9560-F340-46FF-84E8-9AD8D496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BB76F-03ED-4DD6-86FD-654EF37B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15FE7-76A1-4925-9D14-6AC89C24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17C03-E093-4D7A-BD01-46F0684F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9C252-969D-4F7D-AA8E-7F11A85A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92FF8-41F1-43B2-B822-EC0CD2AA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F8B94-8AAB-4E39-A282-17F67A90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6F38EC-3A7E-4A29-8964-FF5F1DDC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B8EB0-B0B2-454A-9570-F5E1258B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92206-1755-4F43-9E4B-C7FD1EBF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FAD4-701E-4FBF-8595-4D66793E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A0531-5634-43DD-A50B-5C624B86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AF4E5-B9A2-417A-BB7E-5D603C61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35EC45-1757-4D68-94F4-7632F829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5C547-75E5-4BD8-BD7D-AE9F3C6D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746D6-44D4-48E6-8441-FC3D781C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0D496-21EC-401B-9A2A-D58B044E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EB568-2989-4C02-BF72-404265E6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A6D1-715F-4114-B19C-F1A1F6F2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547B-FAB7-4AEA-9CDB-D292D7C1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9917-24D3-4DAA-8AA7-A8288319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2925-6A32-430E-99D3-05CA9166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299-DF2D-400A-97F9-D8874A43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87AD-609C-422A-8595-6736BA5E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4D61-C8AC-4EA2-946B-051F7C0A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9CE4-1281-4F3C-BBD6-A335E45C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97F2-F989-469E-8DCD-6D0B5BC6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77F8-597A-43AE-9C78-2D6663C1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78CAA-2366-4FC5-9CEA-F9F69B18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8565-46C4-4846-83F0-BF10E97E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99C19-3DBF-42C8-A0E6-ECEECA2A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1089D-7DE0-41CB-AAEF-3E0A5AC0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40A50-F8AF-464B-AC95-7D14FC84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C7F-0EFF-4019-8CE9-B6FD7912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ED321-6962-4A57-97BB-AFF636D3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CA7AD-4B03-470C-A975-8F5F50EE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EDFB2-6109-4030-87A1-A12BB15E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A798B-4D1D-4C24-874B-31825E76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F8390-DAD6-4849-8A42-99ACC66A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E44C8-DDAD-46D6-95D1-9E9903DA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8A83F-35D4-47E8-8CE2-6346987A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89F7D-6681-401E-A005-30E7A42C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AFE48-318A-4E1F-A1EC-85C61F56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194F9-DF96-4824-9143-6F66C836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CF1-7656-46CA-AD83-4DD5F40F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4D14D-9E43-4396-A17D-5A16DDF0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5D814-0C4C-4EEC-8D87-87E41680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9653B-7767-4AF7-89AA-680A97F6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FB7A4-B3EB-493F-91AD-AF06A3A4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8374F-1F27-459B-9990-85966523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73444-A675-4B12-B966-BC08BF0B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DE9A1-05F3-46E3-AA93-37D8D6B5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5E21B-E377-4056-8760-929DBFB9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10437-B3DC-4577-9D6F-FC6A357A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D7822-7F7C-41F2-9AA9-77DF3869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6FD5-EA7D-42CE-811C-210A06DA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99FA3-A409-44C0-821E-A74F2063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278D3-63F6-4286-825C-4B879994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8FC1D-5F3B-4A18-85E7-4919E78C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00A6F-09DD-4955-A64A-EE3E2D97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7A75D-891C-477E-8EBF-E3DB4C00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C50DA-E0D4-4D88-B1D3-DB276297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AD230-1D74-4F48-8A98-7BEE06BC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64471-38B1-44B8-AF11-C1DF3C70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06B17-CD5D-43A7-8856-F7C7C2EB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91F59-086A-408E-84DA-585BC217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E59-D89F-49DE-8939-E9ED6804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2F4CA-9070-408A-B487-ED000D9C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C81DC-B947-49BF-8F6E-FDBA0839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A78A6-7038-4C20-B41C-482F0515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FA777-0C6C-41F7-A32F-85D41FEE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D8BFE-8A75-4EAA-9D07-7F763871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BF42F-E2B2-4458-8CC4-9205C735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CFD82-EB4E-4328-8935-2ECDE909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810B2-81E3-4602-9A1A-79A21F11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D443C-5CAF-48A4-A773-5EF90C8B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B1FC0-5DEF-4737-B505-5E7D521C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C47-9AC0-4C74-90CA-759BD062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CA983-A927-4B2C-8985-AFDC5BF7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E2F3B-6DB5-459F-8B73-A5474CB4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79E41-99F7-4C86-9FF6-9A6C7557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5CD50-8D89-498F-8212-934DA7CA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2FFFB-36B0-4602-98C9-30088E58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4F76B-3CB1-44F3-8C0E-8EFA898E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B451D-08B5-4FE4-A45F-CBD0E666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4B2E6-D87B-4784-98E2-FDF01E29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A129E-3D71-4EBE-9A3F-414C1382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DB42D-48E5-4897-9099-5D5A2F6A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AAB-13B6-4E85-9849-B62F459B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E09A9-2387-42BB-AD84-9F91D569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A61CD-81CF-42D1-B978-31D96BFC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BB3FC-726D-4FB8-85BE-6414A82E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956F4-EF26-487D-8E90-3361BD5F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D9759-42F9-4415-9B8F-28F9E13D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151E9-FE7D-4AAF-A172-39E6D5F2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5DFF4-0B43-412D-978A-CEADA96A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D0051-23E2-4E11-AC35-08587229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FE1D0-A06B-44D8-9B40-E87441B5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31855-8896-451B-8678-F45E7CE0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E47-2A98-481B-8B01-EF021641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22911-E8A6-4F83-A1A8-0A854025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A0DA5-8A47-46D7-AC1F-C1CCBD06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ADD82-FAD3-4F64-BC69-1A707A49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121F9-785F-4755-803F-8F6E44F3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EC695-DBEE-4AB1-A701-CB0BA4A2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2E1A3-38CF-4A8C-AA64-FC7215A6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BA77F-3DD0-45C8-8EF6-D60EAC65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85D5C-7B3B-418B-A78C-0874F590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43840-8596-4CB5-AF23-5EB0EA34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BD6FF-F929-4B05-B555-0F9B8660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CB2A-F95D-4A85-B6D8-B3648A21E2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E733-EC38-4825-8EF5-A24F473249F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98F7-EC52-4A7C-8F17-DCD5964A51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77DD-5C44-4617-9A4B-C3391E3E1A2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2460-10FF-4343-A5A3-A9EAA7256C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D892-0F0D-495C-8C32-230872736A7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1E4E-8D7F-4E51-ACDF-19D7C314BE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0C27-553B-4064-A8A9-6690D97BA2C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A33D-599B-4898-A673-563785CB57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4623-8676-486C-9C41-7B310486B8E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B73B-92B8-4B58-8006-23FEDECBF3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282D-7CDE-44F6-94CD-2ACB841C678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6B31-D0FF-4F8F-9A00-513FD4A015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1A34-2D8D-45D9-A674-CBBF027F65B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912B-4632-4B77-AD0A-83D6EBF53D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B7AC-2BDB-4EF8-B561-DEEC3D14EAD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6121-B717-453D-91CE-941369D572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513E-F803-4D6B-B66A-21553EEA2AD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0197-992B-423D-9B02-96CDFD7116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65FE-53A5-4953-AA8B-EC1759D724E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CF90-118D-4FCA-BCE2-8379383CEF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47D3-8AE1-4F3F-BD0A-A4A05508FC0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FD63-75F1-439F-8954-579950226F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D07B-FC01-4081-B5EC-BD59443BAED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806D-5C9A-4DC7-8867-B08132D5C0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8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5.xml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4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slide" Target="slide10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" Target="slide2.xml"/><Relationship Id="rId7" Type="http://schemas.openxmlformats.org/officeDocument/2006/relationships/image" Target="../media/image4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2.xml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8"/>
          <p:cNvSpPr/>
          <p:nvPr/>
        </p:nvSpPr>
        <p:spPr>
          <a:xfrm>
            <a:off x="5835600" y="1203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2"/>
          <p:cNvSpPr/>
          <p:nvPr/>
        </p:nvSpPr>
        <p:spPr>
          <a:xfrm>
            <a:off x="304920" y="99072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3300"/>
                </a:solidFill>
                <a:latin typeface="华文细黑"/>
                <a:ea typeface="华文细黑"/>
              </a:rPr>
              <a:t>我会猜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2209680" y="24382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华文细黑"/>
                <a:ea typeface="华文细黑"/>
              </a:rPr>
              <a:t>小小一间房，只有一扇窗。唱歌又演戏，天天翻花样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6" descr="aaangle"/>
          <p:cNvPicPr/>
          <p:nvPr/>
        </p:nvPicPr>
        <p:blipFill>
          <a:blip r:embed="rId1"/>
          <a:stretch/>
        </p:blipFill>
        <p:spPr>
          <a:xfrm>
            <a:off x="457200" y="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537" name="Object 8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181764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Object 25" descr=""/>
          <p:cNvPicPr/>
          <p:nvPr/>
        </p:nvPicPr>
        <p:blipFill>
          <a:blip r:embed="rId1"/>
          <a:stretch/>
        </p:blipFill>
        <p:spPr>
          <a:xfrm>
            <a:off x="98280" y="453960"/>
            <a:ext cx="9144000" cy="55706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4"/>
          <p:cNvSpPr/>
          <p:nvPr/>
        </p:nvSpPr>
        <p:spPr>
          <a:xfrm>
            <a:off x="1219320" y="0"/>
            <a:ext cx="64767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cc3300"/>
                </a:solidFill>
                <a:latin typeface="隶书"/>
                <a:ea typeface="隶书"/>
              </a:rPr>
              <a:t>  </a:t>
            </a:r>
            <a:r>
              <a:rPr b="0" lang="zh-CN" sz="6800" spc="-1" strike="noStrike">
                <a:solidFill>
                  <a:srgbClr val="cc3300"/>
                </a:solidFill>
                <a:latin typeface="华文细黑"/>
                <a:ea typeface="华文细黑"/>
              </a:rPr>
              <a:t>5</a:t>
            </a:r>
            <a:r>
              <a:rPr b="0" lang="zh-CN" sz="6800" spc="-1" strike="noStrike">
                <a:solidFill>
                  <a:srgbClr val="cc3300"/>
                </a:solidFill>
                <a:latin typeface="华文细黑"/>
                <a:ea typeface="华文细黑"/>
              </a:rPr>
              <a:t>、看 电 视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441972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我会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83808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152388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一五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304812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三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236232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二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373392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四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525780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我会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Object 17" descr=""/>
          <p:cNvPicPr/>
          <p:nvPr/>
        </p:nvPicPr>
        <p:blipFill>
          <a:blip r:embed="rId9"/>
          <a:stretch/>
        </p:blipFill>
        <p:spPr>
          <a:xfrm>
            <a:off x="2514600" y="2666880"/>
            <a:ext cx="1676520" cy="2133720"/>
          </a:xfrm>
          <a:prstGeom prst="rect">
            <a:avLst/>
          </a:prstGeom>
          <a:ln w="0">
            <a:noFill/>
          </a:ln>
        </p:spPr>
      </p:pic>
      <p:pic>
        <p:nvPicPr>
          <p:cNvPr id="548" name="Object 18" descr=""/>
          <p:cNvPicPr/>
          <p:nvPr/>
        </p:nvPicPr>
        <p:blipFill>
          <a:blip r:embed="rId10"/>
          <a:stretch/>
        </p:blipFill>
        <p:spPr>
          <a:xfrm>
            <a:off x="3581280" y="2209680"/>
            <a:ext cx="1660680" cy="2971800"/>
          </a:xfrm>
          <a:prstGeom prst="rect">
            <a:avLst/>
          </a:prstGeom>
          <a:ln w="0">
            <a:noFill/>
          </a:ln>
        </p:spPr>
      </p:pic>
      <p:pic>
        <p:nvPicPr>
          <p:cNvPr id="549" name="Object 19" descr=""/>
          <p:cNvPicPr/>
          <p:nvPr/>
        </p:nvPicPr>
        <p:blipFill>
          <a:blip r:embed="rId11"/>
          <a:stretch/>
        </p:blipFill>
        <p:spPr>
          <a:xfrm>
            <a:off x="4670280" y="2197080"/>
            <a:ext cx="1173240" cy="281952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26"/>
          <p:cNvSpPr/>
          <p:nvPr/>
        </p:nvSpPr>
        <p:spPr>
          <a:xfrm>
            <a:off x="601992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我会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1026" descr="京剧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72200" y="5029200"/>
            <a:ext cx="2971800" cy="18288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029" descr="妈妈"/>
          <p:cNvPicPr/>
          <p:nvPr/>
        </p:nvPicPr>
        <p:blipFill>
          <a:blip r:embed="rId3"/>
          <a:stretch/>
        </p:blipFill>
        <p:spPr>
          <a:xfrm>
            <a:off x="1000080" y="5029200"/>
            <a:ext cx="1582920" cy="18288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031" descr="足球"/>
          <p:cNvPicPr/>
          <p:nvPr/>
        </p:nvPicPr>
        <p:blipFill>
          <a:blip r:embed="rId4"/>
          <a:stretch/>
        </p:blipFill>
        <p:spPr>
          <a:xfrm>
            <a:off x="6248520" y="2514600"/>
            <a:ext cx="2895480" cy="18288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032" descr="舞蹈"/>
          <p:cNvPicPr/>
          <p:nvPr/>
        </p:nvPicPr>
        <p:blipFill>
          <a:blip r:embed="rId5"/>
          <a:stretch/>
        </p:blipFill>
        <p:spPr>
          <a:xfrm>
            <a:off x="6248520" y="0"/>
            <a:ext cx="2895480" cy="1889280"/>
          </a:xfrm>
          <a:prstGeom prst="rect">
            <a:avLst/>
          </a:prstGeom>
          <a:ln w="0">
            <a:noFill/>
          </a:ln>
        </p:spPr>
      </p:pic>
      <p:sp>
        <p:nvSpPr>
          <p:cNvPr id="555" name="Line 1034"/>
          <p:cNvSpPr/>
          <p:nvPr/>
        </p:nvSpPr>
        <p:spPr>
          <a:xfrm>
            <a:off x="2895480" y="1828800"/>
            <a:ext cx="2819520" cy="16002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035"/>
          <p:cNvSpPr/>
          <p:nvPr/>
        </p:nvSpPr>
        <p:spPr>
          <a:xfrm>
            <a:off x="2895480" y="3733920"/>
            <a:ext cx="2819520" cy="16002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1036"/>
          <p:cNvSpPr/>
          <p:nvPr/>
        </p:nvSpPr>
        <p:spPr>
          <a:xfrm flipV="1">
            <a:off x="2971800" y="1752480"/>
            <a:ext cx="2819520" cy="3657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1039">
            <a:hlinkClick r:id="rId6" action="ppaction://hlinksldjump"/>
          </p:cNvPr>
          <p:cNvSpPr/>
          <p:nvPr/>
        </p:nvSpPr>
        <p:spPr>
          <a:xfrm>
            <a:off x="0" y="624852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Object 1040" descr=""/>
          <p:cNvPicPr/>
          <p:nvPr/>
        </p:nvPicPr>
        <p:blipFill>
          <a:blip r:embed="rId7"/>
          <a:stretch/>
        </p:blipFill>
        <p:spPr>
          <a:xfrm>
            <a:off x="549360" y="685800"/>
            <a:ext cx="1077840" cy="1371600"/>
          </a:xfrm>
          <a:prstGeom prst="rect">
            <a:avLst/>
          </a:prstGeom>
          <a:ln w="0">
            <a:noFill/>
          </a:ln>
        </p:spPr>
      </p:pic>
      <p:pic>
        <p:nvPicPr>
          <p:cNvPr id="560" name="Object 1043" descr=""/>
          <p:cNvPicPr/>
          <p:nvPr/>
        </p:nvPicPr>
        <p:blipFill>
          <a:blip r:embed="rId8"/>
          <a:stretch/>
        </p:blipFill>
        <p:spPr>
          <a:xfrm>
            <a:off x="1371600" y="304920"/>
            <a:ext cx="1143000" cy="2009520"/>
          </a:xfrm>
          <a:prstGeom prst="rect">
            <a:avLst/>
          </a:prstGeom>
          <a:ln w="0">
            <a:noFill/>
          </a:ln>
        </p:spPr>
      </p:pic>
      <p:pic>
        <p:nvPicPr>
          <p:cNvPr id="561" name="Object 1044" descr=""/>
          <p:cNvPicPr/>
          <p:nvPr/>
        </p:nvPicPr>
        <p:blipFill>
          <a:blip r:embed="rId9"/>
          <a:stretch/>
        </p:blipFill>
        <p:spPr>
          <a:xfrm>
            <a:off x="990720" y="2514600"/>
            <a:ext cx="1006200" cy="205272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1046"/>
          <p:cNvSpPr/>
          <p:nvPr/>
        </p:nvSpPr>
        <p:spPr>
          <a:xfrm>
            <a:off x="3048120" y="0"/>
            <a:ext cx="2438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我会连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25560" y="26082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每天，我们全家人都看电视，我家看电视，可真有些奇妙！每个人心里都装着一个秘密，到底是啥？不说你也知道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04920" y="0"/>
            <a:ext cx="937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每天，我们全家人都看电视，我家看电视，真有些奇妙—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9">
            <a:hlinkClick r:id="rId1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127080" y="488484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每个人心里都装着一个秘密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，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到底是啥？不说你也知道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1"/>
          <p:cNvSpPr/>
          <p:nvPr/>
        </p:nvSpPr>
        <p:spPr>
          <a:xfrm>
            <a:off x="304920" y="0"/>
            <a:ext cx="937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每天，我们全家人都看电视，我家看电视，真有些奇妙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—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3"/>
          <p:cNvSpPr/>
          <p:nvPr/>
        </p:nvSpPr>
        <p:spPr>
          <a:xfrm>
            <a:off x="8153280" y="4343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4"/>
          <p:cNvSpPr/>
          <p:nvPr/>
        </p:nvSpPr>
        <p:spPr>
          <a:xfrm>
            <a:off x="304920" y="0"/>
            <a:ext cx="937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每天，我们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全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家人都看电视，我家看电视，真有些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奇妙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—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Object 16" descr=""/>
          <p:cNvPicPr/>
          <p:nvPr/>
        </p:nvPicPr>
        <p:blipFill>
          <a:blip r:embed="rId1"/>
          <a:stretch/>
        </p:blipFill>
        <p:spPr>
          <a:xfrm>
            <a:off x="0" y="4648320"/>
            <a:ext cx="5029200" cy="30528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4"/>
          <p:cNvSpPr/>
          <p:nvPr/>
        </p:nvSpPr>
        <p:spPr>
          <a:xfrm>
            <a:off x="457200" y="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爸爸明明是个足球迷，      却把一场精彩的球赛关掉，不知为啥换成了京剧，       伊咿呀呀的，唱个没完没了。只有奶奶听得入了迷，      我和爸爸都在打盹睡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13">
            <a:hlinkClick r:id="rId2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Object 14" descr=""/>
          <p:cNvPicPr/>
          <p:nvPr/>
        </p:nvPicPr>
        <p:blipFill>
          <a:blip r:embed="rId3"/>
          <a:stretch/>
        </p:blipFill>
        <p:spPr>
          <a:xfrm>
            <a:off x="1295280" y="5486400"/>
            <a:ext cx="1078200" cy="1371600"/>
          </a:xfrm>
          <a:prstGeom prst="rect">
            <a:avLst/>
          </a:prstGeom>
          <a:ln w="0">
            <a:noFill/>
          </a:ln>
        </p:spPr>
      </p:pic>
      <p:pic>
        <p:nvPicPr>
          <p:cNvPr id="574" name="Object 15" descr=""/>
          <p:cNvPicPr/>
          <p:nvPr/>
        </p:nvPicPr>
        <p:blipFill>
          <a:blip r:embed="rId4"/>
          <a:stretch/>
        </p:blipFill>
        <p:spPr>
          <a:xfrm>
            <a:off x="1981080" y="4952880"/>
            <a:ext cx="1278000" cy="22860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17"/>
          <p:cNvSpPr/>
          <p:nvPr/>
        </p:nvSpPr>
        <p:spPr>
          <a:xfrm>
            <a:off x="457200" y="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爸爸明明是个足球迷，     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却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把一场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精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彩的球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赛关掉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，不知为啥换成了京剧，       伊咿呀呀的，唱个没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完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没了。只有奶奶听得入了迷，      我和爸爸都在打盹睡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Object 13" descr=""/>
          <p:cNvPicPr/>
          <p:nvPr/>
        </p:nvPicPr>
        <p:blipFill>
          <a:blip r:embed="rId1"/>
          <a:stretch/>
        </p:blipFill>
        <p:spPr>
          <a:xfrm>
            <a:off x="-457200" y="3749760"/>
            <a:ext cx="5119560" cy="310824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3"/>
          <p:cNvSpPr/>
          <p:nvPr/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1981080" y="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奶奶啥时换了频道？</a:t>
            </a:r>
            <a:br>
              <a:rPr sz="5400"/>
            </a:b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球员们正在场上飞跑。 好球，好球，快射门！我和爸爸乐得直叫。    奶奶不看电视只看我们，和我们一起拍手欢笑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11"/>
          <p:cNvSpPr/>
          <p:nvPr/>
        </p:nvSpPr>
        <p:spPr>
          <a:xfrm>
            <a:off x="8534520" y="624852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Object 12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1046160" cy="251460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14"/>
          <p:cNvSpPr/>
          <p:nvPr/>
        </p:nvSpPr>
        <p:spPr>
          <a:xfrm>
            <a:off x="1981080" y="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奶奶啥时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换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了频道？</a:t>
            </a:r>
            <a:br>
              <a:rPr sz="5400"/>
            </a:b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球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员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们正在场上飞跑。 好球，好球，快射门！我和爸爸乐得直叫。    奶奶不看电视只看我们，和我们一起拍手欢笑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1027" descr="妈妈"/>
          <p:cNvPicPr/>
          <p:nvPr/>
        </p:nvPicPr>
        <p:blipFill>
          <a:blip r:embed="rId1"/>
          <a:stretch/>
        </p:blipFill>
        <p:spPr>
          <a:xfrm>
            <a:off x="1143000" y="3962520"/>
            <a:ext cx="1415880" cy="1636560"/>
          </a:xfrm>
          <a:prstGeom prst="rect">
            <a:avLst/>
          </a:prstGeom>
          <a:ln w="0">
            <a:noFill/>
          </a:ln>
        </p:spPr>
      </p:pic>
      <p:pic>
        <p:nvPicPr>
          <p:cNvPr id="583" name="Object 1029" descr=""/>
          <p:cNvPicPr/>
          <p:nvPr/>
        </p:nvPicPr>
        <p:blipFill>
          <a:blip r:embed="rId2"/>
          <a:stretch/>
        </p:blipFill>
        <p:spPr>
          <a:xfrm>
            <a:off x="0" y="4406760"/>
            <a:ext cx="4038480" cy="245124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1026"/>
          <p:cNvSpPr/>
          <p:nvPr/>
        </p:nvSpPr>
        <p:spPr>
          <a:xfrm>
            <a:off x="304920" y="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妈妈从书房走了出来，         她在修改最近写的文稿。      看着妈妈一脸的疲劳，         我们都提议不再看球赛，     让妈妈听听音乐，看看舞蹈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028"/>
          <p:cNvSpPr/>
          <p:nvPr/>
        </p:nvSpPr>
        <p:spPr>
          <a:xfrm>
            <a:off x="8534520" y="624852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030"/>
          <p:cNvSpPr/>
          <p:nvPr/>
        </p:nvSpPr>
        <p:spPr>
          <a:xfrm>
            <a:off x="304920" y="0"/>
            <a:ext cx="88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妈妈从书房走了出来，         她在修改最近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写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的文稿。      看着妈妈一脸的疲劳，         我们都提议不再看球赛，     让妈妈听听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音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乐，看看舞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蹈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395280" y="117324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大王头上有一人，大哥压着可弟身。宝贝小口头上开，大米青草一起吞。一个少女很美丽，她要站在太阳上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7010280" y="12193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701028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01028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701028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1828800" y="0"/>
            <a:ext cx="2590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我会猜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7010280" y="49528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12"/>
          <p:cNvSpPr/>
          <p:nvPr/>
        </p:nvSpPr>
        <p:spPr>
          <a:xfrm>
            <a:off x="8534520" y="624852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7010280" y="585144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395280" y="117324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大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王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头上有一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人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大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哥压着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可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弟身。宝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贝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小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口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头上开，大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米青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草一起吞。一个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少女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很美丽，她要站在太阳上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Object 16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/>
  <cp:keywords>第一PPT模板网-WWW.1PPT.COM</cp:keywords>
  <dc:language>en-US</dc:language>
  <cp:lastModifiedBy>a</cp:lastModifiedBy>
  <dcterms:modified xsi:type="dcterms:W3CDTF">2015-03-16T14:55:00Z</dcterms:modified>
  <cp:revision>31</cp:revision>
  <dc:subject/>
  <dc:title>第一PPT模板网-WWW.1PPT.COM</dc:title>
</cp:coreProperties>
</file>