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10.jpeg" ContentType="image/jpeg"/>
  <Override PartName="/ppt/media/image5.jpeg" ContentType="image/jpeg"/>
  <Override PartName="/ppt/media/camera.wav" ContentType="audio/x-wav"/>
  <Override PartName="/ppt/media/image7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projctor.wav" ContentType="audio/x-wav"/>
  <Override PartName="/ppt/media/chimes.wav" ContentType="audio/x-wav"/>
  <Override PartName="/ppt/media/image6.jpeg" ContentType="image/jpeg"/>
  <Override PartName="/ppt/media/image8.png" ContentType="image/png"/>
  <Override PartName="/ppt/media/type.wav" ContentType="audio/x-wav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27C-C27B-4C4E-BA5C-33578C39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C89-831D-4D42-AA5F-3FD6B2CB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AAEC2-38D6-427A-800F-25377DC3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EE318-AAF7-4A75-AC31-128722FB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DFE13-E46F-48F3-BD5F-B0877552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4CE9B-1844-498A-8AAC-09EAD982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DC7BF-44B8-487D-BDB9-9016F101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58254-D82C-4496-9ABE-FCCC692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61587-12B1-41EF-9A94-A132B3BA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F1BE5-AAA5-44D3-8BEC-1094B2AF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9EA7F-2649-446D-A9D7-818594FA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92B1C-4692-4390-9E14-CE302E8B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1D4-E973-42DD-B33B-40428E50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5AE6E-805E-4173-8EC2-AC2F34E8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05494-7D73-4819-82D8-D8FA961C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63E8B-5C7C-4881-A19E-DD29F4B7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C6058-9686-4474-A4DF-660C4403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D1AF4-4A57-4600-9D91-8A99F1F2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AC47E-5037-419E-B38D-0F237CD3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7FFAB-EEC3-481D-B58B-69995AC9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47568-B5F2-4C13-B0AF-6C8DF7B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D77A8-8C65-417F-95E6-2EE23447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DB83F-9306-4A0B-ADBB-762252FA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E3A-A6BB-45E6-857A-68128FF3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36F55-E192-43BF-9886-E55E28B9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C8D11-D8BC-4DBB-9282-41CEEA34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61700-C3FF-4F1C-8933-FB9FCA3C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B1E6-102D-4FDB-833D-4886318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73E46-CEA4-44F1-8DBC-C3B7C906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25BC0-01F3-4E51-87DD-DD6EE27E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52807-E3B0-4201-B86C-3B171ED5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8A7CC-3E1D-4A41-A1AE-CEFF0E3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276D4-AD29-4744-9975-9BC60640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BFEC4-3B6A-46C8-B929-19BD0162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1D99-B5DD-4F58-8CD6-16D184E9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17723-F912-45BA-A422-2A65349E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AF101-07AC-486D-AD16-E64E08F9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A5902-4860-4ECE-9894-0FBA6C4C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860CA-0C81-4EE8-9DEF-CB5A2736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BF384-0110-40DC-9921-0D8DC420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F8033-9722-410F-BDBF-FA20BE7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56378-B2B1-4132-8C43-8524828E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D97F2-0742-4B09-B0BF-15769D6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192FE-3A38-4140-AA5D-BD1E749C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1112F-48BD-4EF6-87B7-4EC6D1E9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FEB8-A066-4446-A12C-AC01101D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1F9EF-096F-432A-97C0-9B6A17BA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3C946-A9E6-4ADF-A61B-A4EC550C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26C03-4969-4F90-A6FD-1DF5EB95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C8E18-FCB5-4EF7-B85B-7AABCB43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4F84E-91BA-43E2-945F-CA436FE9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86FB1-C554-43D9-A45A-2D898BD0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B5F06-C74C-4945-8846-064F65C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1115B-695E-40FA-99E7-BAA08DE5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025B0-C609-4210-AC88-0DC085A3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46B3E-D750-4A7F-8EFF-CEB63D15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33E0-415F-41C3-BEC1-899C6773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AE34E-E5CC-48F6-A11E-908377C5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06D94-EC69-4A37-8209-18FE89A1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4DB6E-C7ED-4C65-9320-A13FA941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7C7B5-5846-4F44-8FBC-350D0E44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91FA7-9E42-4DCA-93D6-2247A74C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EF736-89A8-489C-89B0-68F79351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E15C5-82E7-4A36-B992-16EC3BFE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C4C48-187E-4F74-8B42-62AF5DDE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A301F-2F32-420C-9C9F-B5CF4A92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82C45-7DE6-497E-9583-25B2DF43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156A-1621-4C2D-BF14-36184226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E63C9-ED7F-434F-8DAA-358B7A90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A6919-75F4-447A-8794-45442204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3F13F-C764-4CE4-887B-27FC7311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5B5DE-A97D-4AF0-A4C7-59ED8CD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3939E-5163-45AF-9CCC-3CD66CC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24AE2-9D7D-4CEC-8092-B0AA42FA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40A77-384B-4558-95A3-C12CC7E9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A4243-1D1B-48CC-A1A8-400443F9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2E256-6568-4D6F-AE0B-FCBA36FA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690A-4F9B-413C-B878-8FE2B941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000C-8FE5-4365-9DC8-C23FD553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AE1D-48CB-41B6-B2BD-8A08625C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43D-F1B3-483E-8C73-49E35916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F2B2-9915-4924-BD2C-FC56CDE4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420C-82C5-46A9-8BBF-93E7A998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BC37-47E8-45CD-BE1E-2B40E17D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A6B9-815B-494D-B884-59505FD5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0121-A739-486D-BB05-EE4A3F87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56FA-1376-4CE2-8A2C-87DD14A6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AAFB-8C01-413D-9606-C853D395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B897-60D8-48FC-B23A-CEECB636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0913-4B85-4259-94CD-165C776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28C5-B66A-4DC8-8FDC-DC664059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562-D274-4EED-8C11-FFACAE2C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253EF-A2AD-4103-916E-FF5BE448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F0A6-1A7F-4C3E-8966-5BDAC56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BF39-5AA4-4421-920A-0BEF928F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6FAC-3F5A-4B7A-BF43-616632C3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6DE7-C28B-4E9D-A7B9-BDC3F00F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F2F5-39FA-4057-8336-165FB40F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1613-5B0D-4529-A49C-37FED521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14846-D524-43AC-B451-91E461E5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F174-F4A5-4955-ABBC-6B5F8F7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2BF3-2003-4259-AB36-F3140E0C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571D-A1E3-43D8-8D1A-AAA80084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7385-15E9-42C9-9A79-F3178E17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5968-7519-4645-808C-F55AEDD6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EA18-4531-4AE7-8BC7-FEB639F3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0A220-BF38-4AE0-9EFF-526A2068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96BC0-59B0-46BD-A2F6-14A0001B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B388E-ADA9-485E-84B2-FF14730C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94E2-7E6E-4A4F-BE53-48C41E9C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1EA7-6BA4-4FFD-8535-941371D4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93A6-B919-4330-B02D-CF3868F8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876C-44EE-4756-9791-1458B090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240-090C-4C45-AE54-3983982A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1CB03-1492-4C37-8CD1-7BCDC383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62DD9-7DCE-4E43-B512-73A9A3D8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88FD2-7B7A-4FE2-B7F4-1F51CD53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FF3B-8599-49C6-B6A4-C5B5769F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B390-8531-4035-B084-2E2001A6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C681-507E-4FC4-ACB1-D50C8535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6202-0326-4B29-9D8A-FEB1AF3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D0CB3-18EA-495E-93A5-BA130D52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1C3C-92C4-4C89-A51A-89BAC648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D016E-2CE4-4968-923F-11C81601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2FA-44F9-4598-8C17-3C2BFBF0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E6BA6-DA25-4AFE-BCA0-B61FD7DE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92EE7-9578-4912-BFA0-C0FAB76D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73D1-74AE-4F48-B341-EC472E04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BCF4D-3E27-44A2-9AD9-49659F92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770CE-7E2B-4AA2-8AAC-30D1F04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40076-8B40-4E78-B72A-4C884DDE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14088-DE5A-4C6A-A45C-E6DC9A40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C6FDC-9F88-4C8D-BC69-19C7CC6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A450E-123F-4C43-AD92-0A42BAD2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7EDAC-CF3A-496B-90B9-9EE76B6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438-CA57-44A5-A965-2F0BEF24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2C79-4D56-4D4B-BECF-988B6846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E437C-DDBD-4D9E-8730-05E522FF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5192-2BDF-4B61-AEDD-4417473E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554CE-520E-4EBF-AC0C-5F7AE378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BD20E-4678-4ED2-BB51-060681EF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913C6-26CC-4539-ABC6-3D2376DA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862FF-8692-41BC-951F-D98EB77C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0D264-41AB-4714-B5D2-BC6E7FF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03B2A-7D94-43C7-996E-E82C4316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67C8-189E-4E63-92D1-B203E61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9D0-B532-4BAD-B9F5-0412E29F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8389-FC4B-4C6A-AA10-9F053BD0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EF659-5534-4EFB-84D4-95AE3A1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86CEA-58A4-4714-9352-FBA6E102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CB226-2521-4FB6-A709-D37C0F2F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4115B-45E4-4259-B77B-848E10A9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9608B-38A2-4EDE-BB92-AE1EBD7A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18F55-E362-4AC9-BC37-CCB6D728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208CB-C6BC-4F1B-8A92-DE8A2D98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70360-CE23-4830-8798-2026B5B4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02650-4535-4F65-B5D2-F7B2E791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2F5-685F-4727-9F0C-8BABF65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5FA11-3BD6-4F45-99C5-98CE9EB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B97CA-356E-47A0-B809-1CEC358B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DC880-EB00-443D-B0B2-B5B9EF0D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C7DFE-874D-4596-A2EB-79D0CF98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AA52C-574B-4468-9890-19B35A21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4FCB7-4B49-44FB-945E-083F1B0A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F1182-274A-49E7-8ECF-5BB55AA4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F2CE1-98B0-413D-922E-88693BC2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DFF11-DCD2-427B-82F1-BE3A0D3D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0AB3E-A77D-423D-972A-66E6E1A3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15DD-1A5F-4BCC-B107-F6B27D9BCE4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A160-328A-414B-889B-E093F027D7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CCC0-E1B2-4BD8-B75B-1430976917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C7F1-69DC-4C94-9E55-D212BB98FD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0658-B0CB-467C-A18F-A2E838C60F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C1B-F3C6-4C3B-9377-7006C3C89B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F18F-4791-4931-B416-935DEFFF4B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6DD3-69A2-4308-A878-32869EB3947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CEDD-56F0-4439-8466-08D90FF9B7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D92E-75A7-4B27-9AB6-41E66CCF85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17F6-C1DA-4FD1-86D1-F3AF28AD0C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BB9-F7E6-4278-A969-FF203D99D4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E496-AA77-480E-AD84-CED614FE0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F70-84A7-4DC5-A550-D6A12D3178B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20E4-4CEE-4A14-B087-8DE43D84FAB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8AA0-CC38-42CC-9045-11BE5C35D7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06D5-B3E1-4B11-BF57-3D3AD5D8FE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41F8-462C-4247-BCDC-A428C1BB0B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B8D0-4971-416F-94B9-33C60C0A9E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365F-B0F1-439E-9373-065AE37D7D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0EBE-1A72-40F2-9226-A00EEB7538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D2C-3F60-418B-858A-5FFD68158B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45E9-CBDB-4EE5-A450-3391D346153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3FD4-D8F6-43A2-9FB6-976476E81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B34C-3BD8-48BE-9DDF-3081A45619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706D-0E86-4B93-A276-9D9DC28E4E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7783-F826-4E99-8CE7-DAF7C0F48EA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84" name="Picture 1027" descr="PE02097_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7150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1026"/>
          <p:cNvSpPr/>
          <p:nvPr/>
        </p:nvSpPr>
        <p:spPr>
          <a:xfrm>
            <a:off x="0" y="9144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5b5249"/>
                </a:solidFill>
                <a:latin typeface="Times New Roman"/>
              </a:rPr>
              <a:t>18*  </a:t>
            </a:r>
            <a:r>
              <a:rPr b="1" lang="zh-CN" sz="8000" spc="-1" strike="noStrike">
                <a:solidFill>
                  <a:srgbClr val="5b5249"/>
                </a:solidFill>
                <a:latin typeface="Times New Roman"/>
              </a:rPr>
              <a:t>可贵的沉默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B6E6-A04F-46AC-963F-7C762AF4864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2"/>
          <p:cNvSpPr/>
          <p:nvPr/>
        </p:nvSpPr>
        <p:spPr>
          <a:xfrm>
            <a:off x="4098960" y="42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20" name="Picture 3" descr="BJ_022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4"/>
          <p:cNvSpPr/>
          <p:nvPr/>
        </p:nvSpPr>
        <p:spPr>
          <a:xfrm>
            <a:off x="762120" y="781200"/>
            <a:ext cx="81532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作业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5b5249"/>
                </a:solidFill>
                <a:latin typeface="Times New Roman"/>
              </a:rPr>
              <a:t>做一些体贴父母的事，向老师汇报。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6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5C7-BD85-4C70-83EA-88B73C5F6F0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87" name="Picture 2" descr="PM_029"/>
          <p:cNvPicPr/>
          <p:nvPr/>
        </p:nvPicPr>
        <p:blipFill>
          <a:blip r:embed="rId1"/>
          <a:stretch/>
        </p:blipFill>
        <p:spPr>
          <a:xfrm>
            <a:off x="-609480" y="-1066680"/>
            <a:ext cx="10210680" cy="94485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685800" y="2057400"/>
            <a:ext cx="740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孩子们对老师提出的问题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开始的表现怎样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?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接着怎样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?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最后又是怎样的表现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AC6C-BE41-4912-A114-5569020D979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533520" y="1066680"/>
            <a:ext cx="80010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检查预习情况</a:t>
            </a: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、认识生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华文细黑"/>
                <a:ea typeface="华文细黑"/>
              </a:rPr>
              <a:t>蕴藏</a:t>
            </a:r>
            <a:r>
              <a:rPr b="1" lang="zh-CN" sz="6000" spc="-1" strike="noStrike">
                <a:solidFill>
                  <a:srgbClr val="5b5249"/>
                </a:solidFill>
                <a:latin typeface="华文细黑"/>
                <a:ea typeface="华文细黑"/>
              </a:rPr>
              <a:t>     </a:t>
            </a:r>
            <a:r>
              <a:rPr b="1" lang="zh-CN" sz="6000" spc="-1" strike="noStrike">
                <a:solidFill>
                  <a:srgbClr val="cc0000"/>
                </a:solidFill>
                <a:latin typeface="华文细黑"/>
                <a:ea typeface="华文细黑"/>
              </a:rPr>
              <a:t>瞥见     稚拙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6A0C-ECB2-4ADA-9362-010E48F9A29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2" name="Text Box 2"/>
          <p:cNvSpPr/>
          <p:nvPr/>
        </p:nvSpPr>
        <p:spPr>
          <a:xfrm>
            <a:off x="0" y="38088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检查预习情况</a:t>
            </a: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1" lang="en-US" sz="4400" spc="-1" strike="noStrike">
                <a:solidFill>
                  <a:srgbClr val="5b5249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、请找出四个字的词语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371600" y="2438280"/>
            <a:ext cx="8077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神气十足、左顾右盼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沉默不语、四面八方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七嘴八舌、异口同声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不约而同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C979-F7B9-43E4-84DD-DE3ED4E41C6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685800" y="21337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6600" spc="-1" strike="noStrike">
                <a:solidFill>
                  <a:srgbClr val="5b5249"/>
                </a:solidFill>
                <a:latin typeface="Times New Roman"/>
              </a:rPr>
              <a:t>他们骄傲地举起了手，有的还神气十足地左顾右盼。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5105520" y="419112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1600200" y="5334120"/>
            <a:ext cx="320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762120" y="9144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品尝句子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C1D8-B6B4-4767-8D52-73950721BE4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609480" y="146844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孩子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会感受爱了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，这还不够。我想去寻找蕴藏在他们心灵深处的、他们自己还没有意识到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极为珍贵的东西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685800" y="762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你体会到吗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143000" y="441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“会感受爱了”说的是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2554200" y="5105520"/>
            <a:ext cx="47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“极为珍贵的东西”指的是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从这句话你懂得了老师的心意了吗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1FEF-D1E8-4D8F-891E-ABC47C2D9F1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05" name="Picture 2" descr="PM_015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92468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3581280" y="1600200"/>
            <a:ext cx="495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5b5249"/>
                </a:solidFill>
                <a:latin typeface="Times New Roman"/>
                <a:ea typeface="隶书"/>
              </a:rPr>
              <a:t>学到这里，你们明白课文为什么要用“可贵的沉默”做题目吗</a:t>
            </a:r>
            <a:r>
              <a:rPr b="1" lang="zh-CN" sz="6000" spc="-1" strike="noStrike">
                <a:solidFill>
                  <a:srgbClr val="5b5249"/>
                </a:solidFill>
                <a:latin typeface="Times New Roman"/>
                <a:ea typeface="隶书"/>
              </a:rPr>
              <a:t>？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514B-A78D-4AB6-8F52-7FC7A814738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08" name="Picture 2" descr="PM_009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71913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4"/>
          <p:cNvSpPr/>
          <p:nvPr/>
        </p:nvSpPr>
        <p:spPr>
          <a:xfrm>
            <a:off x="1066680" y="2819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1295280" y="2743200"/>
            <a:ext cx="544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学了这篇课文，你以后会怎样对待爸爸妈妈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648320" y="1371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小组交流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12" name="22.MP3" descr=""/>
          <p:cNvPicPr/>
          <p:nvPr/>
        </p:nvPicPr>
        <p:blipFill>
          <a:blip r:embed="rId2"/>
          <a:stretch/>
        </p:blipFill>
        <p:spPr>
          <a:xfrm>
            <a:off x="609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AAC7-B45A-4499-8364-B2F83BC6C74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Text Box 2"/>
          <p:cNvSpPr/>
          <p:nvPr/>
        </p:nvSpPr>
        <p:spPr>
          <a:xfrm>
            <a:off x="463680" y="1371600"/>
            <a:ext cx="868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66"/>
                </a:solidFill>
                <a:latin typeface="Times New Roman"/>
              </a:rPr>
              <a:t>啊，我真快活！这一片沉默给了我多大的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享受</a:t>
            </a:r>
            <a:r>
              <a:rPr b="1" lang="zh-CN" sz="6000" spc="-1" strike="noStrike">
                <a:solidFill>
                  <a:srgbClr val="000066"/>
                </a:solidFill>
                <a:latin typeface="Times New Roman"/>
              </a:rPr>
              <a:t>啊！在沉默中，这些小家伙终于懂得要回报父母对自己的爱了。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6019920" y="4191120"/>
            <a:ext cx="3124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5"/>
          <p:cNvSpPr/>
          <p:nvPr/>
        </p:nvSpPr>
        <p:spPr>
          <a:xfrm>
            <a:off x="609480" y="510552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762120" y="6172200"/>
            <a:ext cx="4038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0:16:22Z</dcterms:created>
  <dc:creator>user</dc:creator>
  <dc:description/>
  <dc:language>en-US</dc:language>
  <cp:lastModifiedBy>a</cp:lastModifiedBy>
  <dcterms:modified xsi:type="dcterms:W3CDTF">2015-03-18T05:42:05Z</dcterms:modified>
  <cp:revision>21</cp:revision>
  <dc:subject/>
  <dc:title>PowerPoint 演示文稿</dc:title>
</cp:coreProperties>
</file>