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9C2-D775-48E5-B981-4CCA873D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20A-71D8-4E6F-8160-08A76F97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9E64B-436F-415F-894A-5598B7DA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74AC1-08E5-437F-BA3C-6F3E759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3FA14-DCDD-46DF-8C40-CB13E22B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4D0A2-033B-46F6-9123-05057FD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FA04-39FB-4380-8120-C62FEC6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93A41-87F6-4110-BFFD-36934E5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23C5-4072-4510-9818-C372016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D80B5-D597-4D0C-BD6A-725F8DF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589A1-E04E-4273-825B-81BA608F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8A9AB-233A-42BA-9E6E-50768787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7A9-B20C-48C5-B758-1572D674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C5851-F525-4ED3-9E51-2C4619E3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A2BDE-EE22-41AF-A246-BC57588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2991E-1E63-44D2-ABE4-78F1E99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B32FC-421F-4839-83E3-3E811796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46123-2152-48FA-8CDA-BF3D034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228DC-A3AB-4C96-A7E9-DFD8DAB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E63A-C8BD-4242-A7D6-AEFCF05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1C05C-91BF-4193-A962-5C4647D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76AF4-95A4-47E9-B790-88F320B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81E9E-BD90-4352-8654-D03F0755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1CB-8B9F-4FDD-AC32-0728342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51C86-6CDD-42C8-9EBC-2A00E6B7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B6278-4086-4D17-BB02-2BFBA604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5A25-7B80-4A83-905E-A164978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D8E0-35CF-496C-9BC1-C16DAB1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475DB-C6CC-4327-9B8C-02625C09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CDD64-7828-40E4-B49C-DB8E217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071F6-F8C8-46AB-99A9-265454CC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31C8-C8E1-47E1-96D6-D0938C4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B1143-1752-4B1B-BA01-2869DB7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7E6D-9F1D-436D-B9C7-C556475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EB5C-F173-4B32-89F8-2DCB8F9C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F7B71-166C-414B-B9EB-2FFF7C9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DFC32-FC21-4D45-809E-EE8B71AC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9D1B8-042B-4260-9854-3C554EE6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6CD7A-0C59-4B3D-9A7D-8591B82C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60468-8D00-4D4A-AB55-EE14DF96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18658-640C-4492-8171-802F829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9D9D9-FD00-4291-BBFE-631B9F0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C0823-EF13-4ABA-AC35-1FE3041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7C72A-1736-4FB7-96BA-9BBF68C1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627E2-EF9A-4BAE-A0B5-5ECC297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8524-830C-4CDB-BE78-754380C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828C9-3D51-45A1-B232-4816DE9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52110-4E4E-467F-BD6E-C47E316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07CD4-76FA-45F4-9A48-4C13471A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7D84D-E171-4BF2-A0CD-9F918B9D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D43E5-18B6-4E2A-99FC-62C1EAFD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1951D-7B54-4E08-BD12-2EB3FE96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53E1D-6E3E-43FE-95EA-4C64D5CD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61CEB-32DD-46E6-A571-3730FE30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F69E0-6395-49C6-9F07-00C557DA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920B4-DA63-4422-96A2-8887645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82C-636D-48F9-B345-9706236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B041D-8791-431E-B867-0B95A69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56B65-A34B-413B-B962-FC87473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EB0A7-F481-4FB2-BC08-3D00EFE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77DC4-1685-462D-9840-3853289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D4AE7-7F0F-4A8F-B060-7E03B73B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99DA3-CFCB-41F6-9E73-3374F069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09C23-3A84-40A0-B3F1-56E995F3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981-2F9E-4E2F-8285-76EB053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D0E2-4D3B-44BE-A6C7-DB7FD32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BCE-5B69-4CCC-B043-F70D2B3F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7F6-800A-4BFD-8811-B788A87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223-128A-4D5F-8A19-99C0AD1B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34AC-FBEE-4B97-8283-F6697D0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7E0-1977-4AC0-B9DF-0DA25D2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67CD-99B0-4991-B8B1-382E66B2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43B-B7A5-4E10-8DCA-85938F81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E83F-B14E-4D1F-B67C-84593D2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4EA0-5061-4B9E-BC4A-0CBEBE13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EF66-5291-48B2-81E4-22BA4B62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FF2A-6A35-4C3E-896A-8F7291F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7DB0-F836-4F65-A37A-A4D2EA5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C786-CE8D-4749-916F-692B4AD0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C92-A1D8-42B6-B662-A101224B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1D27-7322-4433-AC0B-9F96C5A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888D-8323-424A-82BD-BCE4D2A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ED9B-A014-42F8-9751-8B102F88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A9F8-2C76-46F9-9FAE-BD03A15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B887-7786-4593-9FDF-C6C11F3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4305-7613-4A6A-9500-1244C874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C5C1-0D02-4A09-847B-1E75285A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A9C8-766B-4003-B811-BD050FF8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F572-474D-47F1-8227-C65EE87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E144-CDF6-45C3-809B-55B856B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9D7-1792-40E7-AB84-D444963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AEB6-45FF-41DD-AF19-F24DEDF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EC51-81B0-4DED-90A8-15CAF1CD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0C5C-CD14-428A-B7DB-BD15F5A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231B-860C-4BF4-81D7-332F2AD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95D1-5F63-4CED-9BD4-3E97522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2A88-73A6-4085-8F3A-6E8EDE2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FB86-29B9-4662-AAA3-4501743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8C53-FCEA-49F6-9A8D-F34F272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3F5F-7C10-45DC-B1D7-4C571178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C9AE-76B5-43E8-879E-072C67CC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663-01F5-4761-8DBB-7E07A2D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8BD8-7CA0-46FF-A481-46ACA3F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9E77-AA1D-43BF-A21D-C5F9B08F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AA05-746E-4D29-8401-5A58A77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5C6E8-ABF7-4987-B3BD-E8C75536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7CF3-D965-47AD-9DFA-1305EA4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24C3-3231-4D3B-82E4-872C71D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E9A2-29A0-4B21-B12D-22BC73A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3791D-CE17-4589-BA04-B8F483B5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D350-F0D4-42E7-B67D-46D60D29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0294-7AF2-4967-96BC-9429AE6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171-7AD7-4969-937C-3A612F1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9EB8-CA9C-4B56-AD87-D38F9E19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3731-4073-45F5-BD2E-C830261D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0C85-98FC-4D4C-9301-F6DB631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56A3-D66B-44F1-8C19-A75BAA9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E4D9E-0636-40D8-86C9-3D12DBC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FA46-8899-4BAA-A7DE-B07B8AA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9035-6073-4E27-9C94-6DE12BB8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E517-CB16-4044-AC8A-A7F47C8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1ED89-822F-4878-B686-7528346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6AB9-7503-4214-AA96-83662AB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209-C202-47E5-A822-E38E6EF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EB42-5B9C-483C-B1E8-D298F70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552A-15F8-403A-9031-9087EFCB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8C0B-3FF8-4451-A4E9-BFBC2DDA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2E936-1757-4F09-A4D7-113D4AD1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C42E-F4CF-48A5-BEE4-21E30E1D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4DC9-372D-4D1F-A99B-29B2FD5C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0929-0DFB-4509-B77D-2C7C7A3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A3CF-8077-4DD2-BCC9-A26D9E7F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93FA0-9B51-4712-8F98-617BB30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04B9-F40E-43E8-A742-88C03B4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F10-5309-4C51-BD3D-110164F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6DEC-D85E-4F8B-B872-8FF7CC3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C4E3-1634-429F-B875-65B2859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8ADA-606B-4361-B5F9-2D84F86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2E4B-ED86-49BE-9AE0-21DAA138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C8F1-7C10-42C7-8F58-515E2D6C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C40A-D04B-431E-A55E-67169A7B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F1A4C-4ADE-446D-ADDD-675D2E05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EC6A-0F87-4944-BC68-3C0CC60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1E2C-8080-4929-9530-7837699D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AFCA-436A-4AC9-A2EF-EDE4330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292-C614-4417-A2BC-3A0401A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78545-E425-4659-BAED-18D3094E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37D3-D573-45C8-9BF3-E110576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839C-6952-4BDA-9FFA-DF6908CE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6C07-33F5-4B69-BC85-6966C8E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0E70-D599-4533-ABAF-D050C13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A64E-24A6-4C1D-9B8C-FCCD8409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DA5F-A64C-4928-9B39-55E4CFD1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9CABB-E059-4958-BF79-2D800B58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F31E4-A4C4-45FC-B6CF-ACFF4609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BF578-0D96-4DD3-B563-2843324D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E1C-9B5A-43C5-9875-30336A91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D5C-8C49-48D1-AED7-B67A6EC1D5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7CA0-9159-4023-AC8B-4A59EC17F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BFC-C18E-420C-B8F0-E2C1309467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7D6C-B573-4327-99E0-2FA369750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50E-0076-47F0-A929-A59CF4A8F4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A398-9464-42B6-907D-C20A98A98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8EF8-ED52-4713-8F76-439F68C515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A8A8-3C90-4611-BD8F-24FFCF4BD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9F9-0E45-466B-B5FB-16CCD178ED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3D7-DB5F-459E-86C9-F306F73D83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9AD-6762-4C93-B786-FA1386D760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ACB4-7601-4CEB-8544-09C046BED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A278-7F72-4196-B4AF-FE0864BA2E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D33-B41A-4D99-B363-8E80EBE19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DA5-6F72-413D-A01A-1208F00930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D22-5EC5-4B4C-881A-C2864C563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6A4C-1E09-410D-9905-1812677D5C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C59-7E24-47EE-AFF6-10E611049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2FA-3A27-4DCC-82A9-B18CBED946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785-535D-4198-B775-E10B3FFBB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C6F-39BE-4D7A-A089-99406052F5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DC4-FF6C-405D-A171-D705F9AF3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5CD-B8A2-45D4-A074-6C95800B95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7E6-4D60-4C10-88B1-920099533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3780000" y="1839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bfb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bfb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1" descr="D:\Documents\My Pictures\1-1312050KJ5113.jpg"/>
          <p:cNvPicPr/>
          <p:nvPr/>
        </p:nvPicPr>
        <p:blipFill>
          <a:blip r:embed="rId1"/>
          <a:srcRect l="0" t="0" r="0" b="24082"/>
          <a:stretch/>
        </p:blipFill>
        <p:spPr>
          <a:xfrm>
            <a:off x="0" y="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1547640" y="4098960"/>
            <a:ext cx="6264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3300"/>
                </a:solidFill>
                <a:latin typeface="Arial"/>
                <a:ea typeface="隶书"/>
              </a:rPr>
              <a:t>卡罗纳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11280" y="25092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楷体"/>
              </a:rPr>
              <a:t>　　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卡罗纳的母亲病得很厉害，卡罗纳很多天没来上学了。昨天下午，我们刚走进教室，老师就对大家说：“卡罗纳的母亲去世了，这个可怜的孩子遭到了巨大的不幸。他明天要来上课，孩子们，你们要庄重严肃，热情地对待他。任何人不许和他开玩笑，不许在他面前放声大笑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-34920" y="770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他面容灰白，眼睛哭红了，两腿站不稳，好象他自己也大病了一场似的。我心里不由得泛起一阵同情和怜悯，大家都              地望着他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1828080" y="4221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4d"/>
                </a:solidFill>
                <a:latin typeface="Arial"/>
                <a:ea typeface="楷体_GB2312"/>
              </a:rPr>
              <a:t>屏息凝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0" y="18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老师把卡罗纳拉到自己胸前，对他说：“哭 吧， 痛痛快快地 哭 吧，可怜的孩子！但你要坚强！你母亲已不在这个世界上了，但她能看见你，她依然爱着你，她还生活在你身边。孩子，你要坚强哟！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Line 3"/>
          <p:cNvSpPr/>
          <p:nvPr/>
        </p:nvSpPr>
        <p:spPr>
          <a:xfrm>
            <a:off x="2050920" y="198900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684360" y="54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10199"/>
                </a:solidFill>
                <a:latin typeface="Arial"/>
                <a:ea typeface="华文楷体"/>
              </a:rPr>
              <a:t>　　</a:t>
            </a:r>
            <a:r>
              <a:rPr b="1" lang="zh-CN" sz="6000" spc="-1" strike="noStrike">
                <a:solidFill>
                  <a:srgbClr val="010199"/>
                </a:solidFill>
                <a:latin typeface="Arial"/>
                <a:ea typeface="楷体_GB2312"/>
              </a:rPr>
              <a:t>把一只手放在他的肩膀上，脸贴在他的耳朵上， 对他说： “卡罗纳，别哭了。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2"/>
          <p:cNvSpPr/>
          <p:nvPr/>
        </p:nvSpPr>
        <p:spPr>
          <a:xfrm>
            <a:off x="2050920" y="198900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0" y="836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　　放学的时候，大家围在他身边，谁都没有说话，只用关切的目光默默地看着他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图片 001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90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835280" y="187200"/>
            <a:ext cx="590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卡罗纳    不幸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我同情你怜     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老师叮    又嘱    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同学默默关心他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我的母亲站在那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推开我望着他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人人关爱卡罗纳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故事感人传天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19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908160" y="115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076720" y="930240"/>
            <a:ext cx="70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5580000" y="1662120"/>
            <a:ext cx="10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708360" y="1662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0:13:53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09:47:26Z</dcterms:modified>
  <cp:revision>21</cp:revision>
  <dc:subject/>
  <dc:title>第一PPT模板网-WWW.1PPT.COM</dc:title>
</cp:coreProperties>
</file>