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11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5.gif" ContentType="image/gif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C55D-48EC-4B88-B31E-624691477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F7CE-FBD3-46BD-8E64-5761F1761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21E88F-FA42-42E8-BB1A-1EC2E54EB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AEDFF6-7DBA-401F-B08B-C44AD71DE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A75865-48CE-40C4-9D61-237C11C7D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FBAA74-A4F9-4C16-8CE4-CBF75792C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E5011A-4295-41AF-B8AD-E3A40CE76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B160B9-52D1-4FF1-87D8-861B33A1F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4D70B9-89E2-41F6-9740-356ED9641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4C18A1-1419-4110-A070-F543DAA36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366B17-3F11-4952-BEDE-A76DA1BEB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AA9F76-0A14-4092-B893-BBE9536FD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C171-E436-4397-BBAE-31D2AA279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CC6633-199C-4E30-860D-3EB0B5B70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859F06-347F-4907-8B2E-8316DB8B0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9F695B-EE59-40A0-8D5B-8F9089621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F6CD39-B1C2-4A8C-9233-EEF946459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E05465-F034-4F7E-AE99-F54FD36D5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070E4B-D747-43F7-BE06-B95A7E062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D144CD-26FE-45CB-BC46-A9052BDBA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353ECD-7B26-4B3C-A8CF-8A68C837F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07018B-A51F-49B6-85AC-F267FEF91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80A89B-A0AE-462C-B617-276316029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3E90-E929-4624-9822-A1DA1D6B2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219C6B-4CA8-4025-AF4A-78AFA5DCC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1A33F8-1A49-4C8F-85FB-5C891409B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F87745-CC59-413E-8A01-FEA06A0E2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F52280-0595-414F-B755-4A2E35BE4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BF472D-ED1F-45DF-A3CA-752D8F539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0D9282-1C73-4523-8076-A48FA1534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F53C6A-0626-4A5A-BB41-791A2F6AC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DDEB56-3800-499B-A5A1-BCCE4C722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6D1565-CEC3-4221-B6A8-14F1BBAB3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4FC4F2-8598-4322-82D3-82064A878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191A9-D11A-4E7F-A803-C0A96376F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B241F7-3D6D-4EFF-BE87-9CB297FE0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C66BD0-CC0C-435F-B71D-82CFCCDE8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952E5A-696E-4A1A-90F6-AA81C351A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A5B75F-151F-4B51-9241-103B8D274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6A4BF8-13B8-4038-BCBC-FCAC83328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7C8C9B-2A62-4EE9-AB20-B6307F2A8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DAA7CE-4B47-41D9-BD37-316C100F9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5EF14D-F466-406B-B136-85984CE5E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4F2550-202E-4E2D-B905-BAE7D5E0E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533BB4-349E-4074-AD0C-A9FF706B5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5C0AE-4630-42C4-B8FC-D59FF84BD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4A2587-D08C-470C-A42E-521EB4737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E82536-57E9-4297-93DF-C70830D87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F930B8-D9F3-412F-A665-B0237CB6D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5CF772-6588-4278-A0C0-D28AE0AA3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A2B859-9202-44E3-AA69-0314C8CC0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4F2010-0234-4936-AD42-DA2D450EE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C18C0E-9A20-4899-BC34-BC1D47F6A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B82F3A-6637-4A21-8788-76BFC7325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7B2A04-622F-414F-BBEF-4D81A7FC1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68509C-8EB2-4FAB-A682-1A172AB1D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A3065-5187-4CA9-B436-0BBE3E7EF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9D80D4-CF9E-49D9-81CA-691C72836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B08344-7347-435A-A119-F07B106F9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8430AA-81B4-421E-80CB-225232662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5C1F62-8007-43E9-98DD-E8A39F617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D73F3A-213F-4E2C-A9EB-4D4CDBB2A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692D5F-C261-4AB2-8D31-9689E24AD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0BDB4B-97C2-420D-A437-E61DB460A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3F7B2-1E2E-4279-B91E-6F1F4C032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ED036-A158-42A0-BEAE-30766695B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884CB-7E69-48D8-9179-65CBBEF90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A6E9C-9AF8-4DAA-A6B1-F4FFC14F2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994E-4E38-41B7-A3F1-8DC7A715F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A3828-4DDD-466C-A9A2-A7FEB773F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03A28-FB81-4377-88F0-A77911A90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3379D-532A-4CC8-9172-A15A9776E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C48BB-4357-4090-A463-8C302BFCA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6A2F3-40D6-486A-AAAE-5552D7DAB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1A396-90CF-44F1-A908-A1DCE55D2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B0FF1-7F02-4F1D-8E01-EE8F29878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A5427-93EF-460D-BDEC-386951754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027CF-F037-4F66-BC9B-CBAA5DA9F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3CB98-9C73-408B-9013-AC8E65B28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124B-9DEE-4C39-9D49-495F446A0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A8DD1-8326-4759-AA0E-7FC9D70FE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ECCE0-AB8B-4E25-8193-A696155D7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26321-58D0-4F53-A472-E7D14A210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EFC7B-6F5F-420D-BE47-A790696BA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B9CDF-52F5-424F-AF56-A47FBF894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4DAC3-C6F5-43D6-8456-6F229DEEF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5BA97-F4DB-4A48-A5E9-2983654C8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E50807-3DFA-44AB-A7D8-0FE9DC9D5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7813E-D1A5-4169-94DA-702B1ACBD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B160E-F952-4D6F-BC09-31C085E99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76B4-874F-46F6-AA61-6A27337C4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BF8AA-F905-4A59-836E-F91D5B657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07C11-42BF-4377-97DC-AE42A9135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65369-FC11-45C0-B082-111B6275A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80837-89D0-41F2-B85D-0E9A3A1E6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28639-EE58-4BEF-9BD0-A145DC85B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F7ECE-C0DF-481C-A3ED-927A787E4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DCAB3-1D14-4E64-82D5-B30E83CBB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876A9-226B-4BCB-8EB4-7BC57BA99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A415E-778E-4949-B588-3577074CB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C653E9-8AC3-4C85-BD4D-DA0C9E0BE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54CC-34C1-4FD2-83CC-0BCB1FDA6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B87695-6406-4EED-8E62-547846745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9D3D7E-9113-4E0F-BB53-72F8D2704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69E023-6310-45A6-9A3F-855561DF5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4CE471-EFA8-4B66-8309-251BB4A98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C9D96E-77FE-4D3D-89E4-7798F3D73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6518F8-99C4-4770-BBD5-A47700F4C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EE8FEB-548B-4CE6-B4F1-E0165F3BE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EBFEBE-3DB3-4B65-8E14-5EF7087E1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E4017C-881A-4040-8426-E184ACE4D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4F18C8-7B68-4E3B-B639-EEA122C12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010C-6036-4DA7-93EB-2FDF90CF8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020195-BC21-4AED-8264-8A46AA368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F75799-FEC1-49F0-A7C0-AF72830A7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7976D7-C86B-4D82-99B8-1A9AFE709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D11D0D-DD76-4A7E-BFCA-32E77443E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1D14C6-090F-4033-8D4B-CCA7C84F8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79536A-3E1F-45F4-B788-FFBD5B1FE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A26B13-18EE-439A-B2BA-60090E262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383DDF-E145-4D59-844D-00DE6BBE4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5A6169-2BB8-49C7-A393-A2A04C9BB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15C852-EDFE-4841-90F5-9FEE58990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FE1D-7774-47B5-88F9-BC7276265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8DEEC8-EDF4-4343-9334-C01F1B36E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799F37-7EFD-4D0D-8226-FD012B160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FEAFCD-8BE4-44F7-AA93-832FA6864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CF0F29-69BC-4D23-B6E9-898FA9130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42E352-AC57-4905-B900-2DEA37378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D0BDFB-7E01-4616-BD18-22468CE92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F6BEF2-4F06-46C5-B882-32130F045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DFB003-528A-4A0C-85AB-6797E32CA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4E108A-1926-42FE-99A8-F034F130A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BDD7A5-3292-41FA-9DDF-8880CE714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CF25-A5BD-4606-95E0-2100D6FC1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5F3FAD-F461-4C23-B143-4E2EA8303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CE0362-44E4-46CD-9518-292C59FDD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1A7C39-D9CD-4449-8451-BF58B7D64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5453A8-362D-4FF3-9AEC-960E5BA6C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D2CA4E-2E9B-42E9-AE3C-24610063A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CCC87F-6716-4F2A-8A34-AD78EAF71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B4E6DC-9A62-44CF-A61C-EC91CD288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7B8EC2-8C0F-4C18-9CA3-83A37C671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F2F6AD-AD01-4B21-8CCE-517043B0E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1C3AEB-CFFE-449F-9B82-5722BA990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F015-C36B-4EFA-AE8A-44CEAC87A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C7517F-C9FB-452C-AD88-1239811C0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303442-E727-47B9-80A6-0E518EB39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4A619A-6711-45F8-B8F5-72FFDF0BE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358948-078E-42F2-90B0-AF99400F6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567246-7BAA-45C7-84ED-674BF4D1B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1403DD-82D6-48D0-8541-77B2432D4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698164-3DD5-429C-BEB4-A6446B231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749AD8-F0C1-4127-84B9-AECA1EDCB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8AA330-8E6A-40D3-9144-8625A0DCE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C3D561-775F-4577-8DF7-33E172630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5A957-71B9-4CC6-80C4-E4DCDFFE13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93663-2DD2-41C5-A176-C6DBC9573DC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E3D1A-B4E2-492A-A271-36AE1E595D0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17231-4A61-415B-9D6C-D5EC39F0CEC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4AF25-0AC2-49E7-B807-313D7DEB9AF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97260-1BD0-46DF-BF42-642B229FA89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1AE73-4FE0-4CA9-BA92-96B7737680C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5EA06-2AA2-47FF-8CA2-06FC21B5285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C6D4F-C3A7-4514-85CC-7A22CE39352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73F1C-CC1C-46C0-BAAA-863380C95C2C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E799E-4713-4B1F-96DF-604CE181D3F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5B0B5-6168-416F-B9C8-0AAC29ABB27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ECBFB-4CB5-43F0-B7BC-0CBF96FF78C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47FBB-995D-4644-9708-D7C92473033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8D920-5B42-4F8E-B5B5-B00C7EA3860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FC2EF-42BB-47DA-A09E-C8E90301DA5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06181-4534-4810-8D6A-2C985755AB0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0FE52-F1AB-4A23-A3E5-FEE2AE2FE07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66164-B5F9-4BAC-B687-A2BCF13F220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66992-A274-48D8-AF42-4F334D87464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8BB3F-0506-47E1-8163-BDFFDBFEC0D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2FBD4-92DC-40BC-AE4E-6CBBEF3150F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A55AA-6215-43BF-AE92-08A4B46A1C2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E03CA-A15E-472D-A9F8-FC07FC81EAB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7AAD2-75E6-48D8-A20D-B224C99B025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8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5" descr="D:\杂谈\国画\TN_0121.JPG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0" y="-254160"/>
            <a:ext cx="9144000" cy="7112160"/>
          </a:xfrm>
          <a:prstGeom prst="rect">
            <a:avLst/>
          </a:prstGeom>
          <a:ln w="0">
            <a:noFill/>
          </a:ln>
        </p:spPr>
      </p:pic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孔雀东南飞</a:t>
            </a:r>
            <a:r>
              <a:rPr b="1" lang="zh-CN" sz="7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（并序）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2362320" y="297144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zh-CN" sz="3600" spc="-1" strike="noStrike">
                <a:solidFill>
                  <a:srgbClr val="ffffff"/>
                </a:solidFill>
                <a:latin typeface="Times New Roman"/>
              </a:rPr>
              <a:t>原题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1" i="1" lang="zh-CN" sz="3600" spc="-1" strike="noStrike">
                <a:solidFill>
                  <a:srgbClr val="ffffff"/>
                </a:solidFill>
                <a:latin typeface="Times New Roman"/>
              </a:rPr>
              <a:t>古诗为焦仲卿妻作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Picture 5" descr="D:\杂谈\tuhua\heiye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偏义复词：</a:t>
            </a:r>
            <a:br>
              <a:rPr sz="4000"/>
            </a:b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一个词由两个意义相近或相反的语素构成，其中一个表示意义，另一个不表示意义，只作陪衬。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  请看几例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0" y="2514240"/>
            <a:ext cx="91440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1</a:t>
            </a:r>
            <a:r>
              <a:rPr b="0" lang="zh-CN" sz="4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、</a:t>
            </a:r>
            <a:r>
              <a:rPr b="1" lang="zh-CN" sz="4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缘溪行，忘路之</a:t>
            </a:r>
            <a:r>
              <a:rPr b="1" lang="zh-CN" sz="40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远近</a:t>
            </a:r>
            <a:r>
              <a:rPr b="1" lang="zh-CN" sz="4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。（桃花源记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、此诚危急</a:t>
            </a:r>
            <a:r>
              <a:rPr b="1" lang="zh-CN" sz="40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存亡</a:t>
            </a:r>
            <a:r>
              <a:rPr b="1" lang="zh-CN" sz="4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之秋也。（出师表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、备他盗之</a:t>
            </a:r>
            <a:r>
              <a:rPr b="1" lang="zh-CN" sz="40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出入</a:t>
            </a:r>
            <a:r>
              <a:rPr b="1" lang="zh-CN" sz="4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与非常也。（鸿门宴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、今有一人入</a:t>
            </a:r>
            <a:r>
              <a:rPr b="1" lang="zh-CN" sz="40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园圃</a:t>
            </a:r>
            <a:r>
              <a:rPr b="1" lang="zh-CN" sz="4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，窃其桃李。（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子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·</a:t>
            </a:r>
            <a:r>
              <a:rPr b="1" lang="zh-CN" sz="4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非攻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8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1026" descr="D:\杂谈\tuhua\wy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相”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字用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</a:t>
            </a:r>
            <a:r>
              <a:rPr b="1" lang="zh-CN" sz="44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相</a:t>
            </a:r>
            <a:r>
              <a:rPr b="1" lang="zh-CN" sz="4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辅相成       </a:t>
            </a:r>
            <a:r>
              <a:rPr b="1" lang="en-US" sz="4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</a:t>
            </a:r>
            <a:r>
              <a:rPr b="1" lang="zh-CN" sz="44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相</a:t>
            </a:r>
            <a:r>
              <a:rPr b="1" lang="zh-CN" sz="4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机行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吉人天</a:t>
            </a:r>
            <a:r>
              <a:rPr b="1" lang="zh-CN" sz="44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相       </a:t>
            </a:r>
            <a:r>
              <a:rPr b="1" lang="en-US" sz="4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4</a:t>
            </a:r>
            <a:r>
              <a:rPr b="1" lang="zh-CN" sz="4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真人露</a:t>
            </a:r>
            <a:r>
              <a:rPr b="1" lang="zh-CN" sz="44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5</a:t>
            </a:r>
            <a:r>
              <a:rPr b="1" lang="zh-CN" sz="4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儿已薄禄</a:t>
            </a:r>
            <a:r>
              <a:rPr b="1" lang="zh-CN" sz="44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相     </a:t>
            </a:r>
            <a:r>
              <a:rPr b="1" lang="en-US" sz="4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6</a:t>
            </a:r>
            <a:r>
              <a:rPr b="1" lang="zh-CN" sz="4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及时</a:t>
            </a:r>
            <a:r>
              <a:rPr b="1" lang="zh-CN" sz="44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相</a:t>
            </a:r>
            <a:r>
              <a:rPr b="1" lang="zh-CN" sz="4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遣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7</a:t>
            </a:r>
            <a:r>
              <a:rPr b="1" lang="zh-CN" sz="4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会不</a:t>
            </a:r>
            <a:r>
              <a:rPr b="1" lang="zh-CN" sz="44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相</a:t>
            </a:r>
            <a:r>
              <a:rPr b="1" lang="zh-CN" sz="4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从许     </a:t>
            </a:r>
            <a:r>
              <a:rPr b="1" lang="en-US" sz="4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8</a:t>
            </a:r>
            <a:r>
              <a:rPr b="1" lang="zh-CN" sz="4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蹑履</a:t>
            </a:r>
            <a:r>
              <a:rPr b="1" lang="zh-CN" sz="44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相</a:t>
            </a:r>
            <a:r>
              <a:rPr b="1" lang="zh-CN" sz="4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逢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6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Picture 1026" descr="D:\杂谈\tuhua\index_r5_c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古今年龄对照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ffffff"/>
                </a:solidFill>
                <a:latin typeface="MingLiU"/>
                <a:ea typeface="MingLiU"/>
              </a:rPr>
              <a:t>成年：男</a:t>
            </a:r>
            <a:r>
              <a:rPr b="1" lang="en-US" sz="4000" spc="-1" strike="noStrike">
                <a:solidFill>
                  <a:srgbClr val="ffffff"/>
                </a:solidFill>
                <a:latin typeface="MingLiU"/>
                <a:ea typeface="MingLiU"/>
              </a:rPr>
              <a:t>20</a:t>
            </a:r>
            <a:r>
              <a:rPr b="1" lang="zh-CN" sz="4000" spc="-1" strike="noStrike">
                <a:solidFill>
                  <a:srgbClr val="ffffff"/>
                </a:solidFill>
                <a:latin typeface="MingLiU"/>
                <a:ea typeface="MingLiU"/>
              </a:rPr>
              <a:t>岁，弱冠；女</a:t>
            </a:r>
            <a:r>
              <a:rPr b="1" lang="en-US" sz="4000" spc="-1" strike="noStrike">
                <a:solidFill>
                  <a:srgbClr val="ffffff"/>
                </a:solidFill>
                <a:latin typeface="MingLiU"/>
                <a:ea typeface="MingLiU"/>
              </a:rPr>
              <a:t>15</a:t>
            </a:r>
            <a:r>
              <a:rPr b="1" lang="zh-CN" sz="4000" spc="-1" strike="noStrike">
                <a:solidFill>
                  <a:srgbClr val="ffffff"/>
                </a:solidFill>
                <a:latin typeface="MingLiU"/>
                <a:ea typeface="MingLiU"/>
              </a:rPr>
              <a:t>岁，及笄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MingLiU"/>
                <a:ea typeface="MingLiU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MingLiU"/>
                <a:ea typeface="MingLiU"/>
              </a:rPr>
              <a:t>而立：</a:t>
            </a:r>
            <a:r>
              <a:rPr b="1" lang="en-US" sz="4000" spc="-1" strike="noStrike">
                <a:solidFill>
                  <a:srgbClr val="ffffff"/>
                </a:solidFill>
                <a:latin typeface="MingLiU"/>
                <a:ea typeface="MingLiU"/>
              </a:rPr>
              <a:t>30</a:t>
            </a:r>
            <a:r>
              <a:rPr b="1" lang="zh-CN" sz="4000" spc="-1" strike="noStrike">
                <a:solidFill>
                  <a:srgbClr val="ffffff"/>
                </a:solidFill>
                <a:latin typeface="MingLiU"/>
                <a:ea typeface="MingLiU"/>
              </a:rPr>
              <a:t>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MingLiU"/>
                <a:ea typeface="MingLiU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MingLiU"/>
                <a:ea typeface="MingLiU"/>
              </a:rPr>
              <a:t>不惑：</a:t>
            </a:r>
            <a:r>
              <a:rPr b="1" lang="en-US" sz="4000" spc="-1" strike="noStrike">
                <a:solidFill>
                  <a:srgbClr val="ffffff"/>
                </a:solidFill>
                <a:latin typeface="MingLiU"/>
                <a:ea typeface="MingLiU"/>
              </a:rPr>
              <a:t>40</a:t>
            </a:r>
            <a:r>
              <a:rPr b="1" lang="zh-CN" sz="4000" spc="-1" strike="noStrike">
                <a:solidFill>
                  <a:srgbClr val="ffffff"/>
                </a:solidFill>
                <a:latin typeface="MingLiU"/>
                <a:ea typeface="MingLiU"/>
              </a:rPr>
              <a:t>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MingLiU"/>
                <a:ea typeface="MingLiU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MingLiU"/>
                <a:ea typeface="MingLiU"/>
              </a:rPr>
              <a:t>知命：</a:t>
            </a:r>
            <a:r>
              <a:rPr b="1" lang="en-US" sz="4000" spc="-1" strike="noStrike">
                <a:solidFill>
                  <a:srgbClr val="ffffff"/>
                </a:solidFill>
                <a:latin typeface="MingLiU"/>
                <a:ea typeface="MingLiU"/>
              </a:rPr>
              <a:t>50</a:t>
            </a:r>
            <a:r>
              <a:rPr b="1" lang="zh-CN" sz="4000" spc="-1" strike="noStrike">
                <a:solidFill>
                  <a:srgbClr val="ffffff"/>
                </a:solidFill>
                <a:latin typeface="MingLiU"/>
                <a:ea typeface="MingLiU"/>
              </a:rPr>
              <a:t>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MingLiU"/>
                <a:ea typeface="MingLiU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MingLiU"/>
                <a:ea typeface="MingLiU"/>
              </a:rPr>
              <a:t>花甲（耆）：</a:t>
            </a:r>
            <a:r>
              <a:rPr b="1" lang="en-US" sz="4000" spc="-1" strike="noStrike">
                <a:solidFill>
                  <a:srgbClr val="ffffff"/>
                </a:solidFill>
                <a:latin typeface="MingLiU"/>
                <a:ea typeface="MingLiU"/>
              </a:rPr>
              <a:t>60</a:t>
            </a:r>
            <a:r>
              <a:rPr b="1" lang="zh-CN" sz="4000" spc="-1" strike="noStrike">
                <a:solidFill>
                  <a:srgbClr val="ffffff"/>
                </a:solidFill>
                <a:latin typeface="MingLiU"/>
                <a:ea typeface="MingLiU"/>
              </a:rPr>
              <a:t>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MingLiU"/>
                <a:ea typeface="MingLiU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MingLiU"/>
                <a:ea typeface="MingLiU"/>
              </a:rPr>
              <a:t>古稀：</a:t>
            </a:r>
            <a:r>
              <a:rPr b="1" lang="en-US" sz="4000" spc="-1" strike="noStrike">
                <a:solidFill>
                  <a:srgbClr val="ffffff"/>
                </a:solidFill>
                <a:latin typeface="MingLiU"/>
                <a:ea typeface="MingLiU"/>
              </a:rPr>
              <a:t>70</a:t>
            </a:r>
            <a:r>
              <a:rPr b="1" lang="zh-CN" sz="4000" spc="-1" strike="noStrike">
                <a:solidFill>
                  <a:srgbClr val="ffffff"/>
                </a:solidFill>
                <a:latin typeface="MingLiU"/>
                <a:ea typeface="MingLiU"/>
              </a:rPr>
              <a:t>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MingLiU"/>
                <a:ea typeface="MingLiU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MingLiU"/>
                <a:ea typeface="MingLiU"/>
              </a:rPr>
              <a:t>耄耋：</a:t>
            </a:r>
            <a:r>
              <a:rPr b="1" lang="en-US" sz="4000" spc="-1" strike="noStrike">
                <a:solidFill>
                  <a:srgbClr val="ffffff"/>
                </a:solidFill>
                <a:latin typeface="MingLiU"/>
                <a:ea typeface="MingLiU"/>
              </a:rPr>
              <a:t>80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MingLiU"/>
              </a:rPr>
              <a:t>—</a:t>
            </a:r>
            <a:r>
              <a:rPr b="1" lang="en-US" sz="4000" spc="-1" strike="noStrike">
                <a:solidFill>
                  <a:srgbClr val="ffffff"/>
                </a:solidFill>
                <a:latin typeface="MingLiU"/>
                <a:ea typeface="MingLiU"/>
              </a:rPr>
              <a:t>90</a:t>
            </a:r>
            <a:r>
              <a:rPr b="1" lang="zh-CN" sz="4000" spc="-1" strike="noStrike">
                <a:solidFill>
                  <a:srgbClr val="ffffff"/>
                </a:solidFill>
                <a:latin typeface="MingLiU"/>
                <a:ea typeface="MingLiU"/>
              </a:rPr>
              <a:t>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MingLiU"/>
                <a:ea typeface="MingLiU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MingLiU"/>
                <a:ea typeface="MingLiU"/>
              </a:rPr>
              <a:t>期颐：</a:t>
            </a:r>
            <a:r>
              <a:rPr b="1" lang="en-US" sz="4000" spc="-1" strike="noStrike">
                <a:solidFill>
                  <a:srgbClr val="ffffff"/>
                </a:solidFill>
                <a:latin typeface="MingLiU"/>
                <a:ea typeface="MingLiU"/>
              </a:rPr>
              <a:t>100</a:t>
            </a:r>
            <a:r>
              <a:rPr b="1" lang="zh-CN" sz="4000" spc="-1" strike="noStrike">
                <a:solidFill>
                  <a:srgbClr val="ffffff"/>
                </a:solidFill>
                <a:latin typeface="MingLiU"/>
                <a:ea typeface="MingLiU"/>
              </a:rPr>
              <a:t>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4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Picture 2" descr="D:\杂谈\tuhua\rr8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44892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a50021"/>
                </a:solidFill>
                <a:latin typeface="Times New Roman"/>
              </a:rPr>
              <a:t>请看以下对联，</a:t>
            </a:r>
            <a:br>
              <a:rPr sz="4400"/>
            </a:br>
            <a:r>
              <a:rPr b="1" i="1" lang="zh-CN" sz="4400" spc="-1" strike="noStrike">
                <a:solidFill>
                  <a:srgbClr val="a50021"/>
                </a:solidFill>
                <a:latin typeface="Times New Roman"/>
              </a:rPr>
              <a:t>推断老寿星高寿几何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1143000" y="251460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花甲重开，再添三七岁月；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古稀双庆，外加一度春秋。</a:t>
            </a:r>
            <a:r>
              <a:rPr b="1" lang="zh-CN" sz="4800" spc="-1" strike="noStrike">
                <a:solidFill>
                  <a:srgbClr val="9900cc"/>
                </a:solidFill>
                <a:latin typeface="Times New Roman"/>
                <a:ea typeface="华文行楷"/>
              </a:rPr>
              <a:t>答案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5"/>
          <p:cNvSpPr/>
          <p:nvPr/>
        </p:nvSpPr>
        <p:spPr>
          <a:xfrm>
            <a:off x="6553080" y="5638680"/>
            <a:ext cx="16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141</a:t>
            </a:r>
            <a:r>
              <a:rPr b="1" lang="zh-CN" sz="40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2" descr="D:\杂谈\tuhua\d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古今异义双音节词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-360" y="1828800"/>
            <a:ext cx="4419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区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何乃太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区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感君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区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小人不才，正是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区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秦以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区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之地，致万乘之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可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可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体无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（阿房宫）楚人一炬，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可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焦土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可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身上衣正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可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陌上离离草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种逢春各短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71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1028" descr="D:\杂谈\tuhua\3609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cc99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Times New Roman"/>
                <a:ea typeface="隶书"/>
              </a:rPr>
              <a:t>陌上桑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-360" y="761760"/>
            <a:ext cx="9448920" cy="6095880"/>
          </a:xfrm>
          <a:prstGeom prst="rect">
            <a:avLst/>
          </a:prstGeom>
          <a:solidFill>
            <a:srgbClr val="cc99ff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仿宋_GB2312"/>
              </a:rPr>
              <a:t>日出东南隅，照我秦氏楼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仿宋_GB2312"/>
              </a:rPr>
              <a:t>秦氏有好女，自名秦罗敷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仿宋_GB2312"/>
              </a:rPr>
              <a:t>罗敷喜蚕桑，采桑城南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仿宋_GB2312"/>
              </a:rPr>
              <a:t>青丝为笼系，桂枝为笼钩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仿宋_GB2312"/>
              </a:rPr>
              <a:t>头上倭堕髻，耳中明月珠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仿宋_GB2312"/>
              </a:rPr>
              <a:t>湘绮为下裙，紫绮为上襦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仿宋_GB2312"/>
              </a:rPr>
              <a:t>行者见罗敷，下担捋髭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仿宋_GB2312"/>
              </a:rPr>
              <a:t>少年见罗敷，脱帽著俏头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仿宋_GB2312"/>
              </a:rPr>
              <a:t>耕者忘其犁，锄者忘其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仿宋_GB2312"/>
              </a:rPr>
              <a:t>来归相怨怒，但坐观罗敷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8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3581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 u="sng">
                <a:solidFill>
                  <a:srgbClr val="ff3300"/>
                </a:solidFill>
                <a:uFillTx/>
                <a:latin typeface="Times New Roman"/>
                <a:ea typeface="楷体_GB2312"/>
              </a:rPr>
              <a:t>自学问答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8763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新妇谓府吏：“勿复重</a:t>
            </a:r>
            <a:r>
              <a:rPr b="1" lang="zh-CN" sz="3600" spc="-1" strike="noStrike">
                <a:solidFill>
                  <a:srgbClr val="9900cc"/>
                </a:solidFill>
                <a:latin typeface="Times New Roman"/>
                <a:ea typeface="华文新魏"/>
              </a:rPr>
              <a:t>纷纭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。往昔初阳岁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00cc99"/>
                </a:solidFill>
                <a:latin typeface="Times New Roman"/>
                <a:ea typeface="华文新魏"/>
              </a:rPr>
              <a:t>谢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家来贵门。奉事循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公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，进止敢自专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昼夜勤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作息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，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伶俜</a:t>
            </a:r>
            <a:r>
              <a:rPr b="1" lang="zh-CN" sz="3600" spc="-1" strike="noStrike">
                <a:solidFill>
                  <a:srgbClr val="00cc99"/>
                </a:solidFill>
                <a:latin typeface="Times New Roman"/>
                <a:ea typeface="华文新魏"/>
              </a:rPr>
              <a:t>萦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苦辛。谓言无罪过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华文新魏"/>
              </a:rPr>
              <a:t>供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养卒大恩；仍更被驱遣，</a:t>
            </a:r>
            <a:r>
              <a:rPr b="1" lang="zh-CN" sz="3600" spc="-1" strike="noStrike">
                <a:solidFill>
                  <a:srgbClr val="009900"/>
                </a:solidFill>
                <a:latin typeface="Times New Roman"/>
                <a:ea typeface="华文新魏"/>
              </a:rPr>
              <a:t>何言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复来还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妾有绣腰襦，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葳蕤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自生光；红罗复斗帐 ，四角垂香囊；箱</a:t>
            </a:r>
            <a:r>
              <a:rPr b="1" lang="zh-CN" sz="3600" spc="-1" strike="noStrike">
                <a:solidFill>
                  <a:srgbClr val="a50021"/>
                </a:solidFill>
                <a:latin typeface="Times New Roman"/>
                <a:ea typeface="华文新魏"/>
              </a:rPr>
              <a:t>帘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六七十，绿碧青丝绳，物物各自异，种种在其中。人贱物亦鄙，不足迎后人，留待作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华文新魏"/>
              </a:rPr>
              <a:t>遗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施，于今无会因。时时为安慰，久久莫</a:t>
            </a:r>
            <a:r>
              <a:rPr b="1" lang="zh-CN" sz="3600" spc="-1" strike="noStrike">
                <a:solidFill>
                  <a:srgbClr val="00cc99"/>
                </a:solidFill>
                <a:latin typeface="Times New Roman"/>
                <a:ea typeface="华文新魏"/>
              </a:rPr>
              <a:t>相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忘！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Picture 4" descr="D:\杂谈\tuhua\洁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372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中国古代传统节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</a:t>
            </a:r>
            <a:r>
              <a:rPr b="1" lang="zh-CN" sz="32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元日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：正月初一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</a:t>
            </a:r>
            <a:r>
              <a:rPr b="1" lang="zh-CN" sz="32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人日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：正月初七日。高适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“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仿宋_GB2312"/>
                <a:ea typeface="仿宋_GB2312"/>
              </a:rPr>
              <a:t>人日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题诗寄草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</a:t>
            </a:r>
            <a:r>
              <a:rPr b="1" lang="zh-CN" sz="32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灯节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元宵节、上元）：正月十五日。朱淑贞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去年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仿宋_GB2312"/>
                <a:ea typeface="仿宋_GB2312"/>
              </a:rPr>
              <a:t>元夜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时，花市灯如昼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</a:t>
            </a:r>
            <a:r>
              <a:rPr b="1" lang="zh-CN" sz="32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社日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：春分前后，农家祭社祈年的日子。杜甫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田翁逼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仿宋_GB2312"/>
                <a:ea typeface="仿宋_GB2312"/>
              </a:rPr>
              <a:t>社日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，邀我尝春酒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</a:t>
            </a:r>
            <a:r>
              <a:rPr b="1" lang="zh-CN" sz="32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寒食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：清明前二日，冬至后一百五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</a:t>
            </a:r>
            <a:r>
              <a:rPr b="1" lang="zh-CN" sz="32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端午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：五月初五，屈原投江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</a:t>
            </a:r>
            <a:r>
              <a:rPr b="1" lang="zh-CN" sz="32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七夕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乞巧节）：农历七月初七日，旧时妇女在这天晚上用针作各种游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</a:t>
            </a:r>
            <a:r>
              <a:rPr b="1" lang="zh-CN" sz="32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中秋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：八月十五日。 </a:t>
            </a: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</a:t>
            </a:r>
            <a:r>
              <a:rPr b="1" lang="zh-CN" sz="32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重阳节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：九月九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</a:t>
            </a:r>
            <a:r>
              <a:rPr b="1" lang="zh-CN" sz="32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除夕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：一年最后一天晚上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5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21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6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Picture 4" descr="D:\杂谈\tuhua\3609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汉乐府民歌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: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          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</a:rPr>
              <a:t>上邪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上邪！我欲与君相知，长命无绝衰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山无陵，江水为竭，冬雷震震，夏雨雪，天地合，乃敢与君绝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Picture 4" descr="D:\杂谈\tuhua\maxuserid78094088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553080" y="609480"/>
            <a:ext cx="1943280" cy="5486400"/>
          </a:xfrm>
          <a:prstGeom prst="rect">
            <a:avLst/>
          </a:prstGeom>
          <a:noFill/>
          <a:ln w="0">
            <a:noFill/>
          </a:ln>
        </p:spPr>
        <p:txBody>
          <a:bodyPr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3300"/>
                </a:solidFill>
                <a:latin typeface="Times New Roman"/>
                <a:ea typeface="隶书"/>
              </a:rPr>
              <a:t>沈园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0" y="0"/>
            <a:ext cx="6362640" cy="6858000"/>
          </a:xfrm>
          <a:prstGeom prst="rect">
            <a:avLst/>
          </a:prstGeom>
          <a:noFill/>
          <a:ln w="0">
            <a:noFill/>
          </a:ln>
        </p:spPr>
        <p:txBody>
          <a:bodyPr anchor="t" vert="eaVert">
            <a:normAutofit fontScale="80000"/>
          </a:bodyPr>
          <a:p>
            <a:pPr marL="27432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</a:t>
            </a:r>
            <a:r>
              <a:rPr b="0" lang="zh-CN" sz="6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城上斜阳画角哀，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 </a:t>
            </a:r>
            <a:r>
              <a:rPr b="0" lang="zh-CN" sz="6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沈园非复旧池台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 </a:t>
            </a:r>
            <a:r>
              <a:rPr b="0" lang="zh-CN" sz="6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伤心桥下春波绿，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 </a:t>
            </a:r>
            <a:r>
              <a:rPr b="0" lang="zh-CN" sz="6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曾是惊鸿梦里来！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3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4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371240" y="304920"/>
            <a:ext cx="4343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Times New Roman"/>
                <a:ea typeface="隶书"/>
              </a:rPr>
              <a:t>学习重点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了解并掌握</a:t>
            </a:r>
            <a:r>
              <a:rPr b="1" lang="zh-CN" sz="4000" spc="-1" strike="noStrike">
                <a:solidFill>
                  <a:srgbClr val="a50021"/>
                </a:solidFill>
                <a:latin typeface="华文行楷"/>
                <a:ea typeface="华文行楷"/>
              </a:rPr>
              <a:t>古代文化常识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有关</a:t>
            </a:r>
            <a:r>
              <a:rPr b="1" lang="zh-CN" sz="4000" spc="-1" strike="noStrike">
                <a:solidFill>
                  <a:srgbClr val="a50021"/>
                </a:solidFill>
                <a:latin typeface="华文行楷"/>
                <a:ea typeface="华文行楷"/>
              </a:rPr>
              <a:t>文学常识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理解并牢固掌握文言文中</a:t>
            </a:r>
            <a:r>
              <a:rPr b="1" lang="zh-CN" sz="4000" spc="-1" strike="noStrike">
                <a:solidFill>
                  <a:srgbClr val="9900cc"/>
                </a:solidFill>
                <a:latin typeface="华文行楷"/>
                <a:ea typeface="华文行楷"/>
              </a:rPr>
              <a:t>古今异义词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1" lang="zh-CN" sz="4000" spc="-1" strike="noStrike">
                <a:solidFill>
                  <a:srgbClr val="9900cc"/>
                </a:solidFill>
                <a:latin typeface="华文行楷"/>
                <a:ea typeface="华文行楷"/>
              </a:rPr>
              <a:t>偏义复合词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等词法知识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学习汉乐府民歌</a:t>
            </a:r>
            <a:r>
              <a:rPr b="1" lang="zh-CN" sz="4000" spc="-1" strike="noStrike">
                <a:solidFill>
                  <a:srgbClr val="00cc99"/>
                </a:solidFill>
                <a:latin typeface="华文行楷"/>
                <a:ea typeface="华文行楷"/>
              </a:rPr>
              <a:t>塑造人物形象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的手法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体会汉乐府民歌中</a:t>
            </a:r>
            <a:r>
              <a:rPr b="1" lang="zh-CN" sz="4000" spc="-1" strike="noStrike">
                <a:solidFill>
                  <a:srgbClr val="ff3300"/>
                </a:solidFill>
                <a:latin typeface="华文行楷"/>
                <a:ea typeface="华文行楷"/>
              </a:rPr>
              <a:t>赋、比、兴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手法的艺术效果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Picture 4" descr="D:\杂谈\tuhua\黄昏江.jpg"/>
          <p:cNvPicPr/>
          <p:nvPr/>
        </p:nvPicPr>
        <p:blipFill>
          <a:blip r:embed="rId1"/>
          <a:stretch/>
        </p:blipFill>
        <p:spPr>
          <a:xfrm>
            <a:off x="0" y="0"/>
            <a:ext cx="9524880" cy="6858000"/>
          </a:xfrm>
          <a:prstGeom prst="rect">
            <a:avLst/>
          </a:prstGeom>
          <a:ln w="0">
            <a:noFill/>
          </a:ln>
        </p:spPr>
      </p:pic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钗头凤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601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华文行楷"/>
                <a:ea typeface="华文行楷"/>
              </a:rPr>
              <a:t>红稣手，黄藤酒，满城春色宫墙柳。东风恶，欢情薄，一怀 愁绪，几年离索。错、错、错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华文行楷"/>
                <a:ea typeface="华文行楷"/>
              </a:rPr>
              <a:t>春如旧，人空瘦，泪痕红浥鲛绡透。桃花落，闲池阁。山盟虽在，锦书难托。莫、莫、莫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71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77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8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Picture 2" descr="C:\WINDOWS\Desktop\新建文件夹\新建文件夹\97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2" name="Text Box 3"/>
          <p:cNvSpPr/>
          <p:nvPr/>
        </p:nvSpPr>
        <p:spPr>
          <a:xfrm>
            <a:off x="0" y="0"/>
            <a:ext cx="9144000" cy="34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9900"/>
                </a:solidFill>
                <a:latin typeface="华文新魏"/>
                <a:ea typeface="华文新魏"/>
              </a:rPr>
              <a:t>钗头凤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华文新魏"/>
                <a:ea typeface="华文新魏"/>
              </a:rPr>
              <a:t>          </a:t>
            </a:r>
            <a:r>
              <a:rPr b="0" lang="zh-CN" sz="3600" spc="-1" strike="noStrike">
                <a:solidFill>
                  <a:srgbClr val="ff9900"/>
                </a:solidFill>
                <a:latin typeface="华文新魏"/>
                <a:ea typeface="华文新魏"/>
              </a:rPr>
              <a:t>唐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00"/>
                </a:solidFill>
                <a:latin typeface="华文新魏"/>
                <a:ea typeface="华文新魏"/>
              </a:rPr>
              <a:t>世情恶，人情薄，雨送黄昏花易落。晓风干，泪痕残，欲笺心事，独语斜阑。难，难，难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00"/>
                </a:solidFill>
                <a:latin typeface="华文新魏"/>
                <a:ea typeface="华文新魏"/>
              </a:rPr>
              <a:t>      </a:t>
            </a:r>
            <a:r>
              <a:rPr b="0" lang="zh-CN" sz="4400" spc="-1" strike="noStrike">
                <a:solidFill>
                  <a:srgbClr val="ff9900"/>
                </a:solidFill>
                <a:latin typeface="华文新魏"/>
                <a:ea typeface="华文新魏"/>
              </a:rPr>
              <a:t>人成各，今非昨，病魂常似秋千索。角声寒，夜阑珊，怕人询问，咽泪装欢。瞒，瞒，瞒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3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1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1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6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2" descr="D:\杂谈\国画\TN_0237.JPG"/>
          <p:cNvPicPr/>
          <p:nvPr/>
        </p:nvPicPr>
        <p:blipFill>
          <a:blip r:embed="rId1"/>
          <a:stretch/>
        </p:blipFill>
        <p:spPr>
          <a:xfrm>
            <a:off x="0" y="-380880"/>
            <a:ext cx="10439280" cy="7619760"/>
          </a:xfrm>
          <a:prstGeom prst="rect">
            <a:avLst/>
          </a:prstGeom>
          <a:ln w="0">
            <a:noFill/>
          </a:ln>
        </p:spPr>
      </p:pic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Times New Roman"/>
                <a:ea typeface="隶书"/>
              </a:rPr>
              <a:t>一、有关文学知识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1</a:t>
            </a:r>
            <a:r>
              <a:rPr b="1" lang="zh-CN" sz="4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、</a:t>
            </a:r>
            <a:r>
              <a:rPr b="1" lang="en-US" sz="4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《</a:t>
            </a:r>
            <a:r>
              <a:rPr b="1" lang="zh-CN" sz="4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孔雀东南飞</a:t>
            </a:r>
            <a:r>
              <a:rPr b="1" lang="en-US" sz="4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</a:t>
            </a:r>
            <a:r>
              <a:rPr b="1" lang="zh-CN" sz="4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选自</a:t>
            </a:r>
            <a:r>
              <a:rPr b="1" lang="zh-CN" sz="4400" spc="-1" strike="noStrike" u="sng">
                <a:solidFill>
                  <a:srgbClr val="ffffff"/>
                </a:solidFill>
                <a:uFillTx/>
                <a:latin typeface="仿宋_GB2312"/>
                <a:ea typeface="仿宋_GB2312"/>
              </a:rPr>
              <a:t>  </a:t>
            </a:r>
            <a:r>
              <a:rPr b="1" lang="zh-CN" sz="4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朝</a:t>
            </a:r>
            <a:r>
              <a:rPr b="1" lang="zh-CN" sz="4400" spc="-1" strike="noStrike" u="sng">
                <a:solidFill>
                  <a:srgbClr val="ffffff"/>
                </a:solidFill>
                <a:uFillTx/>
                <a:latin typeface="仿宋_GB2312"/>
                <a:ea typeface="仿宋_GB2312"/>
              </a:rPr>
              <a:t>  </a:t>
            </a:r>
            <a:r>
              <a:rPr b="1" lang="zh-CN" sz="4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代  </a:t>
            </a:r>
            <a:r>
              <a:rPr b="1" lang="zh-CN" sz="4400" spc="-1" strike="noStrike" u="sng">
                <a:solidFill>
                  <a:srgbClr val="ffffff"/>
                </a:solidFill>
                <a:uFillTx/>
                <a:latin typeface="仿宋_GB2312"/>
                <a:ea typeface="仿宋_GB2312"/>
              </a:rPr>
              <a:t>             </a:t>
            </a:r>
            <a:r>
              <a:rPr b="1" lang="zh-CN" sz="4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编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仿宋_GB2312"/>
                <a:ea typeface="仿宋_GB2312"/>
              </a:rPr>
              <a:t>《        》</a:t>
            </a:r>
            <a:r>
              <a:rPr b="1" lang="zh-CN" sz="4400" spc="-1" strike="noStrike" u="sng">
                <a:solidFill>
                  <a:srgbClr val="ffffff"/>
                </a:solidFill>
                <a:uFillTx/>
                <a:latin typeface="仿宋_GB2312"/>
                <a:ea typeface="仿宋_GB2312"/>
              </a:rPr>
              <a:t>。               </a:t>
            </a:r>
            <a:r>
              <a:rPr b="1" lang="zh-CN" sz="4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2</a:t>
            </a:r>
            <a:r>
              <a:rPr b="1" lang="zh-CN" sz="4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、</a:t>
            </a:r>
            <a:r>
              <a:rPr b="1" lang="en-US" sz="4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《</a:t>
            </a:r>
            <a:r>
              <a:rPr b="1" lang="zh-CN" sz="4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孔雀东南飞</a:t>
            </a:r>
            <a:r>
              <a:rPr b="1" lang="en-US" sz="4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</a:t>
            </a:r>
            <a:r>
              <a:rPr b="1" lang="zh-CN" sz="4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是保存下来的我国古代最早的一首长篇 </a:t>
            </a:r>
            <a:r>
              <a:rPr b="1" lang="zh-CN" sz="4400" spc="-1" strike="noStrike" u="sng">
                <a:solidFill>
                  <a:srgbClr val="ffffff"/>
                </a:solidFill>
                <a:uFillTx/>
                <a:latin typeface="仿宋_GB2312"/>
                <a:ea typeface="仿宋_GB2312"/>
              </a:rPr>
              <a:t>      </a:t>
            </a:r>
            <a:r>
              <a:rPr b="1" lang="zh-CN" sz="4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诗，也是古乐府民歌的代表作之一，与</a:t>
            </a:r>
            <a:r>
              <a:rPr b="1" lang="zh-CN" sz="4400" spc="-1" strike="noStrike" u="sng">
                <a:solidFill>
                  <a:srgbClr val="ffffff"/>
                </a:solidFill>
                <a:uFillTx/>
                <a:latin typeface="仿宋_GB2312"/>
                <a:ea typeface="仿宋_GB2312"/>
              </a:rPr>
              <a:t>    </a:t>
            </a:r>
            <a:r>
              <a:rPr b="1" lang="zh-CN" sz="4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朝的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仿宋_GB2312"/>
                <a:ea typeface="仿宋_GB2312"/>
              </a:rPr>
              <a:t>《        》</a:t>
            </a:r>
            <a:r>
              <a:rPr b="1" lang="zh-CN" sz="4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并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“</a:t>
            </a:r>
            <a:r>
              <a:rPr b="1" lang="zh-CN" sz="4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</a:t>
            </a:r>
            <a:r>
              <a:rPr b="1" lang="zh-CN" sz="4400" spc="-1" strike="noStrike" u="sng">
                <a:solidFill>
                  <a:srgbClr val="ffffff"/>
                </a:solidFill>
                <a:uFillTx/>
                <a:latin typeface="仿宋_GB2312"/>
                <a:ea typeface="仿宋_GB2312"/>
              </a:rPr>
              <a:t>          </a:t>
            </a:r>
            <a:r>
              <a:rPr b="1" lang="zh-CN" sz="4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”</a:t>
            </a:r>
            <a:r>
              <a:rPr b="1" lang="zh-CN" sz="4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5"/>
          <p:cNvSpPr/>
          <p:nvPr/>
        </p:nvSpPr>
        <p:spPr>
          <a:xfrm>
            <a:off x="8305920" y="121932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徐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6"/>
          <p:cNvSpPr/>
          <p:nvPr/>
        </p:nvSpPr>
        <p:spPr>
          <a:xfrm>
            <a:off x="1600200" y="167652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宋体"/>
              </a:rPr>
              <a:t>玉台新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Text Box 7"/>
          <p:cNvSpPr/>
          <p:nvPr/>
        </p:nvSpPr>
        <p:spPr>
          <a:xfrm>
            <a:off x="6781680" y="312408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宋体"/>
              </a:rPr>
              <a:t>叙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8"/>
          <p:cNvSpPr/>
          <p:nvPr/>
        </p:nvSpPr>
        <p:spPr>
          <a:xfrm>
            <a:off x="1295280" y="434340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宋体"/>
              </a:rPr>
              <a:t>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9"/>
          <p:cNvSpPr/>
          <p:nvPr/>
        </p:nvSpPr>
        <p:spPr>
          <a:xfrm>
            <a:off x="3962520" y="4343400"/>
            <a:ext cx="236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宋体"/>
              </a:rPr>
              <a:t>木兰辞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10"/>
          <p:cNvSpPr/>
          <p:nvPr/>
        </p:nvSpPr>
        <p:spPr>
          <a:xfrm>
            <a:off x="1600200" y="518148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宋体"/>
              </a:rPr>
              <a:t>乐府双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11"/>
          <p:cNvSpPr/>
          <p:nvPr/>
        </p:nvSpPr>
        <p:spPr>
          <a:xfrm>
            <a:off x="6172200" y="106668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宋体"/>
              </a:rPr>
              <a:t>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12"/>
          <p:cNvSpPr/>
          <p:nvPr/>
        </p:nvSpPr>
        <p:spPr>
          <a:xfrm>
            <a:off x="7238880" y="10666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宋体"/>
              </a:rPr>
              <a:t>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13"/>
          <p:cNvSpPr/>
          <p:nvPr/>
        </p:nvSpPr>
        <p:spPr>
          <a:xfrm>
            <a:off x="8534520" y="1752480"/>
            <a:ext cx="6094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13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Line 14"/>
          <p:cNvSpPr/>
          <p:nvPr/>
        </p:nvSpPr>
        <p:spPr>
          <a:xfrm>
            <a:off x="6858000" y="3733920"/>
            <a:ext cx="1219320" cy="0"/>
          </a:xfrm>
          <a:prstGeom prst="line">
            <a:avLst/>
          </a:prstGeom>
          <a:ln cap="sq"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13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Picture 1026" descr="D:\杂谈\国画\TN_000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关于“汉乐府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、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“</a:t>
            </a:r>
            <a:r>
              <a:rPr b="1" lang="zh-CN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汉乐府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”</a:t>
            </a:r>
            <a:r>
              <a:rPr b="1" lang="zh-CN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原来是掌管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仿宋_GB2312"/>
                <a:ea typeface="仿宋_GB2312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的官 府。后来， 把乐府官署所采集、创作的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仿宋_GB2312"/>
                <a:ea typeface="仿宋_GB2312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也称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“</a:t>
            </a:r>
            <a:r>
              <a:rPr b="1" lang="zh-CN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乐府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”</a:t>
            </a:r>
            <a:r>
              <a:rPr b="1" lang="zh-CN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或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“</a:t>
            </a:r>
            <a:r>
              <a:rPr b="1" lang="zh-CN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乐府诗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”</a:t>
            </a:r>
            <a:r>
              <a:rPr b="1" lang="zh-CN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、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“</a:t>
            </a:r>
            <a:r>
              <a:rPr b="1" lang="zh-CN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汉乐府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”</a:t>
            </a:r>
            <a:r>
              <a:rPr b="1" lang="zh-CN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民歌的特点是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①</a:t>
            </a:r>
            <a:r>
              <a:rPr b="1" lang="zh-CN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叙事性强。出现了有性格的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仿宋_GB2312"/>
                <a:ea typeface="仿宋_GB2312"/>
              </a:rPr>
              <a:t>            </a:t>
            </a:r>
            <a:r>
              <a:rPr b="1" lang="zh-CN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和较完整的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仿宋_GB2312"/>
                <a:ea typeface="仿宋_GB2312"/>
              </a:rPr>
              <a:t>          </a:t>
            </a:r>
            <a:r>
              <a:rPr b="1" lang="zh-CN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②</a:t>
            </a:r>
            <a:r>
              <a:rPr b="1" lang="zh-CN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能用                        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仿宋_GB2312"/>
                <a:ea typeface="仿宋_GB2312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等描写手段来刻画人物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③</a:t>
            </a:r>
            <a:r>
              <a:rPr b="1" lang="zh-CN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形式多样，但大多数采用杂言和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仿宋_GB2312"/>
                <a:ea typeface="仿宋_GB2312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1029"/>
          <p:cNvSpPr/>
          <p:nvPr/>
        </p:nvSpPr>
        <p:spPr>
          <a:xfrm>
            <a:off x="4952880" y="8380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音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1030"/>
          <p:cNvSpPr/>
          <p:nvPr/>
        </p:nvSpPr>
        <p:spPr>
          <a:xfrm>
            <a:off x="6019920" y="13716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歌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1031"/>
          <p:cNvSpPr/>
          <p:nvPr/>
        </p:nvSpPr>
        <p:spPr>
          <a:xfrm>
            <a:off x="6781680" y="31240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人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1032"/>
          <p:cNvSpPr/>
          <p:nvPr/>
        </p:nvSpPr>
        <p:spPr>
          <a:xfrm>
            <a:off x="2895480" y="358128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故事情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1033"/>
          <p:cNvSpPr/>
          <p:nvPr/>
        </p:nvSpPr>
        <p:spPr>
          <a:xfrm>
            <a:off x="2514600" y="411480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对话、行动 、细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1034"/>
          <p:cNvSpPr/>
          <p:nvPr/>
        </p:nvSpPr>
        <p:spPr>
          <a:xfrm>
            <a:off x="914400" y="57913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五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Line 1035"/>
          <p:cNvSpPr/>
          <p:nvPr/>
        </p:nvSpPr>
        <p:spPr>
          <a:xfrm>
            <a:off x="6858000" y="3657600"/>
            <a:ext cx="914400" cy="0"/>
          </a:xfrm>
          <a:prstGeom prst="line">
            <a:avLst/>
          </a:prstGeom>
          <a:ln cap="sq"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13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Line 1036"/>
          <p:cNvSpPr/>
          <p:nvPr/>
        </p:nvSpPr>
        <p:spPr>
          <a:xfrm>
            <a:off x="2590920" y="4648320"/>
            <a:ext cx="3657600" cy="0"/>
          </a:xfrm>
          <a:prstGeom prst="line">
            <a:avLst/>
          </a:prstGeom>
          <a:ln cap="sq"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13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Picture 4" descr="D:\杂谈\国画\TN_0009.JPG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0" y="-380880"/>
            <a:ext cx="9144000" cy="76197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837720" y="-2750760"/>
            <a:ext cx="762120" cy="67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0" y="-380880"/>
            <a:ext cx="9144000" cy="7696080"/>
          </a:xfrm>
          <a:prstGeom prst="rect">
            <a:avLst/>
          </a:prstGeom>
          <a:solidFill>
            <a:srgbClr val="339966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Times New Roman"/>
                <a:ea typeface="隶书"/>
              </a:rPr>
              <a:t>十五从军征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十五从军征，八十始得归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道逢乡里人：</a:t>
            </a:r>
            <a:r>
              <a:rPr b="1" lang="zh-CN" sz="3600" spc="-1" strike="noStrike">
                <a:solidFill>
                  <a:srgbClr val="ccccff"/>
                </a:solidFill>
                <a:latin typeface="Times New Roman"/>
              </a:rPr>
              <a:t>“家中有阿谁？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ccff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ccccff"/>
                </a:solidFill>
                <a:latin typeface="Times New Roman"/>
              </a:rPr>
              <a:t>遥望是君家，松柏冢累累”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Times New Roman"/>
              </a:rPr>
              <a:t>兔从狗窦入，雉从梁上飞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Times New Roman"/>
              </a:rPr>
              <a:t>中庭生旅谷，井上生旅葵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舂谷持作饭，采葵持作羹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羹饭一时熟，</a:t>
            </a:r>
            <a:r>
              <a:rPr b="1" lang="zh-CN" sz="3600" spc="-1" strike="noStrike">
                <a:solidFill>
                  <a:srgbClr val="a50021"/>
                </a:solidFill>
                <a:latin typeface="Times New Roman"/>
              </a:rPr>
              <a:t>不知贻阿谁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出门东向看，泪落沾我衣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4" descr="D:\杂谈\tuhua\1018669099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6840" y="-3954960"/>
            <a:ext cx="609480" cy="813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古人自称之词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王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自称。如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“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孤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度德量力。”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隆中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“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寡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闻赵王好乐。”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廉颇蔺相如列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天子自称曰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”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史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秦始皇本纪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自称。如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项伯杀人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活之。”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鸿门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一般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自称。如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“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以为宫中之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…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出师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“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自幼熟读兵书。”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失街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“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鄙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慧，将有志于世。”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山狼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女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自称。如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“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贱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留空房，相见常日稀。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Picture 133" descr="D:\杂谈\tuhua\淡色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十二时辰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1" name=""/>
          <p:cNvGraphicFramePr/>
          <p:nvPr/>
        </p:nvGraphicFramePr>
        <p:xfrm>
          <a:off x="0" y="1143000"/>
          <a:ext cx="8915400" cy="4952880"/>
        </p:xfrm>
        <a:graphic>
          <a:graphicData uri="http://schemas.openxmlformats.org/drawingml/2006/table">
            <a:tbl>
              <a:tblPr/>
              <a:tblGrid>
                <a:gridCol w="83808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09840"/>
                <a:gridCol w="609480"/>
                <a:gridCol w="685800"/>
              </a:tblGrid>
              <a:tr h="166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夜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a50021"/>
                          </a:solidFill>
                          <a:latin typeface="宋体"/>
                          <a:ea typeface="宋体"/>
                        </a:rPr>
                        <a:t>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a50021"/>
                          </a:solidFill>
                          <a:latin typeface="宋体"/>
                          <a:ea typeface="宋体"/>
                        </a:rPr>
                        <a:t>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a50021"/>
                          </a:solidFill>
                          <a:latin typeface="宋体"/>
                          <a:ea typeface="宋体"/>
                        </a:rPr>
                        <a:t>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a50021"/>
                          </a:solidFill>
                          <a:latin typeface="宋体"/>
                          <a:ea typeface="宋体"/>
                        </a:rPr>
                        <a:t>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a50021"/>
                          </a:solidFill>
                          <a:latin typeface="宋体"/>
                          <a:ea typeface="宋体"/>
                        </a:rPr>
                        <a:t>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a50021"/>
                          </a:solidFill>
                          <a:latin typeface="宋体"/>
                          <a:ea typeface="宋体"/>
                        </a:rPr>
                        <a:t>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a50021"/>
                          </a:solidFill>
                          <a:latin typeface="宋体"/>
                          <a:ea typeface="宋体"/>
                        </a:rPr>
                        <a:t>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a50021"/>
                          </a:solidFill>
                          <a:latin typeface="宋体"/>
                          <a:ea typeface="宋体"/>
                        </a:rPr>
                        <a:t>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a50021"/>
                          </a:solidFill>
                          <a:latin typeface="宋体"/>
                          <a:ea typeface="宋体"/>
                        </a:rPr>
                        <a:t>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a50021"/>
                          </a:solidFill>
                          <a:latin typeface="宋体"/>
                          <a:ea typeface="宋体"/>
                        </a:rPr>
                        <a:t>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a50021"/>
                          </a:solidFill>
                          <a:latin typeface="宋体"/>
                          <a:ea typeface="宋体"/>
                        </a:rPr>
                        <a:t>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a50021"/>
                          </a:solidFill>
                          <a:latin typeface="宋体"/>
                          <a:ea typeface="宋体"/>
                        </a:rPr>
                        <a:t>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a50021"/>
                          </a:solidFill>
                          <a:latin typeface="宋体"/>
                          <a:ea typeface="宋体"/>
                        </a:rPr>
                        <a:t>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a50021"/>
                          </a:solidFill>
                          <a:latin typeface="宋体"/>
                          <a:ea typeface="宋体"/>
                        </a:rPr>
                        <a:t>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现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时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zoom dir="out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9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Picture 2" descr="D:\杂谈\tuhua\163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04920" y="-2325240"/>
            <a:ext cx="380880" cy="56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zh-CN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  <a:ea typeface="隶书"/>
              </a:rPr>
              <a:t>近试上张水部</a:t>
            </a:r>
            <a:br>
              <a:rPr sz="6000"/>
            </a:b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朱庆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洞房昨夜停红烛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待晓堂前拜</a:t>
            </a:r>
            <a:r>
              <a:rPr b="0" lang="zh-CN" sz="6000" spc="-1" strike="noStrike">
                <a:solidFill>
                  <a:srgbClr val="00cc99"/>
                </a:solidFill>
                <a:latin typeface="Times New Roman"/>
                <a:ea typeface="华文行楷"/>
              </a:rPr>
              <a:t>舅姑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妆罢低声问夫婿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画眉深浅入时无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6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752480" y="38052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张籍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答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1295280" y="2133720"/>
            <a:ext cx="6400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越女新妆出镜心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自知明艳更沉吟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齐纨未足时人贵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一曲菱歌敌万金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5T01:56:26Z</dcterms:created>
  <dc:creator>为您服务教育网http://www.wsbedu.com/</dc:creator>
  <dc:description/>
  <dc:language>en-US</dc:language>
  <cp:lastModifiedBy>a</cp:lastModifiedBy>
  <dcterms:modified xsi:type="dcterms:W3CDTF">2015-02-10T11:48:04Z</dcterms:modified>
  <cp:revision>55</cp:revision>
  <dc:subject/>
  <dc:title>孔雀东南飞（并序）</dc:title>
</cp:coreProperties>
</file>