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D0EE-7209-4173-BA49-7627CC47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F32-85DB-46E5-9E76-E10F0AC3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C929E-DE79-4DA8-845B-1EC9D56E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72E6C-9252-4A8B-A3D4-A3BB2B96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3127A-C816-4551-99D5-37DCFA94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6B999-5ECB-4128-9569-B31AB734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6F176-86CC-49F9-A75E-F928A373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A49DD-C764-45CB-B154-D7B094C3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A9A80-2EFE-4A42-B059-F321065D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4B0CB-3FEE-4EFD-A5C6-FCADD8F0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E4E68-0902-44C7-B472-1FC7582A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C5FC4-2E01-447F-82CC-89CCD4F6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5CA-C5B8-4BFC-8BB5-28EA25F2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4F100-29E1-41CF-8DAC-66B423FF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97EB0-53BD-49D8-8452-A0DF0582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5152E-338E-4162-AC07-C2128B5A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15BD5-02CC-450C-9AE1-65902AB4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DD9DE-F7E5-4A09-913F-0F4AE2B1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3B860-0C18-43BF-B66D-880C8647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B49AC-EA86-458D-B03F-5A12FBEE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D1E6E-F019-4D8C-811E-2676099C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C691D-2055-4B9C-A5D5-780F1910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FC659-A397-4EF4-B255-2EC2C0C7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BDC-699A-448A-8804-1CAC060A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4A0F2-C120-4790-BD56-F0D755E6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B4FDC-927D-4456-BA6D-B0453BD2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70845-88BF-460A-8647-6C13B83F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E8E79-711C-41FC-A113-2EB65CBC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C528B-9FB8-4D77-9B24-1A4C4273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C4334-77F3-4ED5-A43E-63C4FD8A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7E934-34A8-4F26-B3D4-00099EA6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7D882-CADA-4023-8D1E-89B152AC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E4656-E92B-4DDF-89BA-CC8F85FB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0C6F9-8B25-4612-A1D0-43D22FD8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F16F-BA98-4DB7-9AEF-C23D4FED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47ED9-743F-431E-8665-A1D9ABA4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42B30-A8F5-4A2A-96DB-A846B75C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4DBAF-031A-4ADA-A268-2E449AA3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606D7-038C-43B8-A6C3-020BF2FF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7DD3E-8461-4E6E-B030-1F129D30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3FD34-EFE6-40E7-B267-F14BC2EB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B88B5-17C5-4800-AF81-0CDF58DB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48D42-E334-4C4C-A62D-A1D3AF09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DA25C-457F-4C96-8685-FDABF404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2892B-CB48-4527-BAA8-37672D9D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62E2-25D7-4ABD-9460-F7C1712D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1A83A-0745-4A7B-9078-EBD4A6BF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5C62F-8D2B-4AAA-ABB5-E0D3361C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1475C-0FC8-4286-9173-50A6D3A7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858F4-DDB2-4063-88AA-34E1AE9C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B792B-785A-4BB3-ADE4-1C2A2B08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C9EA6-E4D0-442D-8814-7C809845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C7C337-469F-4A77-B307-3A1539B8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5121FF-715E-4781-B628-F270BB6A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A09B2-9811-47E4-B240-FA3E2BF5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E99F3-4F3F-4107-B59C-FC2F1D9D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5C1F-F17F-4410-A952-8FF4D77F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7C8B41-0522-450F-A943-A4776F83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DF2A6-EC68-464F-B737-4D597172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EDF30-0158-4784-A78D-617C9AA8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A46274-A9DB-48E5-ACD9-1A8D861B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EC612-25DC-45A9-A8AB-FE0F1C44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2836B-9B98-43F9-95EF-90D9DE5B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9680E2-0743-4253-BC74-AF1809BC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24FC-EF62-427C-A202-FD219CD1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8C9F-ABD8-4C0A-9905-9D42525C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D98A-EB59-428C-80EA-08BE90AF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E6B1-90C3-4E98-A76D-6C10109B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0DE-D2E7-4388-BD37-6C5B5433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2A60-4555-480A-A014-EAD441E0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5EF0-FB43-4185-A50D-E19945CE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462B-3F77-464D-AD11-988B0D41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C304-F0C4-4D26-A9F2-B61C2773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AE3C-8B63-4D70-8954-A3594B02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3AD2E-889E-4281-BDCF-0FA25FCC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18F07-EEFD-4502-B62B-F1DB71C8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867B3-EC2C-4253-8448-E5C1CB3A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1337B-A0BC-4386-A174-0E0692E5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4C222-9358-45DA-8D5D-2DB640E2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A96-7449-4521-8851-23E8EE95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0CDED-F04D-4661-BA73-E8087121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03AC1-3FBB-4D5A-AD0A-C879A895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AFEFA-7A91-40CF-9558-2B8C9B8D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2C458-9FDB-405A-9160-434EE7D9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E082D-D30A-4187-8390-B2513AE5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8929F-8FCA-4190-81C7-F6C0F75C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2FE75-9E85-47B0-8104-D162242C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CADEE-E56A-4F89-A559-53237C91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D48A4-9BC9-4981-B224-F9097158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6F2B4-DD28-4844-BC6F-6C511738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A3C4-4448-4E91-98B9-220BA62F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51B3C-DF79-4E1E-B280-F8749D31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5A567-7BE4-4A6F-A074-2B8B0E92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98861-762D-4F28-912D-36E70C7D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61C9C-D016-4B77-A2C8-3B63B20C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9D3C1-718F-423E-9259-EFF51910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700C5-B6B7-4E5F-9B55-B0EC5CCC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2DA09-DB15-4C07-BC3F-BBE5E474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D71EF-4162-4828-8847-ECC74667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B688B-D7B5-4321-BA38-CE12810E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F47C5-3FEC-4A7E-AB4D-D87FE49A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A22C-FF90-4DCF-B97B-FD2518F0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10451-13F7-41AE-B5D4-9E589CB6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0C41A-7A15-4F5F-882A-FEE37CD8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09ADE-B40B-4D6C-94A5-CAE2B7CC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20C49-E349-4842-B372-252C87C8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73D52-17C0-4949-BE70-967E8525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3B81B-4929-482C-B365-C9FE9CE8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20506-5BAE-4773-A5A9-3E24C96E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74480-4EE5-4A23-84D4-754E5F55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D6F05-3031-4DBB-8821-6AD208FD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238C4-7FBF-47AE-8E96-5469B743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E62C-2BE0-4BC5-B18E-D89A6975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3B8CA-9C2F-4FA7-B186-911E7DB6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8527B-3CA5-45E7-AAD3-1EAB9DE4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ACFB3-8FB6-4677-814E-924396F6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DA88B-3AEA-402A-B3B0-50EF13D9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68DF1-D616-4F43-94EC-30EAB54B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E04F8-770C-4CD1-A653-6801A2D0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EE5EA-31F3-4D91-8FE8-6185D358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B895B-1A8E-4C98-B101-73825957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02AA2-BF34-4E67-ADC1-F60EC7B1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C153C-4A8B-4B39-AA1C-B44989E6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B0B-246D-4B70-92FD-B4CE4E81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9FC53-0F58-4034-B886-9B11DD95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66CD5-79AB-457C-BC54-2661C838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B3DE7-0A02-4404-9DA9-FF4E353B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28BC2-78CA-4713-9812-110E153E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EEABF-7FD2-4EC5-8405-159CF595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43CBA-E482-4A36-8512-0BDF96B1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A94EC-8CB7-4A47-A135-40362E9C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48EB0-3349-48DE-8353-0C52804B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3F12C-9326-4666-8721-4A8F2C2E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53B8F-92E3-4036-B506-3E7A128B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6090-1726-4B92-9503-2A973624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41539-2121-4CE2-B02B-56CB5FB7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3274C-74AD-44DE-BCE6-409019E2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0DA22-F97A-4280-BAEB-CF51BF52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0A0FA-F5AD-45C9-9EE1-30F8C622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3F032-FBEC-4ACE-B08D-9CA5A5A3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9B98B-86C7-4509-9519-8422DD09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198B3-499C-4678-A44B-264B3CCC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C3A74-9FB1-4004-B1C0-4AE07FC9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132D3-7373-44D0-B87C-C8AAF5DF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31839-1188-4F72-A55D-A77D0B90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8CA5-DA3F-4588-B176-0B75032B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00BA0-AA12-4F60-B3EB-A445490D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7CEA3-C2F7-40E6-A47D-E366A260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4EFDF-5B58-4007-9B10-9A63A24F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85BA9-AF10-4E7F-A7CE-D8F11F86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72D50-582C-4F98-80BE-C7CDE229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0605E-5FC9-455A-975B-672309B7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8375D-13D8-480E-A8EF-DFA6F9C4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3B1CD-D556-433E-B579-B8DF7501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AEA44-0B83-4466-AB73-4D21F18F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0622B-644B-4554-A577-270EDF95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AC1A-263A-487F-99E0-D9F834FC5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1EB5-7AC7-43D7-8645-7001DDFF1B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430A-793A-4B0B-979E-BB6DC4A82B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D13A-006C-4F6D-BEF5-72AB73C733C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949F-856E-4C80-A2FB-BFC6295B50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F609-1B9F-4B60-98DC-889C99FE078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C79B-1808-4251-9463-1CC1481205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AA21-A65F-48F0-9AE1-81B67586479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8185-6D7D-4CA5-B8AD-4E30B125A8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0829-8A92-45B4-AB27-71BA5DCBDC2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1B4E-40E5-49DC-9DFD-FF63F2C6F3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92A1-E614-40C4-82B6-543A6AC61FA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163C-C741-4EAA-9CB7-A62FCF0B6F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63CB-C309-4F59-AACA-D3D52175814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9504-572E-4E8F-926D-9782CF9BC2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41A3-C943-4D69-A9DD-DE94B577F05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D1AA-D435-4C2E-9C22-9AFD3B893E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25BD-6DCC-444D-BB45-F761B8B2B5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088E-D98E-4156-8A12-4FF5526815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7F3D-7F1D-4158-B351-2BDD33A0B42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DD83-D1CF-4F71-9F98-B5EA91EE57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19CD-26A1-4DD5-AB00-7B4511588E6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984D-D351-4AA1-B969-FF8C05F5E8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AD36-6F2D-4D3B-83EB-083AFB283DD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7776-2DB5-4C50-A6E3-939D65438C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352320" y="1600200"/>
            <a:ext cx="26672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99"/>
                </a:solidFill>
                <a:latin typeface="方正舒体"/>
                <a:ea typeface="方正舒体"/>
              </a:rPr>
              <a:t>看 雪</a:t>
            </a:r>
            <a:r>
              <a:rPr b="0" lang="zh-CN" sz="7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8050e"/>
                </a:solidFill>
                <a:latin typeface="Arial"/>
                <a:ea typeface="华文行楷"/>
              </a:rPr>
              <a:t>跟 我 一 起 来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矩形 7"/>
          <p:cNvSpPr/>
          <p:nvPr/>
        </p:nvSpPr>
        <p:spPr>
          <a:xfrm>
            <a:off x="762120" y="914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chinamap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8458200" y="1219320"/>
            <a:ext cx="693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哪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8" name="AutoShape 4"/>
          <p:cNvSpPr/>
          <p:nvPr/>
        </p:nvSpPr>
        <p:spPr>
          <a:xfrm>
            <a:off x="7620120" y="4648320"/>
            <a:ext cx="1523880" cy="1371600"/>
          </a:xfrm>
          <a:custGeom>
            <a:avLst/>
            <a:gdLst>
              <a:gd name="textAreaLeft" fmla="*/ 217440 w 1523880"/>
              <a:gd name="textAreaRight" fmla="*/ 1306440 w 1523880"/>
              <a:gd name="textAreaTop" fmla="*/ 783720 h 1371600"/>
              <a:gd name="textAreaBottom" fmla="*/ 1175760 h 13716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1143000" y="242244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台湾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3200400" y="242244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商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1143000" y="432756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堆雪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4876920" y="242244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洁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1143000" y="341316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惊奇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3276720" y="341316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情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4876920" y="341316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打雪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3352680" y="432756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银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47" name="Picture 10" descr="SO01380_"/>
          <p:cNvPicPr/>
          <p:nvPr/>
        </p:nvPicPr>
        <p:blipFill>
          <a:blip r:embed="rId1"/>
          <a:stretch/>
        </p:blipFill>
        <p:spPr>
          <a:xfrm>
            <a:off x="6362640" y="3962520"/>
            <a:ext cx="2190960" cy="243828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11"/>
          <p:cNvSpPr/>
          <p:nvPr/>
        </p:nvSpPr>
        <p:spPr>
          <a:xfrm>
            <a:off x="1779480" y="13557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读读下面的词语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P144"/>
          <p:cNvPicPr/>
          <p:nvPr/>
        </p:nvPicPr>
        <p:blipFill>
          <a:blip r:embed="rId1"/>
          <a:stretch/>
        </p:blipFill>
        <p:spPr>
          <a:xfrm>
            <a:off x="0" y="-735120"/>
            <a:ext cx="9144000" cy="759312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3"/>
          <p:cNvSpPr/>
          <p:nvPr/>
        </p:nvSpPr>
        <p:spPr>
          <a:xfrm>
            <a:off x="838080" y="5791320"/>
            <a:ext cx="7696440" cy="106884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孩子们在干什么？商店橱窗里的雪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用什么做成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P1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3"/>
          <p:cNvSpPr/>
          <p:nvPr/>
        </p:nvSpPr>
        <p:spPr>
          <a:xfrm>
            <a:off x="1371600" y="5867280"/>
            <a:ext cx="6019920" cy="5814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北京的小朋友是怎样玩雪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2133720" y="83808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填空，再读一读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838080" y="2209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老师（    ）起童年玩雪的（         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685800" y="32767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小伙伴们在雪地上</a:t>
            </a: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(        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）、（         ），玩得可（       ）了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44512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6261480" y="220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情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5105520" y="3352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堆雪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1543320" y="388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打雪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5956920" y="3809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高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609480" y="19807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8050e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78050e"/>
                </a:solidFill>
                <a:latin typeface="宋体"/>
              </a:rPr>
              <a:t>天上飘着（       ），地上铺着（      ），树上披着</a:t>
            </a:r>
            <a:r>
              <a:rPr b="1" lang="en-US" sz="3600" spc="-1" strike="noStrike">
                <a:solidFill>
                  <a:srgbClr val="78050e"/>
                </a:solidFill>
                <a:latin typeface="宋体"/>
              </a:rPr>
              <a:t>(       </a:t>
            </a:r>
            <a:r>
              <a:rPr b="1" lang="zh-CN" sz="3600" spc="-1" strike="noStrike">
                <a:solidFill>
                  <a:srgbClr val="78050e"/>
                </a:solidFill>
                <a:latin typeface="宋体"/>
              </a:rPr>
              <a:t>），到处一片</a:t>
            </a:r>
            <a:r>
              <a:rPr b="1" lang="zh-CN" sz="3200" spc="-1" strike="noStrike">
                <a:solidFill>
                  <a:srgbClr val="78050e"/>
                </a:solidFill>
                <a:latin typeface="Arial"/>
              </a:rPr>
              <a:t>（           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3657600" y="19810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雪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160020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雪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6172200" y="25909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银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3352680" y="31240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洁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1752480" y="838080"/>
            <a:ext cx="59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读一读，注意问话的语气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1481040" y="1855800"/>
            <a:ext cx="48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您看见过真的雪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1488960" y="2743200"/>
            <a:ext cx="47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您是在哪儿见过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1492200" y="3657600"/>
            <a:ext cx="46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北京离这儿很远吧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1219320" y="43434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什么时候能带我们到北京去看看真的雪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57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dc:language>en-US</dc:language>
  <cp:lastModifiedBy>a</cp:lastModifiedBy>
  <dcterms:modified xsi:type="dcterms:W3CDTF">2015-03-18T05:54:04Z</dcterms:modified>
  <cp:revision>34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