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096-3DEB-4D0D-90CB-46EED298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5E8-122A-4050-85EA-8584548E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1077-2B9C-4B47-ADAC-83E774D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EC2CF-58D6-4D92-AC68-BD41BA5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F29F4-4E42-4076-BE13-62A9F34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009B-7F85-41EF-B839-7500529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0B300-CCD7-424A-9163-86C36BC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DCD7A-234F-4671-B611-0645A23D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8775B-1713-4D70-A7AF-FDDE6A20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36CAF-926C-4A9D-BD43-73DDCD4C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56AF2-49B0-45F2-A389-0A6088BB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AD6F6-7FED-4EAA-950A-119507A2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7E3-20CD-4608-83D5-ED95EEC1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C151F-CCA4-45B4-AE74-4A705DA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64129-77B1-42A9-88D4-2A645AC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B63C2-181E-4186-80D1-431DB7D5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796D6-ECD0-4FDB-AF11-1A7493A7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58591-B189-4CB3-A11F-2BD5C9DE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34B93-3471-4F8A-9577-0AD1BBF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D495-6D0B-491E-9D01-4515F34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817B-6CE7-44DF-947F-6EDDEFD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28EB4-BF18-4485-8281-C6ABE1C6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D4B2-C65F-450D-918F-82B04F64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434-DB08-44AD-AF6B-B4230B47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215CA-C9A7-45FD-8A76-05442E86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A88FC-0AD6-4C13-AF24-B8B6FDE8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6A56C-8DD1-4272-A26B-F0B636C8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D04FE-0278-4BD8-8B9F-BC74E5F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C990A-B633-4FD3-B688-4944BB29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0F35-F095-4C25-9C19-46F4B8E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8ABA0-19EF-4339-A042-977F88E2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A77B7-F8FE-4F28-BECF-68823F0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2CCCA-26D8-4129-BAE2-929C88F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2FEE-6D56-4A52-AD24-C4F5093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EBF-D5AE-41C0-8361-4A3213B7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B3AA-6BB8-4E0D-B845-07CF8F5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F11ED-22BD-48CD-9675-19B9AC49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40B6C-C7B4-4BDE-8027-4DC0DBC8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D04F3-DFEB-4EEA-A0F5-E2C9022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BC3E4-466D-4EE9-90BB-3C66537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B1A57-0FB7-43A6-AAB6-25BB387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3BAC8-93D8-40FE-8B24-1757800E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D3DE4-900E-43F3-9AEC-77D0D8DA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75500-449C-48B5-AB6D-7712CA7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4F46F-2B18-4926-8AC5-9E233F8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232-55D2-4553-80F8-1AF1436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480EF-9A87-46EA-9493-324EA22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FD59-232D-419C-80FA-605E1DA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5241D-3BD8-4CDD-8DEA-5E173E9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0C5E7-70EB-4EA8-81A0-EE2DFDDC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753E3-4A80-4D6B-9E73-554F9DB5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4CD5E-310F-4A84-9F9B-8876BACE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14ADA-443B-4132-99F4-8B78AE67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A6BB3-9933-434C-B61D-35130911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CEAA2-A235-4231-8190-2270361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A8721-0AF8-41E0-A5F4-A74F5E1D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7E68-2CEC-4B59-A96D-12257CA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89725-EFB9-4BFF-BC0D-785BE39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66FF9-B6D3-4D8E-9E8F-398E7B5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C2F63-F1BE-4304-B6CB-7735B71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7761F-939D-46BB-97A2-1497B81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F9D5-8C69-4807-B637-D0E13334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4BBFC-ED43-4075-A336-C228D1B9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64413-8133-42AC-85D4-3C4305B4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A14-B8E9-4270-BA46-F6820A7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680-E91A-4159-B7F2-2688D1D7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EBA-4635-45FE-B6F9-C03C6335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5E7D-44CF-4AEB-A763-8C3418E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55B-C06C-40E0-ACE5-55219BE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A99-FBBD-485D-A2ED-4247881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C5A-4B5B-412D-89C5-DEBD1FC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1E52-74AF-4AD6-AD83-92699323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048C-909B-47D9-8B7D-78B682D3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A8E7-9679-4504-BEE9-0F907ED5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DC71-B858-493E-8F8F-5E7FF675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5D2F-9CED-4E4D-93E0-D5BC4D4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654E-CDBF-4D7A-9816-6894B69A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288E-B1DD-425B-ABAB-516DCC2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E2C1-B53B-4B75-B573-8CFED2B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C8D-A5B6-491D-8BD0-8B7D2D6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81B5-3FAD-422A-AD7C-8C3C7692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6DD6-5033-4ECA-BA91-FCECDF7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7A41-E65F-4143-9012-BC464D8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B8E8-4B73-4175-9DAB-935FC82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6C26-EE54-4817-A862-AAE74F3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070D-6BB3-45BF-8C28-3B9784E1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33D6-85F7-463E-B4AC-F3C3F836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D87C-0B3A-4B5B-BC4A-288047DF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75F9-A7B8-42C9-8600-E0C7379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6BC0-C6EF-4B01-9049-B315382D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F91-F0F0-4D78-8B48-E9C5C6A8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110C-7F3E-4D59-A0B7-18EFB757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5158-DFE0-4521-9E02-DA4AE64B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AFA3-EC05-448B-8E3B-B0A2A50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0A9D-423A-438E-98F7-73DD61F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36A4-F704-446B-AC18-603CD80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3540-A041-49F2-9693-4A940DE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487C-B8DC-452C-86FD-071A0DDB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F95B-6FE2-491F-A1E5-CC5A6F64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884B-E5A4-4157-A150-33EA3C02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15B1-152F-48A1-ABB5-2AAE723A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954-73FF-473A-A1A6-335DDA88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897C-E5E9-4BDC-885F-96D5E6F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F862-B24C-4FF9-BB65-D07AEA78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04FA-177F-47F3-AA45-AC90CAD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A909-4652-4D12-89D0-ED09136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545F-5DA8-448A-980F-2BF48939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E725-DF31-48A8-ACF0-16974B3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2FDB-6B9E-43E9-B2A5-6022AE7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A301-BA92-422D-A21B-BA8B6457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3AD0-9890-4818-BA79-01F605B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98D9-F215-4B67-A7B7-0D9D2C32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FB6-D097-4151-859B-AA95980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C08D3-AACC-4CF8-A126-422AC57F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02EE-02B8-414A-AD0D-D3A2B515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75CE-658A-471D-ABC7-38C5257F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189B5-AF02-4181-A661-7D85F74D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9F88-74B4-4A4A-A145-2BA7BE3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DDB1-1328-4DA0-B69A-C8D39D9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983D-F903-46B3-BD54-625F84DB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2863-598A-44EA-B43E-9D86297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11E5F-AEDA-4EF2-9CC6-2E453AC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066B-04F1-4319-B87C-FEF44F7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76C-A492-4366-8E06-A1E89AE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9855-7318-436C-B149-0F8C3A9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28FF-4665-4016-8A03-D3211E8F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B965-2EEB-4D41-BD29-C3BC3E5B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6376-82E2-4573-99E4-44C9064F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528B-FF2C-4C58-9271-54A8990B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B1F8-AB7B-4A5A-AB8C-EA1423D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58377-73DF-4DE4-90B4-1ED120E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ECAE-0F3E-4EC7-B98C-876E0CA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405A-F211-484B-8A8F-F062803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FEF3-5CE9-4333-A88C-E01DB80F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03A-518F-459B-A1CA-A5F1A45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ABCD5-5D3A-4894-B83B-2B1E06A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2B02-00F3-4F19-ABBF-A4BB288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FCB1-A25B-4658-BD9E-BA4D588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DAB9-786D-46F4-BDF4-1739BDA9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15EEE-9645-4795-A487-82B91206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603A8-83A0-498F-A268-4DC80D93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D4F29-2320-425D-9CA4-CA66AF4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9196-901F-4B6E-9C24-80F7DA5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FFBF7-C27B-4089-8A55-A6C44B30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72E6D-06AA-421E-AFC4-73DAC8F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571-47B8-4789-81B7-31984474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A6603-B546-4C4A-A5D1-15DA5CD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4BB5-6896-4A1B-858E-4441186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C783-7980-4063-9B3F-4091823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E74C-19F6-4BB0-AFAE-982A23D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A1E04-F65F-4567-8C4C-C596796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8FDD-A641-44A1-A292-E987C1BF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C1FBD-3860-46F7-862C-D7BA8EBE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BBDB6-F9B2-4EBB-9DA5-E8BFAE7D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86C23-646A-4BEB-A1BA-911BFD5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7807-772C-46BA-A671-4760C9D8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596-F708-44D4-B0E9-28B4A9C3A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512-CB69-470F-B69B-0BAAA37796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D56-8302-439A-A8C7-8085FA801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A91-852A-493E-B6AA-680786A37B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F8E-F2AA-4E08-BFE7-1D0E749BE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E9D-E3C3-433B-896A-D49B3660F5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A2A-019C-496C-B9E1-C01149E95E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CAA-C880-427B-9C30-64EAAC4286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0709-3A62-4445-8FEB-65CE2E0F80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4A1-DF54-41BA-B0D3-35985625FE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0AEF-CA6F-4CD9-B7BE-D3AE88D82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1854-E8C7-40AB-96B7-FB682B37C4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6C6-C4BB-40D1-A8D8-786F352DFF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238-716D-4B0E-AE9A-8CFED9371E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EAD-9285-438B-84DB-CE5BF4B2D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9C1-3498-462F-B1E0-D47342CEDF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C61B-AC1C-4F16-8A68-FD042D750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457-012C-4528-A1F4-423B7ADD0C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975-6855-4794-9303-FCC9FFB92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A29-9D29-4E43-BAC0-2F70A3DF4F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40F-59C0-4593-88DB-E0ACBC004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CB3-7CE6-4AE2-828B-8D330FEEB7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844-DD5A-4CB2-B3BF-A0B8FDBC12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3D9-8CAD-4574-AC3C-FB74AC2A14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DF71-C08C-4280-BE6A-CDABCD425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D:\huaniao\23.JPG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D:\板书演示\同一直线上二力的合成\二力的合成.jpg"/>
          <p:cNvPicPr/>
          <p:nvPr/>
        </p:nvPicPr>
        <p:blipFill>
          <a:blip r:embed="rId2"/>
          <a:stretch/>
        </p:blipFill>
        <p:spPr>
          <a:xfrm>
            <a:off x="533520" y="1066680"/>
            <a:ext cx="4381560" cy="266724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13"/>
          <p:cNvGrpSpPr/>
          <p:nvPr/>
        </p:nvGrpSpPr>
        <p:grpSpPr>
          <a:xfrm>
            <a:off x="609480" y="4114800"/>
            <a:ext cx="7620120" cy="2109960"/>
            <a:chOff x="609480" y="4114800"/>
            <a:chExt cx="7620120" cy="2109960"/>
          </a:xfrm>
        </p:grpSpPr>
        <p:pic>
          <p:nvPicPr>
            <p:cNvPr id="536" name="Picture 2" descr="\\Data_server\共享资源\mandy\自然探胜\绿色使者\0050.jpg"/>
            <p:cNvPicPr/>
            <p:nvPr/>
          </p:nvPicPr>
          <p:blipFill>
            <a:blip r:embed="rId3"/>
            <a:stretch/>
          </p:blipFill>
          <p:spPr>
            <a:xfrm>
              <a:off x="6400800" y="5181480"/>
              <a:ext cx="1828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WordArt 11"/>
            <p:cNvSpPr txBox="1"/>
            <p:nvPr/>
          </p:nvSpPr>
          <p:spPr>
            <a:xfrm>
              <a:off x="762120" y="4724280"/>
              <a:ext cx="57150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同一直线上二力的合成</a:t>
              </a:r>
              <a:endPara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09480" y="41148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中物理第一册第八章第五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D:\huaniao\23.JPG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D:\板书演示\同一直线上二力的合成\二力的合成.jpg"/>
          <p:cNvPicPr/>
          <p:nvPr/>
        </p:nvPicPr>
        <p:blipFill>
          <a:blip r:embed="rId2"/>
          <a:stretch/>
        </p:blipFill>
        <p:spPr>
          <a:xfrm>
            <a:off x="457200" y="304920"/>
            <a:ext cx="4381560" cy="26668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457200" y="320040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多人才能拖动的物体，一头大象就能拖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力的作用效果是相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049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如果一个力产生的效果跟两个力共同作用产生的效果相同，这个力就叫做那两个力的合力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21"/>
          <p:cNvGrpSpPr/>
          <p:nvPr/>
        </p:nvGrpSpPr>
        <p:grpSpPr>
          <a:xfrm>
            <a:off x="304920" y="228600"/>
            <a:ext cx="3733560" cy="1219320"/>
            <a:chOff x="304920" y="228600"/>
            <a:chExt cx="3733560" cy="1219320"/>
          </a:xfrm>
        </p:grpSpPr>
        <p:pic>
          <p:nvPicPr>
            <p:cNvPr id="545" name="Picture 3" descr="D:\huaniao\23.JPG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373356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WordArt 4"/>
            <p:cNvSpPr txBox="1"/>
            <p:nvPr/>
          </p:nvSpPr>
          <p:spPr>
            <a:xfrm>
              <a:off x="1371600" y="228600"/>
              <a:ext cx="1676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实验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47" name="Text Box 20"/>
          <p:cNvSpPr/>
          <p:nvPr/>
        </p:nvSpPr>
        <p:spPr>
          <a:xfrm>
            <a:off x="380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同一直线上，方向相同的两个力的合力，大小等于这两个力的大小之和，方向跟这两个力的方向相同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Group 40"/>
          <p:cNvGrpSpPr/>
          <p:nvPr/>
        </p:nvGrpSpPr>
        <p:grpSpPr>
          <a:xfrm>
            <a:off x="3809880" y="2362320"/>
            <a:ext cx="4876920" cy="3968640"/>
            <a:chOff x="3809880" y="2362320"/>
            <a:chExt cx="4876920" cy="3968640"/>
          </a:xfrm>
        </p:grpSpPr>
        <p:grpSp>
          <p:nvGrpSpPr>
            <p:cNvPr id="549" name="Group 19"/>
            <p:cNvGrpSpPr/>
            <p:nvPr/>
          </p:nvGrpSpPr>
          <p:grpSpPr>
            <a:xfrm>
              <a:off x="3809880" y="2362320"/>
              <a:ext cx="4876920" cy="3968640"/>
              <a:chOff x="3809880" y="2362320"/>
              <a:chExt cx="4876920" cy="3968640"/>
            </a:xfrm>
          </p:grpSpPr>
          <p:pic>
            <p:nvPicPr>
              <p:cNvPr id="550" name="Object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3880" y="4461120"/>
                <a:ext cx="86724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Rectangle 6"/>
              <p:cNvSpPr/>
              <p:nvPr/>
            </p:nvSpPr>
            <p:spPr>
              <a:xfrm>
                <a:off x="4546800" y="3610080"/>
                <a:ext cx="226800" cy="266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7"/>
              <p:cNvSpPr/>
              <p:nvPr/>
            </p:nvSpPr>
            <p:spPr>
              <a:xfrm>
                <a:off x="5284080" y="3439800"/>
                <a:ext cx="22680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8"/>
              <p:cNvSpPr/>
              <p:nvPr/>
            </p:nvSpPr>
            <p:spPr>
              <a:xfrm>
                <a:off x="5397480" y="4290840"/>
                <a:ext cx="0" cy="28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9"/>
              <p:cNvSpPr/>
              <p:nvPr/>
            </p:nvSpPr>
            <p:spPr>
              <a:xfrm>
                <a:off x="5284080" y="2362320"/>
                <a:ext cx="22680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0"/>
              <p:cNvSpPr/>
              <p:nvPr/>
            </p:nvSpPr>
            <p:spPr>
              <a:xfrm>
                <a:off x="5397480" y="3213000"/>
                <a:ext cx="0" cy="2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6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2440" y="4461120"/>
                <a:ext cx="86688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Rectangle 12"/>
              <p:cNvSpPr/>
              <p:nvPr/>
            </p:nvSpPr>
            <p:spPr>
              <a:xfrm>
                <a:off x="6928560" y="3610080"/>
                <a:ext cx="226800" cy="266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3"/>
              <p:cNvSpPr/>
              <p:nvPr/>
            </p:nvSpPr>
            <p:spPr>
              <a:xfrm>
                <a:off x="7893000" y="3326400"/>
                <a:ext cx="22644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15"/>
              <p:cNvSpPr/>
              <p:nvPr/>
            </p:nvSpPr>
            <p:spPr>
              <a:xfrm>
                <a:off x="8006040" y="417744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7"/>
              <p:cNvSpPr/>
              <p:nvPr/>
            </p:nvSpPr>
            <p:spPr>
              <a:xfrm>
                <a:off x="4150080" y="4574520"/>
                <a:ext cx="45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8"/>
              <p:cNvSpPr/>
              <p:nvPr/>
            </p:nvSpPr>
            <p:spPr>
              <a:xfrm>
                <a:off x="3809880" y="6276600"/>
                <a:ext cx="487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2"/>
            <p:cNvGrpSpPr/>
            <p:nvPr/>
          </p:nvGrpSpPr>
          <p:grpSpPr>
            <a:xfrm>
              <a:off x="4572000" y="3962520"/>
              <a:ext cx="152280" cy="2057400"/>
              <a:chOff x="4572000" y="3962520"/>
              <a:chExt cx="152280" cy="2057400"/>
            </a:xfrm>
          </p:grpSpPr>
          <p:sp>
            <p:nvSpPr>
              <p:cNvPr id="563" name="Line 23"/>
              <p:cNvSpPr/>
              <p:nvPr/>
            </p:nvSpPr>
            <p:spPr>
              <a:xfrm>
                <a:off x="4572000" y="3962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24"/>
              <p:cNvSpPr/>
              <p:nvPr/>
            </p:nvSpPr>
            <p:spPr>
              <a:xfrm>
                <a:off x="4572000" y="426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5"/>
              <p:cNvSpPr/>
              <p:nvPr/>
            </p:nvSpPr>
            <p:spPr>
              <a:xfrm>
                <a:off x="4572000" y="457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26"/>
              <p:cNvSpPr/>
              <p:nvPr/>
            </p:nvSpPr>
            <p:spPr>
              <a:xfrm>
                <a:off x="4572000" y="4876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27"/>
              <p:cNvSpPr/>
              <p:nvPr/>
            </p:nvSpPr>
            <p:spPr>
              <a:xfrm>
                <a:off x="4572000" y="51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8"/>
              <p:cNvSpPr/>
              <p:nvPr/>
            </p:nvSpPr>
            <p:spPr>
              <a:xfrm>
                <a:off x="4572000" y="5410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29"/>
              <p:cNvSpPr/>
              <p:nvPr/>
            </p:nvSpPr>
            <p:spPr>
              <a:xfrm>
                <a:off x="4572000" y="5715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30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31"/>
            <p:cNvGrpSpPr/>
            <p:nvPr/>
          </p:nvGrpSpPr>
          <p:grpSpPr>
            <a:xfrm>
              <a:off x="6934320" y="3962520"/>
              <a:ext cx="152280" cy="2057400"/>
              <a:chOff x="6934320" y="3962520"/>
              <a:chExt cx="152280" cy="2057400"/>
            </a:xfrm>
          </p:grpSpPr>
          <p:sp>
            <p:nvSpPr>
              <p:cNvPr id="572" name="Line 32"/>
              <p:cNvSpPr/>
              <p:nvPr/>
            </p:nvSpPr>
            <p:spPr>
              <a:xfrm>
                <a:off x="6934320" y="3962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33"/>
              <p:cNvSpPr/>
              <p:nvPr/>
            </p:nvSpPr>
            <p:spPr>
              <a:xfrm>
                <a:off x="6934320" y="426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34"/>
              <p:cNvSpPr/>
              <p:nvPr/>
            </p:nvSpPr>
            <p:spPr>
              <a:xfrm>
                <a:off x="6934320" y="457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35"/>
              <p:cNvSpPr/>
              <p:nvPr/>
            </p:nvSpPr>
            <p:spPr>
              <a:xfrm>
                <a:off x="6934320" y="4876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36"/>
              <p:cNvSpPr/>
              <p:nvPr/>
            </p:nvSpPr>
            <p:spPr>
              <a:xfrm>
                <a:off x="6934320" y="51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37"/>
              <p:cNvSpPr/>
              <p:nvPr/>
            </p:nvSpPr>
            <p:spPr>
              <a:xfrm>
                <a:off x="6934320" y="5410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38"/>
              <p:cNvSpPr/>
              <p:nvPr/>
            </p:nvSpPr>
            <p:spPr>
              <a:xfrm>
                <a:off x="6934320" y="5715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39"/>
              <p:cNvSpPr/>
              <p:nvPr/>
            </p:nvSpPr>
            <p:spPr>
              <a:xfrm>
                <a:off x="6934320" y="6019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3"/>
          <p:cNvGrpSpPr/>
          <p:nvPr/>
        </p:nvGrpSpPr>
        <p:grpSpPr>
          <a:xfrm>
            <a:off x="304920" y="228600"/>
            <a:ext cx="3733560" cy="1219320"/>
            <a:chOff x="304920" y="228600"/>
            <a:chExt cx="3733560" cy="1219320"/>
          </a:xfrm>
        </p:grpSpPr>
        <p:pic>
          <p:nvPicPr>
            <p:cNvPr id="582" name="Picture 4" descr="D:\huaniao\23.JPG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373356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WordArt 5"/>
            <p:cNvSpPr txBox="1"/>
            <p:nvPr/>
          </p:nvSpPr>
          <p:spPr>
            <a:xfrm>
              <a:off x="1371600" y="228600"/>
              <a:ext cx="1676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实验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4" name="Text Box 22"/>
          <p:cNvSpPr/>
          <p:nvPr/>
        </p:nvSpPr>
        <p:spPr>
          <a:xfrm>
            <a:off x="304920" y="472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同一直线上，方向相反的两个力的合力，大小等于这两个力的大小之差，方向跟较大的那个力相同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4267080" y="228600"/>
            <a:ext cx="4572000" cy="3335400"/>
            <a:chOff x="4267080" y="228600"/>
            <a:chExt cx="4572000" cy="3335400"/>
          </a:xfrm>
        </p:grpSpPr>
        <p:sp>
          <p:nvSpPr>
            <p:cNvPr id="586" name="Line 8"/>
            <p:cNvSpPr/>
            <p:nvPr/>
          </p:nvSpPr>
          <p:spPr>
            <a:xfrm>
              <a:off x="4267080" y="8460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Group 20"/>
            <p:cNvGrpSpPr/>
            <p:nvPr/>
          </p:nvGrpSpPr>
          <p:grpSpPr>
            <a:xfrm>
              <a:off x="4699080" y="228600"/>
              <a:ext cx="3849120" cy="3335400"/>
              <a:chOff x="4699080" y="228600"/>
              <a:chExt cx="3849120" cy="3335400"/>
            </a:xfrm>
          </p:grpSpPr>
          <p:pic>
            <p:nvPicPr>
              <p:cNvPr id="588" name="Object 6" descr=""/>
              <p:cNvPicPr/>
              <p:nvPr/>
            </p:nvPicPr>
            <p:blipFill>
              <a:blip r:embed="rId3"/>
              <a:stretch/>
            </p:blipFill>
            <p:spPr>
              <a:xfrm>
                <a:off x="5378760" y="846000"/>
                <a:ext cx="945000" cy="20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9"/>
              <p:cNvSpPr/>
              <p:nvPr/>
            </p:nvSpPr>
            <p:spPr>
              <a:xfrm>
                <a:off x="4699080" y="846000"/>
                <a:ext cx="185040" cy="25326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10"/>
              <p:cNvSpPr/>
              <p:nvPr/>
            </p:nvSpPr>
            <p:spPr>
              <a:xfrm>
                <a:off x="6923520" y="846000"/>
                <a:ext cx="185040" cy="25326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1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03200" y="846000"/>
                <a:ext cx="945000" cy="20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3"/>
              <p:cNvSpPr/>
              <p:nvPr/>
            </p:nvSpPr>
            <p:spPr>
              <a:xfrm>
                <a:off x="5749560" y="228600"/>
                <a:ext cx="185040" cy="6174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14"/>
              <p:cNvSpPr/>
              <p:nvPr/>
            </p:nvSpPr>
            <p:spPr>
              <a:xfrm>
                <a:off x="5749560" y="2946240"/>
                <a:ext cx="185040" cy="617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15"/>
              <p:cNvSpPr/>
              <p:nvPr/>
            </p:nvSpPr>
            <p:spPr>
              <a:xfrm>
                <a:off x="8035920" y="2946240"/>
                <a:ext cx="185040" cy="617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6"/>
              <p:cNvSpPr/>
              <p:nvPr/>
            </p:nvSpPr>
            <p:spPr>
              <a:xfrm>
                <a:off x="5873040" y="846000"/>
                <a:ext cx="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17"/>
              <p:cNvSpPr/>
              <p:nvPr/>
            </p:nvSpPr>
            <p:spPr>
              <a:xfrm flipV="1">
                <a:off x="5811120" y="2760840"/>
                <a:ext cx="0" cy="1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19"/>
              <p:cNvSpPr/>
              <p:nvPr/>
            </p:nvSpPr>
            <p:spPr>
              <a:xfrm flipV="1">
                <a:off x="8097840" y="2698920"/>
                <a:ext cx="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2"/>
            <p:cNvGrpSpPr/>
            <p:nvPr/>
          </p:nvGrpSpPr>
          <p:grpSpPr>
            <a:xfrm>
              <a:off x="4724280" y="1066680"/>
              <a:ext cx="152280" cy="2057400"/>
              <a:chOff x="4724280" y="1066680"/>
              <a:chExt cx="152280" cy="2057400"/>
            </a:xfrm>
          </p:grpSpPr>
          <p:sp>
            <p:nvSpPr>
              <p:cNvPr id="599" name="Line 73"/>
              <p:cNvSpPr/>
              <p:nvPr/>
            </p:nvSpPr>
            <p:spPr>
              <a:xfrm>
                <a:off x="4724280" y="106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74"/>
              <p:cNvSpPr/>
              <p:nvPr/>
            </p:nvSpPr>
            <p:spPr>
              <a:xfrm>
                <a:off x="4724280" y="1371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75"/>
              <p:cNvSpPr/>
              <p:nvPr/>
            </p:nvSpPr>
            <p:spPr>
              <a:xfrm>
                <a:off x="472428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76"/>
              <p:cNvSpPr/>
              <p:nvPr/>
            </p:nvSpPr>
            <p:spPr>
              <a:xfrm>
                <a:off x="4724280" y="1981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77"/>
              <p:cNvSpPr/>
              <p:nvPr/>
            </p:nvSpPr>
            <p:spPr>
              <a:xfrm>
                <a:off x="472428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78"/>
              <p:cNvSpPr/>
              <p:nvPr/>
            </p:nvSpPr>
            <p:spPr>
              <a:xfrm>
                <a:off x="4724280" y="25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79"/>
              <p:cNvSpPr/>
              <p:nvPr/>
            </p:nvSpPr>
            <p:spPr>
              <a:xfrm>
                <a:off x="4724280" y="2819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80"/>
              <p:cNvSpPr/>
              <p:nvPr/>
            </p:nvSpPr>
            <p:spPr>
              <a:xfrm>
                <a:off x="4724280" y="3124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81"/>
            <p:cNvGrpSpPr/>
            <p:nvPr/>
          </p:nvGrpSpPr>
          <p:grpSpPr>
            <a:xfrm>
              <a:off x="6934320" y="1066680"/>
              <a:ext cx="152280" cy="2057400"/>
              <a:chOff x="6934320" y="1066680"/>
              <a:chExt cx="152280" cy="2057400"/>
            </a:xfrm>
          </p:grpSpPr>
          <p:sp>
            <p:nvSpPr>
              <p:cNvPr id="608" name="Line 82"/>
              <p:cNvSpPr/>
              <p:nvPr/>
            </p:nvSpPr>
            <p:spPr>
              <a:xfrm>
                <a:off x="6934320" y="106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83"/>
              <p:cNvSpPr/>
              <p:nvPr/>
            </p:nvSpPr>
            <p:spPr>
              <a:xfrm>
                <a:off x="6934320" y="1371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84"/>
              <p:cNvSpPr/>
              <p:nvPr/>
            </p:nvSpPr>
            <p:spPr>
              <a:xfrm>
                <a:off x="693432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85"/>
              <p:cNvSpPr/>
              <p:nvPr/>
            </p:nvSpPr>
            <p:spPr>
              <a:xfrm>
                <a:off x="6934320" y="1981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86"/>
              <p:cNvSpPr/>
              <p:nvPr/>
            </p:nvSpPr>
            <p:spPr>
              <a:xfrm>
                <a:off x="693432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87"/>
              <p:cNvSpPr/>
              <p:nvPr/>
            </p:nvSpPr>
            <p:spPr>
              <a:xfrm>
                <a:off x="6934320" y="25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88"/>
              <p:cNvSpPr/>
              <p:nvPr/>
            </p:nvSpPr>
            <p:spPr>
              <a:xfrm>
                <a:off x="6934320" y="2819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89"/>
              <p:cNvSpPr/>
              <p:nvPr/>
            </p:nvSpPr>
            <p:spPr>
              <a:xfrm>
                <a:off x="6934320" y="3124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D:\huaniao\23.JPG"/>
          <p:cNvPicPr/>
          <p:nvPr/>
        </p:nvPicPr>
        <p:blipFill>
          <a:blip r:embed="rId1"/>
          <a:stretch/>
        </p:blipFill>
        <p:spPr>
          <a:xfrm>
            <a:off x="845820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4"/>
          <p:cNvSpPr txBox="1"/>
          <p:nvPr/>
        </p:nvSpPr>
        <p:spPr>
          <a:xfrm>
            <a:off x="380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8" name="Picture 5" descr="D:\板书演示\同一直线上二力的合成\“龙舟赛”.jpg"/>
          <p:cNvPicPr/>
          <p:nvPr/>
        </p:nvPicPr>
        <p:blipFill>
          <a:blip r:embed="rId2"/>
          <a:stretch/>
        </p:blipFill>
        <p:spPr>
          <a:xfrm>
            <a:off x="838080" y="1371600"/>
            <a:ext cx="6782040" cy="43228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380988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龙舟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21" name="WordArt 3"/>
          <p:cNvSpPr txBox="1"/>
          <p:nvPr/>
        </p:nvSpPr>
        <p:spPr>
          <a:xfrm>
            <a:off x="380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2" name="Picture 4" descr="D:\板书演示\同一直线上二力的合成\拔河.jpg"/>
          <p:cNvPicPr/>
          <p:nvPr/>
        </p:nvPicPr>
        <p:blipFill>
          <a:blip r:embed="rId2"/>
          <a:stretch/>
        </p:blipFill>
        <p:spPr>
          <a:xfrm>
            <a:off x="8380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6724080" y="5181480"/>
            <a:ext cx="91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拔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25" name="WordArt 3"/>
          <p:cNvSpPr txBox="1"/>
          <p:nvPr/>
        </p:nvSpPr>
        <p:spPr>
          <a:xfrm>
            <a:off x="380880" y="228600"/>
            <a:ext cx="434340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6" name="Picture 4" descr="D:\板书演示\同一直线上二力的合成\上海南浦大桥.jpg"/>
          <p:cNvPicPr/>
          <p:nvPr/>
        </p:nvPicPr>
        <p:blipFill>
          <a:blip r:embed="rId2"/>
          <a:stretch/>
        </p:blipFill>
        <p:spPr>
          <a:xfrm>
            <a:off x="685800" y="1143000"/>
            <a:ext cx="3890880" cy="48006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50292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南浦大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53:15Z</dcterms:modified>
  <cp:revision>6</cp:revision>
  <dc:subject/>
  <dc:title>PowerPoint Presentation</dc:title>
</cp:coreProperties>
</file>