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D9C8-5842-4932-B240-509D103EF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5EE-53DA-4803-87CA-699AE92E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1AB41-E161-4EE4-80D0-743C0370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79EDD-5886-425A-A157-C6BB7E11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080D82-3A1F-4ABA-B56A-A04C1298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FA809-5F22-44A9-BBA4-6BC7DD9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3731F-B27B-4BE3-A59F-79862B38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A7DB96-820E-4B8D-B1F5-2926223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EF106-1B2B-4C51-AA75-26BA30C5F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44EC-6832-4C17-9063-8B25D3100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813EB-897C-4D95-BB91-C14ACC9FA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4BC4E4-FFEA-4CCF-96CB-DBEB99DF3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B3D-750B-493F-988D-EF35918E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80DA-AF53-42B4-9E27-4931966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75446-5137-4B19-9180-AB008A3AC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D6670-83CF-46EA-B60E-99177456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02C5F-753D-41BC-BE14-B43715D4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61B7F1-B7E3-42FC-957D-07D26C29A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DF9EE-3C26-4E84-9F7E-5F71A336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40EC0E-98C9-4DCB-87C1-40DF6C9BA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B0DC6-4C56-442D-85C9-580449CF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90E70-0389-4253-A738-C20897F9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228F6-3B99-41B6-85AD-2BBEAC313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41F1-C490-4A0D-B854-E1A0F61C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7942D-DE36-4545-8D45-CCABC2C0D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EBA3C-65BA-4F96-9C35-4C666AE2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ABF2D-C7E2-4B24-A652-7872BC65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284DB1-B5FD-4A79-9F76-B1A09E7C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4825B-2916-4AFC-9492-47B32F7A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AB2F83-534C-49D8-8D1C-6016A038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95A9F3-F766-4E75-AFB4-E47E7BF19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ABB1D-B8F5-4191-9F24-379B3D91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94DD5-359D-4304-B360-04AC0C6F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16DA3-7129-4B59-A6DE-79D983D6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FB62-4A4F-433E-9C6B-F850F38CC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550E2-61BE-4989-9500-53F81123E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91FF84-4409-4EBF-ACAE-AD462319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0A5D0-15CA-4220-9CCA-8D8E52EE5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11B610-4A09-4941-8E2A-31B274E4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59214-5050-402E-A309-E0BA4FFC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7E1AFD-EA2F-4907-B688-48108628B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A3424-58A5-418F-A699-8D5B5A25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310F81-B58F-4B4B-8AEE-7DD9E31F6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1A93EF-B8A5-4791-B7FA-188785A9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186391-8997-4E63-99B7-891762D5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5866-05B9-4219-816F-ED358516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1AFB1-45AD-4BDE-9683-395AE83BF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FE0AC7-0779-4FE4-824D-5001E7E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E9F8A5-0970-4ED3-8463-FA6056BC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76C8D-51AA-4470-9750-D7F614213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B1F53-200C-4A64-AB80-69365101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69F96F-A8F7-4698-ACA9-1CB2A657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8EB5F3-52CC-463F-87A6-86C5EDBE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606C6-91A1-4A51-8453-444693F7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A69C1-2822-44C0-BF0C-8EBCC967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23637E-E206-44BE-85CC-14F49D6DD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BCD9E-D72F-46B2-BE80-F70F0A719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9B54F-EAC2-4C43-B33C-7DDE0211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06A385-65F5-4897-AF43-90111FBD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B1DBC-D835-413F-B365-54E0716E3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271B3A-6B9A-4E1E-A182-BB6084C9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8147E0-E5FA-47EC-85DB-98B0ECF8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9766CE-2E45-416C-AF12-AABAA24FC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DD4AE-D88A-4837-8EC6-9B2BF2AA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5DEF-9B7D-4903-B283-43ED0755E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16220-2FC6-40ED-B253-6E98A34AE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9DF-8252-4511-9F9F-2377FA20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33A90-26B0-48F3-9780-DBDBC62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3F00-D9A9-4C40-8187-57A64C6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273B0-F643-4D87-AA5E-F8CE215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537B6-7525-428D-838E-234FC6444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5DE2-6C78-42FA-AF1D-30D3C604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9F39-C3AA-4F30-93B6-F5B419292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CA999-9D88-4935-82F0-6EA817C21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3DA52-AE4F-4308-AC2D-577A4D043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3D3D6-ECD6-4E1A-9305-6B55B669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66E9B-B71B-44BB-AF4A-AFE701376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7F2575-AB2E-452F-B930-E0F83F09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9945C-0A94-4B2E-8B38-5C6BE750A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40E-5250-4E7A-B58E-E2CB9E35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A3D44-E6D7-466A-98C2-F56BC5B8A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13119-974B-48B0-9ED6-4108CC6E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C0F9-C76B-4104-9A32-3230CA58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E748-6278-4A59-AE50-F9A3C8B1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4D17C-44B9-4C62-B6DA-1624EDBF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77066-3353-414B-B8BC-5ED14B96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81F44-6962-43E1-8FF6-8B8207D3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D1470-95A6-4F60-8BC6-6EB38FA6F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B849-41A4-41D3-86A8-DFE5B3D77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11742-F8F3-49B6-9747-78C29A2F6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FFEC-0AF4-43BF-A8CE-CDD0A30F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388B8-507F-4AF5-A2DF-FE9B4640E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24383-4DA9-4F8F-A21C-98447B1DC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710F1-0732-4F6A-84FC-05BFB558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81346-5F93-4CEB-988F-AAA7FC17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55B8B-2A82-4D60-AC56-E528B21A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456E5-F9ED-4FCA-A2D0-C9EAB3E3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2EF19-4334-47B8-9560-AF2FB15E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6E64-9766-4F0C-A956-1F1CD9F16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53713-EE1E-46A5-B8DF-1C908F60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5DA07C-3E64-40A8-AB90-CEAAE45B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736B-F7F1-4E7D-B0EF-8B35E61B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98610-8053-4023-AC6D-F2E7CE501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CBC6-6676-4924-9C94-34D0AE62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5C2A6-199E-4D33-A172-7613424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0DA11-B13D-46AF-8283-55A9F9AB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AF87A-2F63-45B8-A926-769D5E14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038CD3-E786-406F-A2B2-C352A170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763C4-B8DB-492A-8E22-D618D08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7C8086-4059-4E66-AFD7-AD1A1D7C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479B0-075C-47B0-8756-4FF7B7BBC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6EA2-C7E1-4106-967F-271DAA263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FAF9-2D69-498D-9C75-7DBE0E386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C0DB8-57A5-400A-921B-A0F95419F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45BA7-819C-47A6-88C4-25E10DA3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5965B-8FC6-430E-8C5D-671636C6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008DC7-CED2-4F23-8EE7-4F110124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1DFA-F817-4224-8C99-86230C530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54CBB-6503-480A-AE13-E43D7EB0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28051-9765-4A13-9908-2FB8DD0A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C2BA-0342-4FF4-8949-58AB93139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4D85-30F7-4BF3-8B8E-10195167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3050-40A7-4105-9A27-BF58132B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600E-CCE3-4590-A96D-85E4FDA4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9859-EC1E-46AE-BB21-60D74F93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A14B-3B6F-45DD-A885-A1CFE15D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BD7DB-5B01-47B5-9126-D6A35F774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B5B13-71B6-4172-B134-7548B872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1059F3-D671-4378-B469-41DFA7BB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660CA-3860-46D3-98E1-82706687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431F2-CDA7-4E57-A8E0-9332709C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22A238-8D7B-422E-AE7A-8BDBAE5C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9644A-EBB7-47C1-9082-779F58C45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0F0F0-8F11-4074-A6EE-DA8D747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0CD7-8629-4D3C-BC72-DD535307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24EFD-62D3-4A0F-80FE-CF49A0BB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B4329-AE41-4C49-B671-F85C108B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0AC2D-5C4F-4123-AA35-1286AC04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000BE-D1FC-45CF-94A6-13571961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C785FA-356E-4083-913D-5ADA3291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C80BC-6448-4A88-8418-1AEF8AC2E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26F0D8-DD16-47A6-A247-00D331EE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99858-4CF7-4985-8E49-94C5FB52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883E9-0B76-4D30-B485-9F44BE941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EBA96-90D2-49C6-A4F9-C73E619E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3E8C-BAFB-4824-B65C-7488A558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CEBBDF-CA89-45A9-92F9-86F15785A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64896-B56C-45FF-8D1A-0AEB0CC8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AF4F0-2550-43B4-BE13-ABEEA45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03843-EB9A-4DD1-B284-643562FA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1420C-89B4-401D-BBBE-3E74BD5DE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D47CC-4CD9-4740-B121-4D5D0A7D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29E04-7140-4E99-B7BE-21D5059A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521AC-F6D0-42A1-AF0A-25ADF8C31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F427A-A5FC-4D63-81CE-0013BEAD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5EF13F-5978-4552-AFF3-8F851F06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2B822-ECA2-4BDF-82F4-0D0BC5C97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59AC-3CB7-45A9-B44B-0E82C7AA041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460F-E9A4-4C26-9711-B52F49FD2D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024C-8C9F-4B21-9670-624DDAB5E2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08A3-93E2-40EA-8BA9-4ABB3CFF396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AD0F-0C5D-4E7C-AC42-EB73A60534E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E8E-D94E-4154-8738-ACC634DDCF4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112A-76DA-4D7D-A299-433BF5A3D33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1514-13B7-4787-99F3-AC6C9DF8FC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C4CE-D00C-4025-AB93-0FC489CB9F2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8493-13E5-400D-B8EE-7FA6D5E37F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30C4-0BA1-4E6E-95AF-5829276788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04A4-E4AA-4C84-9A95-6B3F629F13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E5ADA-DF21-4C0F-A0EA-F5B0583DA2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0ACE-B016-4145-BA69-E4FD8B2A995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720B-D3D9-4054-BDBC-56F16C6E763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F6B8-252F-43B6-8EB4-31181FE7E2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5CC4-DEBC-487C-8D7F-DAF937BE2E8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15EF-95A9-42F5-8DAD-03B9D68C9B5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E88F-0575-4F1B-82F6-2ECCE0CCE2C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5AAD-7E0F-4C7A-B1E8-362380B860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A8CF-8088-4B8A-873D-3F9682F4A87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6AA1-0F95-491F-86F1-7CE3F9A761F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4FA0A-5330-4D88-B498-4206D73ADA8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44D8-1A6F-405A-A092-E0C76F5D8A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211400" y="1639800"/>
            <a:ext cx="671976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鹿和狼的故事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WordArt 2"/>
          <p:cNvSpPr txBox="1"/>
          <p:nvPr/>
        </p:nvSpPr>
        <p:spPr>
          <a:xfrm>
            <a:off x="2028960" y="838080"/>
            <a:ext cx="5086080" cy="99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琥珀"/>
              </a:rPr>
              <a:t>鹿和狼的故事</a:t>
            </a:r>
            <a:endParaRPr b="1" lang="en-US" sz="66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535" name="WordArt 3"/>
          <p:cNvSpPr txBox="1"/>
          <p:nvPr/>
        </p:nvSpPr>
        <p:spPr>
          <a:xfrm>
            <a:off x="990720" y="2438280"/>
            <a:ext cx="847440" cy="8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鹿</a:t>
            </a:r>
            <a:endParaRPr b="1" lang="en-US" sz="6600" spc="1" strike="noStrike">
              <a:ln w="12600">
                <a:solidFill>
                  <a:srgbClr val="eaeaea"/>
                </a:solidFill>
                <a:miter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536" name="WordArt 4"/>
          <p:cNvSpPr txBox="1"/>
          <p:nvPr/>
        </p:nvSpPr>
        <p:spPr>
          <a:xfrm>
            <a:off x="3657600" y="251460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狼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grpSp>
        <p:nvGrpSpPr>
          <p:cNvPr id="537" name="Group 5"/>
          <p:cNvGrpSpPr/>
          <p:nvPr/>
        </p:nvGrpSpPr>
        <p:grpSpPr>
          <a:xfrm>
            <a:off x="1981080" y="2044800"/>
            <a:ext cx="1524240" cy="1155600"/>
            <a:chOff x="1981080" y="2044800"/>
            <a:chExt cx="1524240" cy="1155600"/>
          </a:xfrm>
        </p:grpSpPr>
        <p:sp>
          <p:nvSpPr>
            <p:cNvPr id="538" name="AutoShape 6"/>
            <p:cNvSpPr/>
            <p:nvPr/>
          </p:nvSpPr>
          <p:spPr>
            <a:xfrm>
              <a:off x="1981080" y="2971800"/>
              <a:ext cx="1524240" cy="228600"/>
            </a:xfrm>
            <a:prstGeom prst="leftArrow">
              <a:avLst>
                <a:gd name="adj1" fmla="val 50000"/>
                <a:gd name="adj2" fmla="val 16669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WordArt 7"/>
            <p:cNvSpPr txBox="1"/>
            <p:nvPr/>
          </p:nvSpPr>
          <p:spPr>
            <a:xfrm>
              <a:off x="2514600" y="2044800"/>
              <a:ext cx="619200" cy="850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20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宋体"/>
                </a:rPr>
                <a:t>吃</a:t>
              </a:r>
              <a:endPara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40" name="WordArt 8"/>
          <p:cNvSpPr txBox="1"/>
          <p:nvPr/>
        </p:nvSpPr>
        <p:spPr>
          <a:xfrm>
            <a:off x="1676520" y="4267080"/>
            <a:ext cx="2076480" cy="13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森林</a:t>
            </a:r>
            <a:endParaRPr b="1" lang="en-US" sz="8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541" name="Group 9"/>
          <p:cNvGrpSpPr/>
          <p:nvPr/>
        </p:nvGrpSpPr>
        <p:grpSpPr>
          <a:xfrm>
            <a:off x="3105000" y="3429000"/>
            <a:ext cx="2152800" cy="990720"/>
            <a:chOff x="3105000" y="3429000"/>
            <a:chExt cx="2152800" cy="990720"/>
          </a:xfrm>
        </p:grpSpPr>
        <p:sp>
          <p:nvSpPr>
            <p:cNvPr id="542" name="AutoShape 10"/>
            <p:cNvSpPr/>
            <p:nvPr/>
          </p:nvSpPr>
          <p:spPr>
            <a:xfrm>
              <a:off x="3962520" y="3429000"/>
              <a:ext cx="1295280" cy="990720"/>
            </a:xfrm>
            <a:custGeom>
              <a:avLst/>
              <a:gdLst>
                <a:gd name="textAreaLeft" fmla="*/ 173520 w 1295280"/>
                <a:gd name="textAreaRight" fmla="*/ 1121760 w 1295280"/>
                <a:gd name="textAreaTop" fmla="*/ 173160 h 990720"/>
                <a:gd name="textAreaBottom" fmla="*/ 71820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WordArt 11"/>
            <p:cNvSpPr txBox="1"/>
            <p:nvPr/>
          </p:nvSpPr>
          <p:spPr>
            <a:xfrm>
              <a:off x="3105000" y="371484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保护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grpSp>
        <p:nvGrpSpPr>
          <p:cNvPr id="544" name="Group 12"/>
          <p:cNvGrpSpPr/>
          <p:nvPr/>
        </p:nvGrpSpPr>
        <p:grpSpPr>
          <a:xfrm>
            <a:off x="152280" y="3505320"/>
            <a:ext cx="2229120" cy="990360"/>
            <a:chOff x="152280" y="3505320"/>
            <a:chExt cx="2229120" cy="990360"/>
          </a:xfrm>
        </p:grpSpPr>
        <p:sp>
          <p:nvSpPr>
            <p:cNvPr id="545" name="AutoShape 13"/>
            <p:cNvSpPr/>
            <p:nvPr/>
          </p:nvSpPr>
          <p:spPr>
            <a:xfrm>
              <a:off x="152280" y="3505320"/>
              <a:ext cx="1219320" cy="990360"/>
            </a:xfrm>
            <a:custGeom>
              <a:avLst/>
              <a:gdLst>
                <a:gd name="textAreaLeft" fmla="*/ 163080 w 1219320"/>
                <a:gd name="textAreaRight" fmla="*/ 1056240 w 1219320"/>
                <a:gd name="textAreaTop" fmla="*/ 173160 h 990360"/>
                <a:gd name="textAreaBottom" fmla="*/ 7182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WordArt 14"/>
            <p:cNvSpPr txBox="1"/>
            <p:nvPr/>
          </p:nvSpPr>
          <p:spPr>
            <a:xfrm>
              <a:off x="1447920" y="3733920"/>
              <a:ext cx="933480" cy="47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华文彩云"/>
                </a:rPr>
                <a:t>破坏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华文彩云"/>
                <a:ea typeface="华文彩云"/>
              </a:endParaRPr>
            </a:p>
          </p:txBody>
        </p:sp>
      </p:grpSp>
      <p:sp>
        <p:nvSpPr>
          <p:cNvPr id="547" name="WordArt 15"/>
          <p:cNvSpPr txBox="1"/>
          <p:nvPr/>
        </p:nvSpPr>
        <p:spPr>
          <a:xfrm>
            <a:off x="5600880" y="2590920"/>
            <a:ext cx="308592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华文琥珀"/>
              </a:rPr>
              <a:t>相互制约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548" name="WordArt 16"/>
          <p:cNvSpPr txBox="1"/>
          <p:nvPr/>
        </p:nvSpPr>
        <p:spPr>
          <a:xfrm>
            <a:off x="5638680" y="3933720"/>
            <a:ext cx="30862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琥珀"/>
              </a:rPr>
              <a:t>相互联系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琥珀"/>
              <a:ea typeface="华文琥珀"/>
            </a:endParaRPr>
          </a:p>
        </p:txBody>
      </p:sp>
      <p:sp>
        <p:nvSpPr>
          <p:cNvPr id="549" name="AutoShape 18"/>
          <p:cNvSpPr/>
          <p:nvPr/>
        </p:nvSpPr>
        <p:spPr>
          <a:xfrm>
            <a:off x="1403280" y="2781360"/>
            <a:ext cx="73080" cy="71280"/>
          </a:xfrm>
          <a:custGeom>
            <a:avLst/>
            <a:gdLst>
              <a:gd name="textAreaLeft" fmla="*/ 4320 w 73080"/>
              <a:gd name="textAreaRight" fmla="*/ 68760 w 73080"/>
              <a:gd name="textAreaTop" fmla="*/ 4320 h 71280"/>
              <a:gd name="textAreaBottom" fmla="*/ 66960 h 71280"/>
            </a:gdLst>
            <a:ahLst/>
            <a:rect l="textAreaLeft" t="textAreaTop" r="textAreaRight" b="textAreaBottom"/>
            <a:pathLst>
              <a:path w="22143" h="21600">
                <a:moveTo>
                  <a:pt x="0" y="0"/>
                </a:moveTo>
                <a:lnTo>
                  <a:pt x="22143" y="0"/>
                </a:lnTo>
                <a:lnTo>
                  <a:pt x="22143" y="21600"/>
                </a:lnTo>
                <a:lnTo>
                  <a:pt x="0" y="21600"/>
                </a:lnTo>
                <a:close/>
              </a:path>
              <a:path fill="lightenLess" w="22143" h="21600">
                <a:moveTo>
                  <a:pt x="0" y="0"/>
                </a:moveTo>
                <a:lnTo>
                  <a:pt x="22143" y="0"/>
                </a:lnTo>
                <a:lnTo>
                  <a:pt x="20743" y="1400"/>
                </a:lnTo>
                <a:lnTo>
                  <a:pt x="1400" y="1400"/>
                </a:lnTo>
                <a:close/>
              </a:path>
              <a:path fill="darken" w="22143" h="21600">
                <a:moveTo>
                  <a:pt x="22143" y="0"/>
                </a:moveTo>
                <a:lnTo>
                  <a:pt x="22143" y="21600"/>
                </a:lnTo>
                <a:lnTo>
                  <a:pt x="20743" y="20200"/>
                </a:lnTo>
                <a:lnTo>
                  <a:pt x="20743" y="1400"/>
                </a:lnTo>
                <a:close/>
              </a:path>
              <a:path fill="darkenLess" w="22143" h="21600">
                <a:moveTo>
                  <a:pt x="22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743" y="20200"/>
                </a:lnTo>
                <a:close/>
              </a:path>
              <a:path fill="lighten" w="22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5" descr="20056819551567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5" descr="20044615385536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4"/>
          <p:cNvSpPr/>
          <p:nvPr/>
        </p:nvSpPr>
        <p:spPr>
          <a:xfrm>
            <a:off x="0" y="750600"/>
            <a:ext cx="914400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的鼻脸突出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耳朵稍短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黑暗中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眼睛可以反射灯光或火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而且头部和口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非常有力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从地上叼起一只绵羊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将它带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狩猎时会全体出动协力合作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找寻猎物时多排成一纵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每小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6~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的速度慢慢前进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追赶猎物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一追数十公里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将猎物驱赶到很不好走的地方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;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可以一直跟著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直到猎物筋疲力尽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才加以击杀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/10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如果遇到成群的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先加以追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猎物中比较年老体弱或生病者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渐落后脱队了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猎杀这些落后的猎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的食量很大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次可吃掉相当於其体重五分之一重量的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找不到猎物时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捕食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蛙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鱼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昆虫及家畜等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乎什麼肉都吃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3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狩猎场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通常有自己狩猎的领域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有狩猎专用的通道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通道有时长达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些通道附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有各种猎物出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狼群常在这些狩猎通道上巡逻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在各处涂上由身体所分泌的臭液或粪便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自己领域的标记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些狩猎场常会一代继承一代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blue.mp3" descr=""/>
          <p:cNvPicPr/>
          <p:nvPr/>
        </p:nvPicPr>
        <p:blipFill>
          <a:blip r:embed="rId1"/>
          <a:stretch/>
        </p:blipFill>
        <p:spPr>
          <a:xfrm>
            <a:off x="817236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54" name="AutoShape 6">
            <a:hlinkClick r:id="rId2" action="ppaction://hlinksldjump"/>
          </p:cNvPr>
          <p:cNvSpPr/>
          <p:nvPr/>
        </p:nvSpPr>
        <p:spPr>
          <a:xfrm>
            <a:off x="6516720" y="6093000"/>
            <a:ext cx="649080" cy="475920"/>
          </a:xfrm>
          <a:custGeom>
            <a:avLst/>
            <a:gdLst>
              <a:gd name="textAreaLeft" fmla="*/ 30600 w 649080"/>
              <a:gd name="textAreaRight" fmla="*/ 618480 w 64908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9453" h="21600">
                <a:moveTo>
                  <a:pt x="0" y="0"/>
                </a:moveTo>
                <a:lnTo>
                  <a:pt x="29453" y="0"/>
                </a:lnTo>
                <a:lnTo>
                  <a:pt x="29453" y="21600"/>
                </a:lnTo>
                <a:lnTo>
                  <a:pt x="0" y="21600"/>
                </a:lnTo>
                <a:close/>
              </a:path>
              <a:path fill="lightenLess" w="29453" h="21600">
                <a:moveTo>
                  <a:pt x="0" y="0"/>
                </a:moveTo>
                <a:lnTo>
                  <a:pt x="29453" y="0"/>
                </a:lnTo>
                <a:lnTo>
                  <a:pt x="28053" y="1400"/>
                </a:lnTo>
                <a:lnTo>
                  <a:pt x="1400" y="1400"/>
                </a:lnTo>
                <a:close/>
              </a:path>
              <a:path fill="darken" w="29453" h="21600">
                <a:moveTo>
                  <a:pt x="29453" y="0"/>
                </a:moveTo>
                <a:lnTo>
                  <a:pt x="29453" y="21600"/>
                </a:lnTo>
                <a:lnTo>
                  <a:pt x="28053" y="20200"/>
                </a:lnTo>
                <a:lnTo>
                  <a:pt x="28053" y="1400"/>
                </a:lnTo>
                <a:close/>
              </a:path>
              <a:path fill="darkenLess" w="29453" h="21600">
                <a:moveTo>
                  <a:pt x="294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3" y="20200"/>
                </a:lnTo>
                <a:close/>
              </a:path>
              <a:path fill="lighten" w="294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3" h="21600">
                <a:moveTo>
                  <a:pt x="7720" y="10800"/>
                </a:moveTo>
                <a:lnTo>
                  <a:pt x="21733" y="3794"/>
                </a:lnTo>
                <a:lnTo>
                  <a:pt x="2173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553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53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7220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5" descr="20050417090648326"/>
          <p:cNvPicPr/>
          <p:nvPr/>
        </p:nvPicPr>
        <p:blipFill>
          <a:blip r:embed="rId1"/>
          <a:stretch/>
        </p:blipFill>
        <p:spPr>
          <a:xfrm>
            <a:off x="0" y="-792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20050417090649630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0" y="1247760"/>
            <a:ext cx="914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鹿多生活于森林边缘或山地草原、灌木林草山，离水源近，食物较多的地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但栖息地也随着季节而变换，冬季多在阳坡，洼地和积雪较少的地方；春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在旷野或森林疏地觅食；夏季则在阴坡，密林内隐蔽的地方栖息。鹿生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群集性和游牧性。如川鹿时常有几十只或几百只一小群，携儿带女，游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过海，翻山越岭，作几十公里或几百公里远游迁涉。但梅花鹿活动范围相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较固定，范围一般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-15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公里。梅花鹿性情温顺，善奔跑跳跃，听觉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嗅觉发达，视觉稍差。胆小易惊，常白天栖息，晨昏采食、饮水和活动。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动时具有群居性，这种生活方式可减少猛兽的突然袭击，是防御敌害的一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应。当鹿群遇敌害或受惊吓时，鹿常惊慌、恐惧、愤怒、两耳直立、臀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逆立、咬牙、跺足、尖叫，翻起尾巴散发一种特殊的分泌物逃跑。奔跑时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跳过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以上高的障碍物，跳远达米以上，以摆脱敌害的威胁。梅花鹿对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候变化特别敏感，怕热不怕冷，怕风不怕雨雪，可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C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气温下生存。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气温下降，雨雪降落之际，鹿群非常活，撒欢蹦跳，仰望天空等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blue.mp3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59" name="AutoShape 6"/>
          <p:cNvSpPr/>
          <p:nvPr/>
        </p:nvSpPr>
        <p:spPr>
          <a:xfrm>
            <a:off x="6588000" y="6308640"/>
            <a:ext cx="576360" cy="216000"/>
          </a:xfrm>
          <a:custGeom>
            <a:avLst/>
            <a:gdLst>
              <a:gd name="textAreaLeft" fmla="*/ 13680 w 576360"/>
              <a:gd name="textAreaRight" fmla="*/ 562680 w 57636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7576" h="21600">
                <a:moveTo>
                  <a:pt x="0" y="0"/>
                </a:moveTo>
                <a:lnTo>
                  <a:pt x="57576" y="0"/>
                </a:lnTo>
                <a:lnTo>
                  <a:pt x="57576" y="21600"/>
                </a:lnTo>
                <a:lnTo>
                  <a:pt x="0" y="21600"/>
                </a:lnTo>
                <a:close/>
              </a:path>
              <a:path fill="lightenLess" w="57576" h="21600">
                <a:moveTo>
                  <a:pt x="0" y="0"/>
                </a:moveTo>
                <a:lnTo>
                  <a:pt x="57576" y="0"/>
                </a:lnTo>
                <a:lnTo>
                  <a:pt x="56176" y="1400"/>
                </a:lnTo>
                <a:lnTo>
                  <a:pt x="1400" y="1400"/>
                </a:lnTo>
                <a:close/>
              </a:path>
              <a:path fill="darken" w="57576" h="21600">
                <a:moveTo>
                  <a:pt x="57576" y="0"/>
                </a:moveTo>
                <a:lnTo>
                  <a:pt x="57576" y="21600"/>
                </a:lnTo>
                <a:lnTo>
                  <a:pt x="56176" y="20200"/>
                </a:lnTo>
                <a:lnTo>
                  <a:pt x="56176" y="1400"/>
                </a:lnTo>
                <a:close/>
              </a:path>
              <a:path fill="darkenLess" w="57576" h="21600">
                <a:moveTo>
                  <a:pt x="57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6" y="20200"/>
                </a:lnTo>
                <a:close/>
              </a:path>
              <a:path fill="lighten" w="57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76" h="21600">
                <a:moveTo>
                  <a:pt x="21782" y="10800"/>
                </a:moveTo>
                <a:lnTo>
                  <a:pt x="35795" y="3794"/>
                </a:lnTo>
                <a:lnTo>
                  <a:pt x="357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7220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6T09:52:03Z</dcterms:created>
  <dc:creator>zhang</dc:creator>
  <dc:description/>
  <dc:language>en-US</dc:language>
  <cp:lastModifiedBy>a</cp:lastModifiedBy>
  <dcterms:modified xsi:type="dcterms:W3CDTF">2015-03-17T05:43:51Z</dcterms:modified>
  <cp:revision>4</cp:revision>
  <dc:subject/>
  <dc:title>幻灯片 1</dc:title>
</cp:coreProperties>
</file>