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CD1-3430-41FA-A22A-6388843A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190-D4B7-42FD-95B9-95EF159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CB238-5AC2-42CE-B903-C9BDB68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B0E7-4C09-414A-9533-00F82100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250EC-94EA-44C7-B744-EAF3F3BE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11411-AC9E-45E6-9862-621EE15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0AB0-6BAF-4797-A584-1C8417D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4144-69FF-4B1F-8D06-E363A3C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CC11C-070E-437E-85FF-F2966EF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4B4F-29C4-4FD4-B82D-17FC98A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62C1-FE25-4A3D-BB59-CC29F4B1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F325B-0639-41A7-B25D-27065972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247-024A-442F-AA99-9DF7F064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13FCD-6D27-4ECA-929B-A945609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2DB81-367C-4504-9CA4-5C4DDC8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32DD-413F-430D-ACF7-0578E43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A73B-32E8-4730-8FC4-3C4FB26F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A4862-834F-43CE-8A97-F80C4E3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231E2-BE0F-4BEF-B795-39BE926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30AAD-73B9-4D1F-9DD6-84E4F17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8F49C-5254-4B52-8AAE-31BFBFB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9D1C-2267-4250-9A1D-A4D7413C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7E9D7-E9D5-47C4-A0F0-D387C116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97C-5851-4FE4-A279-5F20866A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1E9AD-78EA-4ABD-8393-1A3B2794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2A177-E41B-471D-8EE7-A18D1CD3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EE301-7223-4244-A9F2-A13C576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00B65-CD6D-46DB-83DB-2DC2CAD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8E42B-5ABC-455B-AA31-30D2774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95956-30DD-4DFF-8E81-A34E68A4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4E089-0477-4571-8B77-C5ED7A83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670AE-880A-4396-9E35-C9BAEB0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C813-FE05-4A3B-B821-3F149DE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F264D-B11A-451B-B079-B245EE3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5214-B99A-474C-AC7D-6E3DFE0F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2A44-2FC3-4A3C-8DE2-2A2E55F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06C23-0B28-4448-B7A9-B60F15BB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C8086-1F55-4D03-9E84-BB2D0308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6FB18-616C-4631-A06D-464E74EB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EE583-7A87-4938-8091-24651D7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B7732-B131-4AA6-93F4-5E2350AB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C4062-CA29-49AE-AF57-A85337B5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527CB-6E0D-443D-8044-10FCF97D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2581F-3356-48F8-B861-3DF6B67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3055A-4A4A-4BBB-99B4-42D63DF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D10-B2CA-49D2-9AF2-3D0518F1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486B9-F95B-4EA4-8B31-E17394C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933A2-100A-4C3E-8E9A-0B52FE9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5ED35-C1CE-4CA9-A82F-4FCC8EA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D8A6B-6834-4D1A-BFF8-EBE5CC20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0A8C7-55DB-41A0-8818-70DF971C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6CD75-FB99-45B7-9CFE-7DFE2B7E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69750-CCFA-4EAC-BB1E-1B558ED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22163-BDDA-4D89-870D-D7753616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75D4E-E2A6-48BC-A18D-51D64AE1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C4688-D6BC-4BE0-82E2-43FB5EA4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3BA-9D94-44D0-80BC-3009E6FE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6CC10-1857-4BF8-9B04-991088E5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2E86F-E3C8-4886-9F1F-080F510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D8B9B-C4A7-48DC-977D-118E3D5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2FC02-0B30-432F-949C-69A4A8E0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BC535-8695-4BF8-A87C-418F3239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F61C8-1288-44F3-A500-BDF6D592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5C097-4579-4A95-B812-122D7BC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7612-C26B-4789-8A88-CA9B2B9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770-7E78-4F2B-88E6-1983797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2395-6963-4991-9FFB-824B8227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AC33-5782-4E3E-A6BD-A826A3B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C06-C608-4633-AE69-2803A4E3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CC8F-8740-4766-9E2B-7466CB5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7A5-CDA3-44DA-BBE9-D9A472A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1A3-B40D-4189-B282-57DB15B2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3ABF-905D-4458-A871-A37AB79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CBD0-6674-4E39-A0A3-52704BE8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641C-DB75-4A77-B653-6BE98E0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D978-BD4F-468A-8DDF-E6B58E49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CD54-B1A5-4117-B27E-7F51875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7D87-1495-4E59-959E-9B25639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EBAF-F3DF-4F11-93DE-CCB1805E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C12-F7B2-4CB9-9B41-6A78258E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130F-518E-47EF-895F-277E1FF1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AABB-6E02-494D-847C-5480380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1A2F-056F-4854-BEAE-2A7DB55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7E0B-FEE3-4598-AD4A-1ACBBAE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8FDE-526E-4B7A-973B-C3495D2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AB18-3B99-472F-8674-E68124F7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62EF-A29B-47AB-B384-9BC45FD2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0258-45F6-4F47-AF0C-30660511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8A5F-EBB6-40E1-AD67-D925A4F6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5826-1C38-4019-A9F6-6909B9D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719-DD93-4389-8E1D-2B5E462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BB3F-18EF-4167-BAD8-4F696E78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00F7-38DF-403C-BCD2-B130613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B271-5D38-4BBB-8A09-0C48127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2B1E-944F-459F-9D53-F9A7349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AB892-1F2D-403A-9FCB-8896DE3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1230-E78B-4AAE-A347-EFAC866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D4D4-D98E-4890-9B1E-1B70A08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A743-E6CB-4C5F-85CA-1802B2B1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7821-78BA-4938-963A-8F1BD429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8BF5-BA08-466D-9B31-F799FF1C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8B8-F2D1-4B5C-9149-9004FCDE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C229-B9F8-4588-9533-805BEF7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1E23-990E-4649-B151-CCD1A9C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598F-43A4-4D79-93BC-07B355B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3CC9-D355-4718-A9BF-556D01E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1D8F-CB08-4F0D-8DEC-5A175072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4BAD-629F-4A1C-840D-3B59F70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C335-52D6-4009-86D0-5B4BA7D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1BF7-4B83-4244-9E2B-CA3C6AC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8A93-6126-45D2-BE6E-FF0F62E0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AC04-ECCF-40E8-BF05-14D26C8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1BA-E7F9-4E63-9218-8E770E0D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8535-D288-4911-8D1A-17EDFC73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AB93-E231-41ED-BB61-89E46B20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F0DB-3E6C-442B-9472-41CCAB42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1FA3-E103-4C73-B979-902BD57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2605-7D61-4AB0-B324-8C2A8B9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D204-CC1C-4E12-BC23-372A522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7B88-566E-4E0E-8D4D-A7EF8C0A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C972-D1CE-4D63-BB3E-376507F8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72CB-2CC1-4798-88A6-1ABB40E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6A13-CC51-4121-89A2-64386CA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F9B-EB05-4484-902C-66CE675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F40E-E00A-43AE-A687-AD382B51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EB369-6821-474A-844B-9769CFC3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5325-04CD-4397-84A4-999B67C3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91DAA-4273-4345-8D21-BE48D8A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4D68-8F92-4C87-BD86-868B2A4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2EB1-F348-4AE8-995C-E9558BB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B9E0-684B-4F74-A895-23F9848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42C8-05FF-4DFC-9B57-BFBC710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A3BAC-6FD8-419B-9065-1D0A95B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D4BE-346C-4BB5-ABF5-BA64CA5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8E9-EE6F-4CBB-9EE5-41E214D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1129-9BC1-42B7-B8DD-CCFF111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43F10-5782-48C1-AF52-1169F7C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E54B2-539B-48C4-9CD3-4E0A283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E226-4F53-496C-813F-A8C288BD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54C48-5696-4629-A59A-4005EBD7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6A59-97BE-45F1-A173-3FFBDA2E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63EA-0FCD-4B11-9833-9F2990A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3975-9958-42B5-A03A-D2CC7111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E203-E548-4654-8FF8-98E652C9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1296-8E67-497F-AB34-38220426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425-97DD-4E1E-9BA1-E073ABF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FD4B-A504-4A66-AAE9-6A17A64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6CB9F-F89A-4DC4-89A5-4F5E0D91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8CDC-B99F-42EC-B775-5F78337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9D03-A65E-46E7-9408-9D16853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90F2-3CE8-4375-B8CE-48F8C11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6940-94C0-4AA4-9910-27B03796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4AC7-3DF0-482E-BFB2-78CE9463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4E85-4B6E-49FC-8616-4AF91F58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EA1F5-69E3-4940-92E6-9C4A5B2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EF677-0AB1-4C85-A83D-A0428ED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AB02-40E2-4C53-B651-1A86EAB5D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F84-C98D-4E95-9B4E-53056B8E3E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D68-55C0-4570-A9ED-C91B91563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893-3421-4394-8CA0-151C2DB900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99F-F496-415D-A953-9C6BEF173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06CB-C8BB-43E4-870F-A55ECABB5B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3F6-6D39-4482-A1C0-0D4AECBF9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F96-3A40-49E0-AE66-A39F91A64F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C12-2D68-4789-8153-74B96A481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FD5-12C2-42CC-872C-727848C74D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D8E-C7E1-4FC3-AA81-CF90DABC4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1B4B-9417-425C-B6F8-85B3CD297E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300-1088-4B02-8FD0-E5EAFFD0B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AF7-8A94-457C-8F55-3174C9E8A1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1F7-00D6-4D8F-82BA-F09880DAD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3C49-2779-48F5-BB5E-FCFB9CF98F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1A5A-BD82-4DBE-9F89-B0FBDD6458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301-CAE4-4140-8B9D-0153B8B2D2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B0F-0CF1-40EC-A13F-870E8C0486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4819-90A1-42BA-8556-5029B65AC3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CB50-1DA6-4A38-AF5A-07457F1C4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69E-EDD5-4070-A966-7D8271C08F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1814-7FD4-4D2A-8841-1D5108FAF7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E02D-C7AC-4AD6-874D-8E017FB0BD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BE3-40B5-4079-A747-813F8E20C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6" descr="八达岭长城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02240"/>
          </a:xfrm>
          <a:prstGeom prst="rect">
            <a:avLst/>
          </a:prstGeom>
          <a:ln w="0">
            <a:noFill/>
          </a:ln>
        </p:spPr>
      </p:pic>
      <p:sp>
        <p:nvSpPr>
          <p:cNvPr id="534" name="WordArt 1029"/>
          <p:cNvSpPr txBox="1"/>
          <p:nvPr/>
        </p:nvSpPr>
        <p:spPr>
          <a:xfrm>
            <a:off x="1828800" y="685800"/>
            <a:ext cx="525780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第一章  从世界看中国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535" name="WordArt 1030"/>
          <p:cNvSpPr txBox="1"/>
          <p:nvPr/>
        </p:nvSpPr>
        <p:spPr>
          <a:xfrm>
            <a:off x="2209680" y="3124080"/>
            <a:ext cx="477216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第一节  辽阔的疆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J_034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2"/>
          <p:cNvSpPr/>
          <p:nvPr/>
        </p:nvSpPr>
        <p:spPr>
          <a:xfrm>
            <a:off x="685800" y="609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二、国土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1752480" y="1981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、面积</a:t>
            </a: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960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万平方千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533520" y="762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按逆时针方向自东向西沿我国陆上疆界依次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邻国，沿我国海上疆界，由南向北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与我国隔海相望的国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228600" y="15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祖国的四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97180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北：漠河以北黑龙江主航道的中心线，纬度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809880" y="1523880"/>
            <a:ext cx="15264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3352680" y="2743200"/>
            <a:ext cx="152640" cy="15228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4114800" y="17524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514600" y="19810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2133720" y="3048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南：南海南沙群岛中的曾母暗沙，纬度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114800" y="144936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东：黑龙江与乌苏里江主航道中心线的交汇处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13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2860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西：新疆帕米尔高原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1" descr="BJ_026"/>
          <p:cNvPicPr/>
          <p:nvPr/>
        </p:nvPicPr>
        <p:blipFill>
          <a:blip r:embed="rId1"/>
          <a:stretch/>
        </p:blipFill>
        <p:spPr>
          <a:xfrm>
            <a:off x="0" y="0"/>
            <a:ext cx="9220320" cy="6451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4"/>
          <p:cNvSpPr/>
          <p:nvPr/>
        </p:nvSpPr>
        <p:spPr>
          <a:xfrm>
            <a:off x="838080" y="990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算一算我国最南与最北纬度相差约多少度？并根据所跨纬度计算我国南北端距离约为多少千米？哪条重要的纬线穿越我国的南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990720" y="39625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按五带划分，我国最南处于哪个热量带？最北接近哪个带？大部分领土位于哪个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09480" y="31240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（纬度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，距离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10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千米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雪屋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707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016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0383"/>
          <p:cNvPicPr/>
          <p:nvPr/>
        </p:nvPicPr>
        <p:blipFill>
          <a:blip r:embed="rId3"/>
          <a:stretch/>
        </p:blipFill>
        <p:spPr>
          <a:xfrm>
            <a:off x="4038480" y="3444840"/>
            <a:ext cx="5105520" cy="3413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梯田2"/>
          <p:cNvPicPr/>
          <p:nvPr/>
        </p:nvPicPr>
        <p:blipFill>
          <a:blip r:embed="rId4"/>
          <a:stretch/>
        </p:blipFill>
        <p:spPr>
          <a:xfrm>
            <a:off x="0" y="3475080"/>
            <a:ext cx="4952880" cy="33829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6"/>
          <p:cNvSpPr/>
          <p:nvPr/>
        </p:nvSpPr>
        <p:spPr>
          <a:xfrm>
            <a:off x="4038480" y="2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426708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9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2"/>
          <p:cNvSpPr/>
          <p:nvPr/>
        </p:nvSpPr>
        <p:spPr>
          <a:xfrm>
            <a:off x="1295280" y="11430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、跨近</a:t>
            </a: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50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个纬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1981080" y="2819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南北气候差异显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133720" y="45720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适宜发展多种农业经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3657600" y="1828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3733920" y="35053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026" descr="世界时区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5972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27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夏季，当北京时间为</a:t>
            </a:r>
            <a:r>
              <a:rPr b="1" lang="en-US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点时，我国东部的乌苏里江和西部的帕米尔高原各是什么景象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030"/>
          <p:cNvSpPr/>
          <p:nvPr/>
        </p:nvSpPr>
        <p:spPr>
          <a:xfrm>
            <a:off x="0" y="1219320"/>
            <a:ext cx="4191120" cy="3124080"/>
          </a:xfrm>
          <a:prstGeom prst="wedgeRoundRectCallout">
            <a:avLst>
              <a:gd name="adj1" fmla="val 102652"/>
              <a:gd name="adj2" fmla="val -9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1031" descr="027"/>
          <p:cNvPicPr/>
          <p:nvPr/>
        </p:nvPicPr>
        <p:blipFill>
          <a:blip r:embed="rId2"/>
          <a:stretch/>
        </p:blipFill>
        <p:spPr>
          <a:xfrm>
            <a:off x="0" y="1219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032" descr="0230"/>
          <p:cNvPicPr/>
          <p:nvPr/>
        </p:nvPicPr>
        <p:blipFill>
          <a:blip r:embed="rId3"/>
          <a:stretch/>
        </p:blipFill>
        <p:spPr>
          <a:xfrm>
            <a:off x="0" y="12193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34"/>
          <p:cNvSpPr/>
          <p:nvPr/>
        </p:nvSpPr>
        <p:spPr>
          <a:xfrm>
            <a:off x="6781680" y="3276720"/>
            <a:ext cx="2362320" cy="2438280"/>
          </a:xfrm>
          <a:prstGeom prst="wedgeRoundRectCallout">
            <a:avLst>
              <a:gd name="adj1" fmla="val -1745"/>
              <a:gd name="adj2" fmla="val -852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35" descr="0323"/>
          <p:cNvPicPr/>
          <p:nvPr/>
        </p:nvPicPr>
        <p:blipFill>
          <a:blip r:embed="rId4"/>
          <a:stretch/>
        </p:blipFill>
        <p:spPr>
          <a:xfrm>
            <a:off x="5638680" y="3352680"/>
            <a:ext cx="3505320" cy="24717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036"/>
          <p:cNvSpPr/>
          <p:nvPr/>
        </p:nvSpPr>
        <p:spPr>
          <a:xfrm>
            <a:off x="1219320" y="5943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我国东西端地方时相差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小时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8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分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0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21" name="WordArt 3"/>
          <p:cNvSpPr txBox="1"/>
          <p:nvPr/>
        </p:nvSpPr>
        <p:spPr>
          <a:xfrm>
            <a:off x="685800" y="533520"/>
            <a:ext cx="1609560" cy="13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</a:rPr>
              <a:t>小结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1143000" y="25909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我国南北跨度大，东西距离广，幅员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050" descr="地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051" descr="世界地图突出中国"/>
          <p:cNvPicPr/>
          <p:nvPr/>
        </p:nvPicPr>
        <p:blipFill>
          <a:blip r:embed="rId2"/>
          <a:stretch/>
        </p:blipFill>
        <p:spPr>
          <a:xfrm>
            <a:off x="762120" y="2133720"/>
            <a:ext cx="7848360" cy="43210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052"/>
          <p:cNvSpPr/>
          <p:nvPr/>
        </p:nvSpPr>
        <p:spPr>
          <a:xfrm>
            <a:off x="1905120" y="6858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中国在世界上的位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54"/>
          <p:cNvSpPr/>
          <p:nvPr/>
        </p:nvSpPr>
        <p:spPr>
          <a:xfrm>
            <a:off x="1981080" y="14479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彩云"/>
                <a:ea typeface="华文彩云"/>
              </a:rPr>
              <a:t>The  seat  of  China  in  the 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2056"/>
          <p:cNvSpPr/>
          <p:nvPr/>
        </p:nvSpPr>
        <p:spPr>
          <a:xfrm flipV="1">
            <a:off x="914400" y="4419360"/>
            <a:ext cx="7696080" cy="75960"/>
          </a:xfrm>
          <a:prstGeom prst="line">
            <a:avLst/>
          </a:prstGeom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rc 2057"/>
          <p:cNvSpPr/>
          <p:nvPr/>
        </p:nvSpPr>
        <p:spPr>
          <a:xfrm flipH="1">
            <a:off x="762120" y="2209680"/>
            <a:ext cx="2133360" cy="407988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rc 2058"/>
          <p:cNvSpPr/>
          <p:nvPr/>
        </p:nvSpPr>
        <p:spPr>
          <a:xfrm flipH="1">
            <a:off x="1219320" y="2209680"/>
            <a:ext cx="1752480" cy="4038840"/>
          </a:xfrm>
          <a:custGeom>
            <a:avLst/>
            <a:gdLst/>
            <a:ahLst/>
            <a:rect l="l" t="t" r="r" b="b"/>
            <a:pathLst>
              <a:path fill="none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</a:path>
              <a:path stroke="0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rc 2059"/>
          <p:cNvSpPr/>
          <p:nvPr/>
        </p:nvSpPr>
        <p:spPr>
          <a:xfrm>
            <a:off x="4800600" y="2362320"/>
            <a:ext cx="609480" cy="396216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rc 2060"/>
          <p:cNvSpPr/>
          <p:nvPr/>
        </p:nvSpPr>
        <p:spPr>
          <a:xfrm>
            <a:off x="4724280" y="2209680"/>
            <a:ext cx="152640" cy="4191120"/>
          </a:xfrm>
          <a:custGeom>
            <a:avLst/>
            <a:gdLst/>
            <a:ahLst/>
            <a:rect l="l" t="t" r="r" b="b"/>
            <a:pathLst>
              <a:path fill="none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</a:path>
              <a:path stroke="0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061"/>
          <p:cNvSpPr/>
          <p:nvPr/>
        </p:nvSpPr>
        <p:spPr>
          <a:xfrm>
            <a:off x="76960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赤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062"/>
          <p:cNvSpPr/>
          <p:nvPr/>
        </p:nvSpPr>
        <p:spPr>
          <a:xfrm>
            <a:off x="8380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20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063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160 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065"/>
          <p:cNvSpPr/>
          <p:nvPr/>
        </p:nvSpPr>
        <p:spPr>
          <a:xfrm>
            <a:off x="3048120" y="3886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067"/>
          <p:cNvSpPr/>
          <p:nvPr/>
        </p:nvSpPr>
        <p:spPr>
          <a:xfrm>
            <a:off x="30481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068"/>
          <p:cNvSpPr/>
          <p:nvPr/>
        </p:nvSpPr>
        <p:spPr>
          <a:xfrm>
            <a:off x="4191120" y="28954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东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69"/>
          <p:cNvSpPr/>
          <p:nvPr/>
        </p:nvSpPr>
        <p:spPr>
          <a:xfrm>
            <a:off x="4876920" y="2895480"/>
            <a:ext cx="5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西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071"/>
          <p:cNvSpPr/>
          <p:nvPr/>
        </p:nvSpPr>
        <p:spPr>
          <a:xfrm>
            <a:off x="2268360" y="220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072"/>
          <p:cNvSpPr/>
          <p:nvPr/>
        </p:nvSpPr>
        <p:spPr>
          <a:xfrm>
            <a:off x="4932360" y="2133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0 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BJ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53352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一、位置优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600200" y="1600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中国位于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267080" y="27432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东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74320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位于 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亚洲东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4114800" y="4800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太平洋的西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5" descr="0806"/>
          <p:cNvPicPr/>
          <p:nvPr/>
        </p:nvPicPr>
        <p:blipFill>
          <a:blip r:embed="rId2"/>
          <a:stretch/>
        </p:blipFill>
        <p:spPr>
          <a:xfrm>
            <a:off x="304920" y="5410080"/>
            <a:ext cx="1361880" cy="8049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6" descr="0117"/>
          <p:cNvPicPr/>
          <p:nvPr/>
        </p:nvPicPr>
        <p:blipFill>
          <a:blip r:embed="rId3"/>
          <a:stretch/>
        </p:blipFill>
        <p:spPr>
          <a:xfrm>
            <a:off x="7924680" y="5867280"/>
            <a:ext cx="1016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3" descr="东半球图"/>
          <p:cNvPicPr/>
          <p:nvPr/>
        </p:nvPicPr>
        <p:blipFill>
          <a:blip r:embed="rId1"/>
          <a:stretch/>
        </p:blipFill>
        <p:spPr>
          <a:xfrm>
            <a:off x="7621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25146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亚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572000" y="1447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太平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BTN_009"/>
          <p:cNvPicPr/>
          <p:nvPr/>
        </p:nvPicPr>
        <p:blipFill>
          <a:blip r:embed="rId2"/>
          <a:stretch/>
        </p:blipFill>
        <p:spPr>
          <a:xfrm>
            <a:off x="6324480" y="5600880"/>
            <a:ext cx="24004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228600" y="228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33520" y="14479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与俄罗斯、加拿大、巴西相比，我国的纬度位置有什么不同？说说我国纬度位置的优越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743200" y="914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俄罗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638680" y="1066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加拿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769608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巴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457200" y="1981080"/>
            <a:ext cx="7315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蒙古、日本相比，我国的海陆位置有什么不同？与美国有什么相同和不同的地方？说说我国海陆位置的优越性。</a:t>
            </a:r>
            <a:r>
              <a:rPr b="1" lang="zh-CN" sz="41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522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2004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蒙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41148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324480" y="1600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5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80880" y="1371600"/>
          <a:ext cx="8382240" cy="4064040"/>
        </p:xfrm>
        <a:graphic>
          <a:graphicData uri="http://schemas.openxmlformats.org/drawingml/2006/table">
            <a:tbl>
              <a:tblPr/>
              <a:tblGrid>
                <a:gridCol w="2438640"/>
                <a:gridCol w="5943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农业生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国南北跨纬度广、气候差异大，为发展多种农业经济提供了有利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外交往与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海洋事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228600" y="990720"/>
          <a:ext cx="8534520" cy="457200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1371600"/>
                <a:gridCol w="1904760"/>
                <a:gridCol w="1524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国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面积（万平方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人口（亿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俄罗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加拿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巴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澳大利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印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3:46:30Z</dcterms:created>
  <dc:creator>办公计算机</dc:creator>
  <dc:description/>
  <dc:language>en-US</dc:language>
  <cp:lastModifiedBy>a</cp:lastModifiedBy>
  <dcterms:modified xsi:type="dcterms:W3CDTF">2015-03-17T05:43:16Z</dcterms:modified>
  <cp:revision>88</cp:revision>
  <dc:subject/>
  <dc:title>PowerPoint 演示文稿</dc:title>
</cp:coreProperties>
</file>