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484-E980-4453-825C-12FD028F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25D2-89F7-4B60-BCF4-71996F40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1615C-32E1-4130-9321-ECF48FB3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D3025-7CB6-4FF9-8BC7-2446413B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E2CB0-E50C-44A4-BCBD-8078C1F0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C00E9-6830-4BFB-960B-EE198D12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060F7-F509-4681-8D88-9119F55C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BFF8A-AAF1-4C29-A607-85F4439C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42ABA-CBF1-45F1-B43A-569BA9F7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36A0D-D553-4545-A07F-14CC5A31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D0978-CC9F-49AC-8907-887CF6BA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78FDD-320E-427C-BADF-4FE6CD83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F0D-9DBB-4C84-93DB-61A18C3C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9E878-733D-4A07-AD29-EB7DCA7F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9ACAD-E329-43BF-AA6A-85F3D5A6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4D77E-2AC0-4166-997E-44491362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28C4F-18E5-4B5D-A802-7E62EB7E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DA7CD-CDAE-4318-A059-8EEEF6D1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81FE1-2F16-4A58-BC24-E4D24E4E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2F754-D21F-49B9-8137-0B0BA10A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143AD-90C7-462B-8ADF-8C6712D5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4354A-2476-422A-8D55-E312863A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D8F04-5777-490B-97F9-8554E8B0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2CC-099A-4DD2-8BE7-D4346466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D5DA5-FCF2-4828-BF58-96432CF6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9D54C-A683-43C1-A6DA-168D8245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C698E-29BB-4D71-89B1-173CAF4D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43ABB-BFE9-4873-A78F-A3FD204C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3F559-2CDE-45EC-8CCE-0BE44688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FA3DC-3DB6-4005-91B3-772BBD09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7C45D-6BA0-4210-A72C-6C6D8C17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809EF-8D31-4794-BC08-EE91DB60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9FEB8-764C-4AC9-A67B-3D62B97B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2F0E1-6861-4313-B067-A7DDE1E1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8A77-0B76-454C-A906-6EB68C57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13214-8519-4EF6-96AE-935B3F72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9B29A-112B-46A3-9A69-C8C23F67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A64CB-7655-45B0-947B-37B58323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ABCFA-879C-4F6B-8C2D-7D47D0AE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D0F0A-6676-42F7-8B86-3F1DB04D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45A0B-13C3-4D50-8801-F75453AA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BB3F7-05AD-4776-85AC-32EF01AC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B36FD-AA0E-450E-BD99-0AC5F938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75563-273A-4B25-8402-11602C8C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CDD37-CEEF-42BC-AD84-91FDC859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5C78-03BF-4B11-9A83-DE216343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2C999-D109-4D49-BFE2-A827226D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6D7A8-A287-4786-9E28-3047D4E0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2C5E7-DC39-4E7C-B1D3-FBF6FA3A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2173D-675F-4B4E-8182-686EDA4C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23226-CC1D-4991-AC0B-E4E3003F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80C5C6-0830-4724-A4EA-2919B037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426091-A790-491A-8E8C-C6DDE587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AB012F-B60D-4952-AF48-807D0100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0BD04B-53EB-433C-A0A5-AAF08594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2F2B0-2889-4864-BDCC-5BDD2073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059B-65E1-47E7-9BBD-E2E25123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43DFAC-3C07-4C70-9CEE-5CC500D5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3FFC3-32FC-4F89-95D4-F3CE2B14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F8366-A342-4049-9F82-EB404B58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F06DB-C2B9-4544-A38B-91F3830C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B6E66-AF9D-4813-ADE5-91F98B6F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293FE-AF7A-4641-BBB0-0B346222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08069-A2A5-45AB-BC66-1B1C82D0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658D-2C5E-4576-815B-E9D51C90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610F-2095-40BC-A90E-9059C3D0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90CD-FB8A-4D21-9B7B-39263332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408C-5692-44EF-900B-37979AF0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2CCA-46BE-4EA2-9B29-E8246901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D708-E74A-4B0A-8416-9ED305EA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4501-C046-4509-8211-F186FF25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DDEA-7570-4C76-8FB6-5E2EAF25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5702-9806-4B45-890A-CD23EAB1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BE5B-90A5-49CE-8310-A6957979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779B0-2EE8-458F-B071-65B13633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41C3A-1FB7-41BB-AA3A-AEFE4D92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693B7-9142-468D-921A-19B60F94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67E03-C1F5-4153-B522-0C1EBB94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D4E3A-2640-42C1-B2A9-92F8D7AB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9F7-80B1-48C8-BEEB-04C1ED64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0E26A-8BE0-4458-9DB6-F793B1AD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717E9-68CE-4CC9-860B-F6269426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6D8A6-020E-4AAB-B26A-9DD2E209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61107-B3B0-4CFF-A612-7B94C74C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88798-E072-41DC-94F8-B9E11074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8FFBF-9C7F-40C8-8B5E-D9BA0157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F2B9E-0A41-431A-B7FB-90D3956C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731EF-1685-4240-AD53-5F0B224B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CDD02-C4F7-4809-B70D-B94D6CAB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9CBC2-3F47-414F-B4D2-85A41058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75C-42FE-48CD-A63D-560FC438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62176-96F3-44C0-B7DD-A9817672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39992-9C12-41B8-851E-18613018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16526-F087-46EF-9211-658456F2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CF8DA-8996-4B27-9E61-F67C7A33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D7B0D-A25B-4A8A-AE78-80FA7FD9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0695E-449D-4532-9398-2CF5C531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23106-66FA-47CA-A36D-E4A75849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A603C-8335-4AFC-8DB0-3082219D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F352C-5E27-44DA-A868-AFE97701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3BDD4-5FC5-4DE6-9D2C-92A9CD90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548-202F-424F-AFC1-DF116DF0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16280-B1E9-439E-9797-9AF1FD8D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C10D4-DE15-43B6-8AE8-EC525DA0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206F3-BAAB-4944-81BB-8F5E8A2E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7A4ED-BC5E-4018-96CF-AFEAAC5A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CC654-506C-4C54-9D4C-D0DE6C38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21FFE-C670-4567-946C-5E313901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15159-B366-4024-A67A-0971F43D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00C45-C828-4865-AFDE-B4B2C312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C9900-EED3-4DA2-8F78-DB90A3F6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B9A20-B4C7-44EA-8ADB-687F275A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FE8A-3E95-471E-92FD-8C3A254F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32B17-1675-4B51-A4F6-D63F4178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67482-F807-4262-A236-CADC1176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10243-C5FB-4D0E-AFDF-77267754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D3768-3913-45E3-9873-E8F34C47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63DF5-56B1-4320-9813-DBA9F9D2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E30F9-3DEF-495D-8EE4-AC7F4390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F88AD-40FB-430A-893F-4CDD497D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8572E-A86C-4E3C-A8F8-3B04E9B2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8C8BB-FCD7-4113-B756-3E17A568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1A79C-2C4F-4219-BB0F-A0316AA1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442-F3FB-4869-82D2-56E4FC6F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69E7A-E144-42E6-82A0-39556552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ABA34-054B-4675-8013-D42303D0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F430C-07CB-4BE5-B471-EC8AD343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8323B-3898-402F-9F9D-D6CBB51F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9BDBB-E8FD-44E0-BB2E-E714194F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064B0-31F3-4905-85CC-8B72BBB2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E2356-DFB6-4376-9000-27F473EF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7CEE7-E97E-44AF-91FD-6EAFEDCE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4F7A5-E259-4382-A5D4-393001C2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3099B-6C23-4FB3-871F-F4FE695C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C0E9-28CB-4F83-8CBB-D917D346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AD328-A76D-446A-B3B1-9F52A4A2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82326-AD4F-46E4-87EB-6A7C323C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090A0-EF9A-40F8-98D4-E9510556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29104-0796-4C5D-A120-660A9CC4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C99C1-B26B-4A9F-830C-82A50BA7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67F79-F410-488B-83EA-BDE9ACB0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1A3EC-C2CE-4EFF-93C2-A76633CA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FABAB-15E4-4E9D-8AA4-7AC0574F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4B3DA-FAAF-4CBE-9F4E-5ECFEC77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311F1-68A3-4CF6-8389-84484FC4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AB55-B67F-46BC-A656-C7AE72A3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3A6F8-BB3B-426B-B99F-1E716DB5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65F7C-B541-4F07-A8F3-E2099994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B10A2-E47F-4B0E-B842-4E67FDC8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4D2A7-0247-4DF5-A9AC-8F2EAF95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A5B72-82A9-4B0E-B441-8F5E8CF6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3585D-5EF0-42FD-8352-50C68573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C086B-F5F5-4B4A-AB2A-57F656F0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A66DB-AF8B-4496-B65D-B0BC435E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22893-3707-4B8C-BBA7-3AE2D61B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48CF2-F78B-4F2F-B95A-24112601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417E-B2E4-4F7C-9C80-D6A4A0D83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CAD8-63D4-4B45-9A9E-94AA7B3EF8E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91C8-8BC2-4AC0-8A84-2F85BE16F0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F79D-6C37-4C89-AEF7-5070F2625D8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4770-C398-4C6B-8C12-9B3CD87C6C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E050-4369-4CE4-85AD-3F8F948DE18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50C6-DD65-4A8F-9001-82B9CAEA7A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A6D9-A3E1-4513-A3A3-5871D5410F9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2A28-5DB7-4F37-8B74-4BDCB9B9AC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3B50-8E18-4890-95EF-6B8350EDBAA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BCD0-8F5B-45C3-88E9-727521ED22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B223-9A2D-49FB-B793-B9E2CB1DA51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D2ED-F23F-47D7-8B44-E60E1CA0D2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47C5-5462-4294-A936-A087400B38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6E74-A96D-45FB-9E37-0551E27CB8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34F6-07D0-4239-897A-67E4E1CFCCD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11ED-2313-4A8B-9500-74313DACDA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DA58-8EDD-4F2C-A902-7399FFA5286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EF28-F777-46B7-B400-B6D28B81EF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C79D-CD06-4EB6-A469-CF3E6259A3E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B6AB-22DB-499C-8FE7-3FBFC68724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2747-0086-4519-BDDC-56614E25020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7BFE-6BD3-4C17-B9CF-5836557C31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CDBF-B1C0-44A5-A85A-579A0B32208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CF97-7E0B-477D-9710-636E1B2001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026" descr="八达岭长城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502240"/>
          </a:xfrm>
          <a:prstGeom prst="rect">
            <a:avLst/>
          </a:prstGeom>
          <a:ln w="0">
            <a:noFill/>
          </a:ln>
        </p:spPr>
      </p:pic>
      <p:sp>
        <p:nvSpPr>
          <p:cNvPr id="534" name="WordArt 1029"/>
          <p:cNvSpPr txBox="1"/>
          <p:nvPr/>
        </p:nvSpPr>
        <p:spPr>
          <a:xfrm>
            <a:off x="1828800" y="685800"/>
            <a:ext cx="525780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姚体"/>
              </a:rPr>
              <a:t>第一章  从世界看中国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535" name="WordArt 1030"/>
          <p:cNvSpPr txBox="1"/>
          <p:nvPr/>
        </p:nvSpPr>
        <p:spPr>
          <a:xfrm>
            <a:off x="2209680" y="3124080"/>
            <a:ext cx="477216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第一节  辽阔的疆域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BJ_034"/>
          <p:cNvPicPr/>
          <p:nvPr/>
        </p:nvPicPr>
        <p:blipFill>
          <a:blip r:embed="rId1"/>
          <a:stretch/>
        </p:blipFill>
        <p:spPr>
          <a:xfrm>
            <a:off x="380880" y="228600"/>
            <a:ext cx="8153640" cy="609588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12"/>
          <p:cNvSpPr/>
          <p:nvPr/>
        </p:nvSpPr>
        <p:spPr>
          <a:xfrm>
            <a:off x="685800" y="6094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Times New Roman"/>
                <a:ea typeface="华文彩云"/>
              </a:rPr>
              <a:t>二、国土辽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1752480" y="19810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华文行楷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800080"/>
                </a:solidFill>
                <a:latin typeface="华文行楷"/>
                <a:ea typeface="华文行楷"/>
              </a:rPr>
              <a:t>、面积</a:t>
            </a:r>
            <a:r>
              <a:rPr b="1" lang="en-US" sz="4800" spc="-1" strike="noStrike">
                <a:solidFill>
                  <a:srgbClr val="800080"/>
                </a:solidFill>
                <a:latin typeface="华文行楷"/>
                <a:ea typeface="华文行楷"/>
              </a:rPr>
              <a:t>960</a:t>
            </a:r>
            <a:r>
              <a:rPr b="1" lang="zh-CN" sz="4800" spc="-1" strike="noStrike">
                <a:solidFill>
                  <a:srgbClr val="800080"/>
                </a:solidFill>
                <a:latin typeface="华文行楷"/>
                <a:ea typeface="华文行楷"/>
              </a:rPr>
              <a:t>万平方千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5" descr="东亚中的中国"/>
          <p:cNvPicPr/>
          <p:nvPr/>
        </p:nvPicPr>
        <p:blipFill>
          <a:blip r:embed="rId1"/>
          <a:stretch/>
        </p:blipFill>
        <p:spPr>
          <a:xfrm>
            <a:off x="0" y="380880"/>
            <a:ext cx="9016920" cy="613908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6"/>
          <p:cNvSpPr/>
          <p:nvPr/>
        </p:nvSpPr>
        <p:spPr>
          <a:xfrm>
            <a:off x="533520" y="7621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华文行楷"/>
                <a:ea typeface="华文行楷"/>
              </a:rPr>
              <a:t>按逆时针方向自东向西沿我国陆上疆界依次找出</a:t>
            </a:r>
            <a:r>
              <a:rPr b="1" lang="en-US" sz="3200" spc="-1" strike="noStrike">
                <a:solidFill>
                  <a:srgbClr val="800080"/>
                </a:solidFill>
                <a:latin typeface="华文行楷"/>
                <a:ea typeface="华文行楷"/>
              </a:rPr>
              <a:t>15</a:t>
            </a:r>
            <a:r>
              <a:rPr b="1" lang="zh-CN" sz="3200" spc="-1" strike="noStrike">
                <a:solidFill>
                  <a:srgbClr val="800080"/>
                </a:solidFill>
                <a:latin typeface="华文行楷"/>
                <a:ea typeface="华文行楷"/>
              </a:rPr>
              <a:t>个邻国，沿我国海上疆界，由南向北找出</a:t>
            </a:r>
            <a:r>
              <a:rPr b="1" lang="en-US" sz="3200" spc="-1" strike="noStrike">
                <a:solidFill>
                  <a:srgbClr val="800080"/>
                </a:solidFill>
                <a:latin typeface="华文行楷"/>
                <a:ea typeface="华文行楷"/>
              </a:rPr>
              <a:t>6</a:t>
            </a:r>
            <a:r>
              <a:rPr b="1" lang="zh-CN" sz="3200" spc="-1" strike="noStrike">
                <a:solidFill>
                  <a:srgbClr val="800080"/>
                </a:solidFill>
                <a:latin typeface="华文行楷"/>
                <a:ea typeface="华文行楷"/>
              </a:rPr>
              <a:t>个与我国隔海相望的国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东亚中的中国"/>
          <p:cNvPicPr/>
          <p:nvPr/>
        </p:nvPicPr>
        <p:blipFill>
          <a:blip r:embed="rId1"/>
          <a:stretch/>
        </p:blipFill>
        <p:spPr>
          <a:xfrm>
            <a:off x="0" y="380880"/>
            <a:ext cx="9016920" cy="613908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3"/>
          <p:cNvSpPr/>
          <p:nvPr/>
        </p:nvSpPr>
        <p:spPr>
          <a:xfrm>
            <a:off x="228600" y="152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华文彩云"/>
              </a:rPr>
              <a:t>祖国的四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2971800" y="6094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最北：漠河以北黑龙江主航道的中心线，纬度北纬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53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3809880" y="1523880"/>
            <a:ext cx="152640" cy="152640"/>
          </a:xfrm>
          <a:prstGeom prst="diamond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3352680" y="2743200"/>
            <a:ext cx="152640" cy="152280"/>
          </a:xfrm>
          <a:prstGeom prst="diamond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7"/>
          <p:cNvSpPr/>
          <p:nvPr/>
        </p:nvSpPr>
        <p:spPr>
          <a:xfrm>
            <a:off x="4114800" y="1752480"/>
            <a:ext cx="152280" cy="152640"/>
          </a:xfrm>
          <a:prstGeom prst="diamond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2514600" y="1981080"/>
            <a:ext cx="152280" cy="152640"/>
          </a:xfrm>
          <a:prstGeom prst="diamond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2133720" y="30481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最南：南海南沙群岛中的曾母暗沙，纬度南纬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度附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4114800" y="144936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最东：黑龙江与乌苏里江主航道中心线的交汇处，经度东经</a:t>
            </a:r>
            <a:r>
              <a:rPr b="1" lang="en-US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135</a:t>
            </a:r>
            <a:r>
              <a:rPr b="1" lang="zh-CN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度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228600" y="1600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最西：新疆帕米尔高原，经度东经</a:t>
            </a:r>
            <a:r>
              <a:rPr b="1" lang="en-US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75</a:t>
            </a:r>
            <a:r>
              <a:rPr b="1" lang="zh-CN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度附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11" descr="BJ_026"/>
          <p:cNvPicPr/>
          <p:nvPr/>
        </p:nvPicPr>
        <p:blipFill>
          <a:blip r:embed="rId1"/>
          <a:stretch/>
        </p:blipFill>
        <p:spPr>
          <a:xfrm>
            <a:off x="0" y="0"/>
            <a:ext cx="9220320" cy="645156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14"/>
          <p:cNvSpPr/>
          <p:nvPr/>
        </p:nvSpPr>
        <p:spPr>
          <a:xfrm>
            <a:off x="838080" y="9907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算一算我国最南与最北纬度相差约多少度？并根据所跨纬度计算我国南北端距离约为多少千米？哪条重要的纬线穿越我国的南部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990720" y="396252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按五带划分，我国最南处于哪个热量带？最北接近哪个带？大部分领土位于哪个带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6"/>
          <p:cNvSpPr/>
          <p:nvPr/>
        </p:nvSpPr>
        <p:spPr>
          <a:xfrm>
            <a:off x="609480" y="312408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华文行楷"/>
                <a:ea typeface="华文行楷"/>
              </a:rPr>
              <a:t>（纬度相差</a:t>
            </a:r>
            <a:r>
              <a:rPr b="1" lang="en-US" sz="4000" spc="-1" strike="noStrike">
                <a:solidFill>
                  <a:srgbClr val="800080"/>
                </a:solidFill>
                <a:latin typeface="华文行楷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800080"/>
                </a:solidFill>
                <a:latin typeface="华文行楷"/>
                <a:ea typeface="华文行楷"/>
              </a:rPr>
              <a:t>度，距离相差</a:t>
            </a:r>
            <a:r>
              <a:rPr b="1" lang="en-US" sz="4000" spc="-1" strike="noStrike">
                <a:solidFill>
                  <a:srgbClr val="800080"/>
                </a:solidFill>
                <a:latin typeface="华文行楷"/>
                <a:ea typeface="华文行楷"/>
              </a:rPr>
              <a:t>110</a:t>
            </a:r>
            <a:r>
              <a:rPr b="1" lang="zh-CN" sz="4000" spc="-1" strike="noStrike">
                <a:solidFill>
                  <a:srgbClr val="800080"/>
                </a:solidFill>
                <a:latin typeface="华文行楷"/>
                <a:ea typeface="华文行楷"/>
              </a:rPr>
              <a:t>千米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雪屋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4707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" descr="0016"/>
          <p:cNvPicPr/>
          <p:nvPr/>
        </p:nvPicPr>
        <p:blipFill>
          <a:blip r:embed="rId2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0383"/>
          <p:cNvPicPr/>
          <p:nvPr/>
        </p:nvPicPr>
        <p:blipFill>
          <a:blip r:embed="rId3"/>
          <a:stretch/>
        </p:blipFill>
        <p:spPr>
          <a:xfrm>
            <a:off x="4038480" y="3444840"/>
            <a:ext cx="5105520" cy="34131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梯田2"/>
          <p:cNvPicPr/>
          <p:nvPr/>
        </p:nvPicPr>
        <p:blipFill>
          <a:blip r:embed="rId4"/>
          <a:stretch/>
        </p:blipFill>
        <p:spPr>
          <a:xfrm>
            <a:off x="0" y="3475080"/>
            <a:ext cx="4952880" cy="338292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6"/>
          <p:cNvSpPr/>
          <p:nvPr/>
        </p:nvSpPr>
        <p:spPr>
          <a:xfrm>
            <a:off x="4038480" y="228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北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4267080" y="3809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南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9" descr="BJ_040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2"/>
          <p:cNvSpPr/>
          <p:nvPr/>
        </p:nvSpPr>
        <p:spPr>
          <a:xfrm>
            <a:off x="1295280" y="114300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华文行楷"/>
                <a:ea typeface="华文行楷"/>
              </a:rPr>
              <a:t>2</a:t>
            </a:r>
            <a:r>
              <a:rPr b="1" lang="zh-CN" sz="4400" spc="-1" strike="noStrike">
                <a:solidFill>
                  <a:srgbClr val="003366"/>
                </a:solidFill>
                <a:latin typeface="华文行楷"/>
                <a:ea typeface="华文行楷"/>
              </a:rPr>
              <a:t>、跨近</a:t>
            </a:r>
            <a:r>
              <a:rPr b="1" lang="en-US" sz="4400" spc="-1" strike="noStrike">
                <a:solidFill>
                  <a:srgbClr val="003366"/>
                </a:solidFill>
                <a:latin typeface="华文行楷"/>
                <a:ea typeface="华文行楷"/>
              </a:rPr>
              <a:t>50</a:t>
            </a:r>
            <a:r>
              <a:rPr b="1" lang="zh-CN" sz="4400" spc="-1" strike="noStrike">
                <a:solidFill>
                  <a:srgbClr val="003366"/>
                </a:solidFill>
                <a:latin typeface="华文行楷"/>
                <a:ea typeface="华文行楷"/>
              </a:rPr>
              <a:t>个纬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1981080" y="28195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华文行楷"/>
              </a:rPr>
              <a:t>南北气候差异显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4"/>
          <p:cNvSpPr/>
          <p:nvPr/>
        </p:nvSpPr>
        <p:spPr>
          <a:xfrm>
            <a:off x="2133720" y="457200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华文行楷"/>
              </a:rPr>
              <a:t>适宜发展多种农业经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3657600" y="18288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>
            <a:off x="3733920" y="35053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1026" descr="世界时区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59720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027"/>
          <p:cNvSpPr/>
          <p:nvPr/>
        </p:nvSpPr>
        <p:spPr>
          <a:xfrm>
            <a:off x="533520" y="1522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行楷"/>
                <a:ea typeface="华文行楷"/>
              </a:rPr>
              <a:t>夏季，当北京时间为</a:t>
            </a:r>
            <a:r>
              <a:rPr b="1" lang="en-US" sz="2800" spc="-1" strike="noStrike">
                <a:solidFill>
                  <a:srgbClr val="009900"/>
                </a:solidFill>
                <a:latin typeface="华文行楷"/>
                <a:ea typeface="华文行楷"/>
              </a:rPr>
              <a:t>6</a:t>
            </a:r>
            <a:r>
              <a:rPr b="1" lang="zh-CN" sz="2800" spc="-1" strike="noStrike">
                <a:solidFill>
                  <a:srgbClr val="009900"/>
                </a:solidFill>
                <a:latin typeface="华文行楷"/>
                <a:ea typeface="华文行楷"/>
              </a:rPr>
              <a:t>点时，我国东部的乌苏里江和西部的帕米尔高原各是什么景象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1030"/>
          <p:cNvSpPr/>
          <p:nvPr/>
        </p:nvSpPr>
        <p:spPr>
          <a:xfrm>
            <a:off x="0" y="1219320"/>
            <a:ext cx="4191120" cy="3124080"/>
          </a:xfrm>
          <a:prstGeom prst="wedgeRoundRectCallout">
            <a:avLst>
              <a:gd name="adj1" fmla="val 102652"/>
              <a:gd name="adj2" fmla="val -93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1031" descr="027"/>
          <p:cNvPicPr/>
          <p:nvPr/>
        </p:nvPicPr>
        <p:blipFill>
          <a:blip r:embed="rId2"/>
          <a:stretch/>
        </p:blipFill>
        <p:spPr>
          <a:xfrm>
            <a:off x="0" y="12193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032" descr="0230"/>
          <p:cNvPicPr/>
          <p:nvPr/>
        </p:nvPicPr>
        <p:blipFill>
          <a:blip r:embed="rId3"/>
          <a:stretch/>
        </p:blipFill>
        <p:spPr>
          <a:xfrm>
            <a:off x="0" y="12193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1034"/>
          <p:cNvSpPr/>
          <p:nvPr/>
        </p:nvSpPr>
        <p:spPr>
          <a:xfrm>
            <a:off x="6781680" y="3276720"/>
            <a:ext cx="2362320" cy="2438280"/>
          </a:xfrm>
          <a:prstGeom prst="wedgeRoundRectCallout">
            <a:avLst>
              <a:gd name="adj1" fmla="val -1745"/>
              <a:gd name="adj2" fmla="val -8528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1035" descr="0323"/>
          <p:cNvPicPr/>
          <p:nvPr/>
        </p:nvPicPr>
        <p:blipFill>
          <a:blip r:embed="rId4"/>
          <a:stretch/>
        </p:blipFill>
        <p:spPr>
          <a:xfrm>
            <a:off x="5638680" y="3352680"/>
            <a:ext cx="3505320" cy="247176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1036"/>
          <p:cNvSpPr/>
          <p:nvPr/>
        </p:nvSpPr>
        <p:spPr>
          <a:xfrm>
            <a:off x="1219320" y="59436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我国东西端地方时相差</a:t>
            </a:r>
            <a:r>
              <a:rPr b="1" lang="en-US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4</a:t>
            </a:r>
            <a:r>
              <a:rPr b="1" lang="zh-CN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小时</a:t>
            </a:r>
            <a:r>
              <a:rPr b="1" lang="en-US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8</a:t>
            </a:r>
            <a:r>
              <a:rPr b="1" lang="zh-CN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分</a:t>
            </a:r>
            <a:r>
              <a:rPr b="1" lang="en-US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40</a:t>
            </a:r>
            <a:r>
              <a:rPr b="1" lang="zh-CN" sz="3200" spc="-1" strike="noStrike">
                <a:solidFill>
                  <a:srgbClr val="009900"/>
                </a:solidFill>
                <a:latin typeface="华文行楷"/>
                <a:ea typeface="华文行楷"/>
              </a:rPr>
              <a:t>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BJ_040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621" name="WordArt 3"/>
          <p:cNvSpPr txBox="1"/>
          <p:nvPr/>
        </p:nvSpPr>
        <p:spPr>
          <a:xfrm>
            <a:off x="685800" y="533520"/>
            <a:ext cx="1609560" cy="137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新魏"/>
              </a:rPr>
              <a:t>小结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1143000" y="259092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99"/>
                </a:solidFill>
                <a:latin typeface="Times New Roman"/>
                <a:ea typeface="华文彩云"/>
              </a:rPr>
              <a:t>我国南北跨度大，东西距离广，幅员辽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050" descr="地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051" descr="世界地图突出中国"/>
          <p:cNvPicPr/>
          <p:nvPr/>
        </p:nvPicPr>
        <p:blipFill>
          <a:blip r:embed="rId2"/>
          <a:stretch/>
        </p:blipFill>
        <p:spPr>
          <a:xfrm>
            <a:off x="762120" y="2133720"/>
            <a:ext cx="7848360" cy="432108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2052"/>
          <p:cNvSpPr/>
          <p:nvPr/>
        </p:nvSpPr>
        <p:spPr>
          <a:xfrm>
            <a:off x="1905120" y="6858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中国在世界上的位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54"/>
          <p:cNvSpPr/>
          <p:nvPr/>
        </p:nvSpPr>
        <p:spPr>
          <a:xfrm>
            <a:off x="1981080" y="144792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华文彩云"/>
                <a:ea typeface="华文彩云"/>
              </a:rPr>
              <a:t>The  seat  of  China  in  the  wor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2056"/>
          <p:cNvSpPr/>
          <p:nvPr/>
        </p:nvSpPr>
        <p:spPr>
          <a:xfrm flipV="1">
            <a:off x="914400" y="4419360"/>
            <a:ext cx="7696080" cy="75960"/>
          </a:xfrm>
          <a:prstGeom prst="line">
            <a:avLst/>
          </a:prstGeom>
          <a:ln w="540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rc 2057"/>
          <p:cNvSpPr/>
          <p:nvPr/>
        </p:nvSpPr>
        <p:spPr>
          <a:xfrm flipH="1">
            <a:off x="762120" y="2209680"/>
            <a:ext cx="2133360" cy="4079880"/>
          </a:xfrm>
          <a:custGeom>
            <a:avLst/>
            <a:gdLst/>
            <a:ahLst/>
            <a:rect l="l" t="t" r="r" b="b"/>
            <a:pathLst>
              <a:path fill="none" w="21600" h="22752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211"/>
                  <a:pt x="21558" y="21983"/>
                  <a:pt x="21475" y="22751"/>
                </a:cubicBezTo>
              </a:path>
              <a:path stroke="0" w="21600" h="22752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211"/>
                  <a:pt x="21558" y="21983"/>
                  <a:pt x="21475" y="22751"/>
                </a:cubicBezTo>
                <a:lnTo>
                  <a:pt x="0" y="20439"/>
                </a:lnTo>
                <a:lnTo>
                  <a:pt x="6986" y="0"/>
                </a:lnTo>
                <a:close/>
              </a:path>
            </a:pathLst>
          </a:cu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rc 2058"/>
          <p:cNvSpPr/>
          <p:nvPr/>
        </p:nvSpPr>
        <p:spPr>
          <a:xfrm flipH="1">
            <a:off x="1219320" y="2209680"/>
            <a:ext cx="1752480" cy="4038840"/>
          </a:xfrm>
          <a:custGeom>
            <a:avLst/>
            <a:gdLst/>
            <a:ahLst/>
            <a:rect l="l" t="t" r="r" b="b"/>
            <a:pathLst>
              <a:path fill="none" w="21600" h="22129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002"/>
                  <a:pt x="21577" y="21566"/>
                  <a:pt x="21533" y="22128"/>
                </a:cubicBezTo>
              </a:path>
              <a:path stroke="0" w="21600" h="22129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002"/>
                  <a:pt x="21577" y="21566"/>
                  <a:pt x="21533" y="22128"/>
                </a:cubicBezTo>
                <a:lnTo>
                  <a:pt x="0" y="20439"/>
                </a:lnTo>
                <a:lnTo>
                  <a:pt x="6986" y="0"/>
                </a:lnTo>
                <a:close/>
              </a:path>
            </a:pathLst>
          </a:custGeom>
          <a:noFill/>
          <a:ln w="54000">
            <a:solidFill>
              <a:srgbClr val="80008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rc 2059"/>
          <p:cNvSpPr/>
          <p:nvPr/>
        </p:nvSpPr>
        <p:spPr>
          <a:xfrm>
            <a:off x="4800600" y="2362320"/>
            <a:ext cx="609480" cy="3962160"/>
          </a:xfrm>
          <a:custGeom>
            <a:avLst/>
            <a:gdLst/>
            <a:ahLst/>
            <a:rect l="l" t="t" r="r" b="b"/>
            <a:pathLst>
              <a:path fill="none" w="21600" h="22752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211"/>
                  <a:pt x="21558" y="21983"/>
                  <a:pt x="21475" y="22751"/>
                </a:cubicBezTo>
              </a:path>
              <a:path stroke="0" w="21600" h="22752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211"/>
                  <a:pt x="21558" y="21983"/>
                  <a:pt x="21475" y="22751"/>
                </a:cubicBezTo>
                <a:lnTo>
                  <a:pt x="0" y="20439"/>
                </a:lnTo>
                <a:lnTo>
                  <a:pt x="6986" y="0"/>
                </a:lnTo>
                <a:close/>
              </a:path>
            </a:pathLst>
          </a:custGeom>
          <a:noFill/>
          <a:ln w="54000">
            <a:solidFill>
              <a:srgbClr val="80008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rc 2060"/>
          <p:cNvSpPr/>
          <p:nvPr/>
        </p:nvSpPr>
        <p:spPr>
          <a:xfrm>
            <a:off x="4724280" y="2209680"/>
            <a:ext cx="152640" cy="4191120"/>
          </a:xfrm>
          <a:custGeom>
            <a:avLst/>
            <a:gdLst/>
            <a:ahLst/>
            <a:rect l="l" t="t" r="r" b="b"/>
            <a:pathLst>
              <a:path fill="none" w="21600" h="24867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926"/>
                  <a:pt x="21446" y="23410"/>
                  <a:pt x="21141" y="24867"/>
                </a:cubicBezTo>
              </a:path>
              <a:path stroke="0" w="21600" h="24867">
                <a:moveTo>
                  <a:pt x="6986" y="0"/>
                </a:moveTo>
                <a:cubicBezTo>
                  <a:pt x="15726" y="2987"/>
                  <a:pt x="21600" y="11202"/>
                  <a:pt x="21600" y="20439"/>
                </a:cubicBezTo>
                <a:cubicBezTo>
                  <a:pt x="21600" y="21926"/>
                  <a:pt x="21446" y="23410"/>
                  <a:pt x="21141" y="24867"/>
                </a:cubicBezTo>
                <a:lnTo>
                  <a:pt x="0" y="20439"/>
                </a:lnTo>
                <a:lnTo>
                  <a:pt x="6986" y="0"/>
                </a:lnTo>
                <a:close/>
              </a:path>
            </a:pathLst>
          </a:cu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2061"/>
          <p:cNvSpPr/>
          <p:nvPr/>
        </p:nvSpPr>
        <p:spPr>
          <a:xfrm>
            <a:off x="76960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赤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2062"/>
          <p:cNvSpPr/>
          <p:nvPr/>
        </p:nvSpPr>
        <p:spPr>
          <a:xfrm>
            <a:off x="838080" y="2362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华文彩云"/>
                <a:ea typeface="华文彩云"/>
              </a:rPr>
              <a:t>20</a:t>
            </a:r>
            <a:r>
              <a:rPr b="1" lang="en-US" sz="2400" spc="-1" strike="noStrike">
                <a:solidFill>
                  <a:srgbClr val="ff3300"/>
                </a:solidFill>
                <a:latin typeface="华文彩云"/>
              </a:rPr>
              <a:t>⁰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063"/>
          <p:cNvSpPr/>
          <p:nvPr/>
        </p:nvSpPr>
        <p:spPr>
          <a:xfrm>
            <a:off x="365760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华文彩云"/>
                <a:ea typeface="华文彩云"/>
              </a:rPr>
              <a:t>160 </a:t>
            </a:r>
            <a:r>
              <a:rPr b="1" lang="en-US" sz="2400" spc="-1" strike="noStrike">
                <a:solidFill>
                  <a:srgbClr val="ff3300"/>
                </a:solidFill>
                <a:latin typeface="华文彩云"/>
              </a:rPr>
              <a:t>⁰</a:t>
            </a:r>
            <a:r>
              <a:rPr b="1" lang="en-US" sz="2400" spc="-1" strike="noStrike">
                <a:solidFill>
                  <a:srgbClr val="ff3300"/>
                </a:solidFill>
                <a:latin typeface="华文彩云"/>
                <a:ea typeface="华文彩云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065"/>
          <p:cNvSpPr/>
          <p:nvPr/>
        </p:nvSpPr>
        <p:spPr>
          <a:xfrm>
            <a:off x="3048120" y="3886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北半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067"/>
          <p:cNvSpPr/>
          <p:nvPr/>
        </p:nvSpPr>
        <p:spPr>
          <a:xfrm>
            <a:off x="304812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南半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068"/>
          <p:cNvSpPr/>
          <p:nvPr/>
        </p:nvSpPr>
        <p:spPr>
          <a:xfrm>
            <a:off x="4191120" y="28954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东半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069"/>
          <p:cNvSpPr/>
          <p:nvPr/>
        </p:nvSpPr>
        <p:spPr>
          <a:xfrm>
            <a:off x="4876920" y="2895480"/>
            <a:ext cx="5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西半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071"/>
          <p:cNvSpPr/>
          <p:nvPr/>
        </p:nvSpPr>
        <p:spPr>
          <a:xfrm>
            <a:off x="2268360" y="2205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2072"/>
          <p:cNvSpPr/>
          <p:nvPr/>
        </p:nvSpPr>
        <p:spPr>
          <a:xfrm>
            <a:off x="4932360" y="21337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80 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5" descr="BJ_051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10"/>
          <p:cNvSpPr/>
          <p:nvPr/>
        </p:nvSpPr>
        <p:spPr>
          <a:xfrm>
            <a:off x="533520" y="380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Times New Roman"/>
                <a:ea typeface="华文彩云"/>
              </a:rPr>
              <a:t>一、位置优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1600200" y="160020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中国位于</a:t>
            </a:r>
            <a:r>
              <a:rPr b="1" lang="zh-CN" sz="54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北半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4267080" y="274320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东半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2743200" y="3733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位于 </a:t>
            </a:r>
            <a:r>
              <a:rPr b="1" lang="zh-CN" sz="54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亚洲东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4114800" y="480060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太平洋的西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15" descr="0806"/>
          <p:cNvPicPr/>
          <p:nvPr/>
        </p:nvPicPr>
        <p:blipFill>
          <a:blip r:embed="rId2"/>
          <a:stretch/>
        </p:blipFill>
        <p:spPr>
          <a:xfrm>
            <a:off x="304920" y="5410080"/>
            <a:ext cx="1361880" cy="8049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6" descr="0117"/>
          <p:cNvPicPr/>
          <p:nvPr/>
        </p:nvPicPr>
        <p:blipFill>
          <a:blip r:embed="rId3"/>
          <a:stretch/>
        </p:blipFill>
        <p:spPr>
          <a:xfrm>
            <a:off x="7924680" y="5867280"/>
            <a:ext cx="10162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3" descr="东半球图"/>
          <p:cNvPicPr/>
          <p:nvPr/>
        </p:nvPicPr>
        <p:blipFill>
          <a:blip r:embed="rId1"/>
          <a:stretch/>
        </p:blipFill>
        <p:spPr>
          <a:xfrm>
            <a:off x="762120" y="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东亚"/>
          <p:cNvPicPr/>
          <p:nvPr/>
        </p:nvPicPr>
        <p:blipFill>
          <a:blip r:embed="rId1"/>
          <a:stretch/>
        </p:blipFill>
        <p:spPr>
          <a:xfrm>
            <a:off x="228600" y="380880"/>
            <a:ext cx="8672400" cy="590256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2514600" y="1295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华文行楷"/>
              </a:rPr>
              <a:t>亚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4572000" y="1447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太平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6" descr="BTN_009"/>
          <p:cNvPicPr/>
          <p:nvPr/>
        </p:nvPicPr>
        <p:blipFill>
          <a:blip r:embed="rId2"/>
          <a:stretch/>
        </p:blipFill>
        <p:spPr>
          <a:xfrm>
            <a:off x="6324480" y="5600880"/>
            <a:ext cx="24004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东亚"/>
          <p:cNvPicPr/>
          <p:nvPr/>
        </p:nvPicPr>
        <p:blipFill>
          <a:blip r:embed="rId1"/>
          <a:stretch/>
        </p:blipFill>
        <p:spPr>
          <a:xfrm>
            <a:off x="228600" y="380880"/>
            <a:ext cx="8672400" cy="590256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3"/>
          <p:cNvSpPr/>
          <p:nvPr/>
        </p:nvSpPr>
        <p:spPr>
          <a:xfrm>
            <a:off x="228600" y="2286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评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33520" y="144792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  <a:ea typeface="华文行楷"/>
              </a:rPr>
              <a:t>    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  <a:ea typeface="华文行楷"/>
              </a:rPr>
              <a:t>与俄罗斯、加拿大、巴西相比，我国的纬度位置有什么不同？说说我国纬度位置的优越性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2743200" y="914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华文行楷"/>
              </a:rPr>
              <a:t>俄罗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5638680" y="10666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华文行楷"/>
              </a:rPr>
              <a:t>加拿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7696080" y="3352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华文行楷"/>
              </a:rPr>
              <a:t>巴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5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东亚"/>
          <p:cNvPicPr/>
          <p:nvPr/>
        </p:nvPicPr>
        <p:blipFill>
          <a:blip r:embed="rId1"/>
          <a:stretch/>
        </p:blipFill>
        <p:spPr>
          <a:xfrm>
            <a:off x="228600" y="380880"/>
            <a:ext cx="8672400" cy="590256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3"/>
          <p:cNvSpPr/>
          <p:nvPr/>
        </p:nvSpPr>
        <p:spPr>
          <a:xfrm>
            <a:off x="457200" y="1981080"/>
            <a:ext cx="73152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与蒙古、日本相比，我国的海陆位置有什么不同？与美国有什么相同和不同的地方？说说我国海陆位置的优越性。</a:t>
            </a:r>
            <a:r>
              <a:rPr b="1" lang="zh-CN" sz="41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152280" y="3049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评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3200400" y="1600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  <a:ea typeface="华文行楷"/>
              </a:rPr>
              <a:t>蒙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411480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日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6324480" y="16002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0" dur="1" fill="hold"/>
                                  <p:tgtEl>
                                    <p:spTgt spid="5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80880" y="1371600"/>
          <a:ext cx="8382240" cy="4064040"/>
        </p:xfrm>
        <a:graphic>
          <a:graphicData uri="http://schemas.openxmlformats.org/drawingml/2006/table">
            <a:tbl>
              <a:tblPr/>
              <a:tblGrid>
                <a:gridCol w="2438640"/>
                <a:gridCol w="59436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发展农业生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我国南北跨纬度广、气候差异大，为发展多种农业经济提供了有利条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对外交往与合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发展海洋事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其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228600" y="990720"/>
          <a:ext cx="8534520" cy="4572000"/>
        </p:xfrm>
        <a:graphic>
          <a:graphicData uri="http://schemas.openxmlformats.org/drawingml/2006/table">
            <a:tbl>
              <a:tblPr/>
              <a:tblGrid>
                <a:gridCol w="1828800"/>
                <a:gridCol w="1905120"/>
                <a:gridCol w="1371600"/>
                <a:gridCol w="1904760"/>
                <a:gridCol w="1524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国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面积（万平方千米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居世界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人口（亿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居世界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俄罗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7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加拿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中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美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巴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8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澳大利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印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3:46:30Z</dcterms:created>
  <dc:creator>办公计算机</dc:creator>
  <dc:description/>
  <dc:language>en-US</dc:language>
  <cp:lastModifiedBy>a</cp:lastModifiedBy>
  <dcterms:modified xsi:type="dcterms:W3CDTF">2015-03-17T05:43:16Z</dcterms:modified>
  <cp:revision>88</cp:revision>
  <dc:subject/>
  <dc:title>PowerPoint 演示文稿</dc:title>
</cp:coreProperties>
</file>