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8CAF-783B-4A01-BD65-D373214DF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8612-3B9C-4512-BA9E-CFBD36D76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C990-0423-4F3A-9322-B6728EF0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323-8D70-4156-B840-3E2E6E0C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44B-176D-438D-87CD-CDD4E536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2251F-F91E-4AF4-B50E-27D48C41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A2D03-C39E-43C5-9AA0-289A3F93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7E631-4E07-4D18-A735-08A233DE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F9E1C-FC69-452A-BB62-5BA66DCF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AE67A-2B7A-49B0-B2F3-9289C32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F2B0B-59BC-4317-85F6-651259E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B689B-C19D-4112-9664-EB0113B1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6AC51-79A8-49C8-B2B7-009189FB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40ABB-FB53-4716-81A0-4FB18268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73B91-A4CA-4F03-9B0E-045D5902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095-5FF8-4371-83C0-BC5CE5A1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4E569-EAEF-4E86-A4F5-539E80D1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C1490-31B2-4FB2-9EDE-CB8566FA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9FFAD-4229-4EA8-BE32-3E861EB4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A522D-80AA-4877-89E5-C2058890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EBE14-F2E8-44F1-AADD-42EE427E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5E09C-0663-4AB2-87A4-98187B2C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ABE67-A8B9-420C-877F-43D771A2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B7934-425E-416B-8E94-7C9CAB05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2A3C1-4701-4D3D-822A-3182C325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4BDAE-8451-46D9-B1B4-1EFBA430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53E-5668-49EF-9380-4B5D49B9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B1A42-5870-4EF4-ADF5-2DDE4567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601A4-303A-46BF-8709-BAF0EB47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2C23C-06C5-4DEC-94E0-987382A0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3C556-0787-4C6D-822A-45DADF53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C09E2-AB6C-4576-82E0-50B29AD7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66FDA-72CC-4E3E-BE23-A1993566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37457-B493-4B7B-82F5-93D488F6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18113-9AA9-4728-ADA9-7D0D3EA1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73A79-CE22-4CBC-A8A7-F55C5188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77FA6-E1AE-42C5-BC8B-FC6CA2A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A583-29DB-4674-BE24-0AAE6963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E9064-0A43-4A8C-A6FD-CC485532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A043D-CD98-4B5C-B538-F0F79F2D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A4B60-3B79-419F-A07D-D06A77DD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DC087-CDDA-4AFE-9741-93E69735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7D97B-7F5A-4CC4-B857-3AEFE56B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9E538-E1C7-4456-8F47-9DFF79FB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8030B-D347-4B4A-853C-5BD1C640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64D84-3F5C-4BB4-8DB1-80A1B1D9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14A04-71E6-4E6F-A57D-CEF22FDE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47F14-8221-4864-B866-1688D036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91E2-AC9A-430A-A58F-DFBAC76F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4D5EA-6EB4-40F2-B690-035CC02A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97B26-9C57-4590-AF89-A64A5914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DB35E-63E9-475F-A5C5-F468BADF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26A2F-F04B-49C9-93D7-9D85DF03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EFFA7-A4B2-421F-B3A1-6B9704DF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62DCB-5449-415F-AD99-CF7017AC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1CA98-98D2-4A7B-A746-E92F5562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9C02D-1F3E-4A46-99EE-B01424EB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BFF8F-0149-4C6A-9DC8-61575A7E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34EC6-2B08-4184-A2E8-0E83993D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D127-8C3C-4867-A5F0-36CF1C0E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72F2A-5709-406A-A3CF-C62C760E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1D8C8-1CE2-4716-BC9F-46E44A29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47DCA-495E-4D8B-A6B2-B35D14DB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EF57D-32F6-4CC0-AE24-AEF79D64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A5709-DE9B-41E6-8474-0B9FCC58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1F85D-0967-42B4-9037-EBEF3B7E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455EC-B0F4-46AA-A0A2-C41BA481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82680-60B2-4F01-8AD0-738E5CAA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BA7ED-99B9-4263-9385-1D3A3877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ABBA5-C79B-42D8-B370-0B5A93D2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2F93-BACB-47ED-B60F-26AD6DB3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4F668-FD73-4CC9-B1A6-45223559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53B34A-AD65-4B91-81B8-CCB3262F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567AF-0BA0-42AE-9176-19A7C0C3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99AE1-C9D5-4E10-BDFC-99FB083B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D653B-EC36-4FDF-BE45-B322661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95D9C-45EF-4C6D-9929-4C7DD4AD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8B856-623F-41AF-AA6B-48707B56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E28AF-C462-4824-B7E5-847141B6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E05A6-A271-40DA-AD50-E8D01BDF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3C77-8E93-442A-BC33-66011D25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E433-6DA8-4064-9DC5-0308962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5D46-0F5D-402A-9DD0-E8A4BADE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4A5-CCFD-4E11-A5E8-A36143D8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E723-2CF2-4B48-8F28-557486C7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F4FA-B61C-47EB-9D7E-3F160AE1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1CBC-8B67-465C-BBBC-4A1F1EDF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9D6A-69E7-438B-A05F-BD4DAC09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39E7-6EFA-414D-9F85-8CA418A8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74F9-167E-496B-9705-694139C8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4ECC-849B-4711-AAB1-48696CFB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C6F5C-5CD6-4788-A627-5A33A84B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F106-6023-41C7-80A4-75ACB4F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8FCC-164D-4E2C-8661-B5908798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27A-23B8-4981-B5A2-CC29C693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F4D4-F5E6-418F-9C7B-40BF80DE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4F91-2679-4D7E-9A44-BB8C5336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5D50A-AF82-4E06-9042-F663D47B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F343-CC74-4E4E-BDA5-194393B5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18E9-C45A-4A68-ADF4-437A39CF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A969-9F88-42AA-B806-70F06695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5952-B574-434F-8942-C1CF3C89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7AA7-590B-4814-91E2-0E6E3C7C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205C-6BAB-4355-ABD3-55D834E2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6A953-0CAA-466E-A763-D95C4AFA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6D3-CDC6-48DE-B798-B20D42B9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F9688-7241-4A56-B35D-662C869E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BEFFC-5B89-472F-9015-BA5137B8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3EA3A-5629-4713-B128-A98A5C2D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F0E0E-B3E3-482A-B436-59CF0B6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73E1-4861-4A25-A0C4-F4A7782D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0F85-6995-48B0-B45F-7AF09E91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BECA-6B5D-43C9-9143-03D6AE0C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6B0E5-F6AE-49DB-81F7-8BD0E316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E4CD8-B689-4431-9C5E-9707152D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49BD3-2B64-4E34-A740-03BC27A2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9B1-E792-472F-804E-638F8BAC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3768A-72E9-422A-B91A-2E4B6F66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0AD9C-620B-4320-A8FA-9603FFEB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15813-006C-451F-B59A-AA302AB2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2938E-4DB4-4B4D-944F-E7145F74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6B19-96ED-42CD-9984-7F44641A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CAC28-DB09-409C-8F70-C7314CA2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03D9-4249-4FB4-BB2F-B9831051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CEA53-1364-4709-B9DC-88D6A3BD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5FFE2-4517-47D6-8FE2-0CCD3462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C4174-FD74-4B66-AF5D-0CB63E5E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1E0-D8C8-40CD-AC3A-ECB766E0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C2D1A-9DC6-4CB6-A554-400DB097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CE9AE-094B-4E7F-839C-67B57BB3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61A06-0669-448F-9837-D30572CB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17994-A671-4E05-817E-4D2C3F15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FEA30-5322-45FC-A686-3FAA3584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E9D50-9E5A-4733-A178-DD2BEE4B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DCBCC-7197-41E7-A140-AE750790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2C5F3-6269-4267-A040-98715A97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ECECD-C8F0-4C38-A37C-694D1647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8A854-1154-4737-B64C-F54CB556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DD7-9D91-4903-B90A-89EA96CF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9715D-D564-426D-A599-F5682301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34AD-6BBF-448E-BBDA-48500D2F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2AC00-8C77-49C1-B451-26E5B44B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8587B-9242-4B99-9A16-DD8ECB3E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E1700-D2ED-46A3-9BAA-D61E45FD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A5B51-EE44-4719-9A07-35490B9F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F9B07-8CF2-47EA-8AB0-9882FCED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A1D38-83DE-40BD-A4DC-9798EDEC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8DA90-0128-4B07-9CF6-0B54C435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26864-720A-4C79-937A-2AB43B12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48F-99F3-4D1B-88D8-673DC9D3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62C3F-5937-40DC-8F4B-86FB57F8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F7A9-2C8C-4FA1-9BE0-AA21C8B3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62E20-8CBD-41D4-A519-FAD4DDA6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F1702-E3EF-484D-98C2-5513920D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30F0D-F41D-480F-9F83-7CB69E84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03233-570B-4400-919E-F23C8EC4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3085C-86DA-42EC-8CBF-BC738D25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018E5-A38D-46C3-AEE5-57209283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4D3EB-F22C-4579-8529-3D589A63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1375A-B7D0-4931-AF7F-058ADF01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24C-E299-4E40-B16A-FB328D79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C75B8-000B-42B0-ABFD-4F15298B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FB41D-B44F-43B8-8ABC-439A5E3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45AC1-B337-4133-82DC-E32EB2C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36B35-68FC-414B-BEC4-F1A80EAA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DAD0B-9ABA-4A4D-AAA5-CF2C2DFF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0DE27-F1F8-40D7-88CF-AF442D8D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5C65F-59C8-498C-8748-7DC85A5A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A6E36-36E9-4D2B-80D3-864459C4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9E256-1EAE-4D3E-90C1-B2DB3475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F86F3-D4F1-446E-8D35-0B80F9FF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076C-0E18-4645-8016-4699D91E9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E1A4-87E9-4B12-A82C-D4884EA4DC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CEFF-07B5-4D40-997B-32D5DEEB37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F0EB-ADF1-4227-8A79-E1DD90B0E8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6342-5D77-441E-9C0F-2966319298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11B6-A748-4CB0-B75A-6A2F48B135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E007-5906-4A46-A432-CC0BF803C8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3299-618E-47AB-AC5E-70F530E5DC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905C-F748-4244-ACBD-48E8FDAE18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A072-A159-476E-B426-F982315FE9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4449-88C1-4CCD-8D5C-A7FDBDB16D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82BB-E34B-4D3D-9FF5-2149206CD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BA8C-78D9-4806-9286-87BBDE1158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A219-7580-4EA1-9A61-2516E8860A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3A0-8440-4949-BF5A-924F9560B27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5AF5-FA69-4975-872B-A3BCF4A3AA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F79E-B1AC-4FAD-B4D3-B84FB56F5B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25A4-00CF-471F-8353-33AB76D904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530B-B522-4464-9AB1-A24EDB08B7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D37C-3F9D-4A31-A812-796CA2EF83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961D-14CF-4F92-88EF-724EA15DA4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6716-81B9-48EF-BC44-4A22CE0772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9C28-ED2B-4986-885A-4AB0776283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588C-3FDA-4892-A822-BE4A1E2BB4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9F17-3E0A-45C9-A7DD-044E7B06FE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73AA-66E2-43DB-A9D4-7B509F6B41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image" Target="../media/image1.jpeg"/><Relationship Id="rId13" Type="http://schemas.openxmlformats.org/officeDocument/2006/relationships/image" Target="../media/image2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三水大桥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4" name="歌声与微笑.mp3" descr=""/>
          <p:cNvPicPr/>
          <p:nvPr/>
        </p:nvPicPr>
        <p:blipFill>
          <a:blip r:embed="rId13"/>
          <a:stretch/>
        </p:blipFill>
        <p:spPr>
          <a:xfrm>
            <a:off x="129528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5" name="WordArt 4"/>
          <p:cNvSpPr txBox="1"/>
          <p:nvPr/>
        </p:nvSpPr>
        <p:spPr>
          <a:xfrm>
            <a:off x="1908000" y="1197000"/>
            <a:ext cx="548640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兰兰过桥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zoom dir="in"/>
    <p:sndAc>
      <p:stSnd>
        <p:snd r:embed="rId1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koro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3"/>
          <p:cNvSpPr/>
          <p:nvPr/>
        </p:nvSpPr>
        <p:spPr>
          <a:xfrm>
            <a:off x="6742440" y="6172200"/>
            <a:ext cx="1643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科罗巴卜图瓦普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qing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7637040" y="617220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青马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yangp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3"/>
          <p:cNvSpPr/>
          <p:nvPr/>
        </p:nvSpPr>
        <p:spPr>
          <a:xfrm>
            <a:off x="380880" y="6019920"/>
            <a:ext cx="2210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上海杨浦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" descr="jin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3"/>
          <p:cNvSpPr/>
          <p:nvPr/>
        </p:nvSpPr>
        <p:spPr>
          <a:xfrm>
            <a:off x="228600" y="6095880"/>
            <a:ext cx="152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金门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澜石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3"/>
          <p:cNvSpPr/>
          <p:nvPr/>
        </p:nvSpPr>
        <p:spPr>
          <a:xfrm>
            <a:off x="304920" y="5867280"/>
            <a:ext cx="1447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澜石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上海卢浦大桥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3"/>
          <p:cNvSpPr/>
          <p:nvPr/>
        </p:nvSpPr>
        <p:spPr>
          <a:xfrm>
            <a:off x="600840" y="228600"/>
            <a:ext cx="1278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上海卢浦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" descr="南海西山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3"/>
          <p:cNvSpPr/>
          <p:nvPr/>
        </p:nvSpPr>
        <p:spPr>
          <a:xfrm>
            <a:off x="609480" y="6095880"/>
            <a:ext cx="2133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南海西山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2" descr="济南黄河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d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深圳湾跨海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3"/>
          <p:cNvSpPr/>
          <p:nvPr/>
        </p:nvSpPr>
        <p:spPr>
          <a:xfrm>
            <a:off x="0" y="44956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课外拓展：设计未来的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0" y="556272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设计要求：美观、有创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FR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1887480" y="1828800"/>
            <a:ext cx="44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彩虹落人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1908000" y="2743200"/>
            <a:ext cx="449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横跨大江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1908000" y="3657600"/>
            <a:ext cx="46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虹上汽车过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1908000" y="4572000"/>
            <a:ext cx="434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水流虹下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3419640" y="530064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（桥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6" descr="我会猜"/>
          <p:cNvPicPr/>
          <p:nvPr/>
        </p:nvPicPr>
        <p:blipFill>
          <a:blip r:embed="rId2"/>
          <a:stretch/>
        </p:blipFill>
        <p:spPr>
          <a:xfrm>
            <a:off x="0" y="0"/>
            <a:ext cx="2160720" cy="20048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3"/>
          <p:cNvSpPr/>
          <p:nvPr/>
        </p:nvSpPr>
        <p:spPr>
          <a:xfrm>
            <a:off x="1116000" y="2205000"/>
            <a:ext cx="696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这种桥叫潜水桥，是用</a:t>
            </a:r>
            <a:r>
              <a:rPr b="1" lang="zh-CN" sz="5000" spc="-1" strike="noStrike">
                <a:solidFill>
                  <a:srgbClr val="ff0066"/>
                </a:solidFill>
                <a:latin typeface="华文楷体"/>
                <a:ea typeface="华文楷体"/>
              </a:rPr>
              <a:t>特别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结实的玻璃砖造的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6" descr="我会猜"/>
          <p:cNvPicPr/>
          <p:nvPr/>
        </p:nvPicPr>
        <p:blipFill>
          <a:blip r:embed="rId2"/>
          <a:stretch/>
        </p:blipFill>
        <p:spPr>
          <a:xfrm>
            <a:off x="0" y="0"/>
            <a:ext cx="2160720" cy="20048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1979640" y="2205000"/>
            <a:ext cx="6121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她一看：原来是一座架在水里的桥，就像</a:t>
            </a:r>
            <a:r>
              <a:rPr b="1" lang="zh-CN" sz="5000" spc="-1" strike="noStrike" u="sng">
                <a:solidFill>
                  <a:srgbClr val="006600"/>
                </a:solidFill>
                <a:uFillTx/>
                <a:latin typeface="华文楷体"/>
                <a:ea typeface="华文楷体"/>
              </a:rPr>
              <a:t>               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PM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1600200" y="68580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兰兰惊奇地站在潜水桥上，透过玻璃看见大大小小的鱼游来游去，各种各样的船只从桥顶上驶过来划过去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PM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1752480" y="1676520"/>
            <a:ext cx="5943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惊奇地站在潜水桥上，透过玻璃看见                            。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FR_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3"/>
          <p:cNvSpPr/>
          <p:nvPr/>
        </p:nvSpPr>
        <p:spPr>
          <a:xfrm>
            <a:off x="1447920" y="1905120"/>
            <a:ext cx="6476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这</a:t>
            </a:r>
            <a:r>
              <a:rPr b="1" lang="zh-CN" sz="5000" spc="-1" strike="noStrike">
                <a:solidFill>
                  <a:srgbClr val="ff0066"/>
                </a:solidFill>
                <a:latin typeface="华文楷体"/>
                <a:ea typeface="华文楷体"/>
              </a:rPr>
              <a:t>又薄又结实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的塑料管子，打进空气，就成了一座轻巧的桥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" descr="PM_029"/>
          <p:cNvPicPr/>
          <p:nvPr/>
        </p:nvPicPr>
        <p:blipFill>
          <a:blip r:embed="rId1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3"/>
          <p:cNvSpPr/>
          <p:nvPr/>
        </p:nvSpPr>
        <p:spPr>
          <a:xfrm>
            <a:off x="684360" y="2060640"/>
            <a:ext cx="670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爷爷真是一位会变魔术的</a:t>
            </a:r>
            <a:r>
              <a:rPr b="1" lang="zh-CN" sz="5000" spc="-1" strike="noStrike">
                <a:solidFill>
                  <a:srgbClr val="ff0066"/>
                </a:solidFill>
                <a:latin typeface="华文楷体"/>
                <a:ea typeface="华文楷体"/>
              </a:rPr>
              <a:t>桥梁专家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明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6019920" y="6172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mingshi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5"/>
          <p:cNvSpPr/>
          <p:nvPr/>
        </p:nvSpPr>
        <p:spPr>
          <a:xfrm>
            <a:off x="7225560" y="6095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明石海峡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ll dir="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36:08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7T06:14:01Z</dcterms:modified>
  <cp:revision>5</cp:revision>
  <dc:subject/>
  <dc:title>第一PPT模板网-WWW.1PPT.COM</dc:title>
</cp:coreProperties>
</file>