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7.png" ContentType="image/png"/>
  <Override PartName="/ppt/media/image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9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5E7-90DC-4D77-840A-7E122308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709-08E0-4A63-A519-64E55D3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D2D2D-A827-4F96-BE5D-E38E51A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CA90-0D41-4279-8A68-FEA19E4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B47D-AC7E-47C5-9C48-30207CF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8276B-F1D0-4442-9BAC-439FF37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493A3-8D27-44F5-8094-17F10B32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6D226-D309-4C69-811D-3EDF02B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A359A-399D-401F-A8D4-9FA3988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7FC24-9283-4809-B0CA-B9B6BCD7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EB6BC-BF17-4F79-8218-ECF2E812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76258-AA6B-48C4-8FCA-ADAEA3EA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0FC-D275-40BC-B4B7-2A163E04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59575-7BE9-4884-87CB-B0F089A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6912A-6712-410B-B87B-163B4C54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4E649-4B7E-438E-A2CD-C2F70DFA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30ECF-D75D-4389-992E-DF710FFE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18F49-E046-4DA2-BD2A-D876A8A0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98F3E-BFF8-41D9-85C5-40D99CA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0485C-4904-4818-94E7-5A30776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493C6-A83D-4B84-941F-8582A13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6EB64-E9B9-4344-9AB5-6AC3E21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EA46E-DEBF-4840-BF9F-D9D859A8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CA0-486B-4319-8AB1-729D822A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111A3-3436-4EAF-901A-B9B26533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1585-39B6-4E21-96A2-F8A57BE0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26ED-6268-43CE-8C3E-57BD91F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905C1-C200-4205-90D6-47D5899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44AA5-56DF-45B9-B255-A98E1F21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6FCFD-F222-464D-A31A-B64CCA7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23DF-13C0-4114-BC09-3067202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02EC5-AF71-4D8E-BA22-9FE1F39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5AF4-5317-401C-A698-EF80716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18EF3-A220-42CD-91BD-6542BEE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138-E414-4A32-86BB-84D0D72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5ED3-3B9D-42E2-A4A4-0B1567B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39964-4CCF-49A5-B79A-158DB0EC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29AC-6176-45E1-B335-65B965CB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5A4F5-EFCC-4F45-84A2-3D86DE7C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71596-AC4F-40AB-98E4-342FA31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B8CEA-ABA0-4E8E-8833-DEE4DC2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E6E82-757E-48CB-A128-951010A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88B35-57C6-4DEE-B71E-9A2DA09C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635DB-8D3D-4512-A5B3-0048AE3E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29CDA-BEB9-4246-BD5E-68B35700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E7C-83D6-41D5-ABF0-F3F8CFBC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CF3F0-D7E9-4474-97CA-6BB568D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85D26-A351-43E7-ACF6-4F221AD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A572A-F2ED-472B-B1DA-0007188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50C78-C341-4C22-AFF1-E16588D9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074B-91E1-421E-96D7-265E7A72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C533-E32D-4621-8B5A-878AC21D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1E5A8-B8CE-421B-B1B4-210A358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7BCDD-9D56-4B66-AEC0-E075D95D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48934-7CF2-4F62-B15B-E7643F5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2B513-F8A2-4A61-B891-1E0A22D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041-7B2C-49DE-AC39-ABF4D997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DA73C-4F3A-474A-A565-82E143E4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01FA7-93BF-40AC-933C-E794D68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89560-B8DF-438B-90FB-1DD6F90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D330F-2CAF-497E-9252-5194D1C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E0EDE-A1D8-49CF-9625-203CF76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97461-1FEE-45D2-A10A-570BEE88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64042-D99B-4A12-99BF-CDF8CC29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09F-1E26-4520-99E5-4411C4D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5F3-F505-4999-866D-65A9A99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8C0C-9D16-40D2-AA06-E9A0F79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069-57AF-470B-8F55-5D0BA46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20E-C431-4E9B-89B0-F1AB4C3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FED-4B1E-46D0-83F7-F2099086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4A2-2410-46D7-8D09-3E34D04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CAA0-2213-48C5-BF92-192A2DC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428-644A-4A77-AD21-EDC22FA7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7E27-00D0-4DBE-98E7-88F07584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3A91-A8FB-4F3F-A1B8-A0C9D03D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990C-A0B6-4D38-AF75-575096C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1080-166A-4D65-A7D8-2E6D29C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2C45-9A0C-4F63-B758-FEC73F9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C290-DA3A-4CD7-928B-C5A55815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110-C123-408B-8D90-8B21DB1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A0DB-4BCC-488A-BCCD-17FAE905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00B5-C098-40E0-A3FB-724C4F1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0E60-43C8-4F9A-807C-E55E4A7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2D3F-2391-454C-9A59-51E9CF1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8D80-776D-48B2-A7B0-4C4ED38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84F2-85BC-4348-9A1A-C4C60079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2995-5DA8-406C-B616-694D4C3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F2D0-99E6-4B8C-BEB4-3389A190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CB52-025D-4F7E-9B71-A1635EB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9072-1E70-402B-90D2-040FFF5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196-D737-44A5-8F7D-38AA729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0911-41F2-4F5D-A1C0-E7158EF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E046-FD1C-43F2-B95B-4F2CCBF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2569-9F96-4830-911A-F8ABA5A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425E-493B-45EE-A0B0-8035D1E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64B4-A7C6-4B00-8A32-B93B7CC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05C4-6399-45BE-915E-A14AB38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DECB-101B-4B2B-A9A6-2D097D6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1165-6805-4CDB-ADD6-CC7139C9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FA72-C982-46B7-941D-90AF9736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4118-5473-4E79-860B-27F6582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C41-FF33-496B-844E-1F5445F4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49E2-528D-4809-B49E-97EAD2ED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F6D0A-D65B-48DB-906F-9A63A97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6F78-95C9-4EE3-9DA0-B0D5975F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E1E5-960A-4948-B9BE-2B1EE994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6331-38C0-43AB-BE0C-9AA04180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59D2-6A5C-4476-93F7-56EECC1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8C03-B290-40EF-9C4A-AB9C1D1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EC25-655D-4FB6-93E5-AC9161E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8B46-A347-46E2-9B8D-75FBDAB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3B0F-B417-4269-A3EF-3EEAB24A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EE0-8651-4BB7-BDFE-45AC61EC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FBB2-E0A4-4E82-AF88-361A7061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663E-807A-461B-8494-D51AFF39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95828-657D-4097-A1CE-7E30D3B4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9E36D-E2FD-4066-98B3-B6DB2EA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5D42-2738-4521-A7F9-E3C8CB1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3D23-B4BB-442A-BE9E-FEB8E3B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A3D1-61CF-4383-98BB-094607F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2B7A-F5A2-48DA-B8B9-7BC323E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1E364-0888-4203-A381-5F41A69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E816A-87D4-4628-A250-B597C609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4DA-6E4E-4863-AD87-02835D6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23FC-91D7-47CC-9945-BDFAEC7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15C2-45BA-4219-8425-85FFA6F7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8755-C45C-431F-8469-7E26AC29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B419-E982-4E81-B792-A181CA17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44F11-7128-492D-AEFC-E177C7C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83AD-D17B-4786-90B7-B5DD0A2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5070-3228-4CFB-A51B-351FD403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E8EE-6CA9-4ACA-B6DC-E0B1D5CF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D9AA-7553-4025-8471-D472E16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F792-67A5-43C2-9044-A82DAB9D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A01-56EC-4CBA-84AC-6EB3E48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A3BF6-3879-4214-B7CF-1AAE380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1107-35C8-45F9-85B3-050B9DF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F764-10D9-4692-B937-01BE8E2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3DF1-B197-47A8-80C2-8EF2A32E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4237-97DD-43E5-86C4-44D0DF30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DF69F-4811-4C52-A23A-22AFA9FC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83F7-F155-452E-8C71-D1FDECA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B000-B5A5-466C-83DD-08D4877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5B6D-880F-40C6-8CBC-CF38A94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4C23B-95A9-4B04-8AAB-8D35B52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D76-C0AF-4CE5-86F4-2151928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E513-1403-4B86-A0EB-C3BF4BB9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23586-D3F8-4D83-82E3-A9DB370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C2BB-E892-4B1E-8CC3-7351924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883B-98AD-433F-B164-1801E229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968B-1F9C-40B4-9AFF-7D666A7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08ED-9B3B-4974-88EA-ADFFF769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0F27-EDDF-4C66-BC1E-3725283D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93DBD-3E99-4459-B1F5-50A7C9E7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E2357-9BFF-4149-A45C-6015D157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4B51-6DBA-4DEB-BA9C-7A079EAB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8EA-84D1-4A8D-A520-2C7CE0842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E806-B2AE-414A-B562-4EE800CEC3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038A-A843-443D-AAD7-9D412E39C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BB4F-1687-44D4-8448-7D90917E32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0C21-0777-4681-836A-681DAF72EF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5A8C-4EBB-461D-8C45-CDCC284328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B138-3DC2-46C2-B670-3E85EF50FE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225D-BF89-41D9-8452-BCDAEA8308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D918-2306-4413-9D6F-1AABFE572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EEC-FDD4-4FAA-83AC-7E0D78D78E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8840-1A7E-4FF2-BDF6-667323FD1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240B-6083-4E92-AA37-A26DD3DF8A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AC07-B7DE-4FF9-873F-FD57C465B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5F3-6FD7-44FD-AE3C-5B01DC0C52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C430-C08D-4BBD-8042-CE5D47E1F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FA5-FEAF-4E3D-AEDC-602CE6C393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BC74-9A5D-402D-831E-3EC3C49CF7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C96-7380-47ED-845C-5D31BE5AF0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6D16-F918-4976-BDC5-AF40A4EBCB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1C3-8D78-4F76-9F88-5C4B56F347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84C2-1B71-4CE6-9178-4700AE052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53B9-AC38-40CA-B5CA-BCA0573065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02C-F453-490A-9204-0CCB6FA81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F72-BFA7-47AA-A7DA-98F1DC355C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6C3-83B8-478E-8F93-CC4DD224E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图库\背景图片1\BJ1017.jpg"/>
          <p:cNvPicPr/>
          <p:nvPr/>
        </p:nvPicPr>
        <p:blipFill>
          <a:blip r:embed="rId1"/>
          <a:srcRect l="0" t="0" r="0" b="7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  <p:sp>
        <p:nvSpPr>
          <p:cNvPr id="534" name="WordArt 3"/>
          <p:cNvSpPr txBox="1"/>
          <p:nvPr/>
        </p:nvSpPr>
        <p:spPr>
          <a:xfrm>
            <a:off x="2514600" y="19051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蓝色的树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438280" y="44956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济南南洋学校    石春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D:\图库\背景图片1\背景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1066680" y="470844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 ）的银杏树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9" descr="D:\图库\实用图案\叶子1.jpg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771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1066680" y="547056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 ）的梧桐树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6" descr="D:\图库\实用图案\银杏树叶.jpg"/>
          <p:cNvPicPr/>
          <p:nvPr/>
        </p:nvPicPr>
        <p:blipFill>
          <a:blip r:embed="rId3"/>
          <a:stretch/>
        </p:blipFill>
        <p:spPr>
          <a:xfrm>
            <a:off x="762120" y="609480"/>
            <a:ext cx="4419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D:\图库\香山红叶2.jpg"/>
          <p:cNvPicPr/>
          <p:nvPr/>
        </p:nvPicPr>
        <p:blipFill>
          <a:blip r:embed="rId1"/>
          <a:stretch/>
        </p:blipFill>
        <p:spPr>
          <a:xfrm>
            <a:off x="1079640" y="638280"/>
            <a:ext cx="6984720" cy="5000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6"/>
          <p:cNvSpPr/>
          <p:nvPr/>
        </p:nvSpPr>
        <p:spPr>
          <a:xfrm>
            <a:off x="2895480" y="5791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（       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的枫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D:\图库\背景图片2\BJ2043.JPG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4775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209556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                       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树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D:\图库\蓝色的树叶.JPEG"/>
          <p:cNvPicPr/>
          <p:nvPr/>
        </p:nvPicPr>
        <p:blipFill>
          <a:blip r:embed="rId1"/>
          <a:srcRect l="0" t="0" r="-142" b="-103"/>
          <a:stretch/>
        </p:blipFill>
        <p:spPr>
          <a:xfrm>
            <a:off x="2743200" y="30492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251460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                 ）的树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D:\图库\nwbt1.gif"/>
          <p:cNvPicPr/>
          <p:nvPr/>
        </p:nvPicPr>
        <p:blipFill>
          <a:blip r:embed="rId1"/>
          <a:stretch/>
        </p:blipFill>
        <p:spPr>
          <a:xfrm>
            <a:off x="378000" y="685800"/>
            <a:ext cx="83865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1600200" y="990720"/>
            <a:ext cx="32004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快来闯词语迷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7" descr="D:\图库\实用图案\小屋.JPEG"/>
          <p:cNvPicPr/>
          <p:nvPr/>
        </p:nvPicPr>
        <p:blipFill>
          <a:blip r:embed="rId2"/>
          <a:stretch/>
        </p:blipFill>
        <p:spPr>
          <a:xfrm>
            <a:off x="914400" y="2590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D:\图库\实用图案\彩虹桥.jpg"/>
          <p:cNvPicPr/>
          <p:nvPr/>
        </p:nvPicPr>
        <p:blipFill>
          <a:blip r:embed="rId3"/>
          <a:stretch/>
        </p:blipFill>
        <p:spPr>
          <a:xfrm>
            <a:off x="5029200" y="259092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9"/>
          <p:cNvSpPr/>
          <p:nvPr/>
        </p:nvSpPr>
        <p:spPr>
          <a:xfrm>
            <a:off x="914400" y="5715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号迷宫             二号迷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80880" y="1447920"/>
            <a:ext cx="838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算术  美术  技术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铅笔  铅笔芯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惹人爱  惹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吞吞吐吐  吐气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桌子  课桌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楷体_GB2312"/>
                <a:ea typeface="楷体_GB2312"/>
              </a:rPr>
              <a:t>盒子   铅笔盒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皱纹 皱眉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注意  注音  注定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削铅笔   削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WordArt 5"/>
          <p:cNvSpPr txBox="1"/>
          <p:nvPr/>
        </p:nvSpPr>
        <p:spPr>
          <a:xfrm>
            <a:off x="914400" y="533520"/>
            <a:ext cx="40384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这些词，我会读！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D:\图库\实用图案\菊花.gif"/>
          <p:cNvPicPr/>
          <p:nvPr/>
        </p:nvPicPr>
        <p:blipFill>
          <a:blip r:embed="rId1"/>
          <a:stretch/>
        </p:blipFill>
        <p:spPr>
          <a:xfrm>
            <a:off x="784872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5"/>
          <p:cNvSpPr/>
          <p:nvPr/>
        </p:nvSpPr>
        <p:spPr>
          <a:xfrm>
            <a:off x="647640" y="2438280"/>
            <a:ext cx="78487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木＋、＝（术）      土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+(      )=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吐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若＋（    ）＝惹   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卓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+(      )=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盒＝（     ）＋（      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注＝（     ）＋（      ）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WordArt 6"/>
          <p:cNvSpPr txBox="1"/>
          <p:nvPr/>
        </p:nvSpPr>
        <p:spPr>
          <a:xfrm>
            <a:off x="1295280" y="762120"/>
            <a:ext cx="441972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华文中宋"/>
              </a:rPr>
              <a:t>变字魔术：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华文中宋"/>
              <a:ea typeface="华文中宋"/>
            </a:endParaRPr>
          </a:p>
        </p:txBody>
      </p:sp>
      <p:pic>
        <p:nvPicPr>
          <p:cNvPr id="562" name="Picture 7" descr="D:\图库\实用图案\树叶.gif"/>
          <p:cNvPicPr/>
          <p:nvPr/>
        </p:nvPicPr>
        <p:blipFill>
          <a:blip r:embed="rId1"/>
          <a:stretch/>
        </p:blipFill>
        <p:spPr>
          <a:xfrm>
            <a:off x="815328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D:\图库\背景图片1\BJ1216.jpg"/>
          <p:cNvPicPr/>
          <p:nvPr/>
        </p:nvPicPr>
        <p:blipFill>
          <a:blip r:embed="rId1"/>
          <a:srcRect l="0" t="0" r="15" b="54"/>
          <a:stretch/>
        </p:blipFill>
        <p:spPr>
          <a:xfrm>
            <a:off x="304920" y="160020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564" name="WordArt 4"/>
          <p:cNvSpPr txBox="1"/>
          <p:nvPr/>
        </p:nvSpPr>
        <p:spPr>
          <a:xfrm>
            <a:off x="1295280" y="609480"/>
            <a:ext cx="32767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我也会说！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71680" y="2108160"/>
            <a:ext cx="80010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你把绿铅笔借给我用一用，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（                                                ）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33520" y="3809880"/>
            <a:ext cx="807696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现在可以把你的绿铅笔借给我了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ccffff"/>
                </a:solidFill>
                <a:latin typeface="Times New Roman"/>
              </a:rPr>
              <a:t>（                                            ）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3520" y="49528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吞吞吐吐       花花绿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（               ）（               ）（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0" descr="D:\图库\实用图案\小精灵2.jpg"/>
          <p:cNvPicPr/>
          <p:nvPr/>
        </p:nvPicPr>
        <p:blipFill>
          <a:blip r:embed="rId2"/>
          <a:stretch/>
        </p:blipFill>
        <p:spPr>
          <a:xfrm>
            <a:off x="4572000" y="304920"/>
            <a:ext cx="1600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05:43Z</dcterms:created>
  <dc:creator>jnny</dc:creator>
  <dc:description/>
  <dc:language>en-US</dc:language>
  <cp:lastModifiedBy>a</cp:lastModifiedBy>
  <dcterms:modified xsi:type="dcterms:W3CDTF">2015-03-18T05:42:19Z</dcterms:modified>
  <cp:revision>10</cp:revision>
  <dc:subject/>
  <dc:title>PowerPoint 演示文稿</dc:title>
</cp:coreProperties>
</file>