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FEC-320B-4615-96F1-95D9BB21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040-1E48-4D4E-BB1F-D0F64602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1F0D8-83EE-4179-8A45-84F6066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57D3B-8810-4900-BBC8-8A29C98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B29E-68D1-4487-B528-90F4C68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4105F-AF4A-4EA0-8C61-883A909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1A4BD-2E69-4DDB-B973-A7C4F42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57F88-8218-45BE-81B4-9B0A6E3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E1AFE-B1B3-457A-A71B-72F89664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3884D-451C-410A-A033-3BE60C97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7A449-B142-48AE-9E3D-C35DB47A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90620-4E8F-4140-AF40-1E39340F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798-FE1A-4E64-8111-4E3B4853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BDF6F-FF85-47DA-A188-6DF220D5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E1AAD-C5DB-44ED-89BF-D8A8C503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E428-A72E-406A-9508-420C127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E9ABB-54F8-4CDE-AB08-09849B35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72A3C-79D6-4EC4-BDE9-099743B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C51E8-17FF-4824-B86E-11703C8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649B0-13FD-4867-B0E7-ABDF61BD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62F0-9741-4277-ABCB-0F4A80A8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BEB66-61AC-437D-9D4F-B8DEE2D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B3470-DF56-460D-942A-308B9AB2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C9A-819C-464D-AAA1-26B6B4E6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0483-BF71-469B-A427-280EDC0B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1C18-532B-4991-A234-04FC03D1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14637-17F2-4C2B-9961-F46E2776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276EF-145B-41F9-B1CF-B63454BC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9EABD-EED4-46AA-AB4E-D3B9FE68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40AD4-648E-49A5-BBBE-3D1E7B57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71DD-63A8-4D28-8B36-2FAC597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70670-D41B-465E-AECA-510D893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715F-4802-4EF6-831E-CC99009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782DF-E2D0-46BB-BFF7-1DCE59B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6DC5-945D-40F3-8274-9E7885B4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A4EC-F322-49D1-AB6D-CC9971B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540B0-7DCC-423F-A317-63DB1BAB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40E10-B331-46DC-8FF2-F761E164D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09F32-DEA7-4FF7-BF8E-01F0614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09E91-43DB-4A2A-903B-CAAC0109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49E78-1907-4F4F-A5D3-9125D661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037B7-9AC4-4B82-9FAE-E4CDAD5C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A24DB-D333-46B9-BFF9-B6AE291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E3465-93AC-420E-9933-778C810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9379-6E20-4BA2-A1DD-96597CC0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2E6-B4D4-438B-802F-DE19C715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0A8F1-D3EC-4168-84C5-1FD836A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0611-D5A6-460E-A300-82141BA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8B31D-3D70-43A7-B701-1053CCA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DAD38-F10D-4924-8924-5DC88CB2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65526-4FDE-4FC7-9AE7-13AEAD15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F8196-9B73-4580-B437-80DD2F00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58B34-9425-4615-A990-549ABE6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F381D-73B4-452F-BBEC-D615950F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BEA2B-44CE-41F9-A914-55942F8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F4727-F67B-4774-B2F5-54CC2AA5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DD2D-AADF-4622-87E3-80F261B1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5EF76-B88A-4ED5-BEA5-9E72FBC0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0EF9E-9B15-49EE-AB2C-4532817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DC2D8-9E90-4CA3-A2FA-B19906C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655C27-8BB5-487D-9EFB-6FCA0BA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8D361-D394-4E31-925E-31B33981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8B8EB-34D8-45C0-9787-1BE93E3E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2448C-1EE2-4F4A-B446-84F4925E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76C8-CA3E-4BE0-A545-0ADD5EE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670-62A4-41E6-877E-BD119C69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AFC-77AB-4F5B-A328-D270380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4F1D-1363-4639-96A0-8EA80A5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A95-D34F-47FD-974C-AE4218C6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5B3F-A6C4-4F43-80B6-DC7EB6F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B967-7CC5-4F78-8A96-D62677B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06D-9F64-4D18-BE4E-15AA7812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2540-8414-4832-B8F0-4FFC9878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0F40-C20A-44AB-82DF-8667E67C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BDE6-C9EF-49C6-A2C3-8F2505C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8FDC-E5C8-4ABB-A8B1-77859945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4DD4F-DF93-4E6C-9738-C3EB9FBC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EAE9-E086-4888-84C4-6C13A1F0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09D5-8F98-42E7-AA67-6AC739F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878-5846-4A7C-AB59-FB34B96A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6CB9-CAD1-41E6-8AB6-28CDEFCE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5CC9B-4847-4491-A95C-439A529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A92D-C2B3-4013-823D-8D7D23E8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993B-BE1B-4003-8953-7DF726D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3B33-47C6-409C-86A4-C45239B4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D5C0-CEE9-4F45-B905-1467016A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B67B-F6BB-400D-8167-C7CB40AB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30A5-74B6-4F03-80BC-72BE0C92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B039-0FB2-4949-A65F-A39E6ED3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457C-9765-474B-8EAD-55090473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DFE-17EB-4D8F-82CA-D6AC09A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F607-8335-484D-9247-CD75D448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553FB-4837-4332-95BF-7E3476DD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D175C-4666-4A45-ABE0-27B61D1B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B10A-CFF7-4E82-9685-B924142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DE21-5BEB-4A39-A1EC-8FE7DDB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8450-33C3-4A86-BB1C-ECF3AC1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174F-C4D3-4DD8-9F32-8D387B8D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3E58-9696-469F-9B7C-345BA0BE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DF58-C521-4947-9D7D-AA7DD2BF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BC30-3A98-4A63-856A-D385B399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F52-EFDF-4B5B-8F81-41B2E4F8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9E90-97CB-4836-B728-6B364EA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06A7F-1AA3-4516-B95E-85E8D103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C044-AA7D-467F-A6E8-560FFFFB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F68E4-259C-41D3-B2E4-B97A5696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57D56-22D4-4595-840A-A35F21AC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0612-385E-4FAB-9C3C-3F0185E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ECCA-6D2B-4A85-B4C4-988569D8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E11E-7AE6-4CA0-BF6B-8DDFC86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F0AF-0AAD-46F5-A170-BB6460B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875BD-2552-43B3-A581-1531C652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26F-9495-4575-8A3A-3A7AA907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BC2E-BEC7-43B2-8DE2-0F5E1B84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0969-A362-42BC-BC15-C6FFE9D0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080A6-EE4D-4B77-99E5-FCDE5D8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7DFCE-94A9-4D5A-8B63-0AF0B5D5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69C1-A5E3-460E-B252-97856A0A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E1773-559D-4BE7-99A8-A49B206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5A475-FF58-4E8B-AFFB-FDBD4FA2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80D0-59EA-4396-9A1D-034C83A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E9357-32B1-4A54-8595-2ED5BB4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8969-0469-418C-8DD1-1365776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3B3-6003-4F79-888D-30A188C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5AEB8-DEFF-4863-BE98-34EDEA57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0E5E-8148-43BE-876E-5D35DF4A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4A01B-3FD9-4D1A-BCBD-6EE31A0A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20D3-5F8E-4201-AAE4-38B36BD4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AC2D-EE70-462F-86FC-05327D6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DF5C-9EDC-49FE-B14A-7FBDFB6A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9F5D-0D1E-445E-82C0-5A10581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7E84-AEFB-40F7-A758-FC0DEB4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2211-ED11-4BB3-8A34-C6EDF652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9789-85F9-49B9-ADAE-9DBEFCD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D76-4AB0-4C0C-A6C5-033533A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8369D-C88C-41D9-B754-26B2619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BA5E-4E16-46E8-A1FC-C464662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A1D5E-1D4A-4599-9F77-154F95AF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059A1-D67E-4A85-8F5D-23FA542E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CEE3-2857-4ADB-9587-D9BE7346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957A-AF1B-4CD0-8D9C-941078DF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913E-C189-4C9E-80C5-3CB420D7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CE75-55E9-4569-A80C-78B2071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66F2-BABA-4FCC-9C4B-E3C850F5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A6C0B-78D5-4753-BCA1-C6B6EAC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DBD-2787-4FC0-8350-C83821B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3459B-E2C7-427C-8244-D7D4574F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5E80-C3A6-4B70-86AF-EF459A8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F6FC5-5DFE-44AF-B7C3-595E1425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A0EA3-E441-42CA-B761-F96F7DAA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EFD75-2B16-462B-A719-F10E70E5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E53D-2AEB-436C-A237-C6D03B94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A18D7-9D1C-446A-BA54-0FAB96B1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C9967-996B-49E4-8D2F-20432D45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2686E-BC73-4A2C-8AAF-655B14D4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42520-32E1-4BFE-A14C-4EBE4F9D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E8E-0867-4E0D-93C2-0062C86F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87F-A20E-417D-BA05-C883CD3EAE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617-4783-43B1-B3D2-CDCFCA7DE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608-E01D-4B8A-AA3A-B353E3B0E1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792-CE41-49E1-8783-4B8E124364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B36-CBAA-4FD9-8CB9-84A26E0D55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1B08-9567-4565-8910-71689565C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8E7-4363-4C16-80F1-168604520DB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917-9786-49B7-94DA-174921299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3AB-72EC-4077-8B4E-258EF0E17D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681-93A0-4983-B8B8-2764CFAA9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D9BD-AFE0-434B-985F-4232D34E57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DA6-AFFC-4C9E-9AE5-C138C99C1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AC9-CE73-4BAC-9CC1-6BE1E563BE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56EA-EBAD-4882-9038-22FEEC10A2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9F0-1566-49A6-95CE-0540FF2B10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6670-041A-45C5-88EC-4D12E85F7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5157-9234-4C04-8EA7-A526CCBE42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7C3-DE55-485A-A325-F395377302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5FC-BDD6-4DFB-893F-CE04819321E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B70-63A1-41A3-975D-5C1C48AE34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1B7-1710-4E19-9792-CC6BDD1AEC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5E6-52EB-4D5B-B933-F875577884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7736-F152-49A9-B728-C0A33FF74F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6AF-26D4-473D-B9F0-2CEA500001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066680" y="8380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年义务教育六年制小学教科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2133720" y="1905120"/>
            <a:ext cx="487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990000"/>
                </a:solidFill>
                <a:latin typeface="Times New Roman"/>
                <a:ea typeface="隶书"/>
              </a:rPr>
              <a:t>语       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3200400" y="3809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第六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3276720" y="54864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施桥镇中心小学    三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33520" y="59436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2" descr="C:\Program Files\Common Files\Microsoft Shared\Clipart\themes1\Bullets\BD14565_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58672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\\ADMIN\学校资料\语文素材\省版6册\XC608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\\ADMIN\学校资料\语文素材\省版6册\XC608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609480" y="57913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C:\Program Files\Common Files\Microsoft Shared\Clipart\themes1\Bullets\BD14565_.GIF"/>
          <p:cNvPicPr/>
          <p:nvPr/>
        </p:nvPicPr>
        <p:blipFill>
          <a:blip r:embed="rId2"/>
          <a:stretch/>
        </p:blipFill>
        <p:spPr>
          <a:xfrm>
            <a:off x="45720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1143000" y="838080"/>
            <a:ext cx="723888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课堂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１）描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（２）抄写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２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课外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１）有感情地朗读课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（２）背诵课文第一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838080" y="5867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5" descr="C:\Program Files\Common Files\Microsoft Shared\Clipart\themes1\Bullets\BD14565_.GIF"/>
          <p:cNvPicPr/>
          <p:nvPr/>
        </p:nvPicPr>
        <p:blipFill>
          <a:blip r:embed="rId1"/>
          <a:stretch/>
        </p:blipFill>
        <p:spPr>
          <a:xfrm>
            <a:off x="533520" y="5638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533520" y="609480"/>
            <a:ext cx="807696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庐山的云雾千姿百态。那些笼罩在山头的云雾，像戴在山顶上的白色绒帽；那些缠绕在半山的云雾，又像是系在山腰间的一条条玉带。云雾遮挡山峰，它又是巨大的天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庐山的云雾瞬息万变。眼前的云雾，刚刚还是随风飘荡的一缕清烟，转眼间就变成了一泻千里的九天银河；明明是一匹四踢生风的白马，还没等你完全看清楚，它又变成了漂浮在北冰洋上的一座冰山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4" descr="C:\Program Files\Common Files\Microsoft Shared\Clipart\themes1\Bullets\BD14565_.GIF"/>
          <p:cNvPicPr/>
          <p:nvPr/>
        </p:nvPicPr>
        <p:blipFill>
          <a:blip r:embed="rId1"/>
          <a:stretch/>
        </p:blipFill>
        <p:spPr>
          <a:xfrm>
            <a:off x="106668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XC608001.mpg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477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C:\Program Files\Common Files\Microsoft Shared\Clipart\themes1\Bullets\BD14565_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14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\\ADMIN\学校资料\语文素材\省版6册\XC608005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2362320" y="12193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庐山的云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457200" y="762120"/>
            <a:ext cx="8686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àn   zēng tiān     lǒng zhào      jì            zh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变 幻   增   添    笼  罩   系 在   遮  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ǎn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ī    tà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一泻千里    流连忘返    千姿百态     秀  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ǎn  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           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游 览    弥 漫    瞬息万变     四蹄生风</a:t>
            </a:r>
            <a:r>
              <a:rPr b="0" lang="zh-CN" sz="2800" spc="-1" strike="noStrike">
                <a:solidFill>
                  <a:srgbClr val="660033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143000" y="1066680"/>
            <a:ext cx="701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庐山的景色十分秀丽。那里有高峰，有幽谷，有瀑布，有溪流，尤其是变幻无常的云雾，更给它增添了几分神秘的色彩。在山上游览，似乎随手就能摸到飘来的云雾。漫步山道，常常会有一种腾云驾雾、飘飘欲仙的感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050"/>
          <p:cNvSpPr/>
          <p:nvPr/>
        </p:nvSpPr>
        <p:spPr>
          <a:xfrm>
            <a:off x="1143000" y="1066680"/>
            <a:ext cx="7010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庐山的景色十分秀丽。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那里有高峰，有幽谷，有瀑布，有溪流，尤其是变幻无常的云雾，更给它增添了几分神秘的色彩。在山上游览，似乎随手就能摸到飘来的云雾。漫步山道，常常会有一种腾云驾雾、飘飘欲仙的感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\\ADMIN\学校资料\语文素材\省版6册\XC608005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2362320" y="1219320"/>
            <a:ext cx="60958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\\ADMIN\学校资料\语文素材\省版6册\XC608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\\ADMIN\学校资料\语文素材\省版6册\XC60800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3:02:36Z</dcterms:created>
  <dc:creator>friend</dc:creator>
  <dc:description/>
  <dc:language>en-US</dc:language>
  <cp:lastModifiedBy>a</cp:lastModifiedBy>
  <dcterms:modified xsi:type="dcterms:W3CDTF">2015-02-10T03:03:46Z</dcterms:modified>
  <cp:revision>28</cp:revision>
  <dc:subject/>
  <dc:title>PowerPoint 演示文稿</dc:title>
</cp:coreProperties>
</file>