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18.png" ContentType="image/png"/>
  <Override PartName="/ppt/media/image12.wmf" ContentType="image/x-wmf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898-6261-4BEE-8411-370B89C6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A44-7258-4A12-BA4C-50CEEE96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F0859-6C4E-4CEF-A04E-C196DBB0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B3FF4-CA5C-4DB2-9C9F-1A2736F6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8216C-6149-4814-970E-3FB104DA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5E816-2DAE-49EB-88E7-D49D90EA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578A5-9E65-4607-AF79-88806CED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C1B13-E259-453C-A058-BAA2DB1A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6248D-7F33-4095-A324-153008BB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F0262-7D1B-4B17-8995-DD8F0694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4AB04-5CDA-45FA-9D9A-DC7B801D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BD519-DC11-47B4-A737-CA0D4373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A7B-5596-4476-8040-694B9F73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C4666-5F44-4681-91FA-1637E941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F57BD-9D90-4C6C-B485-63F06068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F7E4C-3FC9-4816-B775-C4F797CC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A8923-0672-44EA-AB01-05902D74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91B4E-0CB1-4D6E-A4F4-324164FC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57EA6-6ED3-48FB-9716-29048280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B88F0-5D6A-4A61-BFF9-E59D30D0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E0B6A-1D6A-406F-9081-329254C0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24FC5-FB48-4A9F-BD67-5674E94C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E35CA-6F7D-4BDC-92D6-96995DE4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D58-57ED-4829-8D7F-5EEA78A7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FD82C-F1F0-4539-B7ED-CA1F618A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942DC-F746-40E3-AB95-D522054C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475CE-E94E-4D0B-85D0-A9067FC5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4B3CA-25B3-4C28-A2CF-97AB1DBE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A7034-ADC3-49AC-9F4A-EAD435A1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66F8A-FD3C-468F-A215-A55DB01E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519CA-D186-45ED-8F03-9E85250A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703D6-DF11-4A76-8FD5-24C5DD40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09C7D-02DA-4BB2-8622-A9E57B44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F6396-C744-4C67-BACF-032AEA0A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713D-637F-4D71-ABEB-73EB3EDB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DD020-319B-4338-9CC1-956874BC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E8FC3-5020-4A32-881A-CE4FDCF6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8541A-0907-4E34-86EB-34959D45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3FAF2-12EE-4A21-B462-E9EE72EF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D42E6-2F99-45F8-BFB1-A553E53E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BCBB2-1A3F-4D3E-BFD5-372F9642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CC6B6-7EF7-4A3A-ACDF-C60DF60C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33391-96BD-43EE-AD7F-9BEDFD4D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F53F0-7561-42FB-8725-DD2DF9C2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6EE41-579F-4DC3-95A4-F822EB5C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0C32-F997-4FBB-A2C5-EE5F41B8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02CDE-F62E-415F-AC84-81D9D475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C2E3C-FF92-4705-9E7E-DD9682DF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6A37E-37F3-471B-ABEC-2679C118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BA3F4-5F18-4A65-8833-84F75B12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272D6-587E-4DB5-9CAA-19F8FBCB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E10B0-5A22-4036-B36F-EE0511F0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79938-2558-4E14-AD4C-9C7FCE03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9C8D7-BF73-41BC-92C2-FDE6D14D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CA73B-5272-4150-B649-D68DA59A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073C1-FE44-4C53-9FB5-64B68382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3470-CACA-4E22-8394-EC590AD2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C076B-1A94-4ACF-8BE7-8C9B4DCD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0EB11-B930-4521-9A41-8D948B02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AA451-1683-4369-8A3E-11DF9096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72408-F0E9-499E-84C3-26382D18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B6DA1-D7FF-4A5F-8F12-0DFCE780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5351D-0386-4C54-BE72-E5E54041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544FD-3315-4A9F-AE35-17CA1A17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7487A-FDE5-4BB3-9504-DCB57EB4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E436C-CB08-4368-87A5-CA9E6036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4F43E-C9D1-4C6E-AA82-B7B26047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6865-6281-4DAB-A44F-AFEB5A04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40D78-42CC-4516-BDE8-90689655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214AE-05DD-45CA-8E76-8E2AE515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05A1A-3A74-43B2-A186-4E0E6709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C92A3-E7FF-4241-A826-77D04674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61BF1-60E4-4AE6-86E0-2E353C0F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4948F-D410-42DD-9989-101286B1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63867-2CB6-4CAA-A5B1-3116A71F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F77EE-8009-48CA-A5D8-3D67CC0B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7C4EDF-FFF2-4C9C-B7FE-B75D9920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4571-237C-4B12-81BA-63A814B8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3EB0-F709-430B-89E3-DED7151C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A461-5A70-47AE-ACEF-87147DF3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E7A-EBB3-4F1E-914B-AF04B941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8B83-AA4C-47C6-BAFD-8943FBC5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87B1-A49E-44B7-8F71-A3CE8DA9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C881-34DB-4D77-A628-C940AB34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D833-8336-4155-A0E3-96673870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A334-0A32-4E90-BA6F-F6221DBA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3AF50-67A9-46F5-855A-B570D738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9F27-3D7E-48EB-A882-1FC2A4AC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3867-D3AF-4A86-9C36-3FFE6F04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CA55-6F70-4404-B5A9-4E3B7FB9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B824-C52F-4D3A-A966-B89DFABE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880-2913-4194-98BE-E6EB0E36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1ACE-C13D-408B-871A-01CC0BEE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5E88-A357-470C-9FF7-CB2E8149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AE34-4F20-427F-AD8B-477E9EBF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1CF9-3B03-416C-BC01-6E29A273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B0FB-7845-4E42-9BD3-5F5403F6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61C25-6AAA-40FF-B944-9EF313BA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49759-BC44-4A5B-ACAF-32248E1D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F0FD6-49B0-4EDB-B3C3-7A51506C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91207-4CDC-4D24-A711-09C43D44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D583E-AE6B-4F7A-9CCE-D06290F8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59E-7048-4586-9CED-9525AFBC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4B804-4819-47AE-9EE9-F2CD727C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7C2A4-446A-441F-95B0-60979498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BD75-AFCA-4E0C-A4AD-6B982CDF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6990E-498F-450A-B9EA-3ED31EB0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8BFE3-2837-49CB-89F6-DB153FB0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31035-E3E7-481C-8BF4-A8494527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1217-3E39-418E-BF09-B0950107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AF7C8-D26F-4E8C-BF75-19E6AACC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A7F9E-79D5-46E9-AA3C-3490F15C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5A523-F04A-42D8-9FCB-459D9F9F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F8E-4E54-48E1-B802-28F83745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8398D-7446-46E1-BE82-759637C5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2AC3A-BB72-4D61-BC66-D1084BF9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30289-0716-4D99-A238-248E920D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A6029-1F74-4C82-97A9-B11D6C7B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9F796-1E75-4450-9C48-1F8411B2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AE8C3-0E1A-4CB6-A010-F7971284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80D64-9CCA-4B69-8961-4FADB488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28401-6B67-4B8E-808A-BA17F5A5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2271E-CC41-4D5E-82BD-40B07B10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22EE0-8301-4CA1-A726-853CD099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4A0-644F-47ED-A7ED-827B878A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5F1F8-7F96-4B3C-88DB-2C0B2049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96CE3-F3E5-4A6C-A7D4-E3881FFB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27A59-59AF-457D-B540-FEC676C0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48A71-18B0-4CBB-AB02-4E61A8D1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76284-38E4-4566-AEF0-ADD208F6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A21B7-12CB-4736-A5EB-7C25736A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561BF-3916-4B35-B258-F064D7A3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20012-EF9F-468E-B8FB-76BB4A8D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A3A9C-27A5-4AFE-90B6-855D3FCB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8F0B2-9178-47CE-9D89-BBD58F2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647-21B5-4D4A-8C75-64103514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74C8C-F184-4AFD-AAB9-4D6BA6BD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4D9A-FA3D-467D-B739-2791AED9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4F7B4-C141-4803-9150-ECFD4362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8DC39-09E4-481C-874E-DBA869DA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AA243-0430-4914-AF86-C9302DE1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BBD05-7074-44FB-86C7-D7B48673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DF9A7-3739-40CB-B6FE-B4EFFB15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2A4C8-0973-4236-81B2-2A295083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17017-F20C-422F-9C51-E1ABFFB8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8541A-EEB2-4208-9C24-F5DF36D9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7BB-0B1E-4182-A3C3-964FF14E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5BEE3-214C-4E00-B6F8-7BC7E275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0BBC7-F240-40B3-B654-1A273C8C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31A01-19BD-4DE5-920E-36CC7BC9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F1144-A2C4-4ED1-92D1-D9467F01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052E2-8590-4FBB-A972-EB2342B3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FA6B3-6236-4EF1-A998-B2784304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28EE0-3A86-4D90-8974-112308EA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71552-A298-480B-BFB8-49EF588D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2F52F-CBE5-4555-94E6-48D25972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AEC9A-919B-4AF7-8573-6C18FCD0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A8A-39DC-42DC-B61A-F0554267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9263F-2285-4948-9A42-3575CC8F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5E5C6-DFBB-403C-B253-A2E03D2A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AEB91-3B5D-4D0A-A612-80C4A334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42CA2-DCA4-4A45-915D-4942497D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2559D-C559-4591-938C-BED0DF46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D9153-D06C-4BDB-AF12-07A14FE9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EE4FF-D15C-418B-9DDD-90BD6F4D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975F7-D973-41F1-A8B5-05C7A292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F5575-E45A-430D-A9C6-D046B147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97F6C-A189-47A6-B69B-3DDBC91B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65E2-01CC-4D05-8C12-D916A8BA9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2F96-7059-45E6-8770-F2ABBE5BE9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BFBF-DAAC-431D-86B8-DEB7936A4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022F-7BDB-4FA4-B5B3-78F66B9BDE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F8C1-3459-40DA-BB38-DE49AFA60F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6772-8BD2-43F7-85B3-83A9EE9DC1B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3D3D-9083-44EE-949A-CDE807FF0C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4535-653B-4D6A-BEEB-6548823ECE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EDA8-535E-479D-8EA2-E8317D7DD0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2608-FF64-41F5-9CA9-53CC50D2E8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A1CC-C6FA-4409-8861-CA97912331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F3F1-C09F-43C4-A481-2FF049C3045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E70E-FDE3-4512-A435-B77EF91E1F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2B74-69F1-49AD-8A6F-4A4360873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67C2-51ED-448D-8C5D-93790A783A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02C0-9980-498A-926F-7009B75F1D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1FF7-4A86-44FD-9C8E-9ADD653269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17F0-C746-4D7E-93D5-5914848A89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810A-8409-4ADC-ACEF-3A03854066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9C06-1742-46B5-8D08-DB8175B5E9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CD14-FE77-45FD-94D3-953D380467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FF22-4AEA-4597-BA39-10502D2C85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338A-11DC-4939-890E-B52973C2C5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0938-9FC1-4ED0-B1D3-3A8CF302D1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886B-E7B0-4B29-9B68-C6DB13418DD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ABE0-F79D-4545-99EC-411E08D77F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8.xm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5"/>
          <p:cNvGrpSpPr/>
          <p:nvPr/>
        </p:nvGrpSpPr>
        <p:grpSpPr>
          <a:xfrm>
            <a:off x="0" y="304920"/>
            <a:ext cx="10134360" cy="5578560"/>
            <a:chOff x="0" y="304920"/>
            <a:chExt cx="10134360" cy="5578560"/>
          </a:xfrm>
        </p:grpSpPr>
        <p:sp>
          <p:nvSpPr>
            <p:cNvPr id="575" name="Text Box 6"/>
            <p:cNvSpPr/>
            <p:nvPr/>
          </p:nvSpPr>
          <p:spPr>
            <a:xfrm>
              <a:off x="446400" y="5240880"/>
              <a:ext cx="708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81aea"/>
                  </a:solidFill>
                  <a:latin typeface="隶书"/>
                  <a:ea typeface="隶书"/>
                </a:rPr>
                <a:t>     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Rectangle 7"/>
            <p:cNvSpPr/>
            <p:nvPr/>
          </p:nvSpPr>
          <p:spPr>
            <a:xfrm>
              <a:off x="0" y="3667680"/>
              <a:ext cx="1013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     </a:t>
              </a:r>
              <a:r>
                <a:rPr b="1" lang="zh-CN" sz="3200" spc="-1" strike="noStrike">
                  <a:solidFill>
                    <a:srgbClr val="381aea"/>
                  </a:solidFill>
                  <a:latin typeface="Arial"/>
                  <a:ea typeface="黑体"/>
                </a:rPr>
                <a:t>资本主义运行机制调节的成功典范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7" name="Group 8"/>
            <p:cNvGrpSpPr/>
            <p:nvPr/>
          </p:nvGrpSpPr>
          <p:grpSpPr>
            <a:xfrm>
              <a:off x="1255320" y="304920"/>
              <a:ext cx="7532280" cy="3206520"/>
              <a:chOff x="1255320" y="304920"/>
              <a:chExt cx="7532280" cy="3206520"/>
            </a:xfrm>
          </p:grpSpPr>
          <p:sp>
            <p:nvSpPr>
              <p:cNvPr id="578" name="WordArt 9"/>
              <p:cNvSpPr txBox="1"/>
              <p:nvPr/>
            </p:nvSpPr>
            <p:spPr>
              <a:xfrm>
                <a:off x="1255320" y="304920"/>
                <a:ext cx="7532280" cy="250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0">
                      <a:noFill/>
                    </a:ln>
                    <a:solidFill>
                      <a:srgbClr val="0000ff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隶书"/>
                  </a:rPr>
                  <a:t>罗斯福新政</a:t>
                </a:r>
                <a:endPara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  <a:ea typeface="隶书"/>
                </a:endParaRPr>
              </a:p>
            </p:txBody>
          </p:sp>
          <p:sp>
            <p:nvSpPr>
              <p:cNvPr id="579" name="Text Box 10"/>
              <p:cNvSpPr/>
              <p:nvPr/>
            </p:nvSpPr>
            <p:spPr>
              <a:xfrm>
                <a:off x="1435320" y="2808000"/>
                <a:ext cx="511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66"/>
                    </a:solidFill>
                    <a:latin typeface="Arial"/>
                  </a:rPr>
                  <a:t>NEW DEAL</a:t>
                </a:r>
                <a:endParaRPr b="0" lang="en-US" sz="4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66"/>
              </a:solidFill>
              <a:latin typeface="Verdana"/>
              <a:ea typeface="宋体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838080" y="380880"/>
            <a:ext cx="7772400" cy="21657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ahoma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381aea"/>
                </a:solidFill>
                <a:latin typeface="Tahoma"/>
              </a:rPr>
              <a:t>有的学者认为：“罗斯福之所以取得了令人瞩目的成就，重要的原因就在于他拥有一个美国历史上独一无二的的‘智囊团’并能充分地发挥它的作用。”他的智囊团里有大学教授、社会工作者、工人活动家、律师、金融家等，正是这批智囊人物，成为罗斯福作出决策时的主要思想来源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角色扮演：假如在座的同学们是罗斯福的“智囊团”成员，请你们为罗斯福总统出谋划策。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Object 2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646" name="Object 3" descr=""/>
          <p:cNvPicPr/>
          <p:nvPr/>
        </p:nvPicPr>
        <p:blipFill>
          <a:blip r:embed="rId2"/>
          <a:stretch/>
        </p:blipFill>
        <p:spPr>
          <a:xfrm>
            <a:off x="-152280" y="3733920"/>
            <a:ext cx="3124080" cy="2882880"/>
          </a:xfrm>
          <a:prstGeom prst="rect">
            <a:avLst/>
          </a:prstGeom>
          <a:ln w="0">
            <a:noFill/>
          </a:ln>
        </p:spPr>
      </p:pic>
      <p:pic>
        <p:nvPicPr>
          <p:cNvPr id="647" name="Object 4" descr=""/>
          <p:cNvPicPr/>
          <p:nvPr/>
        </p:nvPicPr>
        <p:blipFill>
          <a:blip r:embed="rId3"/>
          <a:stretch/>
        </p:blipFill>
        <p:spPr>
          <a:xfrm>
            <a:off x="5867280" y="3809880"/>
            <a:ext cx="3276720" cy="2784600"/>
          </a:xfrm>
          <a:prstGeom prst="rect">
            <a:avLst/>
          </a:prstGeom>
          <a:ln w="0">
            <a:noFill/>
          </a:ln>
        </p:spPr>
      </p:pic>
      <p:pic>
        <p:nvPicPr>
          <p:cNvPr id="648" name="Object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28600" y="838080"/>
            <a:ext cx="2870280" cy="2210040"/>
          </a:xfrm>
          <a:prstGeom prst="rect">
            <a:avLst/>
          </a:prstGeom>
          <a:ln w="0">
            <a:noFill/>
          </a:ln>
        </p:spPr>
      </p:pic>
      <p:sp>
        <p:nvSpPr>
          <p:cNvPr id="649" name="Oval 6"/>
          <p:cNvSpPr/>
          <p:nvPr/>
        </p:nvSpPr>
        <p:spPr>
          <a:xfrm>
            <a:off x="3200400" y="2666880"/>
            <a:ext cx="2438280" cy="1981440"/>
          </a:xfrm>
          <a:prstGeom prst="ellipse">
            <a:avLst/>
          </a:prstGeom>
          <a:gradFill rotWithShape="0">
            <a:gsLst>
              <a:gs pos="0">
                <a:srgbClr val="7aa17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NEW DEAL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AutoShape 7"/>
          <p:cNvSpPr/>
          <p:nvPr/>
        </p:nvSpPr>
        <p:spPr>
          <a:xfrm rot="1825200">
            <a:off x="2666880" y="2514600"/>
            <a:ext cx="981360" cy="685800"/>
          </a:xfrm>
          <a:prstGeom prst="leftArrow">
            <a:avLst>
              <a:gd name="adj1" fmla="val 50000"/>
              <a:gd name="adj2" fmla="val 35774"/>
            </a:avLst>
          </a:prstGeom>
          <a:solidFill>
            <a:srgbClr val="7aa17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AutoShape 8"/>
          <p:cNvSpPr/>
          <p:nvPr/>
        </p:nvSpPr>
        <p:spPr>
          <a:xfrm rot="19578000">
            <a:off x="2666880" y="3962520"/>
            <a:ext cx="914400" cy="685800"/>
          </a:xfrm>
          <a:prstGeom prst="leftArrow">
            <a:avLst>
              <a:gd name="adj1" fmla="val 50000"/>
              <a:gd name="adj2" fmla="val 33333"/>
            </a:avLst>
          </a:prstGeom>
          <a:solidFill>
            <a:srgbClr val="7aa17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AutoShape 9"/>
          <p:cNvSpPr/>
          <p:nvPr/>
        </p:nvSpPr>
        <p:spPr>
          <a:xfrm rot="12142200">
            <a:off x="5409360" y="3885480"/>
            <a:ext cx="838440" cy="685800"/>
          </a:xfrm>
          <a:prstGeom prst="leftArrow">
            <a:avLst>
              <a:gd name="adj1" fmla="val 50000"/>
              <a:gd name="adj2" fmla="val 30564"/>
            </a:avLst>
          </a:prstGeom>
          <a:solidFill>
            <a:srgbClr val="7aa17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AutoShape 10"/>
          <p:cNvSpPr/>
          <p:nvPr/>
        </p:nvSpPr>
        <p:spPr>
          <a:xfrm rot="8559600">
            <a:off x="5257080" y="2514240"/>
            <a:ext cx="1066680" cy="685800"/>
          </a:xfrm>
          <a:prstGeom prst="leftArrow">
            <a:avLst>
              <a:gd name="adj1" fmla="val 50000"/>
              <a:gd name="adj2" fmla="val 38885"/>
            </a:avLst>
          </a:prstGeom>
          <a:solidFill>
            <a:srgbClr val="7aa17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0" y="0"/>
            <a:ext cx="2490840" cy="764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隶书"/>
                <a:ea typeface="隶书"/>
              </a:rPr>
              <a:t>出谋划策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250920" y="1447560"/>
            <a:ext cx="864216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1aea"/>
                </a:solidFill>
                <a:latin typeface="Verdana"/>
                <a:ea typeface="宋体"/>
              </a:rPr>
              <a:t>假如你是智囊团金融委员会成员，你将采取什么措施恢复银行的信誉，促进金融业的正常运行？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685800" y="3200400"/>
            <a:ext cx="662940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１）整顿银行业，克服金融危机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恢复银行信用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罗斯福就职后的第二天就下令全国银行一律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休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四天，随后国会通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紧急银行法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同时，由国家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拨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亿美元贷款给大银行，支持其开业，并成立“联邦储蓄保险公司”，对存款实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Verdana"/>
              </a:rPr>
              <a:t>政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Verdana"/>
              </a:rPr>
              <a:t>保险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Oval 6"/>
          <p:cNvSpPr/>
          <p:nvPr/>
        </p:nvSpPr>
        <p:spPr>
          <a:xfrm>
            <a:off x="7086600" y="5562720"/>
            <a:ext cx="2057400" cy="914400"/>
          </a:xfrm>
          <a:prstGeom prst="ellipse">
            <a:avLst/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81aea"/>
                </a:solidFill>
                <a:latin typeface="Verdana"/>
              </a:rPr>
              <a:t>返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假如你是智囊团工业委员会成员，你将如何解决产品过剩，恢复工业生产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228600" y="1523880"/>
            <a:ext cx="4267080" cy="1808280"/>
          </a:xfrm>
          <a:prstGeom prst="rect">
            <a:avLst/>
          </a:prstGeom>
          <a:gradFill rotWithShape="0">
            <a:gsLst>
              <a:gs pos="0">
                <a:srgbClr val="99cc00">
                  <a:alpha val="62352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515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1515"/>
                </a:solidFill>
                <a:latin typeface="Arial"/>
              </a:rPr>
              <a:t>（３）加强工业计划指导防止盲目竞争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81aea"/>
                </a:solidFill>
                <a:latin typeface="Times New Roman"/>
              </a:rPr>
              <a:t>1933</a:t>
            </a:r>
            <a:r>
              <a:rPr b="1" lang="zh-CN" sz="2400" spc="-1" strike="noStrike">
                <a:solidFill>
                  <a:srgbClr val="381aea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381aea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381aea"/>
                </a:solidFill>
                <a:latin typeface="Times New Roman"/>
              </a:rPr>
              <a:t>国家工业复兴法</a:t>
            </a:r>
            <a:r>
              <a:rPr b="1" lang="en-US" sz="2400" spc="-1" strike="noStrike">
                <a:solidFill>
                  <a:srgbClr val="381aea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381aea"/>
                </a:solidFill>
                <a:latin typeface="Times New Roman"/>
              </a:rPr>
              <a:t>：由政府</a:t>
            </a:r>
            <a:r>
              <a:rPr b="1" lang="zh-CN" sz="2400" spc="-1" strike="noStrike" u="sng">
                <a:solidFill>
                  <a:srgbClr val="381aea"/>
                </a:solidFill>
                <a:uFillTx/>
                <a:latin typeface="Times New Roman"/>
                <a:ea typeface="隶书"/>
              </a:rPr>
              <a:t>调节工业生产中的问题，</a:t>
            </a:r>
            <a:r>
              <a:rPr b="1" lang="zh-CN" sz="2400" spc="-1" strike="noStrike">
                <a:solidFill>
                  <a:srgbClr val="381aea"/>
                </a:solidFill>
                <a:latin typeface="Times New Roman"/>
              </a:rPr>
              <a:t>各个工业企业制订本行业的公平经营规章，规章确定各企业的生产规模、产品价格、销售市场的分配</a:t>
            </a:r>
            <a:r>
              <a:rPr b="1" lang="en-US" sz="2400" spc="-1" strike="noStrike">
                <a:solidFill>
                  <a:srgbClr val="381aea"/>
                </a:solidFill>
                <a:latin typeface="Times New Roman"/>
                <a:ea typeface="Times New Roman"/>
              </a:rPr>
              <a:t>……</a:t>
            </a:r>
            <a:r>
              <a:rPr b="1" lang="zh-CN" sz="2400" spc="-1" strike="noStrike">
                <a:solidFill>
                  <a:srgbClr val="381aea"/>
                </a:solidFill>
                <a:latin typeface="Times New Roman"/>
              </a:rPr>
              <a:t>凡是接受法规的企业，一律发给印有“我们尽我们的职责”的蓝鹰标志。     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1" name="Picture 5" descr="蓝鹰标志"/>
          <p:cNvPicPr/>
          <p:nvPr/>
        </p:nvPicPr>
        <p:blipFill>
          <a:blip r:embed="rId1"/>
          <a:stretch/>
        </p:blipFill>
        <p:spPr>
          <a:xfrm>
            <a:off x="4952880" y="1905120"/>
            <a:ext cx="3886200" cy="289548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8"/>
          <p:cNvSpPr/>
          <p:nvPr/>
        </p:nvSpPr>
        <p:spPr>
          <a:xfrm>
            <a:off x="5181480" y="5105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蓝鹰标志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Oval 9"/>
          <p:cNvSpPr/>
          <p:nvPr/>
        </p:nvSpPr>
        <p:spPr>
          <a:xfrm>
            <a:off x="6781680" y="5943600"/>
            <a:ext cx="1676520" cy="914400"/>
          </a:xfrm>
          <a:prstGeom prst="ellipse">
            <a:avLst/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81aea"/>
                </a:solidFill>
                <a:latin typeface="Verdana"/>
              </a:rPr>
              <a:t>返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假如你是智囊团农业委员会成员，你将如何提高农产品价格，增加农民收入？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380880" y="3124080"/>
            <a:ext cx="51055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２）调整农业政策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稳定农产品价格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3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农业调整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：减少耕地，缩小现有的耕地面积，屠宰大批牲畜，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</a:rPr>
              <a:t>政府来补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农民的经济损失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6" name="Picture 5" descr="002"/>
          <p:cNvPicPr/>
          <p:nvPr/>
        </p:nvPicPr>
        <p:blipFill>
          <a:blip r:embed="rId1"/>
          <a:srcRect l="0" t="0" r="52" b="-46"/>
          <a:stretch/>
        </p:blipFill>
        <p:spPr>
          <a:xfrm>
            <a:off x="5486400" y="2666880"/>
            <a:ext cx="3352680" cy="2819520"/>
          </a:xfrm>
          <a:prstGeom prst="rect">
            <a:avLst/>
          </a:prstGeom>
          <a:ln w="0">
            <a:noFill/>
          </a:ln>
        </p:spPr>
      </p:pic>
      <p:sp>
        <p:nvSpPr>
          <p:cNvPr id="667" name="Oval 6"/>
          <p:cNvSpPr/>
          <p:nvPr/>
        </p:nvSpPr>
        <p:spPr>
          <a:xfrm>
            <a:off x="7010280" y="5638680"/>
            <a:ext cx="1676520" cy="990720"/>
          </a:xfrm>
          <a:prstGeom prst="ellipse">
            <a:avLst/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81aea"/>
                </a:solidFill>
                <a:latin typeface="Verdana"/>
              </a:rPr>
              <a:t>返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50920" y="228240"/>
            <a:ext cx="8642160" cy="1523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515"/>
                </a:solidFill>
                <a:latin typeface="Verdana"/>
                <a:ea typeface="宋体"/>
              </a:rPr>
              <a:t>假如你是智囊团社会福利和就业委员会成员，为了缓解社会矛盾，你将如何进行救济和解决就业问题？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670" name="Picture 4" descr="K12SC0000009008"/>
          <p:cNvPicPr/>
          <p:nvPr/>
        </p:nvPicPr>
        <p:blipFill>
          <a:blip r:embed="rId1"/>
          <a:stretch/>
        </p:blipFill>
        <p:spPr>
          <a:xfrm>
            <a:off x="22860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5"/>
          <p:cNvSpPr/>
          <p:nvPr/>
        </p:nvSpPr>
        <p:spPr>
          <a:xfrm>
            <a:off x="5580000" y="1676520"/>
            <a:ext cx="3203640" cy="776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515"/>
                </a:solidFill>
                <a:latin typeface="Times New Roman"/>
                <a:ea typeface="黑体"/>
              </a:rPr>
              <a:t>（４）举办救济和公共工程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5435640" y="3200400"/>
            <a:ext cx="3398760" cy="116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国会拨款７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5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亿美元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建造田纳西水利工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5334120" y="4941720"/>
            <a:ext cx="3517920" cy="861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方正姚体"/>
              </a:rPr>
              <a:t>增加就业刺激消费稳定社会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179280" y="457200"/>
            <a:ext cx="8964720" cy="1557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93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会保险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政府实行养老金和失业保险制度，对儿童、残疾人、无谋生能力者提供救济。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0" y="3124080"/>
            <a:ext cx="58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）建立社会保障体系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743120" y="573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608200" y="581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895680" y="42670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方正姚体"/>
              </a:rPr>
              <a:t>稳定社会，早日摆脱危机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79" name="Picture 13" descr="003"/>
          <p:cNvPicPr/>
          <p:nvPr/>
        </p:nvPicPr>
        <p:blipFill>
          <a:blip r:embed="rId1"/>
          <a:srcRect l="0" t="0" r="12" b="-13"/>
          <a:stretch/>
        </p:blipFill>
        <p:spPr>
          <a:xfrm>
            <a:off x="5334120" y="2209680"/>
            <a:ext cx="3649680" cy="335772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14"/>
          <p:cNvSpPr/>
          <p:nvPr/>
        </p:nvSpPr>
        <p:spPr>
          <a:xfrm>
            <a:off x="4876920" y="6019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美国公民领取的失业保险卡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罗斯福新政（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New Deal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）的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755640" y="3933720"/>
            <a:ext cx="57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304920" y="1143000"/>
            <a:ext cx="8588160" cy="3505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84313"/>
                </a:srgbClr>
              </a:gs>
            </a:gsLst>
            <a:lin ang="18900000"/>
          </a:gradFill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三Ｒ”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即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515"/>
                </a:solidFill>
                <a:latin typeface="Verdana"/>
                <a:ea typeface="宋体"/>
              </a:rPr>
              <a:t>救济（</a:t>
            </a:r>
            <a:r>
              <a:rPr b="1" lang="en-US" sz="3200" spc="-1" strike="noStrike">
                <a:solidFill>
                  <a:srgbClr val="ff1515"/>
                </a:solidFill>
                <a:latin typeface="Verdana"/>
                <a:ea typeface="宋体"/>
              </a:rPr>
              <a:t>Relief</a:t>
            </a:r>
            <a:r>
              <a:rPr b="1" lang="zh-CN" sz="3200" spc="-1" strike="noStrike">
                <a:solidFill>
                  <a:srgbClr val="ff1515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──指救助急需帮助的大批失业者和贫民；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复兴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Recover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──是指为失业者提供工作机会，使陷入萧条的经济恢复运转；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改革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Reform)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──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是指采取长远措施改善全国总体经济状况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4920" y="4800600"/>
            <a:ext cx="8496360" cy="1650960"/>
          </a:xfrm>
          <a:prstGeom prst="rect">
            <a:avLst/>
          </a:prstGeom>
          <a:noFill/>
          <a:ln w="6984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分为两个阶段：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第一阶段：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933~193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年，着重调整与复兴经济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第二阶段：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93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年以后，着重改革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实施救济贯穿新政全过程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5" name="Oval 6"/>
          <p:cNvSpPr/>
          <p:nvPr/>
        </p:nvSpPr>
        <p:spPr>
          <a:xfrm>
            <a:off x="6477120" y="5562720"/>
            <a:ext cx="1676160" cy="761760"/>
          </a:xfrm>
          <a:prstGeom prst="ellipse">
            <a:avLst/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6264360"/>
          </a:xfrm>
          <a:prstGeom prst="rect">
            <a:avLst/>
          </a:prstGeom>
          <a:gradFill rotWithShape="0">
            <a:gsLst>
              <a:gs pos="0">
                <a:srgbClr val="e0f9f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00"/>
                </a:solidFill>
                <a:latin typeface="Verdana"/>
                <a:ea typeface="宋体"/>
              </a:rPr>
              <a:t>三、对罗斯福新政的评价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669900"/>
                </a:solidFill>
                <a:latin typeface="Verdana"/>
                <a:ea typeface="宋体"/>
              </a:rPr>
              <a:t>、实质：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进步性：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 ⑴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直接影响：使美国度过了经济大危机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 ⑵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间接影响：很大程度上缓和了美国的社会矛盾；   改善了美国人的生活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⑶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楷体_GB2312"/>
              </a:rPr>
              <a:t>深远影响：开创了国家干预经济的模式，形成了国家垄断资本主义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7" name="Oval 4"/>
          <p:cNvSpPr/>
          <p:nvPr/>
        </p:nvSpPr>
        <p:spPr>
          <a:xfrm>
            <a:off x="7162920" y="5562720"/>
            <a:ext cx="1523880" cy="914400"/>
          </a:xfrm>
          <a:prstGeom prst="ellipse">
            <a:avLst/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Text Box 7"/>
          <p:cNvSpPr/>
          <p:nvPr/>
        </p:nvSpPr>
        <p:spPr>
          <a:xfrm>
            <a:off x="2590920" y="1066680"/>
            <a:ext cx="5867280" cy="82548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是在坚持资本主义民主制度的前提下，加强国家对经济的干预与管理，是对资本主义生产关系的一次成功调整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683400" cy="868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81aea"/>
                </a:solidFill>
                <a:latin typeface="Arial"/>
                <a:ea typeface="创艺简魏碑"/>
              </a:rPr>
              <a:t>探究一：新政“新”在那里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64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新的政策</a:t>
            </a:r>
            <a:r>
              <a:rPr b="1" lang="zh-CN" sz="3200" spc="-1" strike="noStrike">
                <a:solidFill>
                  <a:srgbClr val="ff1515"/>
                </a:solidFill>
                <a:latin typeface="Verdana"/>
                <a:ea typeface="宋体"/>
              </a:rPr>
              <a:t>：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0" y="2666880"/>
            <a:ext cx="875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⑵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新的模式：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0" y="37339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⑶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新的起点：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3124080" y="19051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2651040" y="1774800"/>
            <a:ext cx="45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1aea"/>
                </a:solidFill>
                <a:latin typeface="Arial"/>
              </a:rPr>
              <a:t>新的理论和政策，放弃自由放任传统政策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2286000" y="301608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1aea"/>
                </a:solidFill>
                <a:latin typeface="Arial"/>
              </a:rPr>
              <a:t>开创了国家干预经济的新模式，实行一些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1aea"/>
                </a:solidFill>
                <a:latin typeface="Arial"/>
              </a:rPr>
              <a:t>有利于平民的措施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2270160" y="4441680"/>
            <a:ext cx="504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1aea"/>
                </a:solidFill>
                <a:latin typeface="Arial"/>
              </a:rPr>
              <a:t>资本主义制度获得新生，继续发展新起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5">
            <a:hlinkClick r:id="rId1" action="ppaction://hlinksldjump"/>
          </p:cNvPr>
          <p:cNvSpPr/>
          <p:nvPr/>
        </p:nvSpPr>
        <p:spPr>
          <a:xfrm>
            <a:off x="2133720" y="1600200"/>
            <a:ext cx="2819160" cy="520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新政的背景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3200400" y="2133720"/>
            <a:ext cx="431640" cy="609480"/>
          </a:xfrm>
          <a:prstGeom prst="downArrow">
            <a:avLst>
              <a:gd name="adj1" fmla="val 50000"/>
              <a:gd name="adj2" fmla="val 353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7">
            <a:hlinkClick r:id="rId2" action="ppaction://hlinksldjump"/>
          </p:cNvPr>
          <p:cNvSpPr/>
          <p:nvPr/>
        </p:nvSpPr>
        <p:spPr>
          <a:xfrm>
            <a:off x="2133720" y="2819520"/>
            <a:ext cx="2981160" cy="520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新政的内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Rectangle 8">
            <a:hlinkClick r:id="rId3" action="ppaction://hlinksldjump"/>
          </p:cNvPr>
          <p:cNvSpPr/>
          <p:nvPr/>
        </p:nvSpPr>
        <p:spPr>
          <a:xfrm>
            <a:off x="2209680" y="4038480"/>
            <a:ext cx="2819520" cy="520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新政的评价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AutoShape 9"/>
          <p:cNvSpPr/>
          <p:nvPr/>
        </p:nvSpPr>
        <p:spPr>
          <a:xfrm>
            <a:off x="3200400" y="3505320"/>
            <a:ext cx="431640" cy="533160"/>
          </a:xfrm>
          <a:prstGeom prst="downArrow">
            <a:avLst>
              <a:gd name="adj1" fmla="val 50000"/>
              <a:gd name="adj2" fmla="val 3088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Rectangle 13"/>
          <p:cNvSpPr/>
          <p:nvPr/>
        </p:nvSpPr>
        <p:spPr>
          <a:xfrm flipH="1">
            <a:off x="761400" y="1447920"/>
            <a:ext cx="685800" cy="4724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8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课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罗斯福新政</a:t>
            </a: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Verdana"/>
              </a:rPr>
              <a:t>           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AutoShape 14"/>
          <p:cNvSpPr/>
          <p:nvPr/>
        </p:nvSpPr>
        <p:spPr>
          <a:xfrm>
            <a:off x="1619280" y="1125360"/>
            <a:ext cx="144360" cy="4969080"/>
          </a:xfrm>
          <a:custGeom>
            <a:avLst/>
            <a:gdLst>
              <a:gd name="textAreaLeft" fmla="*/ 92160 w 144360"/>
              <a:gd name="textAreaRight" fmla="*/ 144360 w 144360"/>
              <a:gd name="textAreaTop" fmla="*/ 129600 h 4969080"/>
              <a:gd name="textAreaBottom" fmla="*/ 4839480 h 49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7" name="Picture 15" descr="xinzheng"/>
          <p:cNvPicPr/>
          <p:nvPr/>
        </p:nvPicPr>
        <p:blipFill>
          <a:blip r:embed="rId5"/>
          <a:stretch/>
        </p:blipFill>
        <p:spPr>
          <a:xfrm>
            <a:off x="5943600" y="1600200"/>
            <a:ext cx="2819520" cy="403848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16">
            <a:hlinkClick r:id="rId6" action="ppaction://hlinksldjump"/>
          </p:cNvPr>
          <p:cNvSpPr/>
          <p:nvPr/>
        </p:nvSpPr>
        <p:spPr>
          <a:xfrm>
            <a:off x="2209680" y="5486400"/>
            <a:ext cx="2971800" cy="52056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问题探究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AutoShape 17"/>
          <p:cNvSpPr/>
          <p:nvPr/>
        </p:nvSpPr>
        <p:spPr>
          <a:xfrm>
            <a:off x="3200400" y="4800600"/>
            <a:ext cx="431640" cy="533520"/>
          </a:xfrm>
          <a:prstGeom prst="downArrow">
            <a:avLst>
              <a:gd name="adj1" fmla="val 50000"/>
              <a:gd name="adj2" fmla="val 3090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00"/>
            </a:gs>
            <a:gs pos="100000">
              <a:srgbClr val="e0f9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395280" y="765000"/>
            <a:ext cx="5954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探究二：阅读材料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1403280" y="7650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材料：作为一个国家，我们拒绝了任何彻底的革命计划。为了永远地纠正我们经济制度中的严重缺点，我们依靠的是旧民主秩序的新应用。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──罗 斯 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258920" y="2781360"/>
            <a:ext cx="7086600" cy="776160"/>
          </a:xfrm>
          <a:prstGeom prst="rect">
            <a:avLst/>
          </a:prstGeom>
          <a:gradFill rotWithShape="0">
            <a:gsLst>
              <a:gs pos="0">
                <a:srgbClr val="ff151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、所谓“彻底的革命”是指什么？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258920" y="4076640"/>
            <a:ext cx="5473800" cy="776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旧民主秩序”是指什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1908000" y="3645000"/>
            <a:ext cx="5334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废除资本主义制度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1908000" y="4941720"/>
            <a:ext cx="5334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资本主义民主制度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838080" y="5562720"/>
            <a:ext cx="8305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由此可见，罗斯福新政的前提是什么？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Text Box 9"/>
          <p:cNvSpPr/>
          <p:nvPr/>
        </p:nvSpPr>
        <p:spPr>
          <a:xfrm>
            <a:off x="611280" y="615636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维护资本主义制度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Object 2" descr=""/>
          <p:cNvPicPr/>
          <p:nvPr/>
        </p:nvPicPr>
        <p:blipFill>
          <a:blip r:embed="rId1"/>
          <a:stretch/>
        </p:blipFill>
        <p:spPr>
          <a:xfrm>
            <a:off x="7236000" y="1523880"/>
            <a:ext cx="1944360" cy="23367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3" descr=""/>
          <p:cNvPicPr/>
          <p:nvPr/>
        </p:nvPicPr>
        <p:blipFill>
          <a:blip r:embed="rId2"/>
          <a:stretch/>
        </p:blipFill>
        <p:spPr>
          <a:xfrm>
            <a:off x="7232760" y="4437000"/>
            <a:ext cx="1911240" cy="242100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4"/>
          <p:cNvSpPr/>
          <p:nvPr/>
        </p:nvSpPr>
        <p:spPr>
          <a:xfrm>
            <a:off x="108000" y="83664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马：小罗，最近很忙吧。天国也有点乱啊。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108000" y="1484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罗：噢，为啥？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179280" y="22096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马：因为你啊。列宁跑来说，社会主义大有希望啊。亚当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斯密最近都不来串门了。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304920" y="380988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罗：哈哈。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Rectangle 8"/>
          <p:cNvSpPr/>
          <p:nvPr/>
        </p:nvSpPr>
        <p:spPr>
          <a:xfrm>
            <a:off x="179280" y="46116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马：看了你的新政，起先我倒真地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心动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过，后来开始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心忧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了，甚至还有点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心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起来。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WordArt 9"/>
          <p:cNvSpPr txBox="1"/>
          <p:nvPr/>
        </p:nvSpPr>
        <p:spPr>
          <a:xfrm>
            <a:off x="3048120" y="3962520"/>
            <a:ext cx="4822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段穿越时空隧道的对话</a:t>
            </a:r>
            <a:endParaRPr b="0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3" name="Text Box 10"/>
          <p:cNvSpPr/>
          <p:nvPr/>
        </p:nvSpPr>
        <p:spPr>
          <a:xfrm>
            <a:off x="0" y="228600"/>
            <a:ext cx="8008920" cy="703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行楷"/>
              </a:rPr>
              <a:t>探究三：罗斯福是共产主义者吗？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108000" y="8380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罗：哦？呵呵。虽然有些工人领袖认为看到了美国从“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USA”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变为“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USSA”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希望，虽然有的人叫嚷着要实行法西斯，虽然最高法院的确宣布很多新政法令违宪，但是，作为一个国家，我们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179280" y="3645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拒绝了任何彻底的革命计划，为了永远地纠正我们经济制度的严重缺点，我们依靠的是旧民主秩序的新运用。”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7093080" y="5734080"/>
            <a:ext cx="158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3"/>
          <p:cNvSpPr/>
          <p:nvPr/>
        </p:nvSpPr>
        <p:spPr>
          <a:xfrm>
            <a:off x="304920" y="1676520"/>
            <a:ext cx="426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文鼎谁的字体"/>
                <a:ea typeface="文鼎谁的字体"/>
              </a:rPr>
              <a:t>    </a:t>
            </a:r>
            <a:r>
              <a:rPr b="1" lang="zh-CN" sz="2800" spc="-1" strike="noStrike">
                <a:solidFill>
                  <a:srgbClr val="381aea"/>
                </a:solidFill>
                <a:latin typeface="创艺简魏碑"/>
                <a:ea typeface="文鼎谁的字体"/>
              </a:rPr>
              <a:t>罗斯福</a:t>
            </a:r>
            <a:r>
              <a:rPr b="1" lang="zh-CN" sz="2800" spc="-1" strike="noStrike">
                <a:solidFill>
                  <a:srgbClr val="381aea"/>
                </a:solidFill>
                <a:latin typeface="创艺繁超黑"/>
                <a:ea typeface="文鼎谁的字体"/>
              </a:rPr>
              <a:t>，一位出身高贵的总统，一位腿部残疾的总统，一位空前绝后的总统，一位最终成就了伟业的总统，他的成功得益于他的优秀品质。你觉得他的哪些优秀品质支撑起他的成功？或许这正是我们实现梦想所需要的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18" name="Picture 6" descr="罗斯福（哈佛气派）"/>
          <p:cNvPicPr/>
          <p:nvPr/>
        </p:nvPicPr>
        <p:blipFill>
          <a:blip r:embed="rId1"/>
          <a:stretch/>
        </p:blipFill>
        <p:spPr>
          <a:xfrm>
            <a:off x="5029200" y="1600200"/>
            <a:ext cx="3048120" cy="388620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8"/>
          <p:cNvGrpSpPr/>
          <p:nvPr/>
        </p:nvGrpSpPr>
        <p:grpSpPr>
          <a:xfrm>
            <a:off x="6629400" y="76320"/>
            <a:ext cx="2514600" cy="1066680"/>
            <a:chOff x="6629400" y="76320"/>
            <a:chExt cx="2514600" cy="1066680"/>
          </a:xfrm>
        </p:grpSpPr>
        <p:sp>
          <p:nvSpPr>
            <p:cNvPr id="720" name="Oval 9"/>
            <p:cNvSpPr/>
            <p:nvPr/>
          </p:nvSpPr>
          <p:spPr>
            <a:xfrm>
              <a:off x="6629400" y="76320"/>
              <a:ext cx="2514600" cy="1066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1" name="WordArt 10"/>
            <p:cNvSpPr txBox="1"/>
            <p:nvPr/>
          </p:nvSpPr>
          <p:spPr>
            <a:xfrm>
              <a:off x="6781680" y="228600"/>
              <a:ext cx="22096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398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00ff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各抒己见</a:t>
              </a:r>
              <a:endParaRPr b="1" lang="en-US" sz="40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p:transition>
    <p:zoom dir="ou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15" descr="罗斯福（哈佛气派）"/>
          <p:cNvPicPr/>
          <p:nvPr/>
        </p:nvPicPr>
        <p:blipFill>
          <a:blip r:embed="rId1"/>
          <a:stretch/>
        </p:blipFill>
        <p:spPr>
          <a:xfrm>
            <a:off x="152280" y="0"/>
            <a:ext cx="2549520" cy="259092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4"/>
          <p:cNvSpPr/>
          <p:nvPr/>
        </p:nvSpPr>
        <p:spPr>
          <a:xfrm>
            <a:off x="2819520" y="228600"/>
            <a:ext cx="5410080" cy="885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ahoma"/>
                <a:ea typeface="华文行楷"/>
              </a:rPr>
              <a:t>罗斯福总统有哪些优秀品质？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0" y="27432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1aea"/>
                </a:solidFill>
                <a:latin typeface="Tahoma"/>
                <a:ea typeface="楷体_GB2312"/>
              </a:rPr>
              <a:t>◆</a:t>
            </a:r>
            <a:r>
              <a:rPr b="1" lang="zh-CN" sz="3200" spc="-1" strike="noStrike">
                <a:solidFill>
                  <a:srgbClr val="381aea"/>
                </a:solidFill>
                <a:latin typeface="Tahoma"/>
                <a:ea typeface="楷体_GB2312"/>
              </a:rPr>
              <a:t>身残志坚</a:t>
            </a:r>
            <a:r>
              <a:rPr b="1" lang="zh-CN" sz="2800" spc="-1" strike="noStrike">
                <a:solidFill>
                  <a:srgbClr val="381aea"/>
                </a:solidFill>
                <a:latin typeface="Arial"/>
              </a:rPr>
              <a:t>敢于直面困难、自信、果敢、信念坚定、乐观豁达、爱国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81aea"/>
                </a:solidFill>
                <a:latin typeface="Tahoma"/>
              </a:rPr>
              <a:t>◆</a:t>
            </a:r>
            <a:r>
              <a:rPr b="1" lang="zh-CN" sz="3200" spc="-1" strike="noStrike">
                <a:solidFill>
                  <a:srgbClr val="381aea"/>
                </a:solidFill>
                <a:latin typeface="Tahoma"/>
                <a:ea typeface="楷体_GB2312"/>
              </a:rPr>
              <a:t>关注社会弱势群体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81aea"/>
                </a:solidFill>
                <a:latin typeface="Tahoma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381aea"/>
                </a:solidFill>
                <a:latin typeface="Arial"/>
              </a:rPr>
              <a:t>勇于创新</a:t>
            </a:r>
            <a:r>
              <a:rPr b="1" lang="zh-CN" sz="3200" spc="-1" strike="noStrike">
                <a:solidFill>
                  <a:srgbClr val="381aea"/>
                </a:solidFill>
                <a:latin typeface="Tahoma"/>
                <a:ea typeface="楷体_GB2312"/>
              </a:rPr>
              <a:t>有政治远见</a:t>
            </a:r>
            <a:r>
              <a:rPr b="1" lang="zh-CN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381aea"/>
                </a:solidFill>
                <a:latin typeface="Tahoma"/>
                <a:ea typeface="楷体_GB2312"/>
              </a:rPr>
              <a:t>实施新政，使美国经济走出低谷，形成了国家垄断资本主义，影响深远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81aea"/>
                </a:solidFill>
                <a:latin typeface="Tahoma"/>
                <a:ea typeface="楷体_GB2312"/>
              </a:rPr>
              <a:t>◆</a:t>
            </a:r>
            <a:r>
              <a:rPr b="1" lang="zh-CN" sz="3200" spc="-1" strike="noStrike">
                <a:solidFill>
                  <a:srgbClr val="381aea"/>
                </a:solidFill>
                <a:latin typeface="Tahoma"/>
                <a:ea typeface="楷体_GB2312"/>
              </a:rPr>
              <a:t>富有正义性，参加反法西斯战争，帮助世界实现了和平与安全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81aea"/>
                </a:solidFill>
                <a:latin typeface="Tahoma"/>
              </a:rPr>
              <a:t>◆</a:t>
            </a:r>
            <a:r>
              <a:rPr b="0" lang="zh-CN" sz="1800" spc="-1" strike="noStrike">
                <a:solidFill>
                  <a:srgbClr val="381aea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81aea"/>
                </a:solidFill>
                <a:latin typeface="Tahoma"/>
                <a:ea typeface="楷体_GB2312"/>
              </a:rPr>
              <a:t>…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5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72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3"/>
          <p:cNvSpPr/>
          <p:nvPr/>
        </p:nvSpPr>
        <p:spPr>
          <a:xfrm>
            <a:off x="3048120" y="2286000"/>
            <a:ext cx="685800" cy="2440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Garamond"/>
              </a:rPr>
              <a:t>经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Garamond"/>
              </a:rPr>
              <a:t>济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Garamond"/>
              </a:rPr>
              <a:t>危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Garamond"/>
              </a:rPr>
              <a:t>机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3657600" y="2895480"/>
            <a:ext cx="1600200" cy="114300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00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Garamond"/>
              </a:rPr>
              <a:t>胡佛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Oval 5"/>
          <p:cNvSpPr/>
          <p:nvPr/>
        </p:nvSpPr>
        <p:spPr>
          <a:xfrm>
            <a:off x="5410080" y="2743200"/>
            <a:ext cx="2057400" cy="1584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Garamond"/>
              </a:rPr>
              <a:t>自由放任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Garamond"/>
              </a:rPr>
              <a:t>（失败）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93" name="Group 6"/>
          <p:cNvGrpSpPr/>
          <p:nvPr/>
        </p:nvGrpSpPr>
        <p:grpSpPr>
          <a:xfrm>
            <a:off x="7620120" y="2057400"/>
            <a:ext cx="1218600" cy="2742840"/>
            <a:chOff x="7620120" y="2057400"/>
            <a:chExt cx="1218600" cy="2742840"/>
          </a:xfrm>
        </p:grpSpPr>
        <p:sp>
          <p:nvSpPr>
            <p:cNvPr id="594" name="Line 7"/>
            <p:cNvSpPr/>
            <p:nvPr/>
          </p:nvSpPr>
          <p:spPr>
            <a:xfrm>
              <a:off x="7620120" y="3490200"/>
              <a:ext cx="525960" cy="0"/>
            </a:xfrm>
            <a:prstGeom prst="line">
              <a:avLst/>
            </a:prstGeom>
            <a:ln w="63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8145000" y="2057400"/>
              <a:ext cx="693720" cy="274284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Garamond"/>
                </a:rPr>
                <a:t>加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Garamond"/>
                </a:rPr>
                <a:t>深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Garamond"/>
                </a:rPr>
                <a:t>危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Garamond"/>
                </a:rPr>
                <a:t>机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403680" cy="1066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大萧条 </a:t>
            </a:r>
            <a:br>
              <a:rPr sz="4000"/>
            </a:b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the Great Depre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2206800" y="25830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13"/>
          <p:cNvSpPr/>
          <p:nvPr/>
        </p:nvSpPr>
        <p:spPr>
          <a:xfrm>
            <a:off x="304920" y="5562720"/>
            <a:ext cx="4267080" cy="459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胡佛（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929-1933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年在任）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4"/>
          <p:cNvSpPr/>
          <p:nvPr/>
        </p:nvSpPr>
        <p:spPr>
          <a:xfrm>
            <a:off x="4572000" y="5410080"/>
            <a:ext cx="3962520" cy="76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谁来拯救美国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0" name="Picture 15" descr="胡佛"/>
          <p:cNvPicPr/>
          <p:nvPr/>
        </p:nvPicPr>
        <p:blipFill>
          <a:blip r:embed="rId2"/>
          <a:stretch/>
        </p:blipFill>
        <p:spPr>
          <a:xfrm>
            <a:off x="609480" y="2362320"/>
            <a:ext cx="2476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4137120" y="0"/>
            <a:ext cx="50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他是一位身残志坚的美国总统；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4140360" y="306864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他击败胡佛，实施新政</a:t>
            </a:r>
            <a:r>
              <a:rPr b="1" lang="en-US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开了国家干预经济的新模式。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138560" y="1341360"/>
            <a:ext cx="50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他是唯一一位连任四届的美国总统</a:t>
            </a:r>
            <a:r>
              <a:rPr b="1" lang="en-US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(1933-1945)</a:t>
            </a: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；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3564000" y="479736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他是继华盛顿</a:t>
            </a: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66"/>
                </a:solidFill>
                <a:latin typeface="华文细黑"/>
                <a:ea typeface="华文细黑"/>
              </a:rPr>
              <a:t>林肯后最受美国公众欢迎的美国总统。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154400" cy="54975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4152960" cy="551664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8"/>
          <p:cNvSpPr/>
          <p:nvPr/>
        </p:nvSpPr>
        <p:spPr>
          <a:xfrm>
            <a:off x="395280" y="56671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富兰克林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黑体"/>
              </a:rPr>
              <a:t>•</a:t>
            </a: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罗斯福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(1882--1945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0" descr="白宫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胡佛"/>
          <p:cNvPicPr/>
          <p:nvPr/>
        </p:nvPicPr>
        <p:blipFill>
          <a:blip r:embed="rId2"/>
          <a:stretch/>
        </p:blipFill>
        <p:spPr>
          <a:xfrm>
            <a:off x="685800" y="3352680"/>
            <a:ext cx="2476440" cy="31244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2" descr="pic_73807"/>
          <p:cNvPicPr/>
          <p:nvPr/>
        </p:nvPicPr>
        <p:blipFill>
          <a:blip r:embed="rId3"/>
          <a:stretch/>
        </p:blipFill>
        <p:spPr>
          <a:xfrm>
            <a:off x="6095880" y="3352680"/>
            <a:ext cx="2374920" cy="3124440"/>
          </a:xfrm>
          <a:prstGeom prst="rect">
            <a:avLst/>
          </a:prstGeom>
          <a:ln w="0">
            <a:noFill/>
          </a:ln>
        </p:spPr>
      </p:pic>
      <p:sp>
        <p:nvSpPr>
          <p:cNvPr id="611" name="AutoShape 13"/>
          <p:cNvSpPr/>
          <p:nvPr/>
        </p:nvSpPr>
        <p:spPr>
          <a:xfrm>
            <a:off x="5791320" y="152280"/>
            <a:ext cx="3352680" cy="2667240"/>
          </a:xfrm>
          <a:prstGeom prst="cloudCallout">
            <a:avLst>
              <a:gd name="adj1" fmla="val -33523"/>
              <a:gd name="adj2" fmla="val 75652"/>
            </a:avLst>
          </a:prstGeom>
          <a:solidFill>
            <a:srgbClr val="cc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6248520" y="3967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如果竞选成功，我保证将为美国人民实行新政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!</a:t>
            </a:r>
            <a:r>
              <a:rPr b="1" lang="en-US" sz="3200" spc="-1" strike="noStrike">
                <a:solidFill>
                  <a:srgbClr val="381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-605520" y="43434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胡佛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7776360" y="3962520"/>
            <a:ext cx="1399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罗斯福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AutoShape 14"/>
          <p:cNvSpPr/>
          <p:nvPr/>
        </p:nvSpPr>
        <p:spPr>
          <a:xfrm>
            <a:off x="0" y="304920"/>
            <a:ext cx="4191120" cy="2590560"/>
          </a:xfrm>
          <a:prstGeom prst="cloudCallout">
            <a:avLst>
              <a:gd name="adj1" fmla="val -26287"/>
              <a:gd name="adj2" fmla="val 78861"/>
            </a:avLst>
          </a:prstGeom>
          <a:solidFill>
            <a:srgbClr val="ff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Text Box 9"/>
          <p:cNvSpPr/>
          <p:nvPr/>
        </p:nvSpPr>
        <p:spPr>
          <a:xfrm>
            <a:off x="609480" y="53352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最好的经济是完全自由的市场经济，最好的政府是不干预经济的政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AutoShape 25"/>
          <p:cNvSpPr/>
          <p:nvPr/>
        </p:nvSpPr>
        <p:spPr>
          <a:xfrm>
            <a:off x="3200400" y="4800600"/>
            <a:ext cx="1066680" cy="48564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AutoShape 26"/>
          <p:cNvSpPr/>
          <p:nvPr/>
        </p:nvSpPr>
        <p:spPr>
          <a:xfrm rot="10800000">
            <a:off x="4876560" y="4771800"/>
            <a:ext cx="1066680" cy="48564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9" name="Group 34"/>
          <p:cNvGrpSpPr/>
          <p:nvPr/>
        </p:nvGrpSpPr>
        <p:grpSpPr>
          <a:xfrm>
            <a:off x="762120" y="5791320"/>
            <a:ext cx="7696080" cy="838080"/>
            <a:chOff x="762120" y="5791320"/>
            <a:chExt cx="7696080" cy="838080"/>
          </a:xfrm>
        </p:grpSpPr>
        <p:sp>
          <p:nvSpPr>
            <p:cNvPr id="620" name="AutoShape 33"/>
            <p:cNvSpPr/>
            <p:nvPr/>
          </p:nvSpPr>
          <p:spPr>
            <a:xfrm>
              <a:off x="762120" y="5791320"/>
              <a:ext cx="7696080" cy="83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1" name="Text Box 32"/>
            <p:cNvSpPr/>
            <p:nvPr/>
          </p:nvSpPr>
          <p:spPr>
            <a:xfrm>
              <a:off x="1600200" y="5791320"/>
              <a:ext cx="63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1515"/>
                  </a:solidFill>
                  <a:latin typeface="Tahoma"/>
                </a:rPr>
                <a:t>如果你是一位生活在</a:t>
              </a:r>
              <a:r>
                <a:rPr b="1" lang="en-US" sz="2400" spc="-1" strike="noStrike">
                  <a:solidFill>
                    <a:srgbClr val="ff1515"/>
                  </a:solidFill>
                  <a:latin typeface="Tahoma"/>
                </a:rPr>
                <a:t>20</a:t>
              </a:r>
              <a:r>
                <a:rPr b="1" lang="zh-CN" sz="2400" spc="-1" strike="noStrike">
                  <a:solidFill>
                    <a:srgbClr val="ff1515"/>
                  </a:solidFill>
                  <a:latin typeface="Tahoma"/>
                </a:rPr>
                <a:t>世纪</a:t>
              </a:r>
              <a:r>
                <a:rPr b="1" lang="en-US" sz="2400" spc="-1" strike="noStrike">
                  <a:solidFill>
                    <a:srgbClr val="ff1515"/>
                  </a:solidFill>
                  <a:latin typeface="Tahoma"/>
                </a:rPr>
                <a:t>30</a:t>
              </a:r>
              <a:r>
                <a:rPr b="1" lang="zh-CN" sz="2400" spc="-1" strike="noStrike">
                  <a:solidFill>
                    <a:srgbClr val="ff1515"/>
                  </a:solidFill>
                  <a:latin typeface="Tahoma"/>
                </a:rPr>
                <a:t>年代的美国公民，你会投谁的票？能说明一下你的理由吗？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2" name="WordArt 37"/>
          <p:cNvSpPr txBox="1"/>
          <p:nvPr/>
        </p:nvSpPr>
        <p:spPr>
          <a:xfrm>
            <a:off x="4343400" y="4648320"/>
            <a:ext cx="5716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仿宋_GB2312"/>
              </a:rPr>
              <a:t>P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</p:spTree>
  </p:cSld>
  <p:transition spd="med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罗斯福"/>
          <p:cNvPicPr/>
          <p:nvPr/>
        </p:nvPicPr>
        <p:blipFill>
          <a:blip r:embed="rId1"/>
          <a:stretch/>
        </p:blipFill>
        <p:spPr>
          <a:xfrm>
            <a:off x="6095880" y="1676520"/>
            <a:ext cx="2757600" cy="32004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"/>
          <p:cNvSpPr/>
          <p:nvPr/>
        </p:nvSpPr>
        <p:spPr>
          <a:xfrm>
            <a:off x="6019920" y="51055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660033"/>
                </a:solidFill>
                <a:latin typeface="Arial"/>
              </a:rPr>
              <a:t>罗斯福首次就职演说（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1933</a:t>
            </a:r>
            <a:r>
              <a:rPr b="1" lang="zh-CN" sz="1800" spc="-1" strike="noStrike">
                <a:solidFill>
                  <a:srgbClr val="660033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660033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660033"/>
                </a:solidFill>
                <a:latin typeface="Arial"/>
              </a:rPr>
              <a:t>日）（节录）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685800" y="2286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“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happy days are here again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…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 ”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-152280" y="990720"/>
            <a:ext cx="6400800" cy="563868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3870360" y="2703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228600" y="1828800"/>
            <a:ext cx="54100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381aea"/>
                </a:solidFill>
                <a:latin typeface="Verdana"/>
                <a:ea typeface="宋体"/>
              </a:rPr>
              <a:t>我们的国家过去经得起考验，今后还会经得起考验，复兴起来，繁荣下去。因此，首先，允许我申明我的坚定信念：我们唯一值得恐惧的就是恐惧本身──会使我们由后退转而前进所需的努力陷于瘫痪的那种无名的、没有道理的、毫无根据的害怕。在我们国家生活中每一个黑暗的时刻，直言不讳，坚强有力的领导都曾经得到人民的谅解和支持，从而保证了胜利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Oval 8"/>
          <p:cNvSpPr/>
          <p:nvPr/>
        </p:nvSpPr>
        <p:spPr>
          <a:xfrm>
            <a:off x="7162920" y="5943600"/>
            <a:ext cx="1523880" cy="914400"/>
          </a:xfrm>
          <a:prstGeom prst="ellipse">
            <a:avLst/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返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Object 2" descr=""/>
          <p:cNvPicPr/>
          <p:nvPr/>
        </p:nvPicPr>
        <p:blipFill>
          <a:blip r:embed="rId1"/>
          <a:stretch/>
        </p:blipFill>
        <p:spPr>
          <a:xfrm>
            <a:off x="5759280" y="0"/>
            <a:ext cx="3308400" cy="236232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3"/>
          <p:cNvSpPr/>
          <p:nvPr/>
        </p:nvSpPr>
        <p:spPr>
          <a:xfrm>
            <a:off x="1066680" y="2514600"/>
            <a:ext cx="7391520" cy="197028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人民贫困，市场萎缩，生产相对过剩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半数银行倒闭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工商企业大量破产，失业人数激增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381aea"/>
                </a:solidFill>
                <a:latin typeface="Tahoma"/>
                <a:ea typeface="楷体_GB2312"/>
              </a:rPr>
              <a:t>农产品价格猛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609480" y="5029200"/>
            <a:ext cx="8234640" cy="72756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社会动荡不安，法西斯分子趁机兴风作浪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4343400" y="44197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ff151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1972800" y="838080"/>
            <a:ext cx="335052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81aea"/>
                </a:solidFill>
                <a:latin typeface="Tahoma"/>
              </a:rPr>
              <a:t>罗斯福上台时面临那些难题？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1447920" y="5943600"/>
            <a:ext cx="43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临危受命的罗斯福入主白宫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AutoShape 8"/>
          <p:cNvSpPr/>
          <p:nvPr/>
        </p:nvSpPr>
        <p:spPr>
          <a:xfrm>
            <a:off x="5232240" y="5334120"/>
            <a:ext cx="3911760" cy="1726920"/>
          </a:xfrm>
          <a:prstGeom prst="irregularSeal2">
            <a:avLst/>
          </a:prstGeom>
          <a:gradFill rotWithShape="0">
            <a:gsLst>
              <a:gs pos="0">
                <a:srgbClr val="ff151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能挽大厦之将倾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380880" y="4191120"/>
            <a:ext cx="7848720" cy="520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用什么药方来救治病入膏肓的美国经济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380880" y="190512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　　这个国家需要进行大胆的、坚持不懈 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试验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，如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试验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失败，就再试行一种 办法，最重要的是要进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试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─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罗斯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3"/>
          <p:cNvSpPr/>
          <p:nvPr/>
        </p:nvSpPr>
        <p:spPr>
          <a:xfrm>
            <a:off x="2514600" y="3886200"/>
            <a:ext cx="5943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鼓舞信心和勇气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,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争取民众的支持和理解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990720" y="609480"/>
            <a:ext cx="4114800" cy="7034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81aea"/>
                </a:solidFill>
                <a:latin typeface="Times New Roman"/>
                <a:ea typeface="隶书"/>
              </a:rPr>
              <a:t>“  </a:t>
            </a:r>
            <a:r>
              <a:rPr b="1" lang="zh-CN" sz="4000" spc="-1" strike="noStrike">
                <a:solidFill>
                  <a:srgbClr val="381aea"/>
                </a:solidFill>
                <a:latin typeface="Times New Roman"/>
                <a:ea typeface="隶书"/>
              </a:rPr>
              <a:t>炉边谈话” 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41" name="Picture 6" descr="138362"/>
          <p:cNvPicPr/>
          <p:nvPr/>
        </p:nvPicPr>
        <p:blipFill>
          <a:blip r:embed="rId1"/>
          <a:stretch/>
        </p:blipFill>
        <p:spPr>
          <a:xfrm>
            <a:off x="2209680" y="1828800"/>
            <a:ext cx="4191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6T09:48:32Z</dcterms:modified>
  <cp:revision>4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