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F61-4B8C-4B4B-9905-36F753A6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E87-32D2-4815-A9B9-05D4F441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F0327-9230-49FC-ACA7-27516CE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BFAC4-8E2B-4FF2-829C-E0009D8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2A9D7-9B8E-4495-926C-809AC86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1AFE5-1D1F-4950-9F9C-0A46C73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1CF1-2DB1-48EE-B3BB-A2D2A3D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E40A-3016-49B0-9ECC-9673F77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D602-F6DC-4153-932A-9F0773AB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292FC-8932-484B-A646-8225E9F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2C692-B96B-4CA7-909B-0A491D15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6F20-019F-41E1-95D5-E853C712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1E3-0D17-4F83-89E5-E406414E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A6A11-E334-432A-BD42-9E28799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55B82-DC35-4008-A130-6F494F0F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0E17C-74AD-436C-AAC0-6E881D9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8B9A-5E30-43A1-91A5-494C504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E1E7-FD98-4DCD-8736-55E0C3C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94AA3-54E8-43AF-9184-D624DC9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FFBA-B754-4802-AB55-C68D03B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BB75C-50C5-4DE1-9FB5-0EFA07C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C18C8-74F7-409B-89B9-98591085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02823-7B56-45D6-BC88-A70518AF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199-4328-44D6-8428-F44D2671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81A0F-65F7-4548-B883-449923A6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AA21B-B21C-4A75-9D6B-F477F4ED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9A4F3-5AB0-4785-9A38-9AD3E74E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F6C0E-57F1-4CAF-B8D5-C8E2ECA0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F695-3839-4CF3-944A-ECE15A3E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82DF-BFEF-426E-8FC0-F3A3774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B94AA-DA99-4A4D-BE2A-4FB3C24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8C198-7C79-4BD6-AD0D-27C71BC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57AE-4A6A-486D-BD7C-332E1C6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F87DF-6F22-4B6D-819C-9749FB7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1652-F1E5-4D31-8365-94D24FD6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D8BF1-3515-4A96-8E10-1AE995F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9CB4-1A34-4A2E-A30E-C27EC529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BFE9E-ADDA-4BA0-89D7-F0514F0E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CBCCF-44D8-43D1-B167-885C50D9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05F7-DB0B-447F-B3C9-F6743CDE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912DA-21F7-4AA3-AA2C-853B0E0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AA9E0-A8BB-47E8-A48F-ACFA7CC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0362-45F6-48E3-AA92-269A24BA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0995E-FCB9-4845-B6C1-D08BFED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87D3-2F17-4028-9008-9E826CF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9797-AE45-4156-A9E1-D944ADE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AA5A-97AB-4D60-A27B-2668DB7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62E0E-9FC3-4EF0-89BA-2C37B02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F635D-BEAD-4AB1-8F0B-57570697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7A1F9-2976-4179-8B9A-427378EB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98890-7D14-4134-B16F-53360424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9AB28-94DB-4B9E-9C6A-6AD665BD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C3979-D0F7-45B6-BE9A-07BDBC6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5E59A-25CD-4BA2-81FE-575E827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4B766-294F-45B0-9C94-BD2C9212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C69F7-B16C-4015-A5F6-B9B5781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204-6E5A-4BD0-A6CA-C38F130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F76AA-0154-4779-BEF8-3FD5FC4D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C21D8-113A-4369-AF8B-11F9054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2A00F-5D10-485C-919D-642D722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1BB3F-DE9C-4AD2-962F-94E7A39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2E609-B4E7-498C-9BA7-91BBDBA9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5E7E5-761A-4BCF-AF20-5A9D8005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C7D07-FD32-4086-BEF6-65AF1B2F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2AF-EC3B-463F-8384-C5782FC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0B4-81D3-4F81-984C-2DB5EF7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8BB-6478-4AE8-A48D-A4FB0BF2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2AF-BB71-45E7-974C-C3AFF4C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B17-673A-4C44-B53C-495B8DF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2EE1-A330-4D97-B212-78014D7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1E83-F4AB-4CD7-ACF6-6B4F4C2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FC62-46B1-45EA-A72A-4231F127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8FC-0973-4F6A-AF00-F2B18CFE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FD59-50E4-4FD8-9263-BFAA38B0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CCB7-A551-4BFD-8585-6ECD52D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16AA-274D-4BDB-B7B1-ECD0591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FF6D-140B-4BCD-BB1F-92892E1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5918-1712-497F-9BA3-BDD5D97E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B777-4282-48F1-B206-47056F4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1F7-0707-4F62-8A13-B6AE388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A08F-C7CB-4B4E-A720-A3B87EA0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6510-1E6B-4E10-AA56-4E11181D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EC95-8DED-4DD2-9C72-A1F557D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3633-FD6E-49FD-B50A-420CB93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257C-B7A7-4228-BEF9-433A22D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89AB-3EA7-415E-B29B-EC17B2E1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B260-C1F3-4047-AED2-AFEC8725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BF3A-FDD4-4ABB-980E-DD8A92F3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4F2E-5703-4D17-B76F-D1C9C7A9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B2BB-2A91-467D-9BFF-363F5BB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E49-B064-459C-AE3F-1F062F45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D34D-3304-4C32-BF4B-E00CF4F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E347-F8AE-40EC-84D2-6BBD74D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73F9-C330-4E10-AD80-E5916CE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012D-AF4B-4D79-A441-CE7613D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7F84-8917-4C95-82A4-E97C115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B65B-0077-4688-8FDA-6551AD1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323E-A670-4B03-94B8-6FA8876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A3635-F90B-4FD0-B75E-8125D3C4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F89A-1676-4ABE-A84B-6B6B5743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47EA-0800-46CF-939B-82A96D40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4CF-362F-4A2E-AC17-FA04BFF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567C-3D6E-4FED-B460-5050128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9A1C-2655-47F9-8AEA-E1DC5F04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9B0A-BA23-439E-BD1D-89158564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13D1-5D79-41D0-A5F3-DEA49397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56D3-F01B-4EDD-9A49-3A36ABE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4EDD-7349-45FE-B6F2-AB24847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0071-3EF5-4447-B54B-04B0393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524DA-D85E-47C2-ACCD-BECD2CA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02B8-18DA-419D-8280-0A7FFA9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40C2-0737-44BA-B79E-262EABF6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6B7-3691-4846-8606-3A6FB677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E473-F4E0-4104-984D-ADCF116B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69AF-F7C3-43F8-B601-AEC00A6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2024-BAD1-4CF8-9968-9365FF5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6FF0E-B089-41F2-AB06-E2BAFB6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1D241-C210-4A22-9878-90F5CE97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122D-31B6-425B-A431-8F8491B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D350-F6D0-4CBB-9706-70D057EE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5201-7EA6-45C5-AFA0-BF920D6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2B2C-E309-4454-8E8D-797509F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ED6BA-828B-4E53-8AF7-B63141F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565-DB62-42C6-836B-B86CAF7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5D3A-1716-4A8D-8CB5-4F72570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785C-8C03-4C61-9B37-30394E08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B088-0611-4FCE-9144-FC8B100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8522-5506-477F-B033-3E14B1A2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8FFD-06EC-48B9-8748-ABC7F1AB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F260-F9F3-43B0-B76D-90047045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993C5-999B-49D1-8F28-7DB4D6A2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C23E-8010-4EA6-B7C1-4C46CA8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17EC-0328-4C23-AF3A-A8B3059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FD1A6-F1CF-4032-9AE8-661AA8C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9C4-3A37-4B3B-A6FC-56F1FDA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C7471-4A86-4FD5-AB3C-1178050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8B5A1-62E8-4246-B460-8CA1667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57C7-D7D6-4AD0-9515-F6679358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65A6-8910-4E14-979E-8B3B0EB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DA3C-F728-4D04-A988-975C632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BA20-5C7C-4DAF-A8B2-C282E1EA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2C38-180F-4322-B070-60D5294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EB7E-4C29-42BC-AE14-5EF151A2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745B5-A19F-4B88-A108-C29AAA0B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2E2C-D557-4E9D-A45D-6EAD4152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314-32E6-47D4-8398-EC2EC20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930F8-2518-42B3-9734-3A0B3859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63B1D-EF48-4089-AA44-8A4ADA8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0BD9-F88D-42F5-B8D5-C8287D8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D9A4-F9E0-4BC8-81CD-0EB0D41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D90E-AA5A-4AA2-9256-EB709F7A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D5C2-C945-4D27-A26F-C41B4C59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C6AC-E67F-44BA-8AD9-49DA162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67AEC-F4A1-4629-95C1-D217DD80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198A0-355F-4397-8292-B82EEB63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B2042-1964-4400-AB91-BA41680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BEB-F774-4178-8895-25DD222C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BCBF-43A3-413B-964E-FD9E80C31F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3CD-6344-4E4A-9079-C47890638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B8F-3710-43AB-8587-0B71C2293B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378-7566-4724-AD60-E510D94DD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9B4-B601-463F-AEB2-79D066110D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ACCE-CD63-4BC4-BCA0-537343BD4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797-8998-441D-BE99-697C57D840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3D8A-C21C-4818-97DB-9E5B324140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642-B787-4FA3-8B95-81EDCB203E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E590-C36D-4E12-B5EF-CF4B82D05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72B-BC43-4BBC-B7E5-E8AB1617A6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182-D255-4F06-8346-EDFA8E943C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4CCB-D2D3-435D-BA08-C84F49C761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36A-52FD-414F-8A0A-8C41CEC251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A356-1898-4351-90D7-9C1FCE4B13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E37-E931-472F-874F-96D945ACC5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693-084C-44E3-A52A-6D5C26A80E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8C1-51C2-47CB-8279-B75A06F13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A7B0-B3DF-41A7-B199-79B1C5F8E8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48B-4CEE-44CC-A51B-643114E277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D67-5CBA-464D-9CF7-8C1083B625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FE0C-EDF7-4A7D-8733-E9D5A8C3D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BD8-7971-4AED-B967-0D8F8C4A22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CA6-84A7-4703-8C9E-6880E51359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762120" y="11430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老山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124080" y="3124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陆定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5257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自由而战的人，人们将永远记住你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7045560" y="228600"/>
            <a:ext cx="164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28600" y="2286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面对这般重重困难，我们的红军战士是如何对待的呢？表现了红军战士怎样的思想性格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352680" y="2590920"/>
            <a:ext cx="4595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趣逗笑、奋勇登山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酣然入梦、观赏夜景。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鼓着勇气、继续前进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畏惧、嘲笑敌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09480" y="5791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现红军顽强的意志、乐观的精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295280" y="2514600"/>
            <a:ext cx="1828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走路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睡觉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吃饭难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处境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903840" y="457200"/>
            <a:ext cx="1277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228600" y="190512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把红军战士的顽强意志和乐观刻画得具体形象，靠的是生动的描写。你能揣摩出来吗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5435640" y="1905120"/>
            <a:ext cx="370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提示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行动、语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场面、景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5"/>
          <p:cNvSpPr/>
          <p:nvPr/>
        </p:nvSpPr>
        <p:spPr>
          <a:xfrm>
            <a:off x="1523880" y="228600"/>
            <a:ext cx="457200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44792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33520" y="1905120"/>
            <a:ext cx="8229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场面描写： “之”字奇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作者是怎样描绘这一奇观的？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这样描写表现了红军战士的什么精神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914400" y="502920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烘托出红军英勇豪迈的乐观主义英雄气魄。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3"/>
          <p:cNvSpPr/>
          <p:nvPr/>
        </p:nvSpPr>
        <p:spPr>
          <a:xfrm>
            <a:off x="1447920" y="228600"/>
            <a:ext cx="449568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447920" y="2286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395280" y="1557360"/>
            <a:ext cx="99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物描写：半夜醒来观赏夜景（所见所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250920" y="2349360"/>
            <a:ext cx="8893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见”主要写了哪些景物？以什么为序？用了哪些修辞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所“见”景象给人什么感受？“闻”突出了什么特点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990720" y="38862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324000" y="3645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星星、山峰、山谷（自上而下）；比喻、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1219320" y="5486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庄严、奇伟。 寂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AutoShape 3"/>
          <p:cNvSpPr/>
          <p:nvPr/>
        </p:nvSpPr>
        <p:spPr>
          <a:xfrm>
            <a:off x="1600200" y="228600"/>
            <a:ext cx="4648320" cy="99072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600200" y="30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304920" y="1523880"/>
            <a:ext cx="883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可作者描写的却是各种“声响”，这不是自相矛盾吗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些声音有何特点？采用什么修辞方法写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段景物描写对表现中心意思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066680" y="2743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矛盾。以动写静，角度巧，效果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44956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99072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、近、大、细； 比喻、拟人、排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900000" y="6093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军战士镇定豪迈，英雄主义和乐观主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7" descr="007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533520" y="1600200"/>
            <a:ext cx="8153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判断下列加点字注音的正误。 </a:t>
            </a:r>
            <a:br>
              <a:rPr sz="3600"/>
            </a:b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惊惶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ｈ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ā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ｇ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       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缴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ǎ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租  欺侮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ｆ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   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呜咽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ｗ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ū y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è)  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咀嚼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ｚ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á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 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骨碌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ｇ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ū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ｌ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浑身打着颤 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ｃｈ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红军翻山遇到的许多艰难险阻，可以分为哪几个方面？是怎样对待的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1"/>
          <p:cNvSpPr/>
          <p:nvPr/>
        </p:nvSpPr>
        <p:spPr>
          <a:xfrm>
            <a:off x="0" y="0"/>
            <a:ext cx="31240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0" y="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1763640" y="2781360"/>
            <a:ext cx="21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E:\袁冬兰\图片库\0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4"/>
          <p:cNvSpPr/>
          <p:nvPr/>
        </p:nvSpPr>
        <p:spPr>
          <a:xfrm>
            <a:off x="0" y="0"/>
            <a:ext cx="28954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0" y="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533520" y="19810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描写景物要注意观察景物的立足点和角度。课文第一次写火把，立足点在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，观察角度是仰视；第二次写火把，立足点在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，观察角度是既有（  ）视，又有（  ）视。找出你最喜欢的一张照片，说说摄影者是站在什么位置，从什么角度照的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背景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Oval 8"/>
          <p:cNvSpPr/>
          <p:nvPr/>
        </p:nvSpPr>
        <p:spPr>
          <a:xfrm>
            <a:off x="7391520" y="1523880"/>
            <a:ext cx="1523880" cy="3505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7515720" y="1905120"/>
            <a:ext cx="1094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457200" y="99072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写寂静，可以以静写静，也可以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以声写静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。这篇课文既说“寂静”，又说“耳朵里有不可捉摸的声响”，正是以声写静。恰恰因为静极了，才听到一般听不到的声音；恰恰因为听到了一般听不到的声音，才说明实在是静极了。你在生活中曾有这样的感受吗？试用一二百字写出来，练习用比喻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324000" y="112536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老山界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当年红军长征途中翻越的第一座大山。其主峰海拔２１４１．５米，为华南第一高峰，素有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五岭极顶，华南之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美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９３４年１２月，中央红军在湘江与国民党军队经过惨烈的激战，损失惨重，退入了山高路险的猫儿山，开始了翻越老山界的艰难历程。毛泽东、周恩来、邓小平、朱德、叶剑英等一代革命伟人率中央红军三军团、中央军委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纵队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后卫五军团、八军团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夜兼程翻越老山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348000" y="18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代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353160" y="685800"/>
            <a:ext cx="1094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前热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1828800" y="1676520"/>
            <a:ext cx="6934320" cy="320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2209680" y="2057400"/>
            <a:ext cx="6248520" cy="2438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2484360" y="256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朗诵及背诵长征诗词，讲述长征故事，概括长征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8" descr="gif020"/>
          <p:cNvPicPr/>
          <p:nvPr/>
        </p:nvPicPr>
        <p:blipFill>
          <a:blip r:embed="rId2"/>
          <a:stretch/>
        </p:blipFill>
        <p:spPr>
          <a:xfrm>
            <a:off x="3276720" y="380880"/>
            <a:ext cx="4267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838080" y="4572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你预习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80880" y="1600200"/>
            <a:ext cx="8763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为下列加线字注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惊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     呜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咀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嚼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矗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立（         ）  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蜷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）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酣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然入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点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缀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 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04920" y="4724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释下列词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攀谈      奇观      绝壁       酣然入梦    呜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E:\袁冬兰\图片库1\网背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4"/>
          <p:cNvSpPr/>
          <p:nvPr/>
        </p:nvSpPr>
        <p:spPr>
          <a:xfrm>
            <a:off x="685800" y="1371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整体感知文章，用一句话概括故事内容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09480" y="3733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军长征途中翻越老山界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0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4"/>
          <p:cNvSpPr/>
          <p:nvPr/>
        </p:nvSpPr>
        <p:spPr>
          <a:xfrm>
            <a:off x="7543800" y="990720"/>
            <a:ext cx="1905120" cy="4724280"/>
          </a:xfrm>
          <a:prstGeom prst="upDownArrow">
            <a:avLst>
              <a:gd name="adj1" fmla="val 50000"/>
              <a:gd name="adj2" fmla="val 4936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089120" y="17524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究学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286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写文章首先得有条有理、顺序清楚。本文以什么为顺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838080" y="2286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间变化、地点转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0492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在文中勾画出表明时间、地点的词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09480" y="5410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57200" y="5029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762120" y="4495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080" y="40384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838080" y="3429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914400" y="3124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28600" y="304920"/>
          <a:ext cx="8534520" cy="5351400"/>
        </p:xfrm>
        <a:graphic>
          <a:graphicData uri="http://schemas.openxmlformats.org/drawingml/2006/table">
            <a:tbl>
              <a:tblPr/>
              <a:tblGrid>
                <a:gridCol w="806400"/>
                <a:gridCol w="1022400"/>
                <a:gridCol w="1523880"/>
                <a:gridCol w="1600200"/>
                <a:gridCol w="35816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地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Arial Unicode MS"/>
                        </a:rPr>
                        <a:t>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 Unicode MS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808000"/>
                          </a:solidFill>
                          <a:latin typeface="Arial Unicode MS"/>
                        </a:rPr>
                        <a:t>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8276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2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夜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3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半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10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黎明以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5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Text Box 54"/>
          <p:cNvSpPr/>
          <p:nvPr/>
        </p:nvSpPr>
        <p:spPr>
          <a:xfrm>
            <a:off x="205740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瑶民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5"/>
          <p:cNvSpPr/>
          <p:nvPr/>
        </p:nvSpPr>
        <p:spPr>
          <a:xfrm>
            <a:off x="358128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瑶家大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6"/>
          <p:cNvSpPr/>
          <p:nvPr/>
        </p:nvSpPr>
        <p:spPr>
          <a:xfrm>
            <a:off x="518148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Times New Roman"/>
              </a:rPr>
              <a:t>攀谈，宣传红军政策，使瑶民理解了红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7"/>
          <p:cNvSpPr/>
          <p:nvPr/>
        </p:nvSpPr>
        <p:spPr>
          <a:xfrm>
            <a:off x="2133720" y="1752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脚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8"/>
          <p:cNvSpPr/>
          <p:nvPr/>
        </p:nvSpPr>
        <p:spPr>
          <a:xfrm>
            <a:off x="350532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9"/>
          <p:cNvSpPr/>
          <p:nvPr/>
        </p:nvSpPr>
        <p:spPr>
          <a:xfrm>
            <a:off x="5791320" y="1828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准备爬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0"/>
          <p:cNvSpPr/>
          <p:nvPr/>
        </p:nvSpPr>
        <p:spPr>
          <a:xfrm>
            <a:off x="205740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半山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1"/>
          <p:cNvSpPr/>
          <p:nvPr/>
        </p:nvSpPr>
        <p:spPr>
          <a:xfrm>
            <a:off x="3505320" y="236232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2"/>
          <p:cNvSpPr/>
          <p:nvPr/>
        </p:nvSpPr>
        <p:spPr>
          <a:xfrm>
            <a:off x="5791320" y="2286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夜行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3"/>
          <p:cNvSpPr/>
          <p:nvPr/>
        </p:nvSpPr>
        <p:spPr>
          <a:xfrm>
            <a:off x="21337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路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4"/>
          <p:cNvSpPr/>
          <p:nvPr/>
        </p:nvSpPr>
        <p:spPr>
          <a:xfrm>
            <a:off x="3718080" y="245916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5"/>
          <p:cNvSpPr/>
          <p:nvPr/>
        </p:nvSpPr>
        <p:spPr>
          <a:xfrm>
            <a:off x="3581280" y="30481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6"/>
          <p:cNvSpPr/>
          <p:nvPr/>
        </p:nvSpPr>
        <p:spPr>
          <a:xfrm>
            <a:off x="541008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半夜露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7"/>
          <p:cNvSpPr/>
          <p:nvPr/>
        </p:nvSpPr>
        <p:spPr>
          <a:xfrm>
            <a:off x="21337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8"/>
          <p:cNvSpPr/>
          <p:nvPr/>
        </p:nvSpPr>
        <p:spPr>
          <a:xfrm>
            <a:off x="3505320" y="3733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红军战士、医务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9"/>
          <p:cNvSpPr/>
          <p:nvPr/>
        </p:nvSpPr>
        <p:spPr>
          <a:xfrm>
            <a:off x="5257800" y="3809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翻越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0"/>
          <p:cNvSpPr/>
          <p:nvPr/>
        </p:nvSpPr>
        <p:spPr>
          <a:xfrm>
            <a:off x="22860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1"/>
          <p:cNvSpPr/>
          <p:nvPr/>
        </p:nvSpPr>
        <p:spPr>
          <a:xfrm>
            <a:off x="3505320" y="4876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2"/>
          <p:cNvSpPr/>
          <p:nvPr/>
        </p:nvSpPr>
        <p:spPr>
          <a:xfrm>
            <a:off x="5334120" y="4724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任务完成，征服老山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网背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Oval 3"/>
          <p:cNvSpPr/>
          <p:nvPr/>
        </p:nvSpPr>
        <p:spPr>
          <a:xfrm>
            <a:off x="914400" y="0"/>
            <a:ext cx="4267080" cy="1752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990720" y="3808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理清结构层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80880" y="1828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记叙一件事，文章结构一般如何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403280" y="2492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代起因，记叙经过，说明结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80880" y="3276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是不是这样安排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68640" y="3962520"/>
            <a:ext cx="850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三部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295280" y="39625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交代决定翻越老山界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记叙翻越老山界的经过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—3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说明翻越老山界的意义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1143000" y="4191120"/>
            <a:ext cx="76320" cy="190476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2882880" y="1143000"/>
            <a:ext cx="2374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0" y="380880"/>
            <a:ext cx="388620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山界是一座难翻的山。其“难”表现在哪些方面呢？ 在课文中勾画出有关的句子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6095880" y="16002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路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睡觉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饭难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境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5791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01:04:38Z</dcterms:created>
  <dc:creator/>
  <dc:description/>
  <dc:language>en-US</dc:language>
  <cp:lastModifiedBy>a</cp:lastModifiedBy>
  <dcterms:modified xsi:type="dcterms:W3CDTF">2015-03-17T05:42:27Z</dcterms:modified>
  <cp:revision>99</cp:revision>
  <dc:subject/>
  <dc:title>PowerPoint 演示文稿</dc:title>
</cp:coreProperties>
</file>