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01EB-F3ED-4BD1-9D3A-1BC560D5D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5C0E-9605-4247-9FD4-DB9F1C1C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696D2C-E468-4F29-9391-32D1CD9B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BAB97-4DEC-43FB-9366-B836AAC8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01F00-20C4-4978-A2A2-168055B3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707298-C186-4400-95FF-6AE1AB1B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53297-FF37-4011-A509-FC91BF54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E7129-FE69-4CB3-89F8-9D0DC94D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861EB-88B6-4D6B-9DD3-7C5F1598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DC754-ADCB-4F90-B802-5938A73D2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B9CF8C-135F-4A78-BDDB-19F7B1BF4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EEB742-6470-4E73-8EB7-A1F9B2F8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477C-FB71-472F-A4AD-0204E71CD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48EF1-CC77-4523-8683-8F1FE7AD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CAAF4-0EAA-4F81-AA0E-0EA05A4C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4415F-0FC6-4E1F-905B-885383D0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ADB0DF-782B-48FA-917E-2CD0278F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808B5-C819-43B1-8ADA-3E1EB6E6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8B502-4DB3-417A-A611-2F0528C2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A333FF-CF50-4995-9DD8-471D2FC6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B33B7E-5C72-4BA8-BD12-67E271DD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2EAD20-AEE1-4291-8AA2-2648DC4B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96F2EC-553B-46A0-85EC-749C0619A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8485-BBA0-47ED-A729-1AABD9524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3437BD-5175-4967-A80D-272512236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3E781-4241-4DF2-9A3C-0A6CC4BBC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AE68A-03D4-4959-A314-5E0178B5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E20F3-395B-4694-90D0-EC9FB645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B3BCD-22F6-40D6-B68A-A38680B8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FEF9C-0843-431B-A51D-2241FDEB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E2FB2-39C2-4ECB-AEF8-24576C48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B601B-7712-4CE5-B9D9-6CDB6841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F69A9-7D4B-4999-8EF0-A4735484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37739-BFBB-4785-A5D2-5BCC4D9E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FA5B-D450-46CF-AA0C-CC3A4A2B5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6AD47-3153-4415-B518-D5CF7A8D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876B8-4A49-40BE-8BEA-0F61ED122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FF2BF-4BB6-4ED6-A012-252F5951B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05C090-8757-49AE-B753-6E5A1D254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FF691B-E1DC-48DD-9631-63292FBA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367F89-9DB7-4C46-BB08-8B13289D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18C45F-11B0-47FF-90B5-AAB97D8F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7CAFDF-22EE-43AD-B782-4B0625D3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08FD8A-2D6F-48F3-A931-4E670512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085C4F-184B-4E83-B827-4C34B8C8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C527-E10E-45E4-A77D-57D31D6D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4A1E0B-50FC-4959-8154-A2811161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F51F8E-D70E-4DB2-A076-EED623A4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BEF7E3-37B9-4375-8E0C-2F867540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B93205-D9CF-4E9B-8979-3C477B81C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7EFE13-A9FC-4AD6-9C85-1D6D56711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0D2FC0-54B5-4605-8A84-A5A32EEDB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62A42D-D9AB-43FF-A763-2A28B8CE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31CF15-DA3A-41E9-B2B0-BFE7A0C0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FF6135-E861-436E-AF48-340C520B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D36ABD-EE1E-47A9-827A-64A347F7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AB81-1644-47BF-B18D-CBE3A877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82B920-8DAE-4C2B-BFA3-23D67CE1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37E75F-D303-41C7-B354-B8834D9A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A1BB9C-A6A3-4851-8833-3A96D1AD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A5986D-B440-40F9-B553-30C3B8E9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3485D3-840D-44F4-8B4A-C5B623BD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87A117-A342-4690-88C6-2C991849D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EC4400-7E91-4111-8944-C3E9A74EE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4290-93AA-45BB-AF89-1F15FFEE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686D-2A86-40AA-97D0-56AB2AE7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835F-E96B-4D47-B9E5-E8E2CC2A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1AED-C7F5-4B18-AD77-EC3EB648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E45E-75DE-4C0B-BBF3-43F98B5F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EB5E-996C-495C-8A49-CD7D6CBA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803B-7E94-4ED3-9DA9-61F3B45C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9543-5D33-478A-8846-6EE36E63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7B41-7251-44A2-8C2A-FB6F16BC7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7FA6-748E-4F5A-9BF8-2F36B6FC1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02467-D42C-4E6A-A21C-35D710795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B47EB-9828-41CA-9534-C887E7DC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E1CC5-61D5-45E0-98BB-4C7D59D5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EFA58-041D-408E-86B0-C7950DEE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42F31-3868-4624-AF27-E16EF87A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4C7E-B6E1-4E19-936C-57DE3145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2C2B7-688A-4787-A348-64BEA295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CA14F-B600-4623-9C71-ED01A5E4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CA18C-0D8B-4ECE-8F11-58FA0E52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43DCE-529B-4BE3-B85B-8CF89443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73AF1-03A9-4CC8-9F1A-BF5807AB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C2EB1-033B-41A6-A33C-EA62959FA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F1AA3-D2E0-498B-B5F1-440222955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5DD8F-B158-4284-BA01-0BB0A989F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F5C2C-7563-493B-A12D-1081E684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4BC87-3F40-481E-9D9B-EF4C113D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0F8E-5E80-4828-BB19-E18C297F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4723D-9439-4253-850A-DCE553EA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8D23B-9BD1-4796-AA60-25548D58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6B834-F9B5-40B2-A42F-E0520F6F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28894-6201-47ED-B98A-4D772BDB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13A03-5F02-4024-8102-6301E1A6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27A34-8E54-4213-B1E5-7425E6AD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D8A24-6C67-4042-8534-8EE1499A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1F975-656D-4623-9711-E804AF8F6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589A3-9251-4E91-9D16-6C399DA68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5FD53-E3B4-4627-A423-FF71568B5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1E05-04B6-46FD-AD7D-19499C16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2D62C-867A-40FA-91E5-4D9BF13F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F8551-1120-4C28-8B17-A06CA7D7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F908E-01A3-4C1A-AE83-86DC0E6F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CDE9E-7DA5-4222-9981-0652AC99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8A3B2-0434-4793-8FEE-FC5FD803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3C527-55C4-4F6E-A4F5-F13733CE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21022-C0C5-43B5-A5E5-05B52C9E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7BDDD-E237-4911-BD53-82FA2F66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9D116-67BF-4A46-8E22-4C323E11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4AC29-C674-4219-8D9A-A31E5209D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AEB7-05C4-4246-AD4F-6C4C734F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3BC86-CA24-44F2-B922-4E46988DD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E9CB1-F622-4946-9636-1050E1A0E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BD76E-4C6B-4036-94A8-E1A14970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E0548-EF13-4CA8-84E7-C33ECA97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34D90-1A16-4028-BA27-DEC473E3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DE4B2-10A1-4C5E-AA35-214A7D8E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D5D20-2D0D-4E3A-8079-9CE2CBD1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44B18-A1E0-49C9-8B98-29C5A63D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2BD66-4AA8-4C11-8A92-04A1B10B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DDE77-5E6E-4A49-972C-B6E3F968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2B94-CA58-4925-B02C-87ABCDFD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99B9C-E22A-4896-9E5C-7D42685D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4F108-8CE6-48B3-9413-C674C09FC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781C6-53BF-4028-980E-66E3E0287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15831-1513-49B7-881D-161DBABCB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E02A5-6F16-4B7D-A42F-6C36EB8D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635E8-3DA4-4446-A082-7BA06D68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E1A27-4CA2-46E6-A6C7-90CD33CB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2B032-5188-4EEF-9518-8D18991C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4D18A-9688-4123-B3FF-A52EF9DE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E15C1-0F52-4DCE-A289-B7E4AF52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4810-A6C6-4B97-9ABC-742AAE44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78F43-CF6A-44BC-93F0-DDFAF379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2B460-5FA4-4267-A2DE-59570CCB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9C9C9-D98F-4816-B506-DCF6C616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30FA2-344F-4EF4-A835-F9B0D56D3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E3D34-5040-4FB7-88D6-7B5980DEC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D007C-E51E-4857-9971-B01F60F6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3EFFB-69A8-470E-BE0F-674C36ED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43100-7730-43E0-8924-E7EF7275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F74E0-A80E-4332-8F73-01AF3395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AA519-47B3-44CD-907C-896FC966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7ABA-8CED-4A5F-B633-6A9B06D2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B201D-1731-45A0-A69B-2B155A70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CEC64-9781-4416-B02A-A0F14555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F173F-7500-41A4-8B1E-07988279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1525A-63CE-48FE-AEFA-12F6CF0A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372D0-7110-484E-B06E-380DA444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E81D2-2764-424B-95FC-3866109C0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9585A-634E-49CA-8C08-DAA595D29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348DE4-B4F6-46CB-8945-965C5629D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66E6A-8E05-4015-93F5-37404BB2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8093C-D35B-44D3-99B3-F8852717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DC29-FFD9-4FCF-B793-06FE4AA2C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0359-3106-42A5-9D39-E166DA89CB2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8EBE-FAEE-4AC1-B244-B023FEA5E3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5C5E-CC17-434E-B7B3-E231EC844AF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0C96-3F9F-4AFE-A838-BA20D5FBF4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ACD6-14AE-448B-9478-2D3581483E2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0DAF-A8B6-4206-A27D-E05254CB83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FE1E-0E82-4129-8D07-EA43804624E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BC27-78BF-4EA0-AE45-3DB0A1B547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FFF2-C362-4DBE-A8A6-A847C585AFE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5348-C743-498B-8CF5-61751D909B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47BB-AEE5-458F-8AA6-B627BE619BE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42CB-5513-46F7-AA13-36C45DCF92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623C-8C86-4B99-8AFB-2039E9B9EA9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8958-C693-4E3C-973B-42B10ABDA3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82DB-3CC1-4AEE-929D-41A8EB2A47B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C18E-6B78-4987-8FDA-337501251B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F5C6-426B-452F-B75F-5287E783B7E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7C97-C5A5-4577-A062-1D06833B16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1B84-F999-415D-9C21-6E81095491D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2E8F-2C25-435C-B3BB-325DA7D81A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5279-0256-43F9-8253-FFF13CEE42A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0C42-D409-4137-8AD9-1A8BBAD8EF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62F0-7854-44B9-83F5-D97769B7A26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58B0-7C53-4904-B985-6D436D9F63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27160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离骚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节选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)</a:t>
            </a:r>
            <a:br>
              <a:rPr sz="44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屈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1029" descr="quyuan"/>
          <p:cNvPicPr/>
          <p:nvPr/>
        </p:nvPicPr>
        <p:blipFill>
          <a:blip r:embed="rId2"/>
          <a:stretch/>
        </p:blipFill>
        <p:spPr>
          <a:xfrm>
            <a:off x="1671480" y="1197000"/>
            <a:ext cx="299592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灵芬既告余以吉占兮，历吉日乎吾将行。折琼枝以为羞兮，精琼蘼，以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米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余驾飞龙兮，杂瑶象以为车。何离心之可同兮，吾将远逝以自疏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邅吾道夫昆仑兮，路修远以周流。扬云霓之晻蔼兮，鸣玉鸾之啾啾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朝发轫于天津兮，夕余至乎西极。凤皇翼其承旗兮，高翱翔之翼翼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乎吾行此流沙兮，遵赤水而容与。麾蛟龙使梁津兮，诏西皇使涉予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路修远以多艰兮，腾众车使径待。路不周以左转兮，指西海以为期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屯余车其千乘兮，齐玉轪而并驰。驾八龙之蜿蜿兮，载云旗之委蛇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抑志而弭节兮，神高驰之邈邈。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九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而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兮，聊假日以婾乐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陟陛皇之赫戏兮，忽临睨夫旧乡。仆夫悲余马怀兮，蜷局顾而不行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乱曰：已矣哉！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国无人莫我知兮，又何怀乎故都？既莫足为美政兮，吾将从彭咸之所居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关于“离骚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离骚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云“离，别也；骚，愁也”。离骚者，犹离忧也。应劭云“离，遭也；骚，忧也”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史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“（屈原）忧愁幽思而作离骚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离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1692360" y="1699920"/>
            <a:ext cx="64008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帝高阳之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苗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兮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朕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皇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曰伯庸。</a:t>
            </a:r>
            <a:br>
              <a:rPr sz="2800"/>
            </a:b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提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孟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兮，惟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庚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吾以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皇</a:t>
            </a: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览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余于初度兮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肇</a:t>
            </a: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余以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名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名余曰正则兮，字余曰灵均。</a:t>
            </a:r>
            <a:br>
              <a:rPr sz="2800"/>
            </a:b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吾既有此内美兮，又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以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；</a:t>
            </a:r>
            <a:br>
              <a:rPr sz="2800"/>
            </a:b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扈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江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辟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兮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秋兰以为佩。 </a:t>
            </a:r>
            <a:br>
              <a:rPr sz="2800"/>
            </a:b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余若将不及兮，恐年岁之不吾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朝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搴</a:t>
            </a: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木兰兮，夕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洲之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宿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月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不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兮，春与秋其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序。</a:t>
            </a:r>
            <a:br>
              <a:rPr sz="2800"/>
            </a:b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草木之零落兮，恐美人之迟暮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壮而弃秽兮，何不改乎此度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乘骐骥以驰骋兮，来吾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夫先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阅读思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纷吾既有此内美兮，又重之以修能”具有承上启下的作用，“纷吾既有此内美兮”是承上，“又重之以修能”启下。承上：屈原认为自己具有什么内在的美德？启下：屈原认为自己是怎样注重美好的才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4"/>
          <p:cNvSpPr/>
          <p:nvPr/>
        </p:nvSpPr>
        <p:spPr>
          <a:xfrm>
            <a:off x="4140360" y="1347840"/>
            <a:ext cx="39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内在的美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5"/>
          <p:cNvSpPr/>
          <p:nvPr/>
        </p:nvSpPr>
        <p:spPr>
          <a:xfrm>
            <a:off x="4356000" y="3933720"/>
            <a:ext cx="719280" cy="1943280"/>
          </a:xfrm>
          <a:custGeom>
            <a:avLst/>
            <a:gdLst>
              <a:gd name="textAreaLeft" fmla="*/ 459720 w 719280"/>
              <a:gd name="textAreaRight" fmla="*/ 719640 w 719280"/>
              <a:gd name="textAreaTop" fmla="*/ 50400 h 1943280"/>
              <a:gd name="textAreaBottom" fmla="*/ 1892880 h 19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6"/>
          <p:cNvSpPr/>
          <p:nvPr/>
        </p:nvSpPr>
        <p:spPr>
          <a:xfrm>
            <a:off x="3564000" y="692280"/>
            <a:ext cx="503280" cy="2016000"/>
          </a:xfrm>
          <a:custGeom>
            <a:avLst/>
            <a:gdLst>
              <a:gd name="textAreaLeft" fmla="*/ 0 w 503280"/>
              <a:gd name="textAreaRight" fmla="*/ 181800 w 50328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7"/>
          <p:cNvSpPr/>
          <p:nvPr/>
        </p:nvSpPr>
        <p:spPr>
          <a:xfrm>
            <a:off x="1692360" y="4017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出身高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8"/>
          <p:cNvSpPr/>
          <p:nvPr/>
        </p:nvSpPr>
        <p:spPr>
          <a:xfrm>
            <a:off x="1692360" y="133668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出生时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9"/>
          <p:cNvSpPr/>
          <p:nvPr/>
        </p:nvSpPr>
        <p:spPr>
          <a:xfrm>
            <a:off x="1690560" y="22734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名字美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0"/>
          <p:cNvSpPr/>
          <p:nvPr/>
        </p:nvSpPr>
        <p:spPr>
          <a:xfrm>
            <a:off x="5148360" y="371304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热爱芳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1"/>
          <p:cNvSpPr/>
          <p:nvPr/>
        </p:nvSpPr>
        <p:spPr>
          <a:xfrm>
            <a:off x="5148360" y="4508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珍惜时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2"/>
          <p:cNvSpPr/>
          <p:nvPr/>
        </p:nvSpPr>
        <p:spPr>
          <a:xfrm>
            <a:off x="5219640" y="5445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渴望变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3"/>
          <p:cNvSpPr/>
          <p:nvPr/>
        </p:nvSpPr>
        <p:spPr>
          <a:xfrm>
            <a:off x="1836720" y="45165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美好的才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怎样理解屈原热爱芳香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余既兹兰之九畹兮，又树蕙之百亩。畦留夷与揭车兮，杂度蘅与方芷。冀枝叶之峻茂兮，愿俟时乎吾将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朝饮木兰之坠露兮，夕餐秋菊之落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揽木根以结义兮，贯薜荔之落蕊。 矫菌桂以纫蕙兮，索胡绳之纚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既替余以蕙纕兮，又申之以揽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制芰荷以为衣兮，集芙蓉以为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佩缤纷其繁饰兮，芳菲菲其弥章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468360" y="14130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离骚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中写到屈原热爱香花香草的诗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屈原其他诗歌中写到香花香草的句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采薜荔兮水中，搴芙蓉兮木末。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朝骋骛兮江皋，夕弭节兮北渚。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采芳洲兮杜若，将以遗兮下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湘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屈原其他诗歌中写到香花香草的句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罔薜荔兮为帷，薜蕙兰兮既张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白玉兮为镇，疏石兰兮为芳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芷葺兮荷屋，缭之兮杜衡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合百草兮实庭，建芳馨兮庑门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九嶷缤兮并迎，灵之来兮如云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捐余袂兮江中，遗余褋兮澧浦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搴汀洲兮杜若，将以遗兮远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湘夫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屈原其他诗歌中写到香花香草的句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檮木兰以矫蕙兮，□申椒以为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播江蓠与滋菊兮，愿春日以为糗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惜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因芙蓉而为媒兮，惮褰裳而濡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怀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为君独服此蕙兮，羌无以异于众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九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屈原为什么喜欢香花香草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恐鹈之先鸣兮，使夫百草为之不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何所独无芳草兮，尔何怀乎故宇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世溷浊而不分兮，好蔽美而嫉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吾知其亦已兮，苟余情其信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露申辛夷，死林薄兮。腥臊並御，芳不得薄兮。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涉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变白以为黑兮，倒上以为下。凤凰在笯兮，鸡鹜翔舞。同糅玉石兮，一概而相量。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怀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1028" descr="quyuanguli"/>
          <p:cNvPicPr/>
          <p:nvPr/>
        </p:nvPicPr>
        <p:blipFill>
          <a:blip r:embed="rId1"/>
          <a:stretch/>
        </p:blipFill>
        <p:spPr>
          <a:xfrm>
            <a:off x="0" y="0"/>
            <a:ext cx="4824360" cy="34466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029" descr="quyuanguli2"/>
          <p:cNvPicPr/>
          <p:nvPr/>
        </p:nvPicPr>
        <p:blipFill>
          <a:blip r:embed="rId2"/>
          <a:stretch/>
        </p:blipFill>
        <p:spPr>
          <a:xfrm>
            <a:off x="4427640" y="1413000"/>
            <a:ext cx="4535280" cy="30780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030" descr="quyuanguli3"/>
          <p:cNvPicPr/>
          <p:nvPr/>
        </p:nvPicPr>
        <p:blipFill>
          <a:blip r:embed="rId3"/>
          <a:stretch/>
        </p:blipFill>
        <p:spPr>
          <a:xfrm>
            <a:off x="5435640" y="4299120"/>
            <a:ext cx="3708360" cy="255888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1031"/>
          <p:cNvSpPr/>
          <p:nvPr/>
        </p:nvSpPr>
        <p:spPr>
          <a:xfrm>
            <a:off x="539640" y="4221000"/>
            <a:ext cx="33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湖北姊归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屈原故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离骚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中的名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长太息以掩涕兮，哀民生之多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亦余心之所善兮，虽九死其尤未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宁溘死以流亡兮，余不忍为此态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吾知其亦已兮，苟余情其信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民生各有所乐兮，余独好修以为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虽体解吾犹未变兮，岂余心之可惩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路曼曼（漫漫）其修远兮，吾将上下而求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关于屈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屈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约公元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39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约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78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战国时期楚国爱国诗人、政治家，“楚辞”的创立者和代表作者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世纪，曾被推举为列为世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四大文化名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之一而受到广泛纪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屈原一生经历了楚威王、楚怀王、顷襄王三个时期，主要活动于楚怀王时期，曾位为左徒、三闾大夫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屈原是中国文学史上第一位伟大的爱国诗人，是浪漫主义诗人的杰出代表。他所开创的新诗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楚辞，突破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诗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表现形式，极大地丰富了诗歌的表现力，为中国古代的诗歌创作开辟了一片新天地。后人也因此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楚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诗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并称为“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骚”。“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骚”是中国诗歌史上现实主义和浪漫主义两大优良传统的源头。同时，以屈原为代表的楚辞还影响到汉赋的形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关于屈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中国历史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屈原是一位深受人民景仰和热爱的诗人。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续齐谐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隋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地理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记载，屈原于农历五月初五投江自尽，以后便形成了五月初五端午节包粽子、赛龙舟的习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屈原的作品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离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天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九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九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招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篇。此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卜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渔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等篇是否为屈原所作，学术界尚有争议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离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屈原的代表作，也是中国古代文学史上最长的浪漫主义抒情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离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692360" y="1699920"/>
            <a:ext cx="64008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帝高阳之苗裔兮，朕皇考曰伯庸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摄提贞于孟陬兮，惟庚寅吾以降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皇览揆余于初度兮，肇锡余以嘉名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名余曰正则兮，字余曰灵均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纷吾既有此内美兮，又重之以修能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扈江离与辟芷兮，纫秋兰以为佩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汩余若将不及兮，恐年岁之不吾与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朝搴阰之木兰兮，夕揽洲之宿莽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月忽其不淹兮，春与秋其代序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惟草木之零落兮，恐美人之迟暮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抚壮而弃秽兮，何不改乎此度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乘骐骥以驰骋兮，来吾导夫先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-252720" y="260280"/>
            <a:ext cx="93963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昔三后之纯粹兮，固众芳之所在。杂申椒与菌桂兮，岂惟纫夫蕙芷！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彼尧舜之耿介兮，既遵道而得路；何桀纣之猖披兮，夫唯捷径以窘步！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惟夫党人之偷乐兮，路幽昧以险隘。岂余身之惮殃兮，恐皇舆之败绩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忽奔走以先后兮，及前王之踵武。荃不察余之中情兮，反信馋而疾怒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余固知謇謇之为患兮，忍而不能舍也。指九天以为正兮，夫唯灵修之故也！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初既与余成言兮，后悔遁而有他。余既不难夫离别兮，伤灵修之数化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余既兹兰之九畹兮，又树蕙之百亩。畦留夷与揭车兮，杂度蘅与方芷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冀枝叶之峻茂兮，愿俟时乎吾将刈。虽萎绝其亦何伤兮，哀众芳之芜秽！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众皆竞进以贪婪兮，凭不厌乎求索。羌内恕己以量人兮，各兴心而嫉妒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忽驰骛以追逐兮，非余心之所急。老冉冉其将至兮，恐修名之不立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朝饮木兰之坠露兮，夕餐秋菊之落英；苟余情其信姱以练要兮，长顑颔亦何伤！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揽木根以结义兮，贯薜荔之落蕊。 矫菌桂以纫蕙兮，索胡绳之纚纚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謇吾法夫前修兮，非世俗之所服。虽不周于今之人兮，愿依彭咸之遗则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长太息以掩涕兮，哀民生之多艰。余虽好修姱以靰羁兮，謇朝谇而夕替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既替余以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纟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兮，又申之以揽芷；亦余心之所善兮，虽九死其尤未悔；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怨灵修之浩荡兮，终不察夫民心。 众女疾余之蛾眉兮，谣诼谓余以善淫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固时俗之工巧兮，偭规矩而改错。背绳墨以追曲兮，竞周容以为度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忳郁邑余侘傺兮，吾独穷困乎此时也。 宁溘死以流亡兮，余不忍为此态！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鸷鸟之不群兮，自前世而固然。何方圜之能周兮，夫孰异道而相安！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屈心而抑志兮，忍尤而攘诟，伏清白以死直兮，固前圣之所厚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 悔相道之不察兮，延伫乎吾将反。回朕车以复路兮，及行迷之未远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步余马于兰皋兮，驰椒丘且焉止息。进不入以离尤兮，退将复修吾初服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制芰荷以为衣兮，集芙蓉以为裳。不吾知其亦已兮，苟余情其信芳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高余冠之岌岌兮，长余佩之陆离。芳与泽其杂糅兮，唯昭质其犹未亏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忽反顾以游目兮，将往观乎四荒。佩缤纷其繁饰兮，芳菲菲其弥章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民生各有所乐兮，余独好修以为常。虽体解吾犹未变兮，岂余心之可惩！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女媭之婵媛兮，申申其詈予。曰：“鲧婞直以亡身兮，终然夭乎羽之野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汝何博謇而好修兮，纷独有此姱节？资菉葹以盈室兮，判独离而不服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众不可户说兮，孰云察余之中情？世并举而好朋兮，夫何茕独而不予听？”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依前圣以节中兮，喟凭心而历兹。济沅湘以南征兮，就重华而陈词：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九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九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兮，夏康娱以自纵； 不顾难以图后兮，五子用乎家巷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羿淫游以佚畋兮，又好射夫封狐。固乱流其鲜终兮，浞又贪夫厥家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浇身被服强圉兮，纵欲而不忍。日康娱而自忘兮，厥首用夫颠陨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夏桀之常违兮，乃遂焉而逢殃。后辛之菹醢兮，殷宗用之不长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汤禹俨而祗敬兮，周论道而莫差。举贤才而授能兮，循绳墨而不颇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皇天无私阿兮，揽民德焉错辅。夫维圣哲以茂行兮，苟得用此下土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瞻前而顾后兮，相观民之计极。夫孰非义而可用兮，孰非善而可服？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阽余身而危死兮，揽余初其犹未悔。不量凿而正枘兮，固前修以菹醢。”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曾歔欷余郁邑兮，哀朕时之不当。揽茹蕙以掩涕兮，沾余襟之浪浪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跪敷衽以陈词兮，耿吾既得中正。驷玉虬以乘鹥兮，溘埃风余上征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朝发轫于苍梧兮，夕余至乎县圃。欲少留此灵琐兮，日忽忽其将暮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吾令羲和弭节兮，望崦嵫而匆迫。路曼曼其修远兮，吾将上下而求索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饮余马于咸池兮，总余辔乎扶桑。折若木以拂日兮，聊逍遥以相羊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前望舒使先驱兮，后飞廉使奔属。鸾皇为余先戒兮，雷师告余以未具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吾令凤鸟飞腾夕，继之以日夜。飘风屯其相离兮，帅云霓而来御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纷总总其离合兮，斑陆离其上下。吾令帝阍开关兮，倚阊阖而望予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暧暧其将罢兮，结幽兰而延伫。世溷浊而不分兮，好蔽美而嫉妒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朝吾将济于白水兮，登阆风而渫马。忽反顾以流涕兮，哀高丘之无女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溘吾游此春宫兮，折琼枝以继佩。及荣华之未落兮，相下女之可诒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吾令丰隆乘云兮，求宓妃之所在。解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纟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以结言兮，吾令蹇修以为理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纷总总其离合兮，忽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纟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其难迁。夕归次于穷石兮，朝濯发乎洧盘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保厥美以骄傲兮，日康娱以淫游。虽信美而无礼兮，来违弃而改求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览相观于四极兮，周流乎天余乃下。望瑶台之偃蹇兮，见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女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佚女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吾令鸩为媒兮，鸩告余以不好。雄鸠之鸣逝兮，余犹恶其佻巧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心犹豫而狐疑兮，欲自适而不可。凤皇既受诒兮，恐高辛之先我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欲远集而无所适兮，聊浮游以逍遥。及少康之未家兮，留有虞之二姚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理弱而媒拙兮，恐导言之不固。世溷浊而嫉贤兮，好蔽美而称恶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闺中既已邃远兮，哲王又不寤。怀朕情而不发兮，余焉能忍此终古！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索琼茅以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竹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兮，命灵氛为余占之。曰：两美其必合兮，孰信修而慕之？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思九州之博大兮，岂惟是其有女？曰：勉远逝而无狐疑兮，孰求美而释女？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何所独无芳草兮，尔何怀乎故宇？世幽昧以昡曜兮，孰云察余之善恶？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民好恶其不同兮，惟此党人其独异。户服艾以盈要兮，谓幽兰其不可佩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览察草木其犹未得兮，岂珵美之能当？苏粪壤以充帏兮，谓申椒其不芳。”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欲从灵氛之吉占兮，心犹豫而狐疑。巫咸将夕降兮，怀椒糈而要之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百神翳其备降兮，九疑缤其并迎。皇剡剡其扬灵兮，告余以吉故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曰：勉升降以上下兮，求榘镬之所同。汤禹严而求合兮，挚咎繇而能调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苟中情其好修兮，又何必用夫行媒？说操筑于傅岩兮，武丁用而不疑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吕望之鼓刀兮，遭周文而得举。宁戚之讴歌兮，齐桓闻以该辅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及年岁之未晏兮，时亦犹其未央。恐鹈之先鸣兮，使夫百草为之不芳。”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何琼佩之偃蹇兮，众薆然而蔽之。惟此党人之不谅兮，恐嫉妒而折之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缤纷其变易兮，又何可以淹留？兰芷变而不芳兮，荃蕙化而为茅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何昔日之芳草兮，今直为此萧艾也？岂其有他故兮，莫好修之害也！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余既以兰为可侍兮，羌无实而容长。委厥美以从俗兮，苟得列乎众芳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椒专佞以慢韬兮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木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又欲充夫佩帏。既干进而务入兮，又何芳之能祗？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固时俗之流从兮，又孰能无变化？览椒兰其若兹兮，又况揭车与江离？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惟兹佩之可贵兮，委厥美而历兹。芳菲菲而难亏兮，芬至今犹未沫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调度以自娱兮，聊浮游而求女。及余饰之方壮兮，周流观乎上下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4T02:21:06Z</dcterms:created>
  <dc:creator>陈子良</dc:creator>
  <dc:description/>
  <dc:language>en-US</dc:language>
  <cp:lastModifiedBy>a</cp:lastModifiedBy>
  <dcterms:modified xsi:type="dcterms:W3CDTF">2015-03-16T08:52:45Z</dcterms:modified>
  <cp:revision>19</cp:revision>
  <dc:subject>为您服务教育网http://www.wsbedu.com/</dc:subject>
  <dc:title>离骚(节选)</dc:title>
</cp:coreProperties>
</file>