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gif" ContentType="image/gif"/>
  <Override PartName="/ppt/media/chimes.wav" ContentType="audio/x-wav"/>
  <Override PartName="/ppt/media/image11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explode.wav" ContentType="audio/x-wav"/>
  <Override PartName="/ppt/media/image7.gif" ContentType="image/gif"/>
  <Override PartName="/ppt/media/image8.jpeg" ContentType="image/jpeg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ABD2-024F-4AFA-A577-FD15FE797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A182-320F-463E-9CEB-6DDA2501F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4714B0-AF91-40DD-86B3-0ACC732A0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F3B0F1-F793-4A29-8D46-3E6AED052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3175A3-5C19-4D0A-980F-65885FF6C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BC7CD6-A762-4DF8-AA00-4844A2F3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BF6ED4-94A2-42A7-9C2F-14FB8CA5D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527B97-6286-4CEB-8029-DF8D4B32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0F7BEC-5CA4-409A-966F-B864C7269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84F98A-FF93-40D4-B866-DA976DBEA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2F36E1-714D-4560-B932-5E466EC23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9ACBBD-A195-4140-9C6C-DCA8ED012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6672-6774-4E26-AA42-EDA9FF75E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0270FB-1DE3-475F-97EF-3D078AE0F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031E61-FA49-4FD5-9AED-3C5EF5B84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ED4B8F-C9EC-4EE6-B2C8-0B1C56168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875A3E-8791-4DF0-A3F2-88090E235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004305-C3A0-42F7-A229-18DB463A2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E59771-CFB1-476B-BB23-CBB65BD09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256547-E2CE-46BC-97CA-F9E8CB258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CFDCFC-CB15-4461-839A-B9F1A546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BC32B1-54DA-4041-B1E4-D567DB33E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DA55BF-BBCD-4555-9E30-BB732B928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793F-DE81-4A29-B672-E9E9A70C9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F89999-E6EC-41AA-976C-6E8EF441F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354802-8BDF-422E-A617-04A855EDA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47A3C9-C1F5-4811-AE8A-EA9473BD3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5BD9D3-408B-46D3-9CAB-2121BD2A2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B15407-540A-47BE-86EA-556CA4A4B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71F775-9A8C-4893-9D44-4B52CBFC9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F14CD3-B239-498C-9F51-DFE8C5832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09FB9C-D846-4467-AFA0-93B3AAC4B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B5C74C-42E9-4589-9520-4295A2E7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6075DB-69C3-4CFC-AF9D-7DEB0374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81270-5C7A-41B3-B70E-421B117C7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85EA3F-5EDE-4B27-ADF4-0E5C2018E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0947D9-0614-4580-8680-8D53B81FE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A4D0CA-2E7E-41EF-AB01-B2EE39F4E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9AD2E6-0B8E-405A-BFA3-2C77E0921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C99F79-4C97-4FC1-A738-475662691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483AF8-2DEC-43A6-9743-A6338761D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39B044-38E6-4C2C-B668-8AE082C81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C4526A-B840-4C3D-8F05-07560DDF8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CD21DE-9446-419E-A9CE-90CFFAD68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CCDBE7-022B-4B80-B40B-772CAF700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1B0AB-2E28-4644-8CB4-FA5B207D4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C51971-00E7-4F47-8AEE-2CA599B5D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D5A1DE-30B4-44CF-A4DF-BEF4455D7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6F5720-249A-4916-806D-834414AEA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E0CFC7-81DB-46B4-82DB-D367B880E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143A4E-F6CC-4886-ACF5-5F3BB17F5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292C34-A8EB-4AC7-B57F-887762055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94462A-67EA-42F8-B2FF-0807FAE4C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A4A1B6-41F9-455A-922C-F1895BFF3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8120DB-C518-4FA0-A19D-E7705C736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5D1B5F-72B4-4A85-9C72-50E9C2EC9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32A9A-8BC1-4C08-B963-74503C100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D1421A-00B6-4C2D-ABEA-3BEFFD2F9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63125A-BE72-41D9-8641-2FED95E50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A1790A-5ECE-4DCA-84CD-79865BC3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B26566-0B5F-4DEA-9F5F-1614DA59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FEAE51-9C0A-4DD4-8B47-73F40402C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AB9CCE-82D9-4F6B-A228-E0FA4EE08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E4F14B-3118-484F-9A09-5A210120E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8743D-63C9-420B-A65E-E414F3E32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E05E1-3735-41BB-A48B-37398AF0B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31DA8-1E07-4503-A70E-F2979C5E6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F0105-F6B1-4E31-8B81-738CEC6C7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821D-E9CB-4149-BDF8-9C8CBB2DD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D77C9-A4A7-45CB-B0BA-D66604650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926E3-851D-4D8A-A40D-75F692DD0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28601-1A5A-4C1F-ADE7-E1AEC0F75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5F7BB-CBFB-4B22-8FE1-68B7B43A2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629D4-481F-4CA0-A7BD-BE99E0F96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AC8A2-8ED5-4EC7-AC6D-BC8BEEC03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ACD8B-6834-4BCF-8B9C-FE859EAC9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FDF13-9C07-4B3A-8A68-E02EBF486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EE1B0-3061-42AE-83DE-9E60ED64B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4384C-53D0-4F9C-BDDD-7A70D9FC8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E159-9DC9-4693-913F-FFF956AB6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95DFB-CDA4-4706-8335-53545279D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677C3-49BE-40E1-B5D7-A28C4515A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2FD8C-601A-449D-AC64-D95642D0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CBDA9-C89B-46D6-9FC5-070CD3831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DBFD9-CF07-4F16-88D8-0907A6956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03BA8-4CBC-4A9F-A430-B51C34941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EA08E-1F58-40E2-8BA8-97E4B512E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C84CA-AF21-4D8B-AB03-DF3006DC7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6563B-E92C-4F3D-867B-032330D78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2DBF2-9438-4038-9EB0-BDC62F9FE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BA92-1877-41CA-AEAB-E8676BE21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B84AD-A0EB-4499-86F9-986464267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EAD76-820D-4494-9492-6CDF9C8EE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A81FA-9446-4804-A0F4-FEFB5B942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0D0C0-63C3-4CCC-9DD4-926FA2346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CE244-6A02-45CE-89F3-ED122021D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3D44C-59F8-46F3-B19C-F3C58F3B9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4C05A-7EAC-410D-A5FC-8DB2EBA51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AB8C5-6CC4-4785-BE22-B7DCF2D4F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47811-DA88-4C32-A9A3-89617AF07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FEED7F-8D81-454B-8741-751EEE5A5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8ECE-25DC-47F9-88FE-EC8AD0290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AE570-D2D0-40CA-B0F8-9D814102D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4C28F-58B3-4DA5-BB76-4EC6EB1B9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7F268A-D7B9-434E-986C-9ECE46B3A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0842B-750E-41A9-BFF5-4B53D963F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A6E22-7C4F-44F3-BEBE-00ECC7ACF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4E4E7A-6DC7-4605-8D1A-162AB7A8B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DA9D0-EEB2-4ED9-9996-DD959130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F61486-4D64-48E1-B197-061EE01F5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D6D5F-5AA1-4190-81B4-2DFB95B67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8C78F6-9912-4FE5-A790-5C41E1D76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7D66-1505-4D56-B4AF-299462ACE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5CB994-771F-4292-9EB7-89CA2E98C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00C169-1C14-4178-B447-D6E8188F1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DBFBAF-7766-4A6E-BC87-403F2863C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6A7B43-DE56-4467-8A8E-A85367690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F5BA12-1BC4-4FC5-9C1E-605FE2481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1C65E9-0484-4CFB-9C3C-619FA2F90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2E5C4B-18A7-4435-91B6-323E68242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1E1CE6-16D0-477F-A4C2-9439C6BEE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56D13E-E953-422B-86BA-892FB1B2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CFA638-0CF5-44F0-BD2A-7733171E0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51D7-679B-41A7-A86D-F04645C7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4C7954-8E76-47B9-9C3A-EF5F2C0CB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886227-1210-43B3-8F6C-7CEDABEEB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232581-9F6E-4630-9496-968F7925B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7819D5-0967-4A5E-A8EE-0B82FE229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D3CA32-6848-4135-8CB6-BEB53ED42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17B933-E6CD-4321-A245-A38A58260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68A8E5-4933-45FF-8370-31BD01C6D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FB12E2-88C1-4012-9B13-606F69AE3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AC503B-4524-4E19-B81E-09BC2F824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6A1F8E-0091-4307-AFB9-060FBAA30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E906-9B40-4C4A-88ED-2F2EC4A0A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AEAFEE-6718-47E2-A2DE-9BAEFACA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850231-80DD-4B82-BA78-36600B4D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79FA4E-3814-4C84-972B-972CC9168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3151D9-9225-4C46-B203-5E66307DF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EC837C-7E7B-4E9B-982E-1994D7BE3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ABC93F-CB9C-4835-BDFA-EE5D5729B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BFC5F0-BB84-4470-8442-A63E49476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42961D-126E-4729-BABE-465FCFF70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2B3F79-22FC-4782-981C-B6F160C4C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17729B-79B8-4A77-96DE-2FD997E0E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592A-5F91-4C1F-911E-370B6DC38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2EFEFA-B823-469A-A370-444A6EEEE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9E11F5-A56B-4B7E-B7DE-D8F5C320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5B14DD-E0A2-4C76-A7FA-6040030E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C551C3-04BC-4470-99C1-483DD4F7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F580B6-0CB5-4060-87C8-DE0F0962A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A35887-548B-4AB7-861C-D65FA9E18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3F89DF-BE90-4717-A84D-32221A704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F8AD23-29F6-4BBC-8FAB-C87A29CF2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DDFE17-69F1-4776-92E7-D2FDB8777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39B750-86AB-46AB-A45D-8DD0B7D14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611C2-8143-4B1C-8C52-AB116367B96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E4CC3-84D9-42D5-AE89-B77E7728227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CFF54-BFBC-47BD-91D6-47CAB3CA451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3F0C0-6D03-45DC-8564-CF2826FF1DD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E7611-0FF3-4402-8FB4-DE722B57B66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03A36-FC6A-4C1C-87C6-7211CB9668A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2C187-61FD-4DB2-B8A6-EB201234F66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FF0FB-17C6-4860-9C70-F622F313D30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D9FF9-A333-4337-8A3B-95982090AC3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C64E6-B14C-49D3-866E-3DC7C385F7E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97840-9A9B-4F64-9B57-A450B635D1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7EB05-41AE-4067-A552-2079BD31073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26951-DAF0-4964-9D32-52EB48A154E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3CCA6-3B05-4BE4-BE16-CF7D5AB9F82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F8B44-A9A0-4AAB-A005-AE75EBBBB37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CBC5E-4FC0-48B2-9F6D-0C74FBD25A5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CC5EB-0BF5-43DB-953E-E398C6A4205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7DFBE-DDAA-4B59-B2D1-BE2DB3A438B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DE6C4-9B40-4C79-8AD7-74C7BB0CDDA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A9A84-F917-441E-AB4A-1A67A8BD14F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0D33B-69CB-48BB-9A26-102EEF7EDD6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9C0AF-BED8-4C05-9DB7-A25651742FF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AACBE-8A24-4534-B32C-05BE6104124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714E7-501C-49C1-A861-FE179921089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B35D4-1BB8-4340-9BD9-4124BADABDA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4" name="AutoShape 3"/>
          <p:cNvSpPr/>
          <p:nvPr/>
        </p:nvSpPr>
        <p:spPr>
          <a:xfrm>
            <a:off x="2209680" y="76320"/>
            <a:ext cx="5791320" cy="1600200"/>
          </a:xfrm>
          <a:prstGeom prst="cloudCallout">
            <a:avLst>
              <a:gd name="adj1" fmla="val -47699"/>
              <a:gd name="adj2" fmla="val 5218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从哪能看出柳树醒了呢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1" name="Text Box 3"/>
          <p:cNvSpPr/>
          <p:nvPr/>
        </p:nvSpPr>
        <p:spPr>
          <a:xfrm>
            <a:off x="533520" y="76320"/>
            <a:ext cx="61722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cc"/>
                </a:solidFill>
                <a:latin typeface="Times New Roman"/>
              </a:rPr>
              <a:t>春风跟（   ）说话了，说着说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cc"/>
                </a:solidFill>
                <a:latin typeface="Times New Roman"/>
              </a:rPr>
              <a:t>…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2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7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5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2" descr="D:\素材\下载\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7" name="Text Box 3"/>
          <p:cNvSpPr/>
          <p:nvPr/>
        </p:nvSpPr>
        <p:spPr>
          <a:xfrm>
            <a:off x="380880" y="1447920"/>
            <a:ext cx="64008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33ff"/>
                </a:solidFill>
                <a:latin typeface="Times New Roman"/>
              </a:rPr>
              <a:t>自由读韵文，要求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33ff"/>
                </a:solidFill>
                <a:latin typeface="Times New Roman"/>
              </a:rPr>
              <a:t>         </a:t>
            </a:r>
            <a:r>
              <a:rPr b="1" lang="zh-CN" sz="4800" spc="-1" strike="noStrike">
                <a:solidFill>
                  <a:srgbClr val="9933ff"/>
                </a:solidFill>
                <a:latin typeface="Times New Roman"/>
              </a:rPr>
              <a:t>读准字音，把生字用自己喜欢的符号画出来，再读三遍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8" name="轻柔.MP3" descr=""/>
          <p:cNvPicPr/>
          <p:nvPr/>
        </p:nvPicPr>
        <p:blipFill>
          <a:blip r:embed="rId2"/>
          <a:stretch/>
        </p:blipFill>
        <p:spPr>
          <a:xfrm>
            <a:off x="8153280" y="5638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2"/>
          <p:cNvSpPr/>
          <p:nvPr/>
        </p:nvSpPr>
        <p:spPr>
          <a:xfrm>
            <a:off x="304920" y="457200"/>
            <a:ext cx="8839080" cy="34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醒 雷 澡 枝 软 梳 梢 耍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0" name="Picture 4" descr="q4"/>
          <p:cNvPicPr/>
          <p:nvPr/>
        </p:nvPicPr>
        <p:blipFill>
          <a:blip r:embed="rId1"/>
          <a:stretch/>
        </p:blipFill>
        <p:spPr>
          <a:xfrm>
            <a:off x="6400800" y="4398840"/>
            <a:ext cx="2089080" cy="1239840"/>
          </a:xfrm>
          <a:prstGeom prst="rect">
            <a:avLst/>
          </a:prstGeom>
          <a:ln w="0">
            <a:noFill/>
          </a:ln>
        </p:spPr>
      </p:pic>
      <p:sp>
        <p:nvSpPr>
          <p:cNvPr id="541" name="AutoShape 5"/>
          <p:cNvSpPr/>
          <p:nvPr/>
        </p:nvSpPr>
        <p:spPr>
          <a:xfrm>
            <a:off x="685800" y="4343400"/>
            <a:ext cx="5410080" cy="1066680"/>
          </a:xfrm>
          <a:prstGeom prst="cloudCallout">
            <a:avLst>
              <a:gd name="adj1" fmla="val -34597"/>
              <a:gd name="adj2" fmla="val 6993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你准备怎样记呢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Picture 4" descr="D:\素材\图片\风景\草原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5" name="Oval 5"/>
          <p:cNvSpPr/>
          <p:nvPr/>
        </p:nvSpPr>
        <p:spPr>
          <a:xfrm>
            <a:off x="838080" y="152280"/>
            <a:ext cx="7772400" cy="2971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ff"/>
                </a:solidFill>
                <a:latin typeface="Times New Roman"/>
              </a:rPr>
              <a:t>轻松一下吧！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6" name="摇蓝曲.WAV" descr=""/>
          <p:cNvPicPr/>
          <p:nvPr/>
        </p:nvPicPr>
        <p:blipFill>
          <a:blip r:embed="rId2"/>
          <a:stretch/>
        </p:blipFill>
        <p:spPr>
          <a:xfrm>
            <a:off x="7391520" y="5486400"/>
            <a:ext cx="990360" cy="83808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7" descr="1076_kitto"/>
          <p:cNvPicPr/>
          <p:nvPr/>
        </p:nvPicPr>
        <p:blipFill>
          <a:blip r:embed="rId3"/>
          <a:stretch/>
        </p:blipFill>
        <p:spPr>
          <a:xfrm>
            <a:off x="1752480" y="2819520"/>
            <a:ext cx="4861080" cy="36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5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0" name="Picture 4" descr="D:\素材\下载\春景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1" name="AutoShape 5"/>
          <p:cNvSpPr/>
          <p:nvPr/>
        </p:nvSpPr>
        <p:spPr>
          <a:xfrm>
            <a:off x="685800" y="609480"/>
            <a:ext cx="2438280" cy="914400"/>
          </a:xfrm>
          <a:prstGeom prst="wedgeEllipseCallout">
            <a:avLst>
              <a:gd name="adj1" fmla="val -45310"/>
              <a:gd name="adj2" fmla="val 699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Times New Roman"/>
              </a:rPr>
              <a:t>春雷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AutoShape 6"/>
          <p:cNvSpPr/>
          <p:nvPr/>
        </p:nvSpPr>
        <p:spPr>
          <a:xfrm>
            <a:off x="3352680" y="533520"/>
            <a:ext cx="2438640" cy="914400"/>
          </a:xfrm>
          <a:prstGeom prst="wedgeEllipseCallout">
            <a:avLst>
              <a:gd name="adj1" fmla="val -45310"/>
              <a:gd name="adj2" fmla="val 699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Times New Roman"/>
              </a:rPr>
              <a:t>春雨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AutoShape 7"/>
          <p:cNvSpPr/>
          <p:nvPr/>
        </p:nvSpPr>
        <p:spPr>
          <a:xfrm>
            <a:off x="6324480" y="457200"/>
            <a:ext cx="2438640" cy="914400"/>
          </a:xfrm>
          <a:prstGeom prst="wedgeEllipseCallout">
            <a:avLst>
              <a:gd name="adj1" fmla="val -45310"/>
              <a:gd name="adj2" fmla="val 699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Times New Roman"/>
              </a:rPr>
              <a:t>春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6" name="Picture 4" descr="D:\素材\下载\gif燕子1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7" name="轻柔.MP3" descr=""/>
          <p:cNvPicPr/>
          <p:nvPr/>
        </p:nvPicPr>
        <p:blipFill>
          <a:blip r:embed="rId2"/>
          <a:stretch/>
        </p:blipFill>
        <p:spPr>
          <a:xfrm>
            <a:off x="7924680" y="5943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1" fill="hold"/>
                                        <p:tgtEl>
                                          <p:spTgt spid="5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8" name=""/>
          <p:cNvGraphicFramePr/>
          <p:nvPr/>
        </p:nvGraphicFramePr>
        <p:xfrm>
          <a:off x="914400" y="1295280"/>
          <a:ext cx="3581280" cy="3594240"/>
        </p:xfrm>
        <a:graphic>
          <a:graphicData uri="http://schemas.openxmlformats.org/drawingml/2006/table">
            <a:tbl>
              <a:tblPr/>
              <a:tblGrid>
                <a:gridCol w="1752480"/>
                <a:gridCol w="1828800"/>
              </a:tblGrid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9" name="Text Box 15"/>
          <p:cNvSpPr/>
          <p:nvPr/>
        </p:nvSpPr>
        <p:spPr>
          <a:xfrm>
            <a:off x="1447920" y="1736640"/>
            <a:ext cx="2895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说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4495680" y="1295280"/>
          <a:ext cx="3581640" cy="3581640"/>
        </p:xfrm>
        <a:graphic>
          <a:graphicData uri="http://schemas.openxmlformats.org/drawingml/2006/table">
            <a:tbl>
              <a:tblPr/>
              <a:tblGrid>
                <a:gridCol w="1752840"/>
                <a:gridCol w="1828800"/>
              </a:tblGrid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1" name="Text Box 27"/>
          <p:cNvSpPr/>
          <p:nvPr/>
        </p:nvSpPr>
        <p:spPr>
          <a:xfrm>
            <a:off x="5029200" y="1736640"/>
            <a:ext cx="2895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话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2" name=""/>
          <p:cNvGraphicFramePr/>
          <p:nvPr/>
        </p:nvGraphicFramePr>
        <p:xfrm>
          <a:off x="914400" y="1295280"/>
          <a:ext cx="3581280" cy="3594240"/>
        </p:xfrm>
        <a:graphic>
          <a:graphicData uri="http://schemas.openxmlformats.org/drawingml/2006/table">
            <a:tbl>
              <a:tblPr/>
              <a:tblGrid>
                <a:gridCol w="1752480"/>
                <a:gridCol w="1828800"/>
              </a:tblGrid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3" name="Text Box 13"/>
          <p:cNvSpPr/>
          <p:nvPr/>
        </p:nvSpPr>
        <p:spPr>
          <a:xfrm>
            <a:off x="1447920" y="1736640"/>
            <a:ext cx="2895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朋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4495680" y="1295280"/>
          <a:ext cx="3581640" cy="3581640"/>
        </p:xfrm>
        <a:graphic>
          <a:graphicData uri="http://schemas.openxmlformats.org/drawingml/2006/table">
            <a:tbl>
              <a:tblPr/>
              <a:tblGrid>
                <a:gridCol w="1752840"/>
                <a:gridCol w="1828800"/>
              </a:tblGrid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5" name="Text Box 25"/>
          <p:cNvSpPr/>
          <p:nvPr/>
        </p:nvSpPr>
        <p:spPr>
          <a:xfrm>
            <a:off x="4952880" y="1676520"/>
            <a:ext cx="2895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友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6" name=""/>
          <p:cNvGraphicFramePr/>
          <p:nvPr/>
        </p:nvGraphicFramePr>
        <p:xfrm>
          <a:off x="914400" y="1295280"/>
          <a:ext cx="3581280" cy="3594240"/>
        </p:xfrm>
        <a:graphic>
          <a:graphicData uri="http://schemas.openxmlformats.org/drawingml/2006/table">
            <a:tbl>
              <a:tblPr/>
              <a:tblGrid>
                <a:gridCol w="1752480"/>
                <a:gridCol w="1828800"/>
              </a:tblGrid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7" name="Text Box 13"/>
          <p:cNvSpPr/>
          <p:nvPr/>
        </p:nvSpPr>
        <p:spPr>
          <a:xfrm>
            <a:off x="1447920" y="1736640"/>
            <a:ext cx="2895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春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4495680" y="1295280"/>
          <a:ext cx="3581640" cy="3581640"/>
        </p:xfrm>
        <a:graphic>
          <a:graphicData uri="http://schemas.openxmlformats.org/drawingml/2006/table">
            <a:tbl>
              <a:tblPr/>
              <a:tblGrid>
                <a:gridCol w="1752840"/>
                <a:gridCol w="1828800"/>
              </a:tblGrid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9" name="Text Box 25"/>
          <p:cNvSpPr/>
          <p:nvPr/>
        </p:nvSpPr>
        <p:spPr>
          <a:xfrm>
            <a:off x="4952880" y="1676520"/>
            <a:ext cx="2895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高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5-02-10T03:02:31Z</dcterms:modified>
  <cp:revision>8</cp:revision>
  <dc:subject/>
  <dc:title>PowerPoint Presentation</dc:title>
</cp:coreProperties>
</file>