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83EA-37DC-4E80-A859-7B9BD0E5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4E2-229D-43C3-A225-F3C5C8F3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7032E-982A-4325-A3D7-F00D588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9BAD9-4D71-4109-8D87-3CD3D9A6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80686-467E-4D09-A051-B18C8F7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D8911-438D-4B47-B92C-8D06662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5F27A-5C2F-4809-A55C-DD13B88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BF21D-D18C-45D0-9BB3-3CDD5A5B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D33E5-FDC3-4DA8-ABC8-32AFE319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E4042-3D37-4B5E-BF41-15C7EBC9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BD06-65EB-4410-9E88-FFAC82D7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09930-CA59-4CE0-BF00-6645B53B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FAD-BB9E-428B-99D9-1DC67668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54289-E4AA-46E4-8100-3A6FBA6F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5E2E4-CB69-4C7B-91EA-E9993F7E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A3193-9936-4813-8797-5DB268E7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092D3-DE41-438B-B130-3C52F392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7E722-284B-4BB3-9462-58414805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8C89C-8244-415B-91FA-8F522F10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069F7-51E8-4781-A546-AFE745E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53536-05AA-4BD5-9FB6-4026583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EB393-AF0C-45A2-A0D8-72387F7E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9E392-962B-47AE-9247-4AB7DE12B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60E-98CE-42BC-8645-210B9287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E93C-FD6B-4079-892D-D4E6E6AE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4CFB4B-63FF-4108-8E0F-AAC01AD6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14F47-0400-48E9-9977-48EC8440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A7EAB-DF6E-4561-B21E-EB7D7A1F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57E95-1F85-4422-8DFF-323D149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43652-60C8-47BD-AF67-AE5157E8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45654-73B8-42B8-9ABE-FCB96C6E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5C568-CEF2-4664-A74A-99438A5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9B59-528C-428A-A3A8-11B32710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30122-0CB4-4A1C-BB62-81DECBE0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61D8-ADF0-4DFC-B18E-F621DE1E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C626-E47E-45AF-86A1-3E8D4C63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A97D1-B09C-4C46-8D92-619F4EB2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2B3F0-B015-4965-A477-B8B9C79E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3B034-922A-46A6-B5A2-950AC874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6CEA9-4A48-46C0-A2C3-F679B210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D6A2E-5808-474F-BA31-8BA2AF6E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FF108-E260-47A7-ACB9-0A80BFA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E49C0-1F1C-4214-9F0F-1CA7A613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8792A-1601-447E-9EDD-65EC97F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A9090-9C63-47EC-A8AE-97C745E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D900-1446-4442-9BA8-1AA38682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505335-4D76-406C-96F1-F269907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5F5F8-B027-4635-9680-86C29DF1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B0ADF-F39D-4769-863A-F71BC7AB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0473B-89CF-4BB4-B00F-097C5984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2635C-D314-462F-8643-48A33D10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7AC937-CC0A-44EC-A8F2-03C6D47C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22865-8A97-451F-BAF2-757DC4A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3D7EC4-A78A-4957-81DA-9331F22A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24D67-B95A-44F1-BC79-6D531B49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2CCD6-D2CC-48B9-8790-29A0897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9C5C-09B7-49EE-B8B5-8BC7B3AC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D4208-98F5-4F30-9021-CA4B344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FA5CE-28F7-4E6F-8A61-EB63DBAC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AC11B-BB87-4456-8F23-B068394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C7965-269F-407E-AD68-646CA89D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E7C7B-E3DE-4E24-B2CA-2EE785A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82D18-48CC-4CC4-ABAE-FF1DDF2F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C07ED-2DF1-4F19-B3B1-768D98D9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2F81-564F-475B-85E5-5B25C1FE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436-E6E2-4028-8A08-5D63574A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4AB6-FD08-4BF8-8A04-E0BC27BB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B82-31DA-4E63-8171-CFF5BE2C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8BE2-C3ED-49B8-9C7F-FE8F7A6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31689-A185-4D8C-8624-858AAA8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1AD5-3F12-44E2-ACC8-E4AD501F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D3CC-AC69-459E-92DA-EB2C621E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8368-B848-43A6-BBE6-276C3DD5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7E2-E469-450D-B1D2-22F0E90F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ADB57-1E41-43AD-A796-BE7983C3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84BE3-BDDE-499F-978D-55077755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3B94-F162-48C8-B800-D7F21991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E330-2480-4618-BC22-46307956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8573E-6068-4B09-B6ED-739E275D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F56-8792-403A-9913-1D166974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73C7-1687-40BC-ABFA-B90D028E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A70E-AF24-4E1F-9206-A1C52357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8F248-5DEE-41A6-BAD4-8039A1D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8514-8BFD-4002-A190-967C6F9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4488-877F-4DB9-A5A4-6A7C00CF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888C-5564-4F56-95CC-F483C2EA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C7E8-D9FD-4A47-B089-27755D29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5F4E-DBB1-4A08-B24B-5FBBA57C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250F9-BC53-4E6E-9A92-91757511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B86F4-B675-49C4-B396-D3F09F1F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289-B58A-404F-B438-59DF7E3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0DB9-2116-4F2D-92A2-03A5918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67CD4-FDAF-4730-9346-25E14AC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4A83B-3CAC-4A3E-9622-731B2C10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F206-6651-4FD2-BDDC-FB15117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F0EBD-91D5-4EF6-BC57-BEE85CC2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4DE85-2477-4673-9C2A-77B87F67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5AE4A-0BB1-49A0-BA39-AE9376CD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85C1F-576D-48FA-91DE-96D3D3E3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E594-F45E-47AD-8F05-B13D12A3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A2270-87F5-4FBA-875D-33D77396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B26-5E45-437D-BAFB-786F01DA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62FFF-C9F6-43BB-9DAD-A8D021D5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851A-B50A-447A-830F-CE27367E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37244-2FFE-4BEF-ABC1-89866289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F2A01-B6C8-4B7A-A7F4-D31D6612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FEE6-ECEF-4471-893E-12419C7E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7A66-0F4B-4DB9-B652-883A8765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52EE8-5774-44F5-ADE9-3EA481C4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D7C4-8467-4C70-82E1-EA4C5B17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2738-7147-4DB6-AE5E-79E0BFC4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A23A-3DE9-4615-AED4-A82078DF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FEAF-0A90-4F7F-AB7B-66E9748A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BC510-7F93-4850-8C8A-EF7E7080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9CB59-3504-4486-94BA-A6FB643D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8105-267B-4F28-B22A-1B76736C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877A-195D-45D2-99F3-FD9779D9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E1F17-1733-4D76-9BD7-D26833D0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84FE-27A2-41AC-8732-70B1F902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2D4C6-8164-46BE-ABB5-A4CBD9D5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13C2-BCDD-4AFC-B096-57CE453E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FDAD1-E31B-44CA-828F-DD02B0D1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EE602-C219-459F-99AF-0A02CE8D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4D98-46E7-4D5D-8D7E-6DF2665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E6173-106E-4A0E-B42A-2CDB89D2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FCFE9-5991-4244-B7C8-1512C48B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A15AB-211B-4158-997C-642F5708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5CC44-DC8D-496C-842B-E63A3B13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3C9A3-E92F-4C1B-AA4E-68A447B5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7CE9-F717-48EC-A1DA-252E87FF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7B852-241E-4A83-89B5-A4FC6CBD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D7E06-1F1B-4BFB-A376-4F59421A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4E36-22DA-4D25-9F85-4829028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5F23-A559-4E12-BFC9-5B1E8C75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C44-6B5F-46DD-859A-83912C1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1883C-E51A-4DF3-BFA6-176AA89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BB175-E209-4FB8-8E0C-152B841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85336-B72E-4E58-8A96-044A71E2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B363-899F-4C63-9D0D-62395D0D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B3235-AD39-4A78-A615-E19851F3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5C373-A5C5-4067-9786-96019A26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0EDC1-FEE0-47BE-9612-8320F4D5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A2213-4212-48F6-81EF-800A41A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92B68-888A-4CB4-9429-CFDE3E0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81AB-85A9-4354-84BE-A20011A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2346-2AC3-4496-89D6-D5476B6A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D60F6-3A04-40D3-864A-82DF8EAA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7E1D6-A7DF-4475-BDDE-B09E2860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5D29-8268-4E54-BBEE-1C86058A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A9B16-BA83-42C3-9AC0-C6B2D27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0F739-8673-4221-A9E3-30A8E798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162AC-77E9-4103-83A4-657562C6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D0286-26E7-422D-BFB1-247310BD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ECEB-8950-46AB-B7C5-8639A62D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24C05-7B94-4BF5-8F6A-2F81857E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F7820-60DF-4759-848C-1928E281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046E-386D-4305-AC38-A5721A6A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12E-9075-4E40-AD93-1B04F800993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386F-72A0-46D2-9FDB-D9DBD2BC44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64CF-4EC3-40E0-BC05-860003A3C15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670F-22A1-4013-8E45-AE1B2DE92D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BCA-79E8-451F-9CFB-E8FBA54A97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CC3-E46C-4C9E-BBEB-9455F065FC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B13D-23D1-4C8B-AFB7-B6B3261CE3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68FB-EB77-4C88-BD45-A39EBC1EC9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97CA-5F4F-4B96-AC7A-8DD761231D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2555-F7B2-4139-A074-9B2FF558E9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12EB-5B19-4D0E-8584-1F4F4E002F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BFA5-3DFB-4FAA-9E37-5115F4A4D2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35B5-11DF-4A2B-BA82-360CA07E42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124B-6954-497C-8667-DBDE334CF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B7DB-87BC-4E70-9B12-9F8E797B56B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8EA4-D698-441D-A9A4-9C189CECC9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320F-6CDB-4E6D-B14A-0AC1A01CC3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CB5E-D790-4D5B-9669-A03E29BD4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1619-93B1-49C5-A5C3-27ACB2C450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C30-7C6A-46E8-A308-5FB4324197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3882-AF02-4DBE-97D1-69E150E81E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9C7-6866-403D-9365-0A26664717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9789-C7A4-44E5-B44D-AE6973DD7F3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B4DF-D2A4-4BEA-8DC4-1910730229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4632;&#34632;1.WAV" TargetMode="External"/><Relationship Id="rId2" Type="http://schemas.openxmlformats.org/officeDocument/2006/relationships/image" Target="../media/image1.jpeg"/><Relationship Id="rId3" Type="http://schemas.openxmlformats.org/officeDocument/2006/relationships/hyperlink" Target="file:///tmp/home/.config/libreoffice/4/user/gallery/&#34632;&#34632;2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D:\王莹\初三教案\绿色蝈蝈\蝈蝈1.jpg">
            <a:hlinkClick r:id="rId1"/>
          </p:cNvPr>
          <p:cNvPicPr/>
          <p:nvPr/>
        </p:nvPicPr>
        <p:blipFill>
          <a:blip r:embed="rId2"/>
          <a:srcRect l="0" t="0" r="0" b="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5">
            <a:hlinkClick r:id="rId3"/>
          </p:cNvPr>
          <p:cNvSpPr/>
          <p:nvPr/>
        </p:nvSpPr>
        <p:spPr>
          <a:xfrm>
            <a:off x="7924680" y="601992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  <a:path fill="darken" w="21600" h="24673">
                <a:moveTo>
                  <a:pt x="3794" y="9943"/>
                </a:moveTo>
                <a:lnTo>
                  <a:pt x="8224" y="9943"/>
                </a:lnTo>
                <a:lnTo>
                  <a:pt x="12645" y="5330"/>
                </a:lnTo>
                <a:lnTo>
                  <a:pt x="12645" y="19343"/>
                </a:lnTo>
                <a:lnTo>
                  <a:pt x="8224" y="14730"/>
                </a:lnTo>
                <a:lnTo>
                  <a:pt x="3794" y="14730"/>
                </a:lnTo>
                <a:close/>
              </a:path>
              <a:path fill="darken" w="21600" h="24673">
                <a:moveTo>
                  <a:pt x="14299" y="12337"/>
                </a:moveTo>
                <a:lnTo>
                  <a:pt x="17806" y="12337"/>
                </a:lnTo>
              </a:path>
              <a:path fill="darken" w="21600" h="24673">
                <a:moveTo>
                  <a:pt x="14299" y="9943"/>
                </a:moveTo>
                <a:lnTo>
                  <a:pt x="17806" y="7175"/>
                </a:lnTo>
              </a:path>
              <a:path fill="darken" w="21600" h="24673">
                <a:moveTo>
                  <a:pt x="14299" y="14730"/>
                </a:moveTo>
                <a:lnTo>
                  <a:pt x="17806" y="17498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-575280" y="0"/>
            <a:ext cx="2191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99"/>
                </a:solidFill>
                <a:latin typeface="Times New Roman"/>
                <a:ea typeface="华文新魏"/>
              </a:rPr>
              <a:t>绿色蝈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304920" y="762120"/>
            <a:ext cx="8610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法布尔之所以执著而艰难 地坚持自己的研究和探索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是因为他有着某种精神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;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那就是求真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即追求真理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探求真相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如果没有这种精神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就没有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《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昆虫记</a:t>
            </a:r>
            <a:r>
              <a:rPr b="1" lang="en-US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》</a:t>
            </a:r>
            <a:r>
              <a:rPr b="1" lang="zh-CN" sz="4800" spc="-1" strike="noStrike">
                <a:solidFill>
                  <a:srgbClr val="ff9966"/>
                </a:solidFill>
                <a:latin typeface="楷体_GB2312"/>
                <a:ea typeface="楷体_GB2312"/>
              </a:rPr>
              <a:t>，人类的精神之树将少掉一颗智慧</a:t>
            </a:r>
            <a:r>
              <a:rPr b="1" lang="zh-CN" sz="4800" spc="-1" strike="noStrike">
                <a:solidFill>
                  <a:srgbClr val="ff9966"/>
                </a:solidFill>
                <a:latin typeface="Times New Roman"/>
              </a:rPr>
              <a:t>之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火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喧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嚣 喑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哑 静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谧 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夺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窸窣 颚 吮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莴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螽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斯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囊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钳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子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猎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号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喙 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掠</a:t>
            </a:r>
            <a:r>
              <a:rPr b="1" lang="zh-CN" sz="3600" spc="-1" strike="noStrike">
                <a:solidFill>
                  <a:srgbClr val="ff99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贪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和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睦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忌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妒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炎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热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扰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乱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哀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鸣 沉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倾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听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扎 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酷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爱 逃</a:t>
            </a:r>
            <a:r>
              <a:rPr b="1" lang="zh-CN" sz="3600" spc="-1" strike="noStrike">
                <a:solidFill>
                  <a:srgbClr val="ff5050"/>
                </a:solidFill>
                <a:latin typeface="宋体"/>
              </a:rPr>
              <a:t>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宋体"/>
              </a:rPr>
              <a:t>弱肉强食 隐隐约约 窸窣作响 连续不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宋体"/>
              </a:rPr>
              <a:t>夜色苍茫 更胜一筹 惊慌失措 开膛破肚 津津有味 断肢残腿 毫不犹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0" y="22860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ff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比看那些无聊的小说更有趣味，更有意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                  </a:t>
            </a:r>
            <a:r>
              <a:rPr b="1" lang="en-US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99ff"/>
                </a:solidFill>
                <a:latin typeface="Times New Roman"/>
                <a:ea typeface="华文新魏"/>
              </a:rPr>
              <a:t>中国  周作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52280" y="2743200"/>
            <a:ext cx="8686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这个大科学家像哲学家一般的想，美术家一般的看，文学家一般的感受而且抒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   </a:t>
            </a:r>
            <a:r>
              <a:rPr b="1" lang="en-US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法国戏剧家    罗斯丹（</a:t>
            </a:r>
            <a:r>
              <a:rPr b="1" lang="en-US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Rostand</a:t>
            </a: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3"/>
          <p:cNvSpPr/>
          <p:nvPr/>
        </p:nvSpPr>
        <p:spPr>
          <a:xfrm>
            <a:off x="457200" y="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这样的作品在世界上诚属空前绝后。没有哪位昆虫学家具备如此高明的文学表达才能，没有哪位作家具备如此博大精深的昆虫学造诣；况且，那又是一个群情共振的雨果、巴尔扎克、左拉文学时代，一个势不可挡的拉马克、达尔文、魏斯曼生物学时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王光</a:t>
            </a:r>
            <a:r>
              <a:rPr b="1" lang="en-US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法布尔精神</a:t>
            </a:r>
            <a:r>
              <a:rPr b="1" lang="en-US" sz="36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533520" y="51814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66"/>
                </a:solidFill>
                <a:latin typeface="Times New Roman"/>
                <a:ea typeface="楷体_GB2312"/>
              </a:rPr>
              <a:t>达尔文称他是“难以效法的观察家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4"/>
          <p:cNvSpPr/>
          <p:nvPr/>
        </p:nvSpPr>
        <p:spPr>
          <a:xfrm>
            <a:off x="0" y="3808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82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法布尔生于法国南部一个农民家中。童年时代就迷上了户外大自然的花草虫鸟。在他不足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9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岁时就立志研究昆虫。后来靠自学获得了自然科学硕士、博士学位。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1880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，法布尔用积攒的一小笔钱，在小镇附近购得一处坐落在荒地上的老旧民宅，进一步研究活虫子的计划即将变成现实。他精神舒畅，用当地普罗旺斯语给这处居所取了个风趣的雅号荒石园。年复一年，荒石园主人穿着农民的粗呢子外套，吃着普通老百姓的清汤淡饭，用尖镐平铲刨挖，于是，花草争妍，灌木成丛，一座百虫乐园建好了。他守着心爱的荒石园，开足生命的马力，不知疲倦地从事独具特色的昆虫学研究，把劳动成果写进一卷又一卷的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昆虫记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。他就这样，孤独、欢欣、清苦、平静地度过了他最后的</a:t>
            </a:r>
            <a:r>
              <a:rPr b="1" lang="en-US" sz="2800" spc="-1" strike="noStrike">
                <a:solidFill>
                  <a:srgbClr val="ff99ff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4"/>
          <p:cNvSpPr/>
          <p:nvPr/>
        </p:nvSpPr>
        <p:spPr>
          <a:xfrm>
            <a:off x="0" y="1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一  探究内容   整体感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1371600"/>
            <a:ext cx="914400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夜闻：其声（柔和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日见：其形（漂亮）</a:t>
            </a: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其斗（勇敢） 生活习性 </a:t>
            </a:r>
            <a:br>
              <a:rPr sz="4400"/>
            </a:b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常喂：其食（酷爱甜食、昆虫青草、   同类相食）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常见：其居（和睦宽容</a:t>
            </a:r>
            <a:r>
              <a:rPr b="1" lang="zh-CN" sz="5400" spc="-1" strike="noStrike">
                <a:solidFill>
                  <a:srgbClr val="ff99ff"/>
                </a:solidFill>
                <a:latin typeface="宋体"/>
              </a:rPr>
              <a:t>）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0" y="228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二    探究成文之因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了解写作依据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2286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它的丰富翔实、精确细致、生动形  象的材料是怎么来的，根源在哪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0" y="380988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从文中让你看到一个怎样的科学家</a:t>
            </a:r>
            <a:r>
              <a:rPr b="1" lang="en-US" sz="4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6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文中开头所写，国庆之夜，去田间静听蝈蝈的活动，观察蝈蝈的生活习性；关于食性，不厌其烦，去观察和探究，</a:t>
            </a: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我必须另找食物，它们大概是要鲜肉吧，但究竟是什么呢？</a:t>
            </a: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为笼里喂养者的食物，他不断观察，且不断变换食物花样。同时，他时刻保持一种特有的科学研究的敏感，于清晨散步中，树下掉落之物，他跑过去，看到了以小搏大的勇敢壮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于绿色蝈蝈全面丰富的介绍，源于作者深入细致的观察和独有的科学探索的兴趣、放弃娱乐甘受寂寞的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随时感触到一个科学家夜以继日、孜孜不倦的探究活动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三   探究文质优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295280" y="2286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对比运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9"/>
          <p:cNvSpPr/>
          <p:nvPr/>
        </p:nvSpPr>
        <p:spPr>
          <a:xfrm>
            <a:off x="1869120" y="1295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拟人化的描写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0"/>
          <p:cNvSpPr/>
          <p:nvPr/>
        </p:nvSpPr>
        <p:spPr>
          <a:xfrm>
            <a:off x="1219320" y="3429000"/>
            <a:ext cx="9710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诗意浪漫化的氛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文艺的笔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传神的语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ff"/>
                </a:solidFill>
                <a:latin typeface="Times New Roman"/>
                <a:ea typeface="楷体_GB2312"/>
              </a:rPr>
              <a:t>感情的流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ff"/>
                </a:solidFill>
                <a:latin typeface="宋体"/>
              </a:rPr>
              <a:t>《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昆虫记</a:t>
            </a:r>
            <a:r>
              <a:rPr b="0" lang="en-US" sz="4400" spc="-1" strike="noStrike">
                <a:solidFill>
                  <a:srgbClr val="6699ff"/>
                </a:solidFill>
                <a:latin typeface="宋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是花了近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的时间（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70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89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写成的，此时正是法布尔人生中年到老年的漫长二十年里，以科学严谨的态度，童真而又仔细地观察了大量昆虫的活动，用富足的第一手资料，真实而生动的向我们揭示了昆虫王国的别样景观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228600" y="22860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昆虫记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是以大量科学报告材料和文学气质艰苦写成的巨著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文体基本为散文</a:t>
            </a:r>
            <a:r>
              <a:rPr b="1" lang="en-US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主体内容集中在昆虫学问题上，同时收入一些讲述经历、回忆往事的传记性文章，若干解决问题的议论，以及少量带科普知识性的文字。一位饱经沧桑、追求不止的昆虫学探索者的优势，在这部巨著中得到充分发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4"/>
          <p:cNvSpPr/>
          <p:nvPr/>
        </p:nvSpPr>
        <p:spPr>
          <a:xfrm>
            <a:off x="304920" y="457200"/>
            <a:ext cx="86104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昆虫记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》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十卷二百二十余篇，法布尔并不局限于仅仅真实地记录下昆虫的生活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而是以人性关照虫性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昆虫的本能、习性、劳动、婚恋、繁衍和死亡无不渗透着人文关怀，并以虫性反映社会人生，睿智的哲思跃然纸上；最重要的是，整部作品充满了对生命的关爱之情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充满了对自然万物的赞美之情</a:t>
            </a:r>
            <a:r>
              <a:rPr b="1" lang="en-US" sz="44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2T10:33:35Z</dcterms:created>
  <dc:creator>user</dc:creator>
  <dc:description/>
  <dc:language>en-US</dc:language>
  <cp:lastModifiedBy>a</cp:lastModifiedBy>
  <dcterms:modified xsi:type="dcterms:W3CDTF">2015-02-10T02:23:52Z</dcterms:modified>
  <cp:revision>20</cp:revision>
  <dc:subject/>
  <dc:title>PowerPoint 演示文稿</dc:title>
</cp:coreProperties>
</file>