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947-2D30-4CCE-A13E-9B122D35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A6A-A3D2-46D3-8437-51FD55FE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F589F-FB0F-489D-9BB9-B90089F9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14381-239A-4DF8-A599-508AF19B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4FF11-0C23-492E-834E-444E30BF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B390A-BEF3-4928-BBEA-7FEFDBE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D1F7B-9314-411A-9A8B-5F09FE85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DD9A3-4762-41EB-BD61-14CA6E83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F04EA-9AC6-4410-8294-FB002200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94D48-E3EA-430A-B693-906F664E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6023E-3C18-4C54-BE03-05238F84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F3A0E-EBD4-4F35-BEA7-712B82A2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527-083D-4AC7-9716-90BBAF95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7EE35-491F-466B-BDAC-D434ED5B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54E8B-31BA-44CD-B170-4E688FFE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95925-0B6A-4C22-8386-3F011D7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69443-32F4-4502-A295-4BC9DED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1B2B5-64D7-4113-A397-C61982DE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E2C4E-15DF-4D34-8579-DF081CEE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B4252-B0BF-47C2-A081-3CE59D2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F8C5F-4523-412A-B700-5AF22B0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7BA15-5456-4ABF-B5FC-BE99FFDC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98C89-5459-4A26-8BD9-66A02330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895-EB00-44EC-8090-2210C33C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EC108-DCAD-43B2-BDE1-BE292C6C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5320A-DC60-40B7-B436-4F0A3CE4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79D71-79D9-4FFF-8935-0CF520DA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362D1-3C0C-4319-A4C3-5B04C288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4F71C-DD37-43B3-8A92-F611CE5D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20C92-FEC8-4139-A814-F76327C7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3E777-11CC-4307-8348-7B09744A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A4E0-9B32-4F8A-B479-8C6D5E42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F8723-2305-4B60-A725-51232402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4A662-8B24-4484-89EE-E048B8A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C122-F301-4F2E-9A55-ABE2F121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53BB3-5751-4174-8BAF-8B349D9D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F3009-C79D-4246-8EBB-520DDC87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ABDB6-9298-4D1D-96E5-95B8DECE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11426-FF67-40AB-9041-B7F505C1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D8F9B-D094-4B12-B070-261D005B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9D3CF-0D1D-4E5F-9D02-87FBD503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9B988-2750-4DD6-8544-F903F04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76FC9-41C2-41BA-A3A1-C30094D7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FFEC2-C3E5-4089-B0AE-8C32B1E1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E122F-3C7E-4AB9-9B30-BAE9B596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D65B-6F26-464E-B5BC-1FCA980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6EF4D-9199-4A6D-9416-BD65020B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4B3FB-3CC7-4E95-82D5-791835F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62962-E25B-4214-B685-94135B0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95320-9690-40F1-B699-FD07C4C0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BA9C1-E133-4A3B-94C3-A7E4E548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24F9A-38D5-4D7D-8B45-3A58456C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5462F-101B-4A19-8026-02146173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C06B1-D65E-48C3-8236-442BA555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D2FAA-FA9B-4CF6-B8CA-B3415473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F225F-DBFD-44E6-9B1D-AF48E26E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B020-F7A2-4E3C-B0AF-EDF62B7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336F3-C7DE-4E3A-A15E-5E88CED6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05AF3-AA6E-4232-B646-E6D94EF4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3DD0E-34E4-416D-9497-6610755B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BB3B5-D458-4F70-A487-E154776C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57C58-B6DF-497C-BC1C-D8322B0E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3120A-FAF6-4290-8DEB-BB67A60F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0339D-8591-4D78-96B8-CA231929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6C84-F4D0-4C4B-8290-67749C6B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322C-968C-4149-93D4-6A886900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79D6-59D7-4F04-9681-91AF21A9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3E57-7FA3-4D3D-B531-BF37C9FF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BFD-ED72-40D6-AECF-443BCBD3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426E-9A4E-4F86-B584-C583A56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358-C7F8-4502-B4F5-1E0641F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F1B4-B02E-4A58-AFE5-11F6745A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0350-E364-4957-9CF7-009936AA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BA2E-FD95-4883-8ABD-CF2D5E6D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E8D8-2EAB-4FED-B0C9-A5DC9BB1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D2D3-D8FD-4E3D-B054-BD9D8EF4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3D79-2B25-45E1-8724-3520C95B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A2A42-6983-46ED-A84D-8ADCC895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8516-5BB0-461D-BA8F-E3745841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B8F-6751-4222-BAB3-0ADC7A6D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8B2F-FDB4-4706-99E3-7948BBB4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DA14-4BDB-4FEA-A274-B15A7D9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44A0-82D0-4DFB-8BD4-44E40D3D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1FC0-CDE0-40D4-90CC-7026ED9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1C9A-C6CE-4BBC-81FF-01AD9306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4F38-D445-4592-9063-A01BF652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B3FD-F2E5-4F47-A6D9-0B343DCB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3ECE-5B21-46FB-B355-C76DE44B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FD74-3C39-4CA1-849B-C89D8DA3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265C-D8A3-4E99-A0C7-223FAA68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C1B-34C2-4234-81C3-8008E3B9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89DD-0CCE-45ED-B467-60FA066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0F515-B54A-4DED-82A9-AC71C54F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280AD-DA01-4089-A5CF-0E2567D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B061-0F30-4AA2-8162-9479E3E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82F65-A90E-46C6-AC9E-3DBAAA7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E3EB-EC82-4488-8FB9-E0A58F1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F5E0-5797-4EED-9756-9629CEA1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8B77-E62D-405E-882C-1FE03ACB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1C82-DE87-478E-B983-84CAB19F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69FE9-C69E-41F1-84E1-2E43E919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B8A-E49F-459D-A13F-9E89270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2D087-2E8F-4022-8916-9A500180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A31BE-B6A3-436E-9C7C-75FB2C83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BDD7-C542-48B2-815E-D54FD33A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FF89-CC56-422F-AEEB-382ACDDB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D8E8-510A-4194-9E15-E06D2B16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6CB3-87C4-4AE9-9016-DE5D2E36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DE66-4AB9-4B54-8F33-74B9897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BDEE5-A992-4E36-8AA9-88A741B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E0660-A2B5-42C0-952F-8278FA6A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3D09-D69A-460B-9F98-A51515FC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896-AB59-48D4-95DA-236F6BD5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4D4E0-4110-4403-8161-A346D167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2B1EF-3C87-40CE-AAE9-37D5893F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E2599-C11E-4B2D-8C3D-3C152208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CDC2C-AAD7-4C3B-9832-4D1E5512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3CB3B-2B03-4A4A-BE9D-3C0BD75B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C29AA-2C1F-4DC3-A66B-BFF6E990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0A02A-EA9B-4B45-9C6A-206D4583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E6838-1F9C-4F35-A08D-2DA170A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4B58F-59B0-42E5-A5FB-596F1C5B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5AB2F-6E6F-494B-8E7D-F79C4D3A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3D9-072C-4980-BAC8-6DDCBB5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30D8-83AB-42EE-938D-FC0F90A6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50E5-1720-4645-B8DF-B9180FB0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BE6C7-5BEE-4444-82FF-893499E6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8253B-8512-4B91-A84C-81E32E6B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AE91-4421-44B4-8660-C1757E27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7A65-E6EC-4B37-8CAE-CC6793A9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DF08-63FC-41B5-A98E-C06AEAE5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C067-2AD5-4FC9-BD0A-71DA27D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E168-DF7D-4318-A8CE-BF1AF58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FE46D-1EE3-43E8-B7B4-2776BBE4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F32-D0E0-4249-A481-D902989C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D263-B96D-4D37-BFE2-D193381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FE9A-3E37-457F-B1A4-CC73BEDC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16DE-29E7-45E8-B268-7C7BDF4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EE372-422E-463B-A2EE-8C5A8BD7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BC193-0C20-407F-B6E1-0176938F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A8249-EBD8-47E3-874B-CE83CA90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0852D-2F14-47D4-82E6-22342223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F15D5-A2D9-49B9-8D89-2D557CFE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667B7-EBE7-4863-9C42-71D47947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04A36-B114-45E4-ABC3-A8CE5F6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194-D853-4E44-81C4-6525760F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F247-AC1D-4388-A4CE-9D5088E7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FFF10-64A8-4137-B0C7-C22466D9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501BA-314A-46C7-A890-2B17471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D335-15F7-4210-9A26-E7AC2379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F8FF-5A25-40EE-A614-923C2105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E817-54C2-4D79-8073-113342F1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59AF0-B1BD-4EF0-99D0-B9F434D9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51CA-6079-4B51-8821-E4B931EF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3499C-1CEA-4466-9A92-33C5BA28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BBE61-F385-4883-9CA2-DCB8F0E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A00-FAC1-41DE-9F3F-A191397C97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0312-9AAC-45EA-B2B5-804427175B7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D6D7-7D60-4D05-B102-FD7D1D11E4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B162-49D3-4AB2-82F0-1B5AD1F440A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2D45-621D-4FB9-8428-E9225E8AB4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23B-753B-4D92-A441-AE483943667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1A1B-5149-4DAC-9E19-963A7024DE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83DA-4AAC-436F-9085-B3889673CF5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EDE-D1B4-48FF-87F1-DBD68A1B48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C3FD-71B0-4127-840A-AE3FF5646B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EA4B-0787-40AC-B559-09A747374F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2C9E-3B70-4619-8D21-F3BA37D011F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7A92-3AAC-4B53-9D17-97229F5403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A772-FF6E-4559-8FC2-67202137E7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F09-F3B5-4B88-92C5-C48FE74424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069D-BDD5-4F66-8C09-85AB49BE238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64B9-DCE8-4104-98E8-E906514B53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582C-1052-4CCF-B2D1-501B165CA84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E2C-99BD-4524-A0AA-C8DB41FD31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9866-01CA-452E-B5D9-006E0FBFA2D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B3F4-7733-4F5E-B772-2CAC8FCE94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72D7-EA2B-4B74-A2AA-EE0A1EA1091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8911-916C-4E71-8F8A-FF34F5C4AA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16F-DFC0-4A65-9320-6AFAC9EB7B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B62C-E52D-4A9B-9AB7-05242542A3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95640" y="5621400"/>
            <a:ext cx="496728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2-09T03:06:53Z</dcterms:modified>
  <cp:revision>613</cp:revision>
  <dc:subject/>
  <dc:title>Diapositiva 1</dc:title>
</cp:coreProperties>
</file>