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C4A-9B9E-40ED-8BE1-1E7ECB2A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48F-F984-41AA-A4EA-BA6981A6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EB8E6-47AC-4EF6-9696-698EA371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E4204-8310-41C8-8C79-7B3605B8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DC461-829F-4C52-9B38-033B6D6E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56745-27CD-46E7-A2DC-46A788FD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9C6A3-FBCA-488C-B8A0-40C93629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5C7C5-075A-422D-9A1E-9E106518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30E89-BDCD-4359-8A03-14762160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5C6A9-336F-45DA-9093-B7CCBBCE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0530F-42C1-40BD-B4A6-6EAB59DD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3A807-567A-4A71-BB87-683F63F5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CE4-D6B6-4015-B664-3D86779C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DD6EA-333E-421A-BB2B-C88E20CB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C7F98-87E3-453B-B2B9-406AD523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6EE21-10F9-46BF-918E-F72CAD45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83AB2-3F88-41FD-AAC1-3A75B3C9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3BA81-C9C8-4CD4-92EF-0A6923EB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E3DAA-47DC-43EE-B52D-88F48552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BF517-C0B1-4406-B95A-1B526DF3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F2913-B730-40A9-8187-644F87BB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CFEBB-414D-4BA0-977D-FAD4B202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25E68-FC68-491B-951C-73C8537F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A11-A358-4310-82DA-4F8FB920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63DFE-276A-4307-82DE-12D639B7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E9313-E559-4196-B306-03D551BF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46791-5CB1-4E78-82C1-C31391DF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9015D-4945-481D-8326-4E3DF0F2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802DB-9532-45B5-86D9-7390D0FA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099D8-06E9-4A71-89FA-44904ADD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054FB-77AC-40B4-947E-46D3C9DA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D649D-31DC-4C27-B4FA-EA26F65C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B5FC3-1F30-460F-B748-036DAAD7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BB77F-A45E-48A3-B6ED-B61CE6A3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28F1-019E-41B1-BFAE-2A0C9FDB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803DB-E768-4EDE-AEC2-768E6D98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B22E6-0DF8-4C03-ACE9-A904C6E8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31E72-8CDC-44B8-8E5E-ACCEC6B4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48F18-3797-464E-ABE2-5CE45AB4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1B95C-B4AA-4403-AB05-40A19769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ABC94-ED0B-48EE-9095-5CF31054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A0C95-10AA-4D0E-A071-30DF048C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02916-F13E-4576-8E52-9ED0D260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C873E-BCC2-4C8A-A411-A6431272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EF97F-01F3-45FE-A1E1-F9871CA2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159B-F34D-4244-AA65-8B35F2FF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F5C96-CE29-494E-B482-859BBAA7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C9C2B-5978-4F00-802B-0EC7D647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D8C0D-4F34-4392-87C8-010DE7E6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F8907-9895-4938-B060-F6CB0051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29769-A69C-4933-A874-A27431AD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753A9-330D-4FE6-B61F-EF3AE3C1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2A4EA-9889-4BD5-BE40-2D13A5F7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59DCE-82E9-4E6F-AC44-A4E00B74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3F184-A97A-4D68-AACE-DB402D67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0DBC0-752D-48CF-9968-B9D36F59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8276-1353-40F4-9A6F-AD8DC6D6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9AB09-28AD-44B7-96F2-29D8E2C6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272F8-74E7-4C4A-8FE9-9913B426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A24CF4-9703-439B-8603-C50FD6DA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1AC31-8A72-4F23-8349-36FC4768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E0F1F-5516-4664-85FA-19667118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F31EA-9E3A-4F58-8593-F157FFCD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4940D-BBEC-4812-BB77-86066707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E798-AA25-4D13-8833-4E8F6C08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50AF-B9F6-478F-884C-03622CF4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41CD-562D-41D7-BB4C-199DC5C0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87D1-98B8-4C67-B9DA-2B2C908E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FB1-3D64-43A8-B758-EBD50110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6FF0-382E-4FD8-9B0B-05DC6A6F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2B7A-891B-4694-963A-906662AF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2EC3-3ABC-4AEC-A300-1861709D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1A1B-65C6-4BE2-A8A2-31E3FBF6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5B18-9EE4-4719-9934-A85DD13C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9A383-5F9E-4483-B628-33F8294C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6A4C2-77C9-40CD-B399-F2550A31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04995-67DE-427D-8AE5-ED5BDB75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9B1E2-24E4-4065-85F5-53EAF2CD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B188A-6B07-409D-9C47-8F010B7C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B2D-C7B2-4638-9A42-4C53EEFC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496AA-7C40-4308-97AA-51F71708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8F35E-A705-43C3-B5E3-55050D68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09A7A-15A5-4C2E-8C5E-C58A94AB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C2051-E154-4912-8DF1-5320D405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8733B-089C-44B5-919C-8A600F88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AB3AB-F554-44AA-80E3-F71299A9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C24D6-5247-46D1-94E0-2DDD25C9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0A9E3-40ED-495D-8749-8973539F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24410-CAC3-4F2F-8AE8-18CFF4C9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6DAA2-3F44-4EE1-A28B-7BDBAC8D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030-C177-4859-8D68-DC17968F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B36A8-4A55-4FAA-9546-36A3C854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39925-FCBC-41A6-BCBA-B02B50E5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DBF22-9EB9-4F2E-8662-996F178B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EFBC7-6180-461E-9C32-F5A6767C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1FB72-2E61-4E73-816B-F11B742E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8D219-5124-4CF6-9032-43E0A899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2C53C-C419-4C86-9F04-2C120211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37707-E508-4AD8-A2E5-2D11F7C6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B1610-D90C-4967-9F18-F0F19431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754B8-5059-4600-98A5-82B43D5A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E8C-8AC5-449D-88B2-5B61169D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96924-1319-4979-9815-865BB873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A84D7-B9D4-4C1C-A3FB-6C3476F7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578B3-D478-4595-948B-BEDFBC14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A17F1-FE28-46C0-810E-FB40A7E7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4248B-C51D-4849-90B9-040A6F8D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3E3CF-6BF6-483A-BBF0-D02ADEB0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F945A-2E27-4FCD-AF95-955C587C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AA38A-8A98-455A-A7AC-04A7A05A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61D11-2484-4AFC-B3B3-D7A8CED3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B4CFE-45B4-4ACE-8ECE-05EFA199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8582-544B-4CE0-8E8E-A3BEC1CB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9A64A-A7AB-4A81-B799-84EBC0AC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6F974-22FF-42E4-A854-B923303D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90831-BF92-4896-BC2D-AC98DEED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DA96B-E56D-4C68-A763-381F3997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EC225-5BFC-48CC-BF28-103BB919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CC54A-C2D4-49AE-B594-B688A90E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1B7A1-660F-41AD-B623-3F2CD053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4D82E-55E2-473D-9A46-2FBA2239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F6948-6974-416F-BC4D-7ED5FECA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C4332-2882-45BB-B6F5-5009EA69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780-F4C3-4434-8925-9F093F24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4DC85-13EB-41C8-9E15-4B108551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6425F-AF37-4197-BC66-C5A6D927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E08DF-F985-422E-A9C9-0729452C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E4A82-C35B-4737-9769-B47E3BD6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E9F93-0196-40DF-B757-A5DD5A80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0EE71-F35D-498E-A925-2975DDA5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9C51A-9996-4E36-915F-86B72106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5021D-EC9F-405E-A74B-F2E0969A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70156-01DA-4162-B318-5AA7F06B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06EFF-8E70-403B-94A1-4483941A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84C-CD43-4FDB-89BC-68B18F75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D5C7A-34A1-47D5-8C74-19DAF878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30151-A039-497E-8134-7C9BD567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3BFD2-1510-4D8B-9E8C-D241F86D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6DAD9-459C-4B74-9365-70C52811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C3101-E9E6-434F-A4B8-D1B68768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2D604-4D59-42CF-9172-EFCC2DE2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C17B6-048A-4B77-8297-DAB3A118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0438F-048A-4E4C-A69F-5D38A23D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4DB67-D442-47A7-8965-2291AC81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A7306-CB46-4B6E-8A86-0794DA28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0AB6-3B82-49E8-8C56-B35683BE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21076-C7CA-4DDD-9F9F-3ED86B88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A5C71-4660-4371-895C-F70EDFF2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332A6-0B4B-459C-ABB6-26A2967E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F5DEB-C74C-40EF-B3EB-CD8848AF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45C61-BF04-48B9-91C0-6A867601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09850-E44C-40AC-94E5-2BC38638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13455-8626-4957-993E-99CB14EE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A3AE7-6ACA-42D6-973B-78BB4CEF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E7AC3-3402-4829-BD59-0A2D1EFC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0D387-C60A-401F-8530-FFABD602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7D72-608E-4180-A243-D46A4B4D1A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CC98-8F9A-4D3C-8B3F-4CE373601846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A78D-7E8E-46BA-A6B2-4714479D1082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77D0-94F8-4E03-A219-7B129A4ED75E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1AE2-7A23-4968-8BB7-1BBBA10237D9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5BE6-9EE7-499F-8A4B-DF7D6FD372B7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4BC7-F809-4299-BBCE-B3FEA8CB4F5F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052A-6819-470F-A534-459448D1C31C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FFA7-D316-4E10-A8F4-EC842E8B831E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BB51-0C46-44E6-8601-0E6D6C49266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0E30-0E1B-4A8C-86EE-BC13763BDE1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610A-7F58-49E5-A83B-953D2723839F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040B-17E1-4BE7-8784-CDE44E9D764C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4F9C-AAC6-41CF-BD24-73CFE1D799B4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17B6-F676-4CAC-9E5D-C42755679484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EC0B-6E7E-4A55-A4BA-43D24102317F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00C4-158D-493C-B0E1-A8AF8CC6318C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FEBB-824E-477B-A0C6-0018E9530B82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1EC9-C44F-451D-ADA2-69554FC4D743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489B-1F7F-404A-93EE-B9D1100E7BA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8E0D-A618-4BFC-9C56-772214879437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051B-2EE9-4C19-ADF0-6A8451D7FE6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92F3-B6CD-4A04-A9CE-8FE25DD88F54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2655-D8B6-4E16-8F32-9228FFE5DBD7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4E1B-196F-42E3-B78C-FEEBDFC589CC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My Documents\pic084_jp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C:\My Documents\fengzheng.gif"/>
          <p:cNvPicPr/>
          <p:nvPr/>
        </p:nvPicPr>
        <p:blipFill>
          <a:blip r:embed="rId2"/>
          <a:stretch/>
        </p:blipFill>
        <p:spPr>
          <a:xfrm>
            <a:off x="2743200" y="0"/>
            <a:ext cx="4267080" cy="36576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C:\My Documents\f.gif"/>
          <p:cNvPicPr/>
          <p:nvPr/>
        </p:nvPicPr>
        <p:blipFill>
          <a:blip r:embed="rId3"/>
          <a:stretch/>
        </p:blipFill>
        <p:spPr>
          <a:xfrm>
            <a:off x="304920" y="0"/>
            <a:ext cx="4343400" cy="22860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C:\My Documents\1.gif"/>
          <p:cNvPicPr/>
          <p:nvPr/>
        </p:nvPicPr>
        <p:blipFill>
          <a:blip r:embed="rId4"/>
          <a:stretch/>
        </p:blipFill>
        <p:spPr>
          <a:xfrm>
            <a:off x="304920" y="1905120"/>
            <a:ext cx="2595600" cy="29667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7" descr="C:\My Documents\30.gif"/>
          <p:cNvPicPr/>
          <p:nvPr/>
        </p:nvPicPr>
        <p:blipFill>
          <a:blip r:embed="rId5"/>
          <a:stretch/>
        </p:blipFill>
        <p:spPr>
          <a:xfrm>
            <a:off x="3505320" y="3048120"/>
            <a:ext cx="838080" cy="1360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8" descr="C:\My Documents\40.gif"/>
          <p:cNvPicPr/>
          <p:nvPr/>
        </p:nvPicPr>
        <p:blipFill>
          <a:blip r:embed="rId6"/>
          <a:stretch/>
        </p:blipFill>
        <p:spPr>
          <a:xfrm>
            <a:off x="1981080" y="3733920"/>
            <a:ext cx="800280" cy="7426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9" descr="C:\My Documents\41.gif"/>
          <p:cNvPicPr/>
          <p:nvPr/>
        </p:nvPicPr>
        <p:blipFill>
          <a:blip r:embed="rId7"/>
          <a:stretch/>
        </p:blipFill>
        <p:spPr>
          <a:xfrm>
            <a:off x="5562720" y="3124080"/>
            <a:ext cx="914400" cy="1162080"/>
          </a:xfrm>
          <a:prstGeom prst="rect">
            <a:avLst/>
          </a:prstGeom>
          <a:ln w="0">
            <a:noFill/>
          </a:ln>
        </p:spPr>
      </p:pic>
      <p:sp>
        <p:nvSpPr>
          <p:cNvPr id="540" name="WordArt 10"/>
          <p:cNvSpPr txBox="1"/>
          <p:nvPr/>
        </p:nvSpPr>
        <p:spPr>
          <a:xfrm>
            <a:off x="1752480" y="4572000"/>
            <a:ext cx="5486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风筝</a:t>
            </a:r>
            <a:endParaRPr b="1" i="1" lang="en-US" sz="5400" spc="1" strike="noStrike">
              <a:ln w="9360">
                <a:solidFill>
                  <a:srgbClr val="ff66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0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457200" y="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一、掌握下列生字词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0" y="9144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筝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838080" y="8380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zh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ē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ng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2743200" y="9144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秃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3657600" y="8380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ū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4572000" y="7621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蟹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5562720" y="7621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xi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è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6553080" y="762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堕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7238880" y="6858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duo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0" y="17524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蕾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838080" y="1600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ĕ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1752480" y="16765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丫枝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3352680" y="16765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ā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zh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ī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5410080" y="16765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寂寞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6934320" y="16002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ì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ò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0" y="25909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憔悴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18"/>
          <p:cNvSpPr/>
          <p:nvPr/>
        </p:nvSpPr>
        <p:spPr>
          <a:xfrm>
            <a:off x="1600200" y="251460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qi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á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 cu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ì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：形容面容黄瘦，有病态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0" y="41911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萧杀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20"/>
          <p:cNvSpPr/>
          <p:nvPr/>
        </p:nvSpPr>
        <p:spPr>
          <a:xfrm>
            <a:off x="1828800" y="419112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凄凉，萧条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21"/>
          <p:cNvSpPr/>
          <p:nvPr/>
        </p:nvSpPr>
        <p:spPr>
          <a:xfrm>
            <a:off x="0" y="50292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诀别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22"/>
          <p:cNvSpPr/>
          <p:nvPr/>
        </p:nvSpPr>
        <p:spPr>
          <a:xfrm>
            <a:off x="1981080" y="502920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u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é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多指不再相间的分别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3"/>
          <p:cNvSpPr/>
          <p:nvPr/>
        </p:nvSpPr>
        <p:spPr>
          <a:xfrm>
            <a:off x="228600" y="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荡漾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905120" y="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à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ng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水波微动的样子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0" y="8380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嫌恶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1600200" y="8380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ù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厌恶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0" y="16002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笑柄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1752480" y="160020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可以拿来取笑的资料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0" y="22860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什物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1447920" y="23623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h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í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日常应用的各种小器物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0" y="30481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惊惶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1676520" y="31240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惊慌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3276720" y="304812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瑟缩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4724280" y="304812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e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身体因寒冷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228600" y="38098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受惊等蜷缩或兼抖动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16"/>
          <p:cNvSpPr/>
          <p:nvPr/>
        </p:nvSpPr>
        <p:spPr>
          <a:xfrm>
            <a:off x="0" y="45720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虐杀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Text Box 17"/>
          <p:cNvSpPr/>
          <p:nvPr/>
        </p:nvSpPr>
        <p:spPr>
          <a:xfrm>
            <a:off x="1752480" y="45720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üè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指用残酷的手段杀害人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0" y="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傲然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1600200" y="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坚强不屈的样子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0" y="7621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宽恕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1752480" y="762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宽容饶恕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0" y="16002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恍然大悟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3124080" y="152388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一下子完全明白或觉悟过来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0" y="31240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苦心孤诣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3048120" y="32004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ì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形容煞费苦心地去钻营。孤：独自。诣：学问技艺等所达到的程度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0" y="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二、默读课文初步理解文章大意及思想感情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0" y="167652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三、默读课文，理解本文结构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685800" y="32004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一（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）点题，引起下文。  二（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2-11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）回忆往事。         三（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）抒发内心无比沉重的悲哀感受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-819720" y="1066680"/>
            <a:ext cx="1826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回忆往事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AutoShape 3"/>
          <p:cNvSpPr/>
          <p:nvPr/>
        </p:nvSpPr>
        <p:spPr>
          <a:xfrm>
            <a:off x="838080" y="380880"/>
            <a:ext cx="609840" cy="5639040"/>
          </a:xfrm>
          <a:custGeom>
            <a:avLst/>
            <a:gdLst>
              <a:gd name="textAreaLeft" fmla="*/ 389520 w 609840"/>
              <a:gd name="textAreaRight" fmla="*/ 610200 w 609840"/>
              <a:gd name="textAreaTop" fmla="*/ 146880 h 5639040"/>
              <a:gd name="textAreaBottom" fmla="*/ 5492160 h 563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1523880" y="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（一）（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）回忆故乡放风筝的情形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1523880" y="152388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（二）（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3-4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）“我”不准弟弟放风筝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1447920" y="28954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（三）（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5-6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）意识到我那时的行为是“精神”虐杀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7"/>
          <p:cNvSpPr/>
          <p:nvPr/>
        </p:nvSpPr>
        <p:spPr>
          <a:xfrm>
            <a:off x="1523880" y="512136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（四）想补过，却无法补过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0" y="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四、问题讨论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0" y="762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、作者看到“远处有一二风筝浮动”，就感到“奇异和悲哀”这是为什么？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0" y="31240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33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66ff33"/>
                </a:solidFill>
                <a:latin typeface="Times New Roman"/>
              </a:rPr>
              <a:t>、“四面还是严冬萧杀</a:t>
            </a:r>
            <a:r>
              <a:rPr b="1" lang="en-US" sz="5400" spc="-1" strike="noStrike">
                <a:solidFill>
                  <a:srgbClr val="66ff33"/>
                </a:solidFill>
                <a:latin typeface="Times New Roman"/>
              </a:rPr>
              <a:t>……</a:t>
            </a:r>
            <a:r>
              <a:rPr b="1" lang="zh-CN" sz="5400" spc="-1" strike="noStrike">
                <a:solidFill>
                  <a:srgbClr val="66ff33"/>
                </a:solidFill>
                <a:latin typeface="Times New Roman"/>
              </a:rPr>
              <a:t>荡漾了。”为什么说春天“久经逝去”？为什么说春天“就在天空中荡漾了。”？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228600" y="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、看到一本外国的讲论儿童的书，为什么说是不幸？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0" y="1676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ff"/>
                </a:solidFill>
                <a:latin typeface="Times New Roman"/>
              </a:rPr>
              <a:t>4</a:t>
            </a:r>
            <a:r>
              <a:rPr b="1" lang="zh-CN" sz="5400" spc="-1" strike="noStrike">
                <a:solidFill>
                  <a:srgbClr val="ccccff"/>
                </a:solidFill>
                <a:latin typeface="Times New Roman"/>
              </a:rPr>
              <a:t>、“我还能希求什么呢？我只得心理沉重着。”表达了作者怎样的心情？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228600" y="419112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、为什么说“倒不如躲到肃杀的严冬中去吧？”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0" y="6095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457200" y="533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知识拓展：</a:t>
            </a:r>
            <a:r>
              <a:rPr b="1" lang="zh-CN" sz="7200" spc="-1" strike="noStrike">
                <a:solidFill>
                  <a:srgbClr val="00cc99"/>
                </a:solidFill>
                <a:latin typeface="Times New Roman"/>
              </a:rPr>
              <a:t>讨论</a:t>
            </a:r>
            <a:r>
              <a:rPr b="1" lang="en-US" sz="7200" spc="-1" strike="noStrike">
                <a:solidFill>
                  <a:srgbClr val="00cc99"/>
                </a:solidFill>
                <a:latin typeface="Times New Roman"/>
              </a:rPr>
              <a:t>《</a:t>
            </a:r>
            <a:r>
              <a:rPr b="1" lang="zh-CN" sz="7200" spc="-1" strike="noStrike">
                <a:solidFill>
                  <a:srgbClr val="00cc99"/>
                </a:solidFill>
                <a:latin typeface="Times New Roman"/>
              </a:rPr>
              <a:t>风筝</a:t>
            </a:r>
            <a:r>
              <a:rPr b="1" lang="en-US" sz="7200" spc="-1" strike="noStrike">
                <a:solidFill>
                  <a:srgbClr val="00cc99"/>
                </a:solidFill>
                <a:latin typeface="Times New Roman"/>
              </a:rPr>
              <a:t>》</a:t>
            </a:r>
            <a:r>
              <a:rPr b="1" lang="zh-CN" sz="7200" spc="-1" strike="noStrike">
                <a:solidFill>
                  <a:srgbClr val="00cc99"/>
                </a:solidFill>
                <a:latin typeface="Times New Roman"/>
              </a:rPr>
              <a:t>的现实意义。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304920" y="48769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小结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4:35:55Z</dcterms:created>
  <dc:creator>翻身实验学校</dc:creator>
  <dc:description/>
  <dc:language>en-US</dc:language>
  <cp:lastModifiedBy>a</cp:lastModifiedBy>
  <dcterms:modified xsi:type="dcterms:W3CDTF">2015-03-17T06:14:16Z</dcterms:modified>
  <cp:revision>5</cp:revision>
  <dc:subject/>
  <dc:title>PowerPoint 演示文稿</dc:title>
</cp:coreProperties>
</file>