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CAMERA.WAV" ContentType="audio/x-wav"/>
  <Override PartName="/ppt/media/LASER.WAV" ContentType="audio/x-wav"/>
  <Override PartName="/ppt/media/image5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TYPE.WAV" ContentType="audio/x-wav"/>
  <Override PartName="/ppt/media/WHOOSH.WAV" ContentType="audio/x-wav"/>
  <Override PartName="/ppt/media/DRIVEBY.WAV" ContentType="audio/x-wav"/>
  <Override PartName="/ppt/media/image7.png" ContentType="image/png"/>
  <Override PartName="/ppt/embeddings/oleObject1.docx" ContentType="application/vnd.openxmlformats-officedocument.wordprocessingml.documen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9B8-2F8E-433D-BE73-783CDA39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5C6-A2B9-40BA-A4DA-4D47D76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BC391-BEDE-4695-860C-3E6BA812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041BC-81A9-4898-8671-36FE39B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AD6EB-1EA8-4D7A-8B90-C7969F2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1E1F8-6FCA-4CBC-AB98-A0BAFEA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B663C-4ED0-48EE-B5BD-136E376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C34EA-5F1B-400F-AD62-6439022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C4B6-6034-4C86-A506-63AABC7D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22FDF-C70C-46DD-AB9A-F85F76B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AC49D-4491-46B1-AA95-A2E52364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DDFBD-7926-4BC3-AD7B-50A65859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655-9FC3-44C7-AB8D-5DECFB92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E7973-8F08-4218-AD6E-9FCDA05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901A3-D727-4527-B426-A2322585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C4DAC-9E03-4593-B9A3-7304760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A79B-EE8D-46A5-8352-95F7861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B8689-A521-451D-80BA-3B0B91EA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56F13-785B-4AB3-BFAB-D0BC6D1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2531-3E50-4692-ADCB-F8006B0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76D12-7004-42DF-912A-027C52D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F4234-CD3F-4429-B096-B9564CB8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7363C-787B-4DAF-BB5D-6F9942D7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9AA-D9C6-4E24-8238-BE1C483D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9E5AC-4BBC-4148-9FD9-350FF627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15549-E131-45E9-A6BD-8BF7DB3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C5DEF-B9CB-4BEE-B858-012D5207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B72F1-AF6F-4829-A46C-5679FC8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7E7C-9660-4C66-ACEE-49E5BA7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ACA3-9F7D-4F28-A98B-1F89DE14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377E9-5AFE-4DF2-855E-0417452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366E-1B67-49B0-8AAB-2557B7F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AC21D-A6E1-42E1-861F-F9A2F88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D7E0B-8AF8-4C01-A270-915E641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477-A849-46C5-B4CE-7C2E1C37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86923-E3BD-4FCD-B53E-5BA8CEC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80248-93BE-470A-B9DE-7D94E1D7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0C9EA-5A82-4632-AC32-EB09875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A071C-013C-4CD0-AF79-B622883A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374CE-0739-4D95-87E8-9DE19F30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93BFF-F791-40A8-985D-3A12888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D2F9-858B-41B3-B28F-952C10C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49F3C-8B50-4CDE-9454-6CB689E5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9FDD8-2652-4CED-811A-71907D0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AA434-83A1-47E9-808A-F9B0883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C4A3-66A0-4962-B8CD-88EBFD2B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1F091-DD21-453B-A8D3-1FA6235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BC9C7-7A4C-4D0B-858C-3A3B5B5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BD0F1-3F80-4A6F-AADE-4D7FFCD8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05EDD-C840-4B36-BC00-77637C6D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D95FF-1A90-47E7-BC5C-8CD6F222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D08FB-116D-408D-B0B9-C24A412A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9C6C6-DEDF-4F17-A53B-9BDD8C88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ABDD0-F20B-47B8-B749-F2C69284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FECE-9F83-4463-9603-CFFC95B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962EA-48D0-4039-A3A0-B810F9D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E20-082F-4614-AA4D-254979D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4B015-71A0-49EE-AC9E-169F160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52FFC-7DCA-49C2-98A7-6EA3BEB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AAA16-F33C-4A1E-A9A2-933C394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C6569-5795-4062-BC83-E9D7A44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41B78-A853-4D7D-A695-2749E68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1E212-874F-48BF-8061-F88325A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20D22-5DC5-4F36-87D7-1837B5EC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AE3-8C85-4E5E-9446-DA9E9F1D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2088-6488-42DF-B653-98EF555F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C57-4573-4E64-AAFA-3F52FD9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AFE5-1E21-4759-97E9-3B6073F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031-4B4C-4794-82F6-0E9B274F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FFB-EE71-40C3-A5E5-4B0EDE8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0D25-4F8B-400C-90B2-FFCD5F8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5DAD-E368-4309-A4BC-CAA297A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CE71-2525-41D6-9131-29D4CFCF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B55-9E4A-455B-9BDF-FC775946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BCBA-1F85-4E7D-89C7-3D62414C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572D-8B50-488F-8937-30F185A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DEE3-6D28-4C2A-805D-F1B987D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D4DC-7110-40D1-8A33-6450038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F7D4-A629-4F17-93DB-8F9E75B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485-A9F6-4A85-B809-152EB03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4E13-D3AE-4787-9DA3-02F3ED9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2B9E-2B74-4F57-AA0E-D22DD153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A7AA-9607-4AF2-BC58-453FA17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D4A6-87E9-43EE-85F0-912CBD2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AAD4-4464-48BC-B628-630EBE9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70CF-5383-48A4-B005-CB44FAB4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60F8-7F86-43BE-B0AA-CA3732B7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2E57-1159-4E4F-9483-CCFA4317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1474-2D96-42A5-80DC-01D943F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5E69-AEB0-49E2-ADA2-0993F80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F3B-63AF-410A-B637-F32AE0B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9ACA-5477-4773-B846-1134B37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F16B-154A-49C8-BB56-02710C8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E0F0-B680-43A7-958B-8B60CF7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76C8-BB93-4927-94C1-3EC2028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C9E9-B99A-4DBD-92A0-281C6C4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A7BB-BF7A-4B94-A240-D62561E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FD04-85D4-4D47-8CAC-392C51A2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3057-9E2A-4391-8143-9D04128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015F-34AC-4FE1-8D76-3128B8E8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681F-309D-4B77-B814-F2F47954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21E-0D8C-411E-AE7A-651F439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3BD7-1691-4B7F-BB9D-DE82164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B6AF-BE63-4B6B-B622-F1F27C92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A172-A2D3-4C09-A867-898618D8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1C0D-BA17-42C4-840E-1FC5A62C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B1A4-57A5-4152-A875-9BFAAA1A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AC68-9F5B-4448-ABB5-933F3D0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E9F3-A6A0-4291-8B98-315FA6B5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54B6-5F48-415F-B971-4C7A01F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2797D-59E6-429F-BF38-1A7A85AD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9ED5-D13A-4C9A-B5F2-3E26B7A7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C9D-98EB-4F7F-B914-15ABA4D6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1F02-907A-428B-8B5B-659546D1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7D3B3-E98F-4B1A-8B74-FBAA7177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F10C-364B-4470-8030-8916713D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37B8-C47F-4F90-9656-33B932EA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8D83-A656-4472-9C98-A5B3831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68B55-8FF0-4791-8E6F-07AA524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A418-5B88-4C4E-A3A3-CD1E7C33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CE68B-54BA-46F7-B3CC-744ED03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DBC0-6F6B-409A-B4E0-E03D3C3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D061-EFD0-474B-B4CE-C3094C1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308-8EE3-456A-9461-28C30D9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5D77-B439-4B82-B732-B2E5442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1A0C6-AFDE-4C3F-BB3A-BFAEAB85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630C-E0B7-48AD-95EF-1BCC53B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B75A-F30B-45E6-8544-C62F49F5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52983-6D69-4050-8548-696C0751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CB9F-738F-479B-BEB6-FEF36F5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95C0-A60B-4B12-A33D-E616DB43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9AFB-9DB3-4266-880D-C61ACC6A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26B5-0F34-4403-8CEC-14ACD67B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06AD2-3ACC-4B19-845A-57455C9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C2E-925F-4A0D-BA3A-3A1BDA3D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433A7-F11F-4BB8-81B1-ED4F3A0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0909-0620-49B3-A7B5-B687149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34604-7D2E-4A9E-A97E-E7E5468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959F7-21E5-4DCD-99A0-E6723530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20E8E-DD0F-4E1A-B36F-A8729B88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D6B3-20ED-4675-86F7-68005E60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516A-43DD-4C65-B69C-CCC6292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3D6D-C08B-41EE-A3A0-5B23478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DD0E8-795E-42A6-9805-D97D3ADF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D06DA-4CC3-4022-B4BB-49B8B8D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5F6-B3EE-4FDE-88F0-8A42208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23169-E6B8-4902-B0A9-9D041FD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1183-E29E-48E7-8358-5FA63F2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185A-3041-4C46-A5BA-A34F388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7F11-71F3-4F2A-BB16-E958F3C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98656-D813-482B-86E1-71EF049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4914D-DA10-436B-94B8-5FE36AA1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8064B-37C6-4F0A-A03A-218913A2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7B58-4A11-487C-B4BD-3839262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A525-4382-420D-8FEF-C2B59981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B8D7-1404-4FC9-98C4-88C1555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0CB-2D90-49F4-8514-CA44DC82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9"/>
          <p:cNvGraphicFramePr/>
          <p:nvPr/>
        </p:nvGraphicFramePr>
        <p:xfrm>
          <a:off x="5110200" y="5842080"/>
          <a:ext cx="523800" cy="104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0200" y="5842080"/>
                    <a:ext cx="523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2ADC-CE93-4E55-A039-74FC527950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637-0420-421D-8EDE-43F96B3B4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4610-2243-46C4-982D-1DF3B390EE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048-FDDF-4F38-9B26-E759F3930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380-70D5-4B2F-8747-18652D3210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0D92-7095-42C2-8422-371EB6868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11C-215F-476C-9C31-35ACE035F5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6324-5B44-48E1-AEF3-74D37F107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AF7D-8FE8-4BB9-B22C-342C7914FD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BC67-39C0-43E1-92AA-67770716A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A0A-3758-49D1-94E1-9ECE8C3ECF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04F5-AB2B-4733-A250-27D0FFAE52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B63-68FA-4C31-8DB9-9997C893BB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35C-0E96-45D5-AC08-478421F17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1F0-1954-446A-BD5E-2763B345E8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0C3-DE64-4FC1-816F-A45922473F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244-3FBF-4D5D-9E64-EECCC16D84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9562-AA01-42E6-A99A-EEF359E2DD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33B-DEAA-4870-831F-D562C6A40E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AA2-1BD0-4BBE-9265-031C3E3C1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057C-79FF-405D-99D4-A097874BF1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0A38-B9D0-46BC-ABF5-EAB9F9B8D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FFC-FE90-4AF7-A33D-EF9A2B6898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9F4-98FD-47EB-9706-F11FAE72C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" Target="slide5.xml"/><Relationship Id="rId18" Type="http://schemas.openxmlformats.org/officeDocument/2006/relationships/slide" Target="slide8.xml"/><Relationship Id="rId19" Type="http://schemas.openxmlformats.org/officeDocument/2006/relationships/slide" Target="slide1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图片 2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WordArt 3"/>
          <p:cNvSpPr txBox="1"/>
          <p:nvPr/>
        </p:nvSpPr>
        <p:spPr>
          <a:xfrm>
            <a:off x="792000" y="1628640"/>
            <a:ext cx="74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狼牙山五壮士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0" dir="0" blurRad="0" rotWithShape="0">
                  <a:srgbClr val="00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9" name="AutoShape 5">
            <a:hlinkClick r:id="" action="ppaction://hlinkshowjump?jump=nextslide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">
            <a:hlinkClick r:id="rId17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>
            <a:hlinkClick r:id="rId18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9">
            <a:hlinkClick r:id="rId19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457200" y="921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了不让敌人发现群众和连队主力，班长马宝玉斩钉截铁地说了一声‘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!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带头向棋盘陀走去。战士们热血沸腾，紧跟在班长后面。他们知道班长要把敌人引上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99072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“热血沸腾”是一种什么样的情绪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990720" y="3276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在班长做出决定之后，为什么会热血沸腾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990720" y="4572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是怎么知道班长要把敌人引上绝路的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6">
            <a:hlinkClick r:id="rId1" action="ppaction://hlinksldjump"/>
          </p:cNvPr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2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77" name="WordArt 1027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8" name="Rectangle 1028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029">
            <a:hlinkClick r:id="rId4" action="ppaction://hlinksldjump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030"/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031"/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032"/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2497680" y="251460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02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028"/>
          <p:cNvSpPr/>
          <p:nvPr/>
        </p:nvSpPr>
        <p:spPr>
          <a:xfrm>
            <a:off x="990720" y="19810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日军攻上棋盘陀以后，指挥官下令全体日军立定敬礼，向宁死不降的狼牙山五壮士致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0880" y="5335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马宝玉（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20—194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蔚县下元皂村人，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37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参加八路军，两年后入党。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4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在易县狼牙山为掩护主力部队和人民群众安全转移，他带领全班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名战士（时任班长）奋勇杀敌，同数千日军巧妙周旋一整天，将敌人引上绝路，胜利完成阻击掩护任务，宁死不屈，毅然跳崖牺牲，年仅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457200" y="66024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壮士宋学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河南沁阳市北孔村人。在狼牙山阻击战中，和另外四名英勇的红军战士一起牵制了日军主力，保证了大部队安全转移，是著名的“狼牙山五壮士”之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026"/>
          <p:cNvSpPr/>
          <p:nvPr/>
        </p:nvSpPr>
        <p:spPr>
          <a:xfrm>
            <a:off x="1798200" y="1066680"/>
            <a:ext cx="5641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胡德林、胡福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河北容县人，他们是叔侄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系，胡德林是叔叔，胡福才是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828720" y="152280"/>
            <a:ext cx="823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葛振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１９１７年８月生于河北曲阳，１９３８年参加八路军。１９４１年９月２５日，在河北省易县狼牙山阻击日军战斗中，弹药耗尽后，宁死不当俘虏，随班长马宝玉和其他三位战友奋勇跳下悬崖，仅葛振林因挂在悬崖树枝上而得以生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1066680" y="16765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八路军晋察冀军区授予马宝玉、胡德林、胡福才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烈士“模范荣誉战士”称号，授予葛振称、宋学义“勇敢顽强”奖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723960" y="12222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在五勇士坚守的棋盘坨主峰顶建立了纪念塔，塔为五角形，共五层，高十余米，塔真正面有聂荣臻手书的“狼牙山五勇士纪念塔”九个红色大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1676520" y="1676520"/>
            <a:ext cx="603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西郊山色郁苍茫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载酒曾过易水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壁耸青宵屏隐现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峰开紫电剑光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4"/>
          <p:cNvSpPr/>
          <p:nvPr/>
        </p:nvSpPr>
        <p:spPr>
          <a:xfrm>
            <a:off x="2814120" y="23623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风萧萧兮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壮士一去兮不复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98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4"/>
          <p:cNvSpPr/>
          <p:nvPr/>
        </p:nvSpPr>
        <p:spPr>
          <a:xfrm>
            <a:off x="266760" y="47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66ff99"/>
                </a:solidFill>
                <a:latin typeface="Times New Roman"/>
              </a:rPr>
              <a:t>狼牙山东西、东南各长１５公里，面积为２２５平方公里。环山共有五坨３６峰，主峰莲花瓣海拔１１０５米，西、北两面均为峭壁悬崖，山势险峻。东、南两面稍缓，各有一条羊肠小路通向主峰，“闫王鼻子”、“小鬼脸”等险要之处非贴壁不可逾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5">
            <a:hlinkClick r:id="rId2" action="ppaction://hlinksldjump"/>
          </p:cNvPr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49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5">
            <a:hlinkClick r:id="rId4" action="ppaction://hlinksldjump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6">
            <a:hlinkClick r:id="rId5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7">
            <a:hlinkClick r:id="rId6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8">
            <a:hlinkClick r:id="rId7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Oval 6"/>
          <p:cNvSpPr/>
          <p:nvPr/>
        </p:nvSpPr>
        <p:spPr>
          <a:xfrm>
            <a:off x="5791320" y="2209680"/>
            <a:ext cx="9903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380880" y="228600"/>
            <a:ext cx="883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94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月，日军对晋察冀边区北县区进行了三个月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秋季大扫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仅三个月的时间，日军残杀我人民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674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人，烧房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477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间，抢掠与焚毁粮食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934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万斤，抢走耕畜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93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余头，毁农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726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余件，使北岳人民受到了严重损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3">
            <a:hlinkClick r:id="rId1" action="ppaction://hlinksldjump"/>
          </p:cNvPr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60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5">
            <a:hlinkClick r:id="rId4" action="ppaction://hlinksldjump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6">
            <a:hlinkClick r:id="rId5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7">
            <a:hlinkClick r:id="rId6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8">
            <a:hlinkClick r:id="rId7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533520" y="64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五壮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个题目告诉了我们什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517680" y="2089080"/>
            <a:ext cx="90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为什么不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五战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个“壮”字是什么意思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517680" y="3689280"/>
            <a:ext cx="83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什么样的战士才能称得上壮士呢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219320" y="380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同一个任务，课文里为什么说两次胜利完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371600" y="1828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位战士虽然安全了，但是连队和群众的安全并没有得到完全的保证。正是基于这一点，五位战士才毅然地放弃了追赶大部队的做法，冒着生命的危险，把敌人引上绝路。五位战士对路线的重新选择，实际上是为群众和连队选择了生；为自己选择了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2:30:39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10T11:17:48Z</dcterms:modified>
  <cp:revision>39</cp:revision>
  <dc:subject/>
  <dc:title>第一PPT模板网-WWW.1PPT.COM</dc:title>
</cp:coreProperties>
</file>