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projctor.wav" ContentType="audio/x-wav"/>
  <Override PartName="/ppt/media/image14.jpeg" ContentType="image/jpeg"/>
  <Override PartName="/ppt/media/image2.png" ContentType="image/png"/>
  <Override PartName="/ppt/media/image9.jpeg" ContentType="image/jpeg"/>
  <Override PartName="/ppt/media/image12.jpeg" ContentType="image/jpeg"/>
  <Override PartName="/ppt/media/image7.jpeg" ContentType="image/jpeg"/>
  <Override PartName="/ppt/media/image11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13.gif" ContentType="image/gif"/>
  <Override PartName="/ppt/media/chimes.wav" ContentType="audio/x-wav"/>
  <Override PartName="/ppt/media/image6.jpeg" ContentType="image/jpe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6858000" cy="9144000"/>
  <p:custShowLst>
    <p:custShow name="自定义放映1" id="0">
      <p:sldLst>
        <p:sld r:id="rId16"/>
      </p:sldLst>
    </p:custShow>
    <p:custShow name="自定义放映3" id="1">
      <p:sldLst>
        <p:sld r:id="rId3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BA3-B51E-45AE-A90B-13C5EB71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864-DA46-4A77-8DFD-5BDDE4B1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BFA0B-253A-41E6-9AC8-E67701B2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1A0F6-7162-4091-8156-FD65C9F9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81F17-EDAC-4F96-BF74-27F400DA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BE2BA-F647-4F47-8015-66427076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EA13B-6985-4ADE-A7A3-04171965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00FAB-6408-4842-8B84-36875705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94EED-F430-410B-8DB3-4401BE3A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F9E51-0F19-4CE2-97B5-E4D0BC71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1B417-75C0-4EDC-9F51-7D86106F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6ED6A-D13A-4D18-BE5B-B55CD9E1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154-AE39-49DE-AD1F-61F41211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F0530-42A3-42E7-8BE2-60714A29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66CB3-D007-4EF7-8A78-272670A8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7B55F-5F2B-4D46-9FC8-31E4A3AB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F5BFB-F561-4D3E-91E3-FCA60985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6D8B4-74E0-400F-9A6A-E0300764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29D63-A395-40D2-9384-3A731D2A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DBC8F-A53C-4910-A65A-4C02A63F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5720A-37E2-46F5-84A5-22B70D9D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867AE-D6C8-4E59-93AF-A42584F5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4CF58-50CC-4774-A262-0A845683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745-D139-4703-8890-70CA74D0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B681F-2882-4BEA-9B0A-E61D4EF6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AC3C8-10EA-4E6F-B1F3-780B81AA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DEAF2-7DDB-4817-839A-E9BF2434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195D4-F4A9-4D2D-A04F-252ECAC5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CBA5D-7A8B-4C50-A105-C9590472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E8AAD-9D97-450C-BAE0-EAA8618F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1466D-0A73-4314-A128-A96F7C2A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62B27-83A9-4E06-97F1-A82E399B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373CE-2124-4BEA-82DF-8FD2C057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E5518-CC3C-4DF2-9704-8EDC4589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983A-8E7E-402E-BB7C-8FCD3F6C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A2B5C-530E-4A55-8153-8E7F2B7F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E5663-9191-43A0-9545-D5BC6310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BDE9B-46A9-45CB-B217-C4CFAA0D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10DE0-6A95-4F4C-AF70-E91CCF49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99144-A55D-4D33-849C-734175CA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EE27B-AAC3-4232-99F3-4E8704E8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E1373-310B-432A-8421-85A044C8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47BE8-E847-41F3-9A3D-0888500C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1B2BE-34C0-40D7-ACBC-B9274522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3D49B-67AE-4BBF-B25C-A2C8D407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2D1E-3257-42D4-B5BF-F5589552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B330C-2BF7-4584-9B75-C91EC663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D2AAE-E750-4182-99FE-9F7E3620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C92E0-A73D-425C-B71C-B85C9EDD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5BD3D-9EC1-4E05-A0E7-F865574D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F814C-714B-4099-84FC-C1CE5D67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A7BC7-4B98-427D-9380-030015E7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AA59A-A739-418E-9960-3D962E31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956CE-6BF2-4FBB-AE89-646224A1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1C901-8B65-4D02-AA4D-509B76E1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2827E-01C0-4DA6-8B41-DD7C3225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68DB-C0E4-40A2-9CC6-082B8524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5F1B4-0C32-4179-A355-1425BAE0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48715D-AFAD-4FBE-BDF7-42DA1E52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624E0-C8EB-4E60-A1BC-57CCB8CC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6AF27-4328-4E93-A1D7-6F1826F9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039C9-AF84-4695-B88D-25513BAE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5B574-1454-4ABE-85CF-9D94E616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0377C-EB34-4823-AABD-AEF9C356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E02352-0CD2-4212-8284-130F04B7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57E88-826C-4934-B78B-5CF9A7DB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533DF-D3B0-4634-93F8-9E0696F3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BA7F-1099-400A-94F1-3F5D8642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98DAE-6253-4AB3-A1DC-92746623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F2F945-B9EE-47E7-9FAC-862AE215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134E0-5938-4B77-B979-159ADDE3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24CDC-AB65-467B-8D46-4989641C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A63A97-F091-40DE-A489-96801B9C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394DA2-683C-4D04-B5F5-01388A88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97846A-68B5-4492-BF92-42F7F28B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FB78C-A0B1-4CE7-A3E6-02F76A0B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A3CDC7-8E45-449D-B487-1A6D8405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D218-99E8-44EB-8173-3E1F2C0C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D6ED-7AB3-4953-8BE5-8B62F387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50D7-18D4-490E-952D-297AAF31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8D3-A1D4-4649-AED7-C4EF0D27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A2A0-EF76-439B-8C31-C5DDBFAA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0ADE-BDF0-497A-897E-6E1142DB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E058-5C72-4DD5-B957-D91F8FC6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9871-5424-4EAC-B35B-CD432367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27A7-CA7E-4CF8-A181-1C620A7C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5FF71-7E3A-4A66-916D-B8755F47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FD8D9-7177-4FD3-A645-739D9AE9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84FC9-62AC-42A1-956E-B8193FB5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6DE20-A335-4EE1-966C-E104FA51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9FBBC-6904-4AC1-96B3-94361F41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9EF-1255-4496-8342-6D02C8A5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3A071-408A-4271-9F09-BDF26BC4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0AA16-BDC2-4712-8C7D-C0F0656F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6E11C-0107-4062-B523-031BB053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C09E-5DFE-4349-A51B-18DA6B10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1845D-1EFD-4668-A429-CCF3F753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57507-B4CF-46E3-9485-ED0A1A77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4B618-5BBC-41D9-9059-150C5F99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3B310-6B92-4A73-A31A-43C641B0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BE3AF-ABBE-4AD8-A314-2153EDBA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32677-5315-48F9-96BB-AFF3A1E1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8D9-71F3-4C97-935E-CB799DC1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B446C-447E-475F-93FE-B290A3D6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3F0F1-542D-46C6-9A1A-80547FA8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4F3FF-F3B4-4BEF-9624-B01282A2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7DA82-BE80-446A-9559-29B163DB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B08DE-F233-4E78-8F7C-ECFB456D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3C19C-CFAF-4B02-8276-6D0CB524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50C7F-1094-4EFE-820E-9BC70EF1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9C65D-8B06-49BD-B15B-D4E01660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B291C-0E08-496D-856D-270548B5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90B14-6A67-4AA1-99C3-AAC2A055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E22E-A510-42EF-B1D5-527194AE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F30A5-DD66-4FBB-9404-721EA31D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9FBB0-4FF9-43EC-996E-174E9158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2DB63-FA4A-448F-8975-AA3F0BF7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B64F0-3D82-4547-83B3-360439E6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A580F-1966-4EA6-93C8-A51DCF6A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D8B31-1AA5-4A9E-ABC3-079DB5FC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C8B43-5ACA-4BE2-8036-129BCB79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23172-CFEB-42E3-8171-C236F871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EAA5D-0373-437B-ACEE-8684840A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D5DF7-C848-4301-AA50-08746F13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A4C-5180-4860-BA59-18029940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4C15E-00A2-4425-B706-E29EBD60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9418F-32CB-4F9D-A42C-A2CD0AAB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7950E-0423-410D-849A-A5CD5E1F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184C9-E971-4104-9B97-26103D97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03A2C-C878-4974-A092-230A5DC2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1C544-88C9-466F-A95C-799DC60B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0F654-922A-4E70-85FF-CB3C4BA5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AF856-88B3-4160-B275-DCE389D9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E6DA7-EFB7-40A1-9F13-E081F1FD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D6A5E-9972-4433-9936-9949DC08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BDB-0D00-427A-9E4E-335A1149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77E32-C62D-45F0-8E5D-A3CFCB2E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7F945-6087-4A6E-8D35-AC602E00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91743-3F1D-44CF-BB94-393013C8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BB378-0056-41C4-AB59-A1D29C10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F4B33-1EE6-47FF-A132-89877697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59347-A498-4C66-83EA-356BC334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F6F27-9501-443F-B09A-756C550C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73C90-3D87-4AA8-A5AD-902239DA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80356-55BD-4B0C-90D6-61E81A69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7E782-D73C-459B-B346-6C48F262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C0AD-E55D-4BFF-ACA8-E851E0BC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A216B-8883-4470-8AAF-776700C9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198D2-C8AC-4473-8496-2AED9DB4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B2BA2-368E-48C0-97D4-BCD0797F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9EC7A-682F-4063-9FA6-C8FCDA0C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948F8-758C-48B1-A7B6-257A619D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9B88A-A67C-47CD-8E16-8DF32CDD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D5093-BE02-417A-A5E3-BD0FC2F8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9D09A-1AC7-4601-8625-5818245D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EE7BA-D1A7-48F7-83DA-A65F6627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DDE48-2885-4159-8B03-F10E4187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EC47-83CD-429D-8D80-61FD45D6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99C43-3450-4581-8C44-FCC2DD94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F9CD9-575D-4274-B823-67D0161E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54FBB-7485-45BF-B27F-B1243673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C64AC-485D-4D49-89D5-313709D8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1E7DE-D896-4A25-80E0-CE3C6740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C09B4-26E0-45AF-B4A1-5649DDF1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1A73F-C505-4FC7-9B81-3550BA4F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00392-BE35-4C24-97D1-A1828A49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08A30-E89F-46E7-A94B-88CFBD0C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DECA4-6C46-45C0-8B8F-1A08B7DA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0726-3906-4D61-83E8-299BE2C6F034}" type="slidenum">
              <a:rPr b="0" lang="en-US" sz="1400" spc="-1" strike="noStrike">
                <a:solidFill>
                  <a:srgbClr val="ffffe9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3BEA-07B5-45F9-BA6C-0FE58F3675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DC26-CDD7-4990-BBCD-684325D3A0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515D-F200-4017-887A-180EEA9A3D6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8928-DA1D-4A05-B276-3E6757513C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43B5-E9F3-4800-8271-C468BC4CC60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9128-19A6-4C72-BF29-E244AA7454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09E7-33F6-4403-A711-975B964985F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79DD-A8C9-436D-8BA6-C88B2D1338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1674-093E-4C0B-BDFA-164177CF2F3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B740-E3C3-4BEA-97C6-2946250CF6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AD0E-10CC-472B-9769-669D601C53A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BA76-E9E5-4528-AA1D-70CF0B403A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5058-E7C9-415F-A970-0CB91F2B603D}" type="slidenum">
              <a:rPr b="0" lang="en-US" sz="1400" spc="-1" strike="noStrike">
                <a:solidFill>
                  <a:srgbClr val="00264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9599-186D-4D4B-A3FF-8346A6BD6DD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1DCD-9F4C-4EED-8CE1-6AD5F1C4D7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E006-0B1A-4161-A37B-6D13A5F6A5C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4975-0239-4A17-A657-DEADB2E763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A393-03CA-428A-A262-88FCD3EC91A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1204-5F84-4341-B00F-2576A8A378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8040-8243-4BD0-8E5B-F92D4B2A233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A7B9-4468-4F43-891F-8B2E354B7D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FCFC-ECFE-459F-8603-9B0F1584BC5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FA71-A6B7-4B72-BD63-128FBA7AC8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EEB7-1C1C-4053-8446-FBA78A1B34D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362A-2DF5-453D-A505-2F82DF1950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324000" y="213372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1988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年初，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75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位诺贝尔奖得主曾在巴黎宣称：如果人类要在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2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世纪生存下去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就必须回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25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年前，去吸取孔子的智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西方学者尚且如此呼吁，那么作为中国人更应辨正地 、批判地去继承中华民族优秀地文化传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1295280" y="38088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导入新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3492360" y="537372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走近孔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3"/>
          <p:cNvSpPr/>
          <p:nvPr/>
        </p:nvSpPr>
        <p:spPr>
          <a:xfrm>
            <a:off x="457200" y="160020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1203480" y="380880"/>
            <a:ext cx="323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整体感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228600" y="2514600"/>
            <a:ext cx="960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思考：本文内容主要包括哪几个方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1042920" y="3789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求知态度；学习方法；修身做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-360" y="1676520"/>
            <a:ext cx="8839080" cy="1752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e9"/>
                </a:solidFill>
                <a:latin typeface="隶书"/>
                <a:ea typeface="隶书"/>
              </a:rPr>
              <a:t>合作探究课文前五则</a:t>
            </a:r>
            <a:r>
              <a:rPr b="0" lang="zh-CN" sz="4400" spc="-1" strike="noStrike">
                <a:solidFill>
                  <a:srgbClr val="ffffe9"/>
                </a:solidFill>
                <a:latin typeface="宋体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pull dir="d"/>
    <p:sndAc>
      <p:stSnd>
        <p:snd r:embed="rId2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58560" y="476280"/>
            <a:ext cx="36226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隶书"/>
              </a:rPr>
              <a:t>朗读课文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388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宋体"/>
              </a:rPr>
              <a:t>人不知而不愠</a:t>
            </a:r>
            <a:r>
              <a:rPr b="1" lang="en-US" sz="3200" spc="-1" strike="noStrike">
                <a:solidFill>
                  <a:srgbClr val="00264c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ùn</a:t>
            </a:r>
            <a:r>
              <a:rPr b="1" lang="en-US" sz="3200" spc="-1" strike="noStrike">
                <a:solidFill>
                  <a:srgbClr val="00264c"/>
                </a:solidFill>
                <a:latin typeface="宋体"/>
              </a:rPr>
              <a:t>)   </a:t>
            </a:r>
            <a:r>
              <a:rPr b="1" lang="zh-CN" sz="3200" spc="-1" strike="noStrike">
                <a:solidFill>
                  <a:srgbClr val="00264c"/>
                </a:solidFill>
                <a:latin typeface="宋体"/>
              </a:rPr>
              <a:t>学而不思则罔</a:t>
            </a:r>
            <a:r>
              <a:rPr b="1" lang="en-US" sz="3200" spc="-1" strike="noStrike">
                <a:solidFill>
                  <a:srgbClr val="00264c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ǎng</a:t>
            </a:r>
            <a:r>
              <a:rPr b="1" lang="en-US" sz="3200" spc="-1" strike="noStrike">
                <a:solidFill>
                  <a:srgbClr val="00264c"/>
                </a:solidFill>
                <a:latin typeface="宋体"/>
              </a:rPr>
              <a:t>)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宋体"/>
              </a:rPr>
              <a:t>思而不学则殆</a:t>
            </a:r>
            <a:r>
              <a:rPr b="1" lang="en-US" sz="3200" spc="-1" strike="noStrike">
                <a:solidFill>
                  <a:srgbClr val="00264c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dài</a:t>
            </a:r>
            <a:r>
              <a:rPr b="1" lang="en-US" sz="3200" spc="-1" strike="noStrike">
                <a:solidFill>
                  <a:srgbClr val="00264c"/>
                </a:solidFill>
                <a:latin typeface="宋体"/>
              </a:rPr>
              <a:t>)   </a:t>
            </a:r>
            <a:r>
              <a:rPr b="1" lang="zh-CN" sz="3200" spc="-1" strike="noStrike">
                <a:solidFill>
                  <a:srgbClr val="00264c"/>
                </a:solidFill>
                <a:latin typeface="宋体"/>
              </a:rPr>
              <a:t>不亦说</a:t>
            </a:r>
            <a:r>
              <a:rPr b="1" lang="en-US" sz="3200" spc="-1" strike="noStrike">
                <a:solidFill>
                  <a:srgbClr val="00264c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uè</a:t>
            </a:r>
            <a:r>
              <a:rPr b="1" lang="en-US" sz="3200" spc="-1" strike="noStrike">
                <a:solidFill>
                  <a:srgbClr val="00264c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264c"/>
                </a:solidFill>
                <a:latin typeface="宋体"/>
              </a:rPr>
              <a:t>乎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宋体"/>
              </a:rPr>
              <a:t>三省</a:t>
            </a:r>
            <a:r>
              <a:rPr b="1" lang="en-US" sz="3200" spc="-1" strike="noStrike">
                <a:solidFill>
                  <a:srgbClr val="00264c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xǐng</a:t>
            </a:r>
            <a:r>
              <a:rPr b="1" lang="en-US" sz="3200" spc="-1" strike="noStrike">
                <a:solidFill>
                  <a:srgbClr val="00264c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264c"/>
                </a:solidFill>
                <a:latin typeface="宋体"/>
              </a:rPr>
              <a:t>吾身     传</a:t>
            </a:r>
            <a:r>
              <a:rPr b="1" lang="en-US" sz="3200" spc="-1" strike="noStrike">
                <a:solidFill>
                  <a:srgbClr val="00264c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chuán</a:t>
            </a:r>
            <a:r>
              <a:rPr b="1" lang="en-US" sz="3200" spc="-1" strike="noStrike">
                <a:solidFill>
                  <a:srgbClr val="00264c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264c"/>
                </a:solidFill>
                <a:latin typeface="宋体"/>
              </a:rPr>
              <a:t>不习乎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宋体"/>
              </a:rPr>
              <a:t>诲女</a:t>
            </a:r>
            <a:r>
              <a:rPr b="1" lang="en-US" sz="3200" spc="-1" strike="noStrike">
                <a:solidFill>
                  <a:srgbClr val="00264c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rǔ</a:t>
            </a:r>
            <a:r>
              <a:rPr b="1" lang="en-US" sz="3200" spc="-1" strike="noStrike">
                <a:solidFill>
                  <a:srgbClr val="00264c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264c"/>
                </a:solidFill>
                <a:latin typeface="宋体"/>
              </a:rPr>
              <a:t>知之乎     不知为</a:t>
            </a:r>
            <a:r>
              <a:rPr b="1" lang="en-US" sz="3200" spc="-1" strike="noStrike">
                <a:solidFill>
                  <a:srgbClr val="00264c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éi</a:t>
            </a:r>
            <a:r>
              <a:rPr b="1" lang="en-US" sz="3200" spc="-1" strike="noStrike">
                <a:solidFill>
                  <a:srgbClr val="00264c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264c"/>
                </a:solidFill>
                <a:latin typeface="宋体"/>
              </a:rPr>
              <a:t>不知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宋体"/>
              </a:rPr>
              <a:t>是知</a:t>
            </a:r>
            <a:r>
              <a:rPr b="1" lang="en-US" sz="3200" spc="-1" strike="noStrike">
                <a:solidFill>
                  <a:srgbClr val="00264c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hì</a:t>
            </a:r>
            <a:r>
              <a:rPr b="1" lang="en-US" sz="3200" spc="-1" strike="noStrike">
                <a:solidFill>
                  <a:srgbClr val="00264c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264c"/>
                </a:solidFill>
                <a:latin typeface="宋体"/>
              </a:rPr>
              <a:t>也</a:t>
            </a:r>
            <a:r>
              <a:rPr b="0" lang="zh-CN" sz="24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             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914400" y="4952880"/>
            <a:ext cx="680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◆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</a:rPr>
              <a:t>结合具体语言环境，读准字音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</a:rPr>
              <a:t>◆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</a:rPr>
              <a:t>处理好停顿和语速、语调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S.WAV" descr=""/>
          <p:cNvPicPr/>
          <p:nvPr/>
        </p:nvPicPr>
        <p:blipFill>
          <a:blip r:embed="rId6"/>
          <a:stretch/>
        </p:blipFill>
        <p:spPr>
          <a:xfrm>
            <a:off x="8610480" y="60958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6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1" dur="5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6" dur="5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6" dur="5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质疑交流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曰：“学而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时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，不亦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乎？有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远方来，不亦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乎？人不知而不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不亦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君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乎？”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曾子曰：“吾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日三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身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不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乎？与朋友交而不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乎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乎？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质疑交流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子曰：“温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知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可以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师矣。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子曰：“学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思则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思而不学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子曰：“由，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诲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乎！知之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之，不知为不知，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是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。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4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1927080" y="6094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分类式学习笔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380880" y="1676520"/>
            <a:ext cx="32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8c0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作家作品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990720" y="2743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762120" y="2666880"/>
            <a:ext cx="74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0" y="472428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78c0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成语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2627280" y="4581360"/>
            <a:ext cx="409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温故知新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不亦乐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1692360" y="2421000"/>
            <a:ext cx="66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孔子，名丘，字仲尼，春秋时鲁国陬邑人，我国伟大的思想家、教育家。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论语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记录孔子和他弟子言行的书，是儒家经典著作之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10"/>
          <p:cNvSpPr/>
          <p:nvPr/>
        </p:nvSpPr>
        <p:spPr>
          <a:xfrm>
            <a:off x="457200" y="3886200"/>
            <a:ext cx="18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2"/>
          <p:cNvSpPr/>
          <p:nvPr/>
        </p:nvSpPr>
        <p:spPr>
          <a:xfrm>
            <a:off x="457200" y="4419720"/>
            <a:ext cx="18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6"/>
          <p:cNvSpPr/>
          <p:nvPr/>
        </p:nvSpPr>
        <p:spPr>
          <a:xfrm>
            <a:off x="487440" y="5638680"/>
            <a:ext cx="18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2270160" y="4749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1713600" y="765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分类式学习笔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990720" y="2690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762120" y="2666880"/>
            <a:ext cx="748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971640" y="1628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8c0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名言警句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3"/>
          <p:cNvSpPr/>
          <p:nvPr/>
        </p:nvSpPr>
        <p:spPr>
          <a:xfrm>
            <a:off x="0" y="227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学习方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14"/>
          <p:cNvSpPr/>
          <p:nvPr/>
        </p:nvSpPr>
        <p:spPr>
          <a:xfrm>
            <a:off x="2987640" y="2060640"/>
            <a:ext cx="615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学而时习之；温故而知新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学而不思则罔，思而不学则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15"/>
          <p:cNvSpPr/>
          <p:nvPr/>
        </p:nvSpPr>
        <p:spPr>
          <a:xfrm>
            <a:off x="0" y="3500280"/>
            <a:ext cx="35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学习态度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17"/>
          <p:cNvSpPr/>
          <p:nvPr/>
        </p:nvSpPr>
        <p:spPr>
          <a:xfrm>
            <a:off x="3059280" y="3573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知之为知之，不知为不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8"/>
          <p:cNvSpPr/>
          <p:nvPr/>
        </p:nvSpPr>
        <p:spPr>
          <a:xfrm>
            <a:off x="0" y="4869000"/>
            <a:ext cx="38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修身做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20"/>
          <p:cNvSpPr/>
          <p:nvPr/>
        </p:nvSpPr>
        <p:spPr>
          <a:xfrm>
            <a:off x="3132000" y="4869000"/>
            <a:ext cx="344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人不知而不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24"/>
          <p:cNvSpPr/>
          <p:nvPr/>
        </p:nvSpPr>
        <p:spPr>
          <a:xfrm>
            <a:off x="2270160" y="47052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25"/>
          <p:cNvSpPr/>
          <p:nvPr/>
        </p:nvSpPr>
        <p:spPr>
          <a:xfrm>
            <a:off x="2987640" y="551664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为人谋而不忠乎？与朋友交而不信乎？传不习乎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898560" y="2025720"/>
            <a:ext cx="466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8c0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974880" y="294012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3733920" y="302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1066680" y="388620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3946680" y="3854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7"/>
          <p:cNvSpPr/>
          <p:nvPr/>
        </p:nvSpPr>
        <p:spPr>
          <a:xfrm>
            <a:off x="3962520" y="388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9"/>
          <p:cNvSpPr/>
          <p:nvPr/>
        </p:nvSpPr>
        <p:spPr>
          <a:xfrm>
            <a:off x="1143000" y="472428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1"/>
          <p:cNvSpPr/>
          <p:nvPr/>
        </p:nvSpPr>
        <p:spPr>
          <a:xfrm>
            <a:off x="990720" y="5486400"/>
            <a:ext cx="466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8c0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2"/>
          <p:cNvSpPr/>
          <p:nvPr/>
        </p:nvSpPr>
        <p:spPr>
          <a:xfrm>
            <a:off x="1906560" y="47484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拓展与反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3"/>
          <p:cNvSpPr/>
          <p:nvPr/>
        </p:nvSpPr>
        <p:spPr>
          <a:xfrm>
            <a:off x="609480" y="2133720"/>
            <a:ext cx="8070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98b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在本文论述的教育思想中，你认为最有价值的是哪一点？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598b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598b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在学习生活中，你在哪一方面做得最不够，今后有何打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898560" y="2025720"/>
            <a:ext cx="466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8c0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974880" y="294012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3733920" y="302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1066680" y="388620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946680" y="3854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3962520" y="388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1143000" y="472428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990720" y="5486400"/>
            <a:ext cx="466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8c0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2"/>
          <p:cNvSpPr/>
          <p:nvPr/>
        </p:nvSpPr>
        <p:spPr>
          <a:xfrm>
            <a:off x="1814760" y="3589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挑战自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14"/>
          <p:cNvSpPr/>
          <p:nvPr/>
        </p:nvSpPr>
        <p:spPr>
          <a:xfrm>
            <a:off x="0" y="2389320"/>
            <a:ext cx="100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你能用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分钟背出这五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665" name="Picture 5" descr="tuhai_888gj9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" descr="再见"/>
          <p:cNvPicPr/>
          <p:nvPr/>
        </p:nvPicPr>
        <p:blipFill>
          <a:blip r:embed="rId3"/>
          <a:stretch/>
        </p:blipFill>
        <p:spPr>
          <a:xfrm>
            <a:off x="1523880" y="990720"/>
            <a:ext cx="6324840" cy="3530520"/>
          </a:xfrm>
          <a:prstGeom prst="rect">
            <a:avLst/>
          </a:prstGeom>
          <a:ln w="0">
            <a:noFill/>
          </a:ln>
        </p:spPr>
      </p:pic>
      <p:pic>
        <p:nvPicPr>
          <p:cNvPr id="667" name="pinghuqiuyue.mp3" descr=""/>
          <p:cNvPicPr/>
          <p:nvPr/>
        </p:nvPicPr>
        <p:blipFill>
          <a:blip r:embed="rId4"/>
          <a:stretch/>
        </p:blipFill>
        <p:spPr>
          <a:xfrm>
            <a:off x="1522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  <p:sndAc>
      <p:stSnd>
        <p:snd r:embed="rId5" name="chimes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6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e9"/>
                </a:solidFill>
                <a:latin typeface="Times New Roman"/>
                <a:ea typeface="隶书"/>
              </a:rPr>
              <a:t>《</a:t>
            </a:r>
            <a:r>
              <a:rPr b="1" lang="zh-CN" sz="6000" spc="-1" strike="noStrike">
                <a:solidFill>
                  <a:srgbClr val="ffffe9"/>
                </a:solidFill>
                <a:latin typeface="Times New Roman"/>
                <a:ea typeface="隶书"/>
              </a:rPr>
              <a:t>论语</a:t>
            </a:r>
            <a:r>
              <a:rPr b="1" lang="en-US" sz="6000" spc="-1" strike="noStrike">
                <a:solidFill>
                  <a:srgbClr val="ffffe9"/>
                </a:solidFill>
                <a:latin typeface="Times New Roman"/>
                <a:ea typeface="隶书"/>
              </a:rPr>
              <a:t>》</a:t>
            </a:r>
            <a:r>
              <a:rPr b="1" lang="zh-CN" sz="6000" spc="-1" strike="noStrike">
                <a:solidFill>
                  <a:srgbClr val="ffffe9"/>
                </a:solidFill>
                <a:latin typeface="Times New Roman"/>
                <a:ea typeface="隶书"/>
              </a:rPr>
              <a:t>十则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88" name="高山流水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6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457200" y="3124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宋体"/>
              </a:rPr>
              <a:t>交流有关孔子和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  <a:ea typeface="宋体"/>
              </a:rPr>
              <a:t>《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宋体"/>
              </a:rPr>
              <a:t>论语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  <a:ea typeface="宋体"/>
              </a:rPr>
              <a:t>》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宋体"/>
              </a:rPr>
              <a:t>的知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1295280" y="3049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交流探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孔子1.AVI" descr=""/>
          <p:cNvPicPr/>
          <p:nvPr/>
        </p:nvPicPr>
        <p:blipFill>
          <a:blip r:embed="rId1"/>
          <a:stretch/>
        </p:blipFill>
        <p:spPr>
          <a:xfrm>
            <a:off x="2843280" y="2589120"/>
            <a:ext cx="432108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孔子3.AVI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5005440" cy="3586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1143000" y="6858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64c"/>
                </a:solidFill>
                <a:latin typeface="Times New Roman"/>
                <a:ea typeface="隶书"/>
              </a:rPr>
              <a:t>孔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3" descr="孔子"/>
          <p:cNvPicPr/>
          <p:nvPr/>
        </p:nvPicPr>
        <p:blipFill>
          <a:blip r:embed="rId1"/>
          <a:stretch/>
        </p:blipFill>
        <p:spPr>
          <a:xfrm>
            <a:off x="4840200" y="0"/>
            <a:ext cx="43038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380880" y="1905120"/>
            <a:ext cx="4191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孔子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前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51-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前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79)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名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丘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字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仲尼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我国古代伟大的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思想家</a:t>
            </a:r>
            <a:r>
              <a:rPr b="1" lang="zh-CN" sz="32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教育家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儒家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学派的创始人，被誉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万世师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千古圣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世界十大思想家，儒家之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7a-1"/>
          <p:cNvPicPr/>
          <p:nvPr/>
        </p:nvPicPr>
        <p:blipFill>
          <a:blip r:embed="rId1"/>
          <a:stretch/>
        </p:blipFill>
        <p:spPr>
          <a:xfrm>
            <a:off x="395280" y="620640"/>
            <a:ext cx="7812000" cy="475308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3"/>
          <p:cNvSpPr/>
          <p:nvPr/>
        </p:nvSpPr>
        <p:spPr>
          <a:xfrm>
            <a:off x="2026080" y="5867280"/>
            <a:ext cx="51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相传孔子出生地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----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山东曲阜</a:t>
            </a:r>
            <a:r>
              <a:rPr b="0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尼山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全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孔府"/>
          <p:cNvPicPr/>
          <p:nvPr/>
        </p:nvPicPr>
        <p:blipFill>
          <a:blip r:embed="rId1"/>
          <a:stretch/>
        </p:blipFill>
        <p:spPr>
          <a:xfrm>
            <a:off x="228600" y="1143000"/>
            <a:ext cx="3886200" cy="43340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3" descr="孔庙"/>
          <p:cNvPicPr/>
          <p:nvPr/>
        </p:nvPicPr>
        <p:blipFill>
          <a:blip r:embed="rId2"/>
          <a:stretch/>
        </p:blipFill>
        <p:spPr>
          <a:xfrm>
            <a:off x="4343400" y="1447920"/>
            <a:ext cx="4570560" cy="376380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4"/>
          <p:cNvSpPr/>
          <p:nvPr/>
        </p:nvSpPr>
        <p:spPr>
          <a:xfrm>
            <a:off x="1545840" y="3808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山东曲阜“三孔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5518440" y="3808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孔林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：孔子墓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孔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孔子嫡系子孙居住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5029200" y="54864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孔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祭祀孔子的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1143000" y="609480"/>
            <a:ext cx="242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论语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457200" y="1600200"/>
            <a:ext cx="822960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论语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属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语录体散文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，是记录孔子和他的弟子言行的一部书，共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20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篇 。内容有孔子谈话，答弟子问及弟子间的相互讨论。它是研究孔子思想的主要依据。南宋时，朱熹把它列为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四书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”之一，成为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儒家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的重要经典。宋朝宰相赵普曾赞颂说“半部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论语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治天下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228600" y="60199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四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大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孟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02:00:55Z</dcterms:created>
  <dc:creator/>
  <dc:description/>
  <dc:language>en-US</dc:language>
  <cp:lastModifiedBy>a</cp:lastModifiedBy>
  <dcterms:modified xsi:type="dcterms:W3CDTF">2015-03-16T09:48:12Z</dcterms:modified>
  <cp:revision>2</cp:revision>
  <dc:subject/>
  <dc:title>《论语》十则</dc:title>
</cp:coreProperties>
</file>