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9D3-FC76-4AC0-B24B-ADD4CF75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8C9-146F-424B-BB29-10D3AFE3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8277E-E2B6-4953-8FB3-A4AE4A43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078A7-A6BC-46EB-94FF-E5B4F93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2EA61-DE31-43C8-AE8F-528379D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118A6-3BCB-45BE-9250-F1636DF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9B410-3FEC-4ABF-A8B9-78854C2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8C58E-E3AA-4A87-80BE-164D575D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2648D-1B30-4F9F-A137-652808B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A58BE-891B-4818-8ED1-2F8ACA5B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AC930-3CE1-491C-BC7C-E6FB0AF5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63E6F-21C7-4FDB-913E-C505CEB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1A5-F21D-4185-B121-571C7DCD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BD3B8-367B-4395-8DE1-3C88E61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084D3-53FB-478A-AFBA-10B029D8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3A171-2DCE-4B30-B66E-7488B469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79932-6B7F-43EA-9904-AC1CFA0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6C4D0-F032-496C-B777-FC9B2357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03DAB-72B6-417F-8A87-9FFD586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59F7-6AF4-4833-93E8-D59A182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1A103-69DA-41F5-84E6-C50833B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E94D2-98A0-4B43-80FF-4EFBD84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41EA0-BB8A-4012-94AD-4009CB14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E59-7AB8-49D5-931E-B3D4D0DC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AF815-E4DB-43B5-AB09-FD901C88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DC80-8074-42A8-881C-AFE17D05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DBAE9-E61E-4BC0-A161-FB23D3B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82609-D06A-44C5-B4F4-1FE122E6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FF0B0-5CF0-45F3-BEBF-E59D395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F5349-DE24-4BFC-9379-5E39BB1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47688-CBB6-4395-825E-DF2776A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3B114-D7C8-4EA3-8A29-3FAF957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EE3C0-2AEA-435F-A216-FE9FEAA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C9B9F-E790-4C85-9406-A849013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2A26-D38E-4025-A8BC-D3A7C41A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78676-A86A-4830-BB62-AED6857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4162-21E1-45AC-824F-69B9AD4E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B5B1B-7045-4760-9E7C-6965E042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133B6-0E00-46CF-B820-065C23D6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F1820-4A51-43BB-84CC-75EFE3C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EB19C-4FE1-4CC2-977E-D52EC53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3F6CB-3684-4076-9F82-AD2E6B3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97DF9-9E4A-4DFC-9F3C-AD70CF4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B9EDF-CBE2-4FF8-985D-E11533EA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F48DB-E1C8-46B7-AB75-1EE2360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6B8-BA01-422A-BE02-F8DED74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1D3F1-5791-4305-923B-681744C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92F73-BFBA-4E30-B6A3-CE545CE9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F98FD-825C-4D18-A574-C6AC3DEA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2E874-FC7C-4F92-8AF3-1F4E6CCB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E7912-01BF-4808-987A-B5EC71E8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8B3D5-B4A3-45A7-82F4-585FB08E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B3AB4-564E-46E6-A375-A867D29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DAB19-F852-4C88-8436-F95953C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D4FC6-22AC-487D-B49B-597C4BB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2B36B-22CF-4066-835E-B38791BD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EF04-F6DF-4750-862C-ACF38BA9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6267D-9614-4A07-B5D3-2CE1F208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94137-D3E4-4381-9BFA-E3E13E53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C01F9-6165-49FB-84BD-FAD1407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FA20D-1737-49B0-987E-84697ACC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2C839-4A99-4837-B8C2-0B7B156C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B9ECF-4154-4482-A626-010E30D3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2BEA2-4346-4B8F-AF4E-D692E2D2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E2BD6-1AD7-46E4-A155-E66ED86F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D4254-CC14-478B-BF5D-930CCA98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A4FFD-6AC6-4FDD-BB5C-813ABD6A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53DC-1BE0-4E97-B6C8-F9F74D0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2260A-6292-4D47-918A-B3C10F37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2AEC3-44AA-45BA-8F74-1133B71E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60F54-908B-4A1F-BE82-FE0C321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24AE1-308D-473F-9A7A-60A04CB5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87EAC-49C9-45A1-B443-2BF4FA2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AFC54-3CF4-47B6-B21E-D4260AA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25BCF-C26A-46B3-A955-B390D7A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9D769-F034-414B-8A49-35BA59D4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947DB-8A5E-4314-A811-9DFC2B49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33D-0B9A-46EA-8CDA-4A0FC341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DA46-2AF1-4B3A-9AEC-639D496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51A5-7206-4531-B973-70C30068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581-D405-448C-BEDB-88F7BD78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766C-83DA-4E49-B7DF-3643101F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9EBA-563F-4CDC-AE92-66D44600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DD7B-A8D5-41F9-BAD9-22FBAFB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6C0F-3BDC-45C5-9294-BBA87DE0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BB72-B7DE-4A13-9C65-852635EB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CBC5-7879-4587-821A-710A5CB3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E002-3DB0-410B-956F-ED74D0C6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C915-B914-48FD-80F2-E9B33BB6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B315-A6C5-4847-B639-ECDC86F0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DB13-C858-4E1A-BF4C-8F60A1C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5FB-5EE4-462D-A13A-750F1EB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B049-1AED-4562-8F5E-FF286FE4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BCD3-1217-4D09-B538-EDA0EED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120B-5AC3-4F71-9BA0-0598A9D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9396-EF23-404F-8DD1-C49C25AA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5A37-59EE-437F-BC76-42B186D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35EF-1017-40A6-A82C-22AF82DC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3B78-7EFB-4708-92EF-216C4FB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CEBE-1CA6-49F4-BB27-C50764DF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D217-77DD-43EF-927C-DC949105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855B-5472-4F5A-B70D-2E1F2E37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736-4B90-4FB1-BFC7-54B640DC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52A8-89F8-47A8-BB63-02D1EAE1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E1AC-D8B8-484F-983B-1A2D1CB2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F087-7414-4818-B608-3D5DD4FD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2E4F-9F01-44E3-8CE7-BFF2634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17E0-56A0-4180-848B-1D6551C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33FF-A3D5-4353-97D0-511BAF2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2925-9156-49FE-ADAF-794B295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A93F-8C5E-4FE4-AD0E-FC3231A2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163B-8AA8-45DF-9515-B8D6629D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A204-52E8-4963-96FD-0A22934E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1F7-EB49-4EC6-AC0F-D1B3A14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EF74-2941-42C3-A7FC-BC7568A1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47B7-6CEE-4719-92F6-05F9BED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0704-13AB-4D1F-B22E-8C215D1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B61B-CFC6-4635-91EC-DFAA5AA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F975-8601-4AB6-ACB9-D9DB710C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53DA-4B04-41E3-89FB-AC8EC5C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1678-3D7B-410E-8108-74CB864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3FEC-9AF8-402E-BD9C-454ED43D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AAB4C-80A1-4D9D-BC98-EE95C27D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1979-F1A1-4099-9916-F69DA4B2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A92-14D9-4218-9B5E-0ACD6542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80F0-ED47-477C-B309-B4890C3C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C7AC-B2A2-4B7C-8261-FA337C8B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0B37-4D99-43EB-AD3E-27451146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B1FC-866F-49F6-81A3-8F607AB2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D1E3-ADE5-46F8-BC83-BD1809E3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C72F-D399-4394-8FF0-596E176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0734-FF83-45E1-959C-326C8EE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54FD-AD1E-49BA-AA6B-D937E21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015D-2D89-4915-94ED-0E26D7B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B49A-42CB-463F-87FF-F4C3557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478-A5AC-4B49-801D-FBD8839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D51B-FCCE-4080-82D1-650A7FE7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D95E-7FDD-45A8-8511-662D2217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D04C-207B-4EE5-BA70-2AAC4E51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121E-7C27-424F-94FD-02ED3B41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E041-FC2D-4304-9E7B-2A42BD8B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54D3-7CA3-400E-A3DA-F9CE709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5489-199E-4E8A-9282-4BC53B12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8AD1-9CBF-4098-B73D-34F1FF5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E325F-C0D7-4C6B-845D-8579CA9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B7906-8DFC-427F-B0AD-D53EA6AB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2A5-72DC-4531-893A-D6FC0F4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4E989-EB4F-4AC9-B4D1-25C327B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D072-1DD5-4A06-A12C-5914FFC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2261D-6278-42EF-8B39-AA18E8DD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03E7-42AA-4D34-847D-378E58C1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2345-C9E5-4144-8042-F0EBDF1A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A618-C355-44EA-81D7-D14EECD9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8080A-503B-4C0E-ABA7-F8B4426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B0AB-B9A9-43EE-9AB1-67CEFCD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12F9-2E42-4685-92CD-E7FDC5B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3C42D-38F9-4AD8-97B3-DE351D1E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EB5-2171-4DBA-AB97-15B5B57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30C42-0089-4406-82FC-A2C7B24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8C64-F82E-4DEB-8388-BF2CE5D4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D9AA-F9FC-40C9-9E6B-C55F97B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E42D-F5D7-4364-BA94-7AD0602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DBF00-F4CF-4FFF-94A5-01E8A1C7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927A8-F306-41B0-9318-9DCDBBF7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1ADC8-F895-4E3E-9FFA-54413001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FE7CA-89E9-4A24-B6DB-056E9BF0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CC0D1-E31B-4850-B6FA-B676594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73C85-64B8-4B83-AE07-B5598183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CABE-5A92-4AB8-90DA-3C38C4069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A1C-F907-4393-8CC0-063FD0F613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7B2-11BB-4B23-AB83-FAD925D03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58A9-1EF1-4635-82F9-9B647CBFF0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3E6A-8D3F-4EE8-AC61-72E9DBCFE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6514-80AB-42F4-98C1-0D8F881A2B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A1FE-B863-4E1F-AE3F-9919D956BA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F64C-D0A4-41E4-B55D-EA01106A32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251F-DE02-49C2-8C5D-5BAEBD4F9D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7F7-E4DB-4259-9F44-E8B354B7B7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265D-67A0-4659-9D07-4EE9A3ACEE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7C0-09D9-4137-87E1-AE85D64441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EC65-2F0C-434C-9248-EF0D0A7FE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E283-7EBF-4247-9866-3F5FBD491BF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B66A-EA17-44B2-AAA8-3C5D4AD079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3B4A-0A4D-4D5E-A7FE-660A4EBCB2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E8C1-B27F-4590-B2B3-A5FAD066BE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F694-150D-47E9-AE3A-672F760BE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FC4C-9BD9-4345-93D6-1F6EAA88CD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486D-1A2F-4A2C-9BF1-E340C5BDC3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500-ECE9-4036-AF89-CECD7AA9FA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85C-7634-4287-A825-89B53332DD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6EB1-F6B9-4954-B8EC-1803195B2A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438F-63C2-4BDE-B798-7122C4FA70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11F4-C2A2-4F41-952D-C9603250B5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C7AB-735A-46C0-A8AD-AEA21E81E3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5"/>
          <p:cNvSpPr/>
          <p:nvPr/>
        </p:nvSpPr>
        <p:spPr>
          <a:xfrm>
            <a:off x="2133720" y="34290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新魏"/>
              </a:rPr>
              <a:t>第二节　离子反应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WordArt 12"/>
          <p:cNvSpPr txBox="1"/>
          <p:nvPr/>
        </p:nvSpPr>
        <p:spPr>
          <a:xfrm>
            <a:off x="1066680" y="1905120"/>
            <a:ext cx="7559640" cy="1079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章 化学物质及其变化</a:t>
            </a:r>
            <a:endParaRPr b="0" lang="en-US" sz="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6"/>
          <p:cNvSpPr/>
          <p:nvPr/>
        </p:nvSpPr>
        <p:spPr>
          <a:xfrm>
            <a:off x="1955160" y="2362320"/>
            <a:ext cx="4422240" cy="520560"/>
          </a:xfrm>
          <a:prstGeom prst="rect">
            <a:avLst/>
          </a:prstGeom>
          <a:solidFill>
            <a:srgbClr val="c7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离时生成的阳离子全部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化合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876320" y="3048120"/>
            <a:ext cx="4560840" cy="520560"/>
          </a:xfrm>
          <a:prstGeom prst="rect">
            <a:avLst/>
          </a:prstGeom>
          <a:solidFill>
            <a:srgbClr val="c7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离时生成的阴离子全部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化合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304920" y="3733920"/>
            <a:ext cx="7940520" cy="579600"/>
          </a:xfrm>
          <a:prstGeom prst="rect">
            <a:avLst/>
          </a:prstGeom>
          <a:solidFill>
            <a:srgbClr val="c7fff0"/>
          </a:solidFill>
          <a:ln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离时能生成金属阳离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者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酸根阴离子 的化合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63"/>
          <p:cNvGrpSpPr/>
          <p:nvPr/>
        </p:nvGrpSpPr>
        <p:grpSpPr>
          <a:xfrm>
            <a:off x="380880" y="1219320"/>
            <a:ext cx="8763120" cy="1828800"/>
            <a:chOff x="380880" y="1219320"/>
            <a:chExt cx="8763120" cy="1828800"/>
          </a:xfrm>
        </p:grpSpPr>
        <p:sp>
          <p:nvSpPr>
            <p:cNvPr id="638" name="Text Box 4"/>
            <p:cNvSpPr/>
            <p:nvPr/>
          </p:nvSpPr>
          <p:spPr>
            <a:xfrm>
              <a:off x="380880" y="213372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演示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 100mL 0.1mol/L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的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OOH </a:t>
              </a:r>
              <a:r>
                <a:rPr b="1" lang="zh-CN" sz="18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·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HCl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OH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Cl</a:t>
              </a:r>
              <a:r>
                <a:rPr b="1" lang="zh-CN" sz="2000" spc="-1" strike="noStrike">
                  <a:solidFill>
                    <a:srgbClr val="333399"/>
                  </a:solidFill>
                  <a:latin typeface="Times New Roman"/>
                </a:rPr>
                <a:t>的导电性实验。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380880" y="2666880"/>
              <a:ext cx="8229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ahoma"/>
                </a:rPr>
                <a:t>[</a:t>
              </a:r>
              <a:r>
                <a:rPr b="1" lang="zh-CN" sz="2400" spc="-1" strike="noStrike">
                  <a:solidFill>
                    <a:srgbClr val="333399"/>
                  </a:solidFill>
                  <a:latin typeface="Tahoma"/>
                </a:rPr>
                <a:t>问</a:t>
              </a:r>
              <a:r>
                <a:rPr b="1" lang="en-US" sz="2400" spc="-1" strike="noStrike">
                  <a:solidFill>
                    <a:srgbClr val="333399"/>
                  </a:solidFill>
                  <a:latin typeface="Tahoma"/>
                </a:rPr>
                <a:t>]</a:t>
              </a:r>
              <a:r>
                <a:rPr b="1" lang="zh-CN" sz="2400" spc="-1" strike="noStrike">
                  <a:solidFill>
                    <a:srgbClr val="333399"/>
                  </a:solidFill>
                  <a:latin typeface="Tahoma"/>
                </a:rPr>
                <a:t>实验的现象是什么，导电性的强弱又与什么有关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59"/>
            <p:cNvSpPr/>
            <p:nvPr/>
          </p:nvSpPr>
          <p:spPr>
            <a:xfrm>
              <a:off x="1371600" y="121932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思考：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是否所有的电解质电离的情况都相同呢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1" name="Text Box 60"/>
          <p:cNvSpPr/>
          <p:nvPr/>
        </p:nvSpPr>
        <p:spPr>
          <a:xfrm>
            <a:off x="411480" y="3429000"/>
            <a:ext cx="1400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实验现象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1600200" y="411480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的导电性强弱与自由移动离子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有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609480" y="4876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同电解质的电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程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4"/>
          <p:cNvSpPr/>
          <p:nvPr/>
        </p:nvSpPr>
        <p:spPr>
          <a:xfrm>
            <a:off x="1371600" y="990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电解质和弱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762120" y="205740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电解质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水溶液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全部电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成离子的电解质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：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等。大多数的盐、强酸、强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685800" y="32767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弱电解质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水溶液中只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部分电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成离子的电解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一水合氨、醋酸等。弱酸、弱碱和水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7" name="组合 6"/>
          <p:cNvGrpSpPr/>
          <p:nvPr/>
        </p:nvGrpSpPr>
        <p:grpSpPr>
          <a:xfrm>
            <a:off x="518040" y="4659480"/>
            <a:ext cx="7434000" cy="2086560"/>
            <a:chOff x="518040" y="4659480"/>
            <a:chExt cx="7434000" cy="2086560"/>
          </a:xfrm>
        </p:grpSpPr>
        <p:sp>
          <p:nvSpPr>
            <p:cNvPr id="648" name="Text Box 9"/>
            <p:cNvSpPr/>
            <p:nvPr/>
          </p:nvSpPr>
          <p:spPr>
            <a:xfrm>
              <a:off x="2083320" y="4659480"/>
              <a:ext cx="87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宋体"/>
                </a:rPr>
                <a:t>一些常见的弱电解质</a:t>
              </a:r>
              <a:r>
                <a:rPr b="1" lang="en-US" sz="3600" spc="-1" strike="noStrike">
                  <a:solidFill>
                    <a:srgbClr val="333399"/>
                  </a:solidFill>
                  <a:latin typeface="宋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Text Box 11"/>
            <p:cNvSpPr/>
            <p:nvPr/>
          </p:nvSpPr>
          <p:spPr>
            <a:xfrm>
              <a:off x="518040" y="5289480"/>
              <a:ext cx="701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例如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:   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S    C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COOH    N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宋体"/>
                </a:rPr>
                <a:t>.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Text Box 12"/>
            <p:cNvSpPr/>
            <p:nvPr/>
          </p:nvSpPr>
          <p:spPr>
            <a:xfrm>
              <a:off x="792000" y="6027840"/>
              <a:ext cx="7160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O    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SO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    HClO    HF   H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CO</a:t>
              </a:r>
              <a:r>
                <a:rPr b="1" lang="en-US" sz="3600" spc="-1" strike="noStrike" baseline="-25000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1295280" y="10666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电解质的电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219320" y="2971800"/>
            <a:ext cx="6324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 = Na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Cl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 = Na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OH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= 2H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SO</a:t>
            </a:r>
            <a:r>
              <a:rPr b="1" lang="en-US" sz="2400" spc="-1" strike="noStrike" baseline="-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2-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Cl = H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Cl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3" name="Group 24"/>
          <p:cNvGrpSpPr/>
          <p:nvPr/>
        </p:nvGrpSpPr>
        <p:grpSpPr>
          <a:xfrm>
            <a:off x="1066680" y="1905120"/>
            <a:ext cx="6172200" cy="1038600"/>
            <a:chOff x="1066680" y="1905120"/>
            <a:chExt cx="6172200" cy="1038600"/>
          </a:xfrm>
        </p:grpSpPr>
        <p:sp>
          <p:nvSpPr>
            <p:cNvPr id="654" name="Text Box 5"/>
            <p:cNvSpPr/>
            <p:nvPr/>
          </p:nvSpPr>
          <p:spPr>
            <a:xfrm>
              <a:off x="1066680" y="190512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）强电解质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Text Box 7"/>
            <p:cNvSpPr/>
            <p:nvPr/>
          </p:nvSpPr>
          <p:spPr>
            <a:xfrm>
              <a:off x="1219320" y="236232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强电解质完全电离，书写时用“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”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号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6" name="Group 25"/>
          <p:cNvGrpSpPr/>
          <p:nvPr/>
        </p:nvGrpSpPr>
        <p:grpSpPr>
          <a:xfrm>
            <a:off x="1066680" y="4267080"/>
            <a:ext cx="7162560" cy="916920"/>
            <a:chOff x="1066680" y="4267080"/>
            <a:chExt cx="7162560" cy="916920"/>
          </a:xfrm>
        </p:grpSpPr>
        <p:sp>
          <p:nvSpPr>
            <p:cNvPr id="657" name="Text Box 8"/>
            <p:cNvSpPr/>
            <p:nvPr/>
          </p:nvSpPr>
          <p:spPr>
            <a:xfrm>
              <a:off x="1066680" y="42670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）弱电解质：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8" name="Group 20"/>
            <p:cNvGrpSpPr/>
            <p:nvPr/>
          </p:nvGrpSpPr>
          <p:grpSpPr>
            <a:xfrm>
              <a:off x="1295280" y="4724280"/>
              <a:ext cx="6933960" cy="459720"/>
              <a:chOff x="1295280" y="4724280"/>
              <a:chExt cx="6933960" cy="459720"/>
            </a:xfrm>
          </p:grpSpPr>
          <p:sp>
            <p:nvSpPr>
              <p:cNvPr id="659" name="Text Box 18"/>
              <p:cNvSpPr/>
              <p:nvPr/>
            </p:nvSpPr>
            <p:spPr>
              <a:xfrm>
                <a:off x="1295280" y="47242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弱电解质部分电离，书时用“        ”号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660" name="Picture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3760" y="4724280"/>
                <a:ext cx="360360" cy="36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61" name="Group 26"/>
          <p:cNvGrpSpPr/>
          <p:nvPr/>
        </p:nvGrpSpPr>
        <p:grpSpPr>
          <a:xfrm>
            <a:off x="1447920" y="5257800"/>
            <a:ext cx="4800600" cy="1046160"/>
            <a:chOff x="1447920" y="5257800"/>
            <a:chExt cx="4800600" cy="1046160"/>
          </a:xfrm>
        </p:grpSpPr>
        <p:grpSp>
          <p:nvGrpSpPr>
            <p:cNvPr id="662" name="Group 21"/>
            <p:cNvGrpSpPr/>
            <p:nvPr/>
          </p:nvGrpSpPr>
          <p:grpSpPr>
            <a:xfrm>
              <a:off x="1600200" y="5638680"/>
              <a:ext cx="4648320" cy="665280"/>
              <a:chOff x="1600200" y="5638680"/>
              <a:chExt cx="4648320" cy="665280"/>
            </a:xfrm>
          </p:grpSpPr>
          <p:sp>
            <p:nvSpPr>
              <p:cNvPr id="663" name="Text Box 9"/>
              <p:cNvSpPr/>
              <p:nvPr/>
            </p:nvSpPr>
            <p:spPr>
              <a:xfrm>
                <a:off x="1600200" y="5715000"/>
                <a:ext cx="464832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30000">
                    <a:solidFill>
                      <a:srgbClr val="333399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COOH          CH</a:t>
                </a:r>
                <a:r>
                  <a:rPr b="1" lang="en-US" sz="2400" spc="-1" strike="noStrike" baseline="-30000">
                    <a:solidFill>
                      <a:srgbClr val="333399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COO</a:t>
                </a:r>
                <a:r>
                  <a:rPr b="1" lang="en-US" sz="2400" spc="-1" strike="noStrike" baseline="30000">
                    <a:solidFill>
                      <a:srgbClr val="333399"/>
                    </a:solidFill>
                    <a:latin typeface="Times New Roman"/>
                  </a:rPr>
                  <a:t>-</a:t>
                </a: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 + H</a:t>
                </a:r>
                <a:r>
                  <a:rPr b="1" lang="en-US" sz="2400" spc="-1" strike="noStrike" baseline="30000">
                    <a:solidFill>
                      <a:srgbClr val="333399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664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5638680"/>
                <a:ext cx="649440" cy="66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5" name="Text Box 22"/>
            <p:cNvSpPr/>
            <p:nvPr/>
          </p:nvSpPr>
          <p:spPr>
            <a:xfrm>
              <a:off x="1447920" y="5257800"/>
              <a:ext cx="342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79280" y="1824120"/>
          <a:ext cx="8964720" cy="5033880"/>
        </p:xfrm>
        <a:graphic>
          <a:graphicData uri="http://schemas.openxmlformats.org/drawingml/2006/table">
            <a:tbl>
              <a:tblPr/>
              <a:tblGrid>
                <a:gridCol w="2808360"/>
                <a:gridCol w="3168720"/>
                <a:gridCol w="2987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强电解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弱电解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电离程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溶液中粒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同浓度溶液</a:t>
                      </a: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导电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3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          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物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类别实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Text Box 79"/>
          <p:cNvSpPr/>
          <p:nvPr/>
        </p:nvSpPr>
        <p:spPr>
          <a:xfrm>
            <a:off x="1523880" y="990720"/>
            <a:ext cx="352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比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92"/>
          <p:cNvSpPr/>
          <p:nvPr/>
        </p:nvSpPr>
        <p:spPr>
          <a:xfrm>
            <a:off x="3429000" y="2438280"/>
            <a:ext cx="243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完全电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94"/>
          <p:cNvSpPr/>
          <p:nvPr/>
        </p:nvSpPr>
        <p:spPr>
          <a:xfrm>
            <a:off x="6516720" y="2355840"/>
            <a:ext cx="2170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部分电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96"/>
          <p:cNvSpPr/>
          <p:nvPr/>
        </p:nvSpPr>
        <p:spPr>
          <a:xfrm>
            <a:off x="3780000" y="3108240"/>
            <a:ext cx="124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离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98"/>
          <p:cNvSpPr/>
          <p:nvPr/>
        </p:nvSpPr>
        <p:spPr>
          <a:xfrm>
            <a:off x="6342120" y="3108240"/>
            <a:ext cx="280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子，离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100"/>
          <p:cNvSpPr/>
          <p:nvPr/>
        </p:nvSpPr>
        <p:spPr>
          <a:xfrm>
            <a:off x="4161240" y="379584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102"/>
          <p:cNvSpPr/>
          <p:nvPr/>
        </p:nvSpPr>
        <p:spPr>
          <a:xfrm>
            <a:off x="7191720" y="3789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Rectangle 112"/>
          <p:cNvSpPr/>
          <p:nvPr/>
        </p:nvSpPr>
        <p:spPr>
          <a:xfrm>
            <a:off x="3022560" y="4452840"/>
            <a:ext cx="3133800" cy="23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大多数盐类，强酸，强碱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如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N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NaCl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OH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115"/>
          <p:cNvSpPr/>
          <p:nvPr/>
        </p:nvSpPr>
        <p:spPr>
          <a:xfrm>
            <a:off x="6269040" y="4452840"/>
            <a:ext cx="2766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弱酸，弱碱，水，如醋酸，碳酸，氨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1066680" y="19051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1219320" y="30481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、电解质和非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19320" y="3657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、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电解质和弱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1219320" y="4267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三、电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"/>
          <p:cNvSpPr/>
          <p:nvPr/>
        </p:nvSpPr>
        <p:spPr>
          <a:xfrm>
            <a:off x="685800" y="21337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写出下列物质的电离方程式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0080" y="3657600"/>
            <a:ext cx="7378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4 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N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4000" spc="-1" strike="noStrike" baseline="30000">
                <a:solidFill>
                  <a:srgbClr val="333399"/>
                </a:solidFill>
                <a:latin typeface="宋体"/>
              </a:rPr>
              <a:t>.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O    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456840" y="4419720"/>
            <a:ext cx="7551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Ba(OH)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 NaHS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C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COO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5"/>
          <p:cNvSpPr/>
          <p:nvPr/>
        </p:nvSpPr>
        <p:spPr>
          <a:xfrm>
            <a:off x="1692360" y="2060640"/>
            <a:ext cx="707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下面哪些物质能导电？为什么能导电 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盐酸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 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固体、石墨、蔗糖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1763640" y="3790800"/>
            <a:ext cx="6313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小结：（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石墨、铜能导电，因为其中有自          由移动的电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盐酸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OH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能导电因为它们的溶液中有自由移动的离子存在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1600200" y="533520"/>
            <a:ext cx="1752480" cy="990360"/>
          </a:xfrm>
          <a:prstGeom prst="cloudCallout">
            <a:avLst>
              <a:gd name="adj1" fmla="val 132425"/>
              <a:gd name="adj2" fmla="val 58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回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258920" y="1052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、电解质和非电解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62120" y="20574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电解质：在水溶液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熔融状态下能导电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化合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</a:t>
            </a:r>
            <a:r>
              <a:rPr b="1" lang="zh-CN" sz="2400" spc="-1" strike="noStrike">
                <a:solidFill>
                  <a:srgbClr val="777777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酸、碱、盐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762120" y="31240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非电解质：在水溶液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熔融状态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都不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导电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化合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：蔗糖、酒精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631800" y="434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注意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30120" y="2057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注意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367720" y="274320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）电解质和非电解质都是化合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3213000" y="3276720"/>
            <a:ext cx="10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）电解质应是一定条件下本身电离而导电的化合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307320" y="3809880"/>
            <a:ext cx="11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）酸、碱、盐、水是电解质；蔗糖、酒精是非电解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33520" y="44434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离子型氧化物（如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a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aO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等）虽然溶于水后并非自身电离，但熔融时却可电离，因此，也是电解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533520" y="2209680"/>
            <a:ext cx="8229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下列物质哪些是电解质？哪些是非电解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u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固体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O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蔗糖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溶液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酒精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、浓硫酸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371600" y="762120"/>
            <a:ext cx="624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练　　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5"/>
          <p:cNvSpPr/>
          <p:nvPr/>
        </p:nvSpPr>
        <p:spPr>
          <a:xfrm>
            <a:off x="4648320" y="19051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Ｃ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400800" y="32004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Ｃ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9" name="Group 12"/>
          <p:cNvGrpSpPr/>
          <p:nvPr/>
        </p:nvGrpSpPr>
        <p:grpSpPr>
          <a:xfrm>
            <a:off x="609480" y="838080"/>
            <a:ext cx="7696440" cy="3162240"/>
            <a:chOff x="609480" y="838080"/>
            <a:chExt cx="7696440" cy="3162240"/>
          </a:xfrm>
        </p:grpSpPr>
        <p:sp>
          <p:nvSpPr>
            <p:cNvPr id="610" name="Rectangle 6"/>
            <p:cNvSpPr/>
            <p:nvPr/>
          </p:nvSpPr>
          <p:spPr>
            <a:xfrm>
              <a:off x="609480" y="3254760"/>
              <a:ext cx="7696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下列物质的水溶液能导电，但属于非电解质是（    ）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A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HClO        B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Cl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2  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         C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CO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2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      D</a:t>
              </a:r>
              <a:r>
                <a:rPr b="1" lang="zh-CN" sz="2000" spc="-1" strike="noStrike">
                  <a:solidFill>
                    <a:srgbClr val="333399"/>
                  </a:solidFill>
                  <a:latin typeface="Tahoma"/>
                </a:rPr>
                <a:t>、 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N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4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HCO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ahoma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1219320" y="838080"/>
              <a:ext cx="5739840" cy="2203560"/>
              <a:chOff x="1219320" y="838080"/>
              <a:chExt cx="5739840" cy="2203560"/>
            </a:xfrm>
          </p:grpSpPr>
          <p:sp>
            <p:nvSpPr>
              <p:cNvPr id="612" name="Rectangle 4"/>
              <p:cNvSpPr/>
              <p:nvPr/>
            </p:nvSpPr>
            <p:spPr>
              <a:xfrm>
                <a:off x="1329120" y="1991160"/>
                <a:ext cx="563004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1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下列物质中，属于电解质的是（    ）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①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熔融态铁  ②液氯  ③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NaSO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Tahoma"/>
                  </a:rPr>
                  <a:t>4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 ④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 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Tahom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O ⑤ SO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Tahom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 ⑥ NaCl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溶液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A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①②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B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②③④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C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③④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ahoma"/>
                  </a:rPr>
                  <a:t>D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ahoma"/>
                  </a:rPr>
                  <a:t>、全部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8"/>
              <p:cNvGrpSpPr/>
              <p:nvPr/>
            </p:nvGrpSpPr>
            <p:grpSpPr>
              <a:xfrm>
                <a:off x="1219320" y="838080"/>
                <a:ext cx="2585880" cy="893520"/>
                <a:chOff x="1219320" y="838080"/>
                <a:chExt cx="2585880" cy="893520"/>
              </a:xfrm>
            </p:grpSpPr>
            <p:pic>
              <p:nvPicPr>
                <p:cNvPr id="614" name="Picture 9" descr="fllayer_10b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19320" y="838080"/>
                  <a:ext cx="2585880" cy="89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5" name="Rectangle 10"/>
                <p:cNvSpPr/>
                <p:nvPr/>
              </p:nvSpPr>
              <p:spPr>
                <a:xfrm>
                  <a:off x="2151720" y="1295280"/>
                  <a:ext cx="732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宋体"/>
                    </a:rPr>
                    <a:t>随堂练习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371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二、电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0" y="4495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电离：电解质在溶于水或受热熔化时，离解成自由移动的离子的过程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0" y="20574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为什么电解质在水溶液里或熔化状态下能够导电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533520" y="2971800"/>
            <a:ext cx="7308720" cy="1252080"/>
            <a:chOff x="533520" y="2971800"/>
            <a:chExt cx="7308720" cy="1252080"/>
          </a:xfrm>
        </p:grpSpPr>
        <p:sp>
          <p:nvSpPr>
            <p:cNvPr id="620" name="Text Box 16"/>
            <p:cNvSpPr/>
            <p:nvPr/>
          </p:nvSpPr>
          <p:spPr>
            <a:xfrm>
              <a:off x="914400" y="2971800"/>
              <a:ext cx="648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ahoma"/>
                </a:rPr>
                <a:t>因为此时它们发生了</a:t>
              </a:r>
              <a:r>
                <a:rPr b="1" lang="zh-CN" sz="3600" spc="-1" strike="noStrike">
                  <a:solidFill>
                    <a:srgbClr val="ff0000"/>
                  </a:solidFill>
                  <a:latin typeface="Tahoma"/>
                </a:rPr>
                <a:t>电离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Text Box 17"/>
            <p:cNvSpPr/>
            <p:nvPr/>
          </p:nvSpPr>
          <p:spPr>
            <a:xfrm>
              <a:off x="533520" y="3581280"/>
              <a:ext cx="73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ahoma"/>
                </a:rPr>
                <a:t>结果：产生了能够自由移动的离子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2" name="Text Box 18"/>
          <p:cNvSpPr/>
          <p:nvPr/>
        </p:nvSpPr>
        <p:spPr>
          <a:xfrm>
            <a:off x="971640" y="591804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NaCl = Na</a:t>
            </a:r>
            <a:r>
              <a:rPr b="1" lang="en-US" sz="4800" spc="-1" strike="noStrike" baseline="30000">
                <a:solidFill>
                  <a:srgbClr val="ffffff"/>
                </a:solidFill>
                <a:latin typeface="宋体"/>
              </a:rPr>
              <a:t>+ </a:t>
            </a: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+ Cl</a:t>
            </a:r>
            <a:r>
              <a:rPr b="1" lang="en-US" sz="4800" spc="-1" strike="noStrike" baseline="30000">
                <a:solidFill>
                  <a:srgbClr val="ffffff"/>
                </a:solidFill>
                <a:latin typeface="宋体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1752480" y="5791320"/>
            <a:ext cx="4191120" cy="642600"/>
          </a:xfrm>
          <a:prstGeom prst="rect">
            <a:avLst/>
          </a:prstGeom>
          <a:solidFill>
            <a:srgbClr val="c7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用电离方程式表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3"/>
          <p:cNvSpPr/>
          <p:nvPr/>
        </p:nvSpPr>
        <p:spPr>
          <a:xfrm>
            <a:off x="380880" y="3657600"/>
            <a:ext cx="79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必须遵守质量守恒和电荷守恒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457200" y="4419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b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原子团不能拆开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1143000" y="990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电离方程式书写原则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57200" y="2438280"/>
            <a:ext cx="784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宋体"/>
              </a:rPr>
              <a:t>例如：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Na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 = 2Na</a:t>
            </a:r>
            <a:r>
              <a:rPr b="1" lang="en-US" sz="4800" spc="-1" strike="noStrike" baseline="30000">
                <a:solidFill>
                  <a:srgbClr val="333399"/>
                </a:solidFill>
                <a:latin typeface="宋体"/>
              </a:rPr>
              <a:t>+ </a:t>
            </a: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+ SO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r>
              <a:rPr b="1" lang="en-US" sz="4800" spc="-1" strike="noStrike" baseline="30000">
                <a:solidFill>
                  <a:srgbClr val="333399"/>
                </a:solidFill>
                <a:latin typeface="宋体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7"/>
          <p:cNvSpPr/>
          <p:nvPr/>
        </p:nvSpPr>
        <p:spPr>
          <a:xfrm>
            <a:off x="762120" y="9144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练习：写出下列物质的电离方程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0" y="2057400"/>
            <a:ext cx="1871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S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Ba(OH)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4572000" y="2209680"/>
            <a:ext cx="1871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CuS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20"/>
          <p:cNvSpPr/>
          <p:nvPr/>
        </p:nvSpPr>
        <p:spPr>
          <a:xfrm>
            <a:off x="1295280" y="2133720"/>
            <a:ext cx="4537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2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 S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B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2O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N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Cl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21"/>
          <p:cNvSpPr/>
          <p:nvPr/>
        </p:nvSpPr>
        <p:spPr>
          <a:xfrm>
            <a:off x="5715000" y="2209680"/>
            <a:ext cx="306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 Cl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K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OH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 C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+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+S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宋体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22"/>
          <p:cNvSpPr/>
          <p:nvPr/>
        </p:nvSpPr>
        <p:spPr>
          <a:xfrm>
            <a:off x="685800" y="46483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酸、碱、盐的定义？？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8:52:59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