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14.jpeg" ContentType="image/jpeg"/>
  <Override PartName="/ppt/media/image13.jpeg" ContentType="image/jpeg"/>
  <Override PartName="/ppt/media/ding.wav" ContentType="audio/x-wav"/>
  <Override PartName="/ppt/media/image3.wmf" ContentType="image/x-wmf"/>
  <Override PartName="/ppt/media/image12.jpeg" ContentType="image/jpeg"/>
  <Override PartName="/ppt/media/camera.wav" ContentType="audio/x-wav"/>
  <Override PartName="/ppt/media/image7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820-120A-42C6-9598-7ACD9993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4F0-8832-4559-A343-53D47413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73D2D-B353-4748-A7F7-0314C28B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05B30-3234-4830-AAAE-B864332D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FFE5F-0B41-418D-88FD-B93C22A9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EFFDA-2FA1-420D-8EAA-78CF5688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01E0B-8DF1-421E-A32D-1BB51C91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529CC-D65A-49B1-87E3-6862AD74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BBB26-E7C5-4DB6-B0DF-E1F6AE77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FD486-A569-4264-BF6F-22410024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6FC85-DD0B-47BA-B81F-C2F738B7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4AB07-4257-4D67-8D55-E03C50E1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34D-57A6-4568-8794-8F8B22EA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8474D-9D04-4F30-8A93-6FF3ED30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AC05D-8498-4D32-B5D8-E77EE551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F086B-0BE5-4BE7-A6F8-90AA43A8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89820-FE51-47F0-8C60-F2B5C300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8E2A3-FDFE-4494-AFB7-8CA2F545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07857-6FDB-4C74-9E0F-37F1A995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816F2-EF75-4835-8275-F9CEBC83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54C08-7070-41EE-B97B-A44A3616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CD29A-24D9-4196-8F48-9ADE426C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85A09-A48B-4371-8A51-14046FED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710-DE59-4161-BAAE-BB73ECB4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BBEBF-3D65-4562-91F0-EE180DFB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C099C-4203-49E8-89DC-A21033CF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7A7B8-E139-4C9C-9A25-F75E79A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B8254-6F48-4420-ABE7-5C2BDD0E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2D1AA-2BEB-4489-BEF4-A44ECE24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58ABC-F13A-45DF-8D8C-62CA8335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406AE-10EE-4E86-AAEC-427B77B7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B84DF-7E6E-400B-8703-8D5630B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CD124-8AE2-4AAC-B853-1C2BFEE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A78A1-6A49-49A3-9BEE-FA7404CA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A445-DAC5-4C36-902C-A7C9E15F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6DB43-518F-42DE-A906-49F6892C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95871-3F99-4568-AD24-9CE9DF97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89556-C012-4929-A461-C7B9ADA5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5FE2B-E806-493A-B60B-4E08FCF6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D361F-35E5-484D-A49E-A0F3810A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3B92C-9BCC-41FF-A6D9-65F7C530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D4247-B8CA-46F7-8861-681D136E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44765-C7AA-449B-8F0D-C1E5E04A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D0B51-D1BC-47BF-8C57-70AA35DF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CF791-F369-4047-9D24-075F855B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A6E3-272A-4E97-931D-18F4B448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A0835-516D-45C2-8912-E4D2DA56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9475E-67F8-455D-A98F-20F40859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F402D-E3B0-4DB8-A125-DBFFFF68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69103-CFAF-4427-BDBE-7F80CFBC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8B342-DEA2-4496-A8FF-B91750F0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AF714-C396-49F4-B65F-B56E643E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DEB0C-F90B-4730-AF63-771B5325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2CE3E-EAFE-4551-A881-C63FFC21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841D2-576B-4714-B95F-7B027F6C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38830-D174-4F57-B7D1-B56EF12A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87A0-CE1D-4F34-80E2-740C162E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93ADB-3582-4294-AC9A-F0CE5CE1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124C3-E49B-4B54-A1DD-B41C2190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27436-FB55-4049-924F-95EEA695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E8959-66B0-43C9-A47B-C77E478B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A7F54-D9CE-48E4-BA2D-5ECF036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2FC08-8182-4DB2-9B5C-79BC36EF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D6B68-B0D0-4197-9F87-86496DA4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4EBB-1AF7-4334-91C8-AB69CD12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E02A-7B9C-4104-8610-3DDBD39A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0938-3B34-4776-9981-C997A2B3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9436-3427-45B7-AC1C-17E4F472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D78-89AC-4BD8-9801-A2A5D69A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F421-9176-40D1-B0CB-6C32600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EBC6-2516-4F2C-96E8-6C5DCA2D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3057-7527-4647-A315-F0FF7215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9C5F-11AD-47A8-AC80-CA33A7C4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4DC3-59FA-4EE8-B76F-0BB4CE68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921F-2ADD-4E90-A4B6-05363C0F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ECA28-2393-4C80-889B-A82BEB38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FA9A-0DC5-4093-9BBF-2DCA7DE2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B0DB-3B6F-4F99-BBD4-0FAEBF91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DC3E-7A2B-4BCE-8A60-98816653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A00-3477-4BC3-9FB0-B968EA3D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6E45-052F-42DC-83FC-54298E46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A3DE-BCE2-48A2-A69B-31F286D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B0BE-8DE0-4D40-A501-9B8198EA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2989-B3FA-4C19-AC2A-A4592A10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B5A1-36EF-4929-B06D-19ED8BF0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808A-D8B9-47CB-9087-40093040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C101-BD6D-4D73-8C5B-16C3B347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7C20-E5B9-468D-8475-39912FA7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3632-76F9-46B6-8475-6AFFFD2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8058E-D20D-41C0-B390-62339775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643-6302-499C-809B-3EE3D1B0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A1C6-0162-4D37-BFFE-9143EC04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3C1EC-E015-4770-BED1-48909E7F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1EE9-E330-4B98-AC33-8F1B6390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8087-8A4C-416A-95E6-2B2EE7FF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4526-0E83-420C-934D-EC51F18B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83FF-E003-44D0-A3D0-C7A65253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1F34-C1B9-4789-B693-120D68FA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12F7-5B1E-491E-9A4A-14E09B8D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C761-FCC5-4DA4-B465-1D21E452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D37E6-375D-423E-A282-DA578FC7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8DD-84FC-4A5F-B04B-A76362D8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FBD0A-BB8F-415A-AB2E-9BB0CBBB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E35E5-9E59-49B6-BC4C-D4551E86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62228-2E77-4A6A-BC97-CFDC6E82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DE2D-A4CB-42B3-BD1A-038303B2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F79F0-4092-478C-9DA5-A3EEF533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BF60-C2DF-4B63-AD49-52999615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16460-9AC5-429E-928A-AE3D7CC5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88371-EEE5-43E7-9258-2E994E1E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1BD9-3D45-4CCA-9EA4-81072A92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99FEE-B371-433C-9062-43F1B169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5CC-E29E-4B96-8D5D-14CDDE31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3C088-1C60-4B6C-ACBB-415BD02A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3E76E-94F1-4525-A2A3-1B2057B8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56C22-DD69-49E9-A860-E4157DDE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EA42B-05AE-4C78-AD4B-266EFA7C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2265C-A59C-4595-8089-BB93146A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9FC62-8480-4A4E-AE7B-EB3A938D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4434F-8B83-46DA-A0BA-BD599F55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71A93-0C29-49C6-9FB9-36DDD5BE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DE206-051E-4ACA-9D1B-E2E8A45B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811DA-3C9D-4632-96C8-7CE648E5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048-D48C-4DF2-AC4E-9CEC1BF1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C9E1F-3EEC-4C7D-9275-0D42BEB1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4D07A-DE65-4329-B3DE-39CAE0D4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AA08E-B085-44D5-B396-F0BF52BA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DD164-41B7-4FCC-BA0F-DA51C9EE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86D3D-2689-4976-9729-F07C9BF4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E2861-BC43-47F2-B486-67BFD012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69C5F-654E-4787-A686-E232F015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49EE-35F6-4705-8E18-2FF2A235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DA43C-33B7-4E50-BC27-103458C5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3EC3E-4FE1-4E86-A02D-F0B48533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1FE-7291-4704-A045-168C00FC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AF2D0-209B-4CC2-B132-F787BEB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8FFEC-94C5-4750-92CE-0DD5B9BC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99FB9-ED6E-4484-9D09-F2BD281D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C03BF-9341-484B-92DC-7A5FE1AA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D61B2-859F-4559-97AD-44917D8F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5A32C-1677-497D-8449-EDBBACF3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62AFF-B6B0-4D00-819F-BE5F653D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EAEC1-80CD-4DF0-A117-C86D1E40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6A194-20A7-4B03-94EA-D58B6867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0E93E-CFD6-4500-A684-69F89DE3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7EE-1035-43E7-91BD-165F1E28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82CFA-F010-474D-9C75-7C44A4D9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32208-B23A-4D6C-92F5-3926BBA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D7187-A02F-4F2E-862F-DC23DA2A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A0EC6-58CB-4EB2-AB8A-69C93E73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C582-2223-40E5-B747-E349598E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764AA-F112-469E-B3C7-82666B6A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53DF2-54A7-4599-B895-D49BA0BE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D10D8-00BF-4EE2-863F-19E82045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83246-7306-4D95-AD1D-B878B247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700EF-C756-46D8-8335-3A4560AA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C3D0-C890-4E29-9F83-87D8D10F2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96B2-975B-4C35-B7E3-B929BD59E9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1D4D-BC70-424E-BF38-26E810B255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2E65-85D6-4512-9559-623234DAF4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9898-2D7A-44B4-AE9E-88372D131B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25DB-5C94-4AD5-8474-ACD47B260E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E781-1EF7-429B-8395-3BDFCE307F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FAF9-5850-484E-ACE2-F67518B614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FB6C-273D-41FC-8D4B-06173320DE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60F2-CBBD-4438-8D93-73E64D2384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BFD-52F5-4500-91FB-8DFB105E31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BE44-15BB-4BF0-80F2-B7A43CCD8A7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EAF-1A3C-40BA-915D-61C06CAC76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7823-597F-4BCD-B69E-C7F40F8824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C9BD-0A9E-42AC-B190-BB17351B48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7E1A-B45F-4822-BA36-A295B1B275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1B49-E5A5-40CF-83AD-10659046DE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F0D6-1E4B-4373-A369-0CA0AF84B1A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7C45-0FF1-4032-AB5D-F445269BA0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BB84-705D-4A0E-8A75-05802429F2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9B34-265C-4214-9DBC-C7BF12FD50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539D-3BBD-449C-979C-ACFD60F162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D92C-76F6-47EE-A7CC-B2C2723481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DE94-6E0E-4D62-8F7A-4A44CC58087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BC05-AA3A-4311-A23E-23062B771E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audio" Target="../media/ding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OING.WAV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MTLBONG.WAV" TargetMode="External"/><Relationship Id="rId3" Type="http://schemas.openxmlformats.org/officeDocument/2006/relationships/image" Target="../media/image3.wmf"/><Relationship Id="rId4" Type="http://schemas.openxmlformats.org/officeDocument/2006/relationships/audio" Target="../media/camera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ding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28" descr="ats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029"/>
          <p:cNvSpPr/>
          <p:nvPr/>
        </p:nvSpPr>
        <p:spPr>
          <a:xfrm>
            <a:off x="7596360" y="249228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30"/>
          <p:cNvSpPr/>
          <p:nvPr/>
        </p:nvSpPr>
        <p:spPr>
          <a:xfrm>
            <a:off x="2133720" y="7650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19  </a:t>
            </a: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卖火柴的小女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031">
            <a:hlinkClick r:id="" action="ppaction://hlinkshowjump?jump=nextslide"/>
          </p:cNvPr>
          <p:cNvSpPr/>
          <p:nvPr/>
        </p:nvSpPr>
        <p:spPr>
          <a:xfrm>
            <a:off x="7451640" y="587700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034"/>
          <p:cNvSpPr/>
          <p:nvPr/>
        </p:nvSpPr>
        <p:spPr>
          <a:xfrm>
            <a:off x="4191120" y="1905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作者：叶春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3" descr="ats003"/>
          <p:cNvPicPr/>
          <p:nvPr/>
        </p:nvPicPr>
        <p:blipFill>
          <a:blip r:embed="rId1"/>
          <a:stretch/>
        </p:blipFill>
        <p:spPr>
          <a:xfrm>
            <a:off x="304920" y="0"/>
            <a:ext cx="1627200" cy="1752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ats003"/>
          <p:cNvPicPr/>
          <p:nvPr/>
        </p:nvPicPr>
        <p:blipFill>
          <a:blip r:embed="rId2"/>
          <a:stretch/>
        </p:blipFill>
        <p:spPr>
          <a:xfrm>
            <a:off x="2057400" y="0"/>
            <a:ext cx="1627200" cy="17524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" descr="ats003"/>
          <p:cNvPicPr/>
          <p:nvPr/>
        </p:nvPicPr>
        <p:blipFill>
          <a:blip r:embed="rId3"/>
          <a:stretch/>
        </p:blipFill>
        <p:spPr>
          <a:xfrm>
            <a:off x="3886200" y="0"/>
            <a:ext cx="1627200" cy="17524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ats003"/>
          <p:cNvPicPr/>
          <p:nvPr/>
        </p:nvPicPr>
        <p:blipFill>
          <a:blip r:embed="rId4"/>
          <a:stretch/>
        </p:blipFill>
        <p:spPr>
          <a:xfrm>
            <a:off x="5638680" y="0"/>
            <a:ext cx="1627200" cy="17524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ats003"/>
          <p:cNvPicPr/>
          <p:nvPr/>
        </p:nvPicPr>
        <p:blipFill>
          <a:blip r:embed="rId5"/>
          <a:stretch/>
        </p:blipFill>
        <p:spPr>
          <a:xfrm>
            <a:off x="7315200" y="0"/>
            <a:ext cx="1627200" cy="17524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8"/>
          <p:cNvSpPr/>
          <p:nvPr/>
        </p:nvSpPr>
        <p:spPr>
          <a:xfrm>
            <a:off x="457200" y="1828800"/>
            <a:ext cx="807732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：她曾经多么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幸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跟着她奶奶一起走向新年的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幸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去。”对这句话中的两个“幸福”，你是怎样理解的？从这句话中，你体会到了些什么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9">
            <a:hlinkClick r:id="" action="ppaction://hlinkshowjump?jump=nextslide"/>
          </p:cNvPr>
          <p:cNvSpPr/>
          <p:nvPr/>
        </p:nvSpPr>
        <p:spPr>
          <a:xfrm>
            <a:off x="7956720" y="6021360"/>
            <a:ext cx="576000" cy="611280"/>
          </a:xfrm>
          <a:custGeom>
            <a:avLst/>
            <a:gdLst>
              <a:gd name="textAreaLeft" fmla="*/ 72000 w 576000"/>
              <a:gd name="textAreaRight" fmla="*/ 504000 w 576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609480" y="327672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（第一个“幸福”是说小女孩临死的时候是幸福的，她是在看到许多美丽的东西的幻觉中死去的；第二个“幸福”的意思是小女孩死了就幸福了，就没有寒冷，没有饥饿，没有痛苦了。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533520" y="4495680"/>
            <a:ext cx="754380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（体会到小女孩在这个世界上没有活路，只有死亡才能摆脱痛苦。体会到作者对小女孩的同情和对不合理的社会制度的不满。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137160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1547640" y="1341360"/>
            <a:ext cx="626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比较句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谁也不知道她曾经看到过多么美丽的东西，她曾经多么幸福，跟着她奶奶一起走向新年的幸福中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谁也不知道她曾经多么痛苦，她是在除夕夜里被活活冻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ats005"/>
          <p:cNvPicPr/>
          <p:nvPr/>
        </p:nvPicPr>
        <p:blipFill>
          <a:blip r:embed="rId1"/>
          <a:stretch/>
        </p:blipFill>
        <p:spPr>
          <a:xfrm>
            <a:off x="1476360" y="189000"/>
            <a:ext cx="1905120" cy="12826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ats007"/>
          <p:cNvPicPr/>
          <p:nvPr/>
        </p:nvPicPr>
        <p:blipFill>
          <a:blip r:embed="rId2"/>
          <a:stretch/>
        </p:blipFill>
        <p:spPr>
          <a:xfrm>
            <a:off x="7935840" y="692280"/>
            <a:ext cx="1208160" cy="17524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ats007"/>
          <p:cNvPicPr/>
          <p:nvPr/>
        </p:nvPicPr>
        <p:blipFill>
          <a:blip r:embed="rId3"/>
          <a:stretch/>
        </p:blipFill>
        <p:spPr>
          <a:xfrm>
            <a:off x="7935840" y="2565360"/>
            <a:ext cx="1208160" cy="17524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0" descr="ats007"/>
          <p:cNvPicPr/>
          <p:nvPr/>
        </p:nvPicPr>
        <p:blipFill>
          <a:blip r:embed="rId4"/>
          <a:stretch/>
        </p:blipFill>
        <p:spPr>
          <a:xfrm>
            <a:off x="7935840" y="4508640"/>
            <a:ext cx="1208160" cy="17524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1" descr="ats005"/>
          <p:cNvPicPr/>
          <p:nvPr/>
        </p:nvPicPr>
        <p:blipFill>
          <a:blip r:embed="rId5"/>
          <a:stretch/>
        </p:blipFill>
        <p:spPr>
          <a:xfrm>
            <a:off x="3419640" y="18900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2" descr="ats005"/>
          <p:cNvPicPr/>
          <p:nvPr/>
        </p:nvPicPr>
        <p:blipFill>
          <a:blip r:embed="rId6"/>
          <a:stretch/>
        </p:blipFill>
        <p:spPr>
          <a:xfrm>
            <a:off x="5435640" y="189000"/>
            <a:ext cx="1905120" cy="1282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ats008"/>
          <p:cNvPicPr/>
          <p:nvPr/>
        </p:nvPicPr>
        <p:blipFill>
          <a:blip r:embed="rId7"/>
          <a:stretch/>
        </p:blipFill>
        <p:spPr>
          <a:xfrm>
            <a:off x="0" y="533520"/>
            <a:ext cx="1308240" cy="1904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ats008"/>
          <p:cNvPicPr/>
          <p:nvPr/>
        </p:nvPicPr>
        <p:blipFill>
          <a:blip r:embed="rId8"/>
          <a:stretch/>
        </p:blipFill>
        <p:spPr>
          <a:xfrm>
            <a:off x="0" y="2438280"/>
            <a:ext cx="1308240" cy="19051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7" descr="ats008"/>
          <p:cNvPicPr/>
          <p:nvPr/>
        </p:nvPicPr>
        <p:blipFill>
          <a:blip r:embed="rId9"/>
          <a:stretch/>
        </p:blipFill>
        <p:spPr>
          <a:xfrm>
            <a:off x="0" y="4419720"/>
            <a:ext cx="1308240" cy="1904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8" descr="ats013"/>
          <p:cNvPicPr/>
          <p:nvPr/>
        </p:nvPicPr>
        <p:blipFill>
          <a:blip r:embed="rId10"/>
          <a:stretch/>
        </p:blipFill>
        <p:spPr>
          <a:xfrm>
            <a:off x="1600200" y="541008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0" descr="ats013"/>
          <p:cNvPicPr/>
          <p:nvPr/>
        </p:nvPicPr>
        <p:blipFill>
          <a:blip r:embed="rId11"/>
          <a:stretch/>
        </p:blipFill>
        <p:spPr>
          <a:xfrm>
            <a:off x="3780000" y="541008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1" descr="ats013"/>
          <p:cNvPicPr/>
          <p:nvPr/>
        </p:nvPicPr>
        <p:blipFill>
          <a:blip r:embed="rId12"/>
          <a:stretch/>
        </p:blipFill>
        <p:spPr>
          <a:xfrm>
            <a:off x="5796000" y="5410080"/>
            <a:ext cx="1905120" cy="1447920"/>
          </a:xfrm>
          <a:prstGeom prst="rect">
            <a:avLst/>
          </a:prstGeom>
          <a:ln w="0">
            <a:noFill/>
          </a:ln>
        </p:spPr>
      </p:pic>
      <p:sp>
        <p:nvSpPr>
          <p:cNvPr id="610" name="AutoShape 22">
            <a:hlinkClick r:id="" action="ppaction://hlinkshowjump?jump=nextslide"/>
          </p:cNvPr>
          <p:cNvSpPr/>
          <p:nvPr/>
        </p:nvSpPr>
        <p:spPr>
          <a:xfrm>
            <a:off x="8244000" y="6246720"/>
            <a:ext cx="576000" cy="611280"/>
          </a:xfrm>
          <a:custGeom>
            <a:avLst/>
            <a:gdLst>
              <a:gd name="textAreaLeft" fmla="*/ 72000 w 576000"/>
              <a:gd name="textAreaRight" fmla="*/ 504000 w 576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457200" y="236232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假如卖火柴的小女孩来到我们中间，你会说些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ats004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AutoShape 5">
            <a:hlinkClick r:id="" action="ppaction://hlinkshowjump?jump=nextslide"/>
          </p:cNvPr>
          <p:cNvSpPr/>
          <p:nvPr/>
        </p:nvSpPr>
        <p:spPr>
          <a:xfrm>
            <a:off x="4211640" y="602136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1295280" y="13716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609480" y="304920"/>
            <a:ext cx="815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5" descr="ats006"/>
          <p:cNvPicPr/>
          <p:nvPr/>
        </p:nvPicPr>
        <p:blipFill>
          <a:blip r:embed="rId1"/>
          <a:stretch/>
        </p:blipFill>
        <p:spPr>
          <a:xfrm>
            <a:off x="1066680" y="3616200"/>
            <a:ext cx="6705720" cy="303876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7">
            <a:hlinkClick r:id="" action="ppaction://hlinkshowjump?jump=nextslide"/>
          </p:cNvPr>
          <p:cNvSpPr/>
          <p:nvPr/>
        </p:nvSpPr>
        <p:spPr>
          <a:xfrm>
            <a:off x="8244000" y="6246720"/>
            <a:ext cx="576000" cy="611280"/>
          </a:xfrm>
          <a:custGeom>
            <a:avLst/>
            <a:gdLst>
              <a:gd name="textAreaLeft" fmla="*/ 72000 w 576000"/>
              <a:gd name="textAreaRight" fmla="*/ 504000 w 576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85800" y="30492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拓展练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读一读安徒生的其他童话。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阅读文学作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诘问生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关注世界，从各种媒收集资料，寻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纪“卖火柴的小女孩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>
            <a:hlinkClick r:id="rId1"/>
          </p:cNvPr>
          <p:cNvSpPr/>
          <p:nvPr/>
        </p:nvSpPr>
        <p:spPr>
          <a:xfrm>
            <a:off x="3886200" y="685800"/>
            <a:ext cx="5105520" cy="428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找出现实和幻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想想产生幻觉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抓住关键词句说说你读懂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有感情地读，进一步体会作者表达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4" descr="ats005"/>
          <p:cNvPicPr/>
          <p:nvPr/>
        </p:nvPicPr>
        <p:blipFill>
          <a:blip r:embed="rId2"/>
          <a:stretch/>
        </p:blipFill>
        <p:spPr>
          <a:xfrm>
            <a:off x="457200" y="838080"/>
            <a:ext cx="3276720" cy="472464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6">
            <a:hlinkClick r:id="" action="ppaction://hlinkshowjump?jump=nextslide"/>
          </p:cNvPr>
          <p:cNvSpPr/>
          <p:nvPr/>
        </p:nvSpPr>
        <p:spPr>
          <a:xfrm>
            <a:off x="7451640" y="587700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3" descr="ats001"/>
          <p:cNvPicPr/>
          <p:nvPr/>
        </p:nvPicPr>
        <p:blipFill>
          <a:blip r:embed="rId1"/>
          <a:stretch/>
        </p:blipFill>
        <p:spPr>
          <a:xfrm>
            <a:off x="1066680" y="228600"/>
            <a:ext cx="7010640" cy="32004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4"/>
          <p:cNvSpPr/>
          <p:nvPr/>
        </p:nvSpPr>
        <p:spPr>
          <a:xfrm>
            <a:off x="784080" y="4640400"/>
            <a:ext cx="607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Object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505320"/>
            <a:ext cx="8534160" cy="27111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7"/>
          <p:cNvSpPr/>
          <p:nvPr/>
        </p:nvSpPr>
        <p:spPr>
          <a:xfrm>
            <a:off x="33526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烤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3276720" y="5334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饥饿，渴望食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4724280" y="441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圣诞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464832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孤独，渴望欢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6248520" y="4191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奶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617220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痛苦，渴望疼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7467480" y="4114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奶奶抱着她飞走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75438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不愿离开奶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15">
            <a:hlinkClick r:id="" action="ppaction://hlinkshowjump?jump=nextslide"/>
          </p:cNvPr>
          <p:cNvSpPr/>
          <p:nvPr/>
        </p:nvSpPr>
        <p:spPr>
          <a:xfrm>
            <a:off x="7885080" y="624672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143000" y="2286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时候，火柴灭了，她面前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只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堵又厚又冷的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ats011"/>
          <p:cNvPicPr/>
          <p:nvPr/>
        </p:nvPicPr>
        <p:blipFill>
          <a:blip r:embed="rId1"/>
          <a:stretch/>
        </p:blipFill>
        <p:spPr>
          <a:xfrm>
            <a:off x="1066680" y="3962520"/>
            <a:ext cx="3581640" cy="17668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ats011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17668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ats011"/>
          <p:cNvPicPr/>
          <p:nvPr/>
        </p:nvPicPr>
        <p:blipFill>
          <a:blip r:embed="rId3"/>
          <a:stretch/>
        </p:blipFill>
        <p:spPr>
          <a:xfrm>
            <a:off x="1066680" y="228600"/>
            <a:ext cx="3581640" cy="17668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ats011"/>
          <p:cNvPicPr/>
          <p:nvPr/>
        </p:nvPicPr>
        <p:blipFill>
          <a:blip r:embed="rId4"/>
          <a:stretch/>
        </p:blipFill>
        <p:spPr>
          <a:xfrm>
            <a:off x="4648320" y="228600"/>
            <a:ext cx="3581280" cy="176688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8">
            <a:hlinkClick r:id="" action="ppaction://hlinkshowjump?jump=nextslide"/>
          </p:cNvPr>
          <p:cNvSpPr/>
          <p:nvPr/>
        </p:nvSpPr>
        <p:spPr>
          <a:xfrm>
            <a:off x="7812000" y="602136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495680" y="2057400"/>
            <a:ext cx="38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唯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疼她的奶奶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活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时候告诉过她：一颗星星落下来，就有一个灵魂要到上帝那儿去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4" descr="ats010"/>
          <p:cNvPicPr/>
          <p:nvPr/>
        </p:nvPicPr>
        <p:blipFill>
          <a:blip r:embed="rId1"/>
          <a:stretch/>
        </p:blipFill>
        <p:spPr>
          <a:xfrm>
            <a:off x="0" y="304920"/>
            <a:ext cx="4322880" cy="6248160"/>
          </a:xfrm>
          <a:prstGeom prst="rect">
            <a:avLst/>
          </a:prstGeom>
          <a:ln w="0">
            <a:noFill/>
          </a:ln>
        </p:spPr>
      </p:pic>
      <p:sp>
        <p:nvSpPr>
          <p:cNvPr id="565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380880" y="2362320"/>
            <a:ext cx="419112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请把我带走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她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赶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擦了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一大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柴，要把奶奶留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4" descr="ats012"/>
          <p:cNvPicPr/>
          <p:nvPr/>
        </p:nvPicPr>
        <p:blipFill>
          <a:blip r:embed="rId1"/>
          <a:stretch/>
        </p:blipFill>
        <p:spPr>
          <a:xfrm>
            <a:off x="5105520" y="685800"/>
            <a:ext cx="3619440" cy="533412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5">
            <a:hlinkClick r:id="" action="ppaction://hlinkshowjump?jump=nextslide"/>
          </p:cNvPr>
          <p:cNvSpPr/>
          <p:nvPr/>
        </p:nvSpPr>
        <p:spPr>
          <a:xfrm>
            <a:off x="7885080" y="602136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1143000" y="12952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4" descr="ats013"/>
          <p:cNvPicPr/>
          <p:nvPr/>
        </p:nvPicPr>
        <p:blipFill>
          <a:blip r:embed="rId1"/>
          <a:stretch/>
        </p:blipFill>
        <p:spPr>
          <a:xfrm>
            <a:off x="5029200" y="1066680"/>
            <a:ext cx="3844800" cy="51818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5"/>
          <p:cNvSpPr/>
          <p:nvPr/>
        </p:nvSpPr>
        <p:spPr>
          <a:xfrm>
            <a:off x="457200" y="15238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考：“飞到那没有寒冷，没有饥饿，也没有痛苦的地方去了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6">
            <a:hlinkClick r:id="" action="ppaction://hlinkshowjump?jump=nextslide"/>
          </p:cNvPr>
          <p:cNvSpPr/>
          <p:nvPr/>
        </p:nvSpPr>
        <p:spPr>
          <a:xfrm>
            <a:off x="8101080" y="6246720"/>
            <a:ext cx="576360" cy="611280"/>
          </a:xfrm>
          <a:custGeom>
            <a:avLst/>
            <a:gdLst>
              <a:gd name="textAreaLeft" fmla="*/ 72000 w 576360"/>
              <a:gd name="textAreaRight" fmla="*/ 504360 w 57636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990720" y="4191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685800" y="3657600"/>
            <a:ext cx="3124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（意思就是小女孩死了，离开了这个世界了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609480" y="3808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她敢从成把的火柴里抽出一根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她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终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抽出了一根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她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赶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擦着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大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火柴，要把奶奶留住。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3" descr="E:\课件\卖火柴的小女孩图片音乐.files\ats011.jpg"/>
          <p:cNvPicPr/>
          <p:nvPr/>
        </p:nvPicPr>
        <p:blipFill>
          <a:blip r:embed="rId1"/>
          <a:stretch/>
        </p:blipFill>
        <p:spPr>
          <a:xfrm>
            <a:off x="1143000" y="2362320"/>
            <a:ext cx="6858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828800" y="1905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3657600" y="838080"/>
            <a:ext cx="5029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为什么可怜的小女孩会带着微笑死去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谁也不知道她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曾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到过多么美丽的东西，她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曾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么幸福，跟着她奶奶一起走向新年的幸福中去。这句话中的两个“曾经”表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4" descr="ats014"/>
          <p:cNvPicPr/>
          <p:nvPr/>
        </p:nvPicPr>
        <p:blipFill>
          <a:blip r:embed="rId1"/>
          <a:stretch/>
        </p:blipFill>
        <p:spPr>
          <a:xfrm>
            <a:off x="0" y="762120"/>
            <a:ext cx="3449520" cy="50292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5">
            <a:hlinkClick r:id="" action="ppaction://hlinkshowjump?jump=nextslide"/>
          </p:cNvPr>
          <p:cNvSpPr/>
          <p:nvPr/>
        </p:nvSpPr>
        <p:spPr>
          <a:xfrm>
            <a:off x="7956720" y="6021360"/>
            <a:ext cx="576000" cy="611280"/>
          </a:xfrm>
          <a:custGeom>
            <a:avLst/>
            <a:gdLst>
              <a:gd name="textAreaLeft" fmla="*/ 72000 w 576000"/>
              <a:gd name="textAreaRight" fmla="*/ 504000 w 576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4038480" y="41911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809880" y="3886200"/>
            <a:ext cx="487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两个“曾经”表明小女孩是怀着多么美好的愿望死去的。而这样美好的愿望又是谁也不知道的。说明谁也不关心她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1:49:36Z</dcterms:created>
  <dc:creator>Home</dc:creator>
  <dc:description/>
  <dc:language>en-US</dc:language>
  <cp:lastModifiedBy>a</cp:lastModifiedBy>
  <dcterms:modified xsi:type="dcterms:W3CDTF">2015-02-10T02:24:08Z</dcterms:modified>
  <cp:revision>68</cp:revision>
  <dc:subject/>
  <dc:title>PowerPoint 演示文稿</dc:title>
</cp:coreProperties>
</file>