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19.gif" ContentType="image/gif"/>
  <Override PartName="/ppt/media/image1.jpeg" ContentType="image/jpeg"/>
  <Override PartName="/ppt/media/image22.png" ContentType="image/png"/>
  <Override PartName="/ppt/media/image21.jpeg" ContentType="image/jpeg"/>
  <Override PartName="/ppt/media/image20.gif" ContentType="image/gif"/>
  <Override PartName="/ppt/media/image18.gif" ContentType="image/gif"/>
  <Override PartName="/ppt/media/image4.png" ContentType="image/png"/>
  <Override PartName="/ppt/media/image17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62A-B963-4C59-AE42-5D319D2B3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E08-872D-4BE3-8867-E5E332BE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5C318-3187-481C-ABFA-4A4B2409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8B456-4CC1-4F17-8682-78CADA5D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3D849-CED7-4E03-882F-D6DA0A80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3A451-3B57-40B3-AE32-D8DD833D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AC641-B5A7-40FC-8F83-20E140A6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88EC2-4DD0-46FA-AB19-D94EF180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B9773-A83E-43FC-9565-DD3F1B96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D6936-FCAE-4F9E-A9AB-724F4AF7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4D064-5AAF-46AA-87FF-9F11D086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B1CD1-9F4D-4CDF-BC17-B5161286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325-40F8-43A7-8DEA-B8D6F86E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292E9-D316-45CD-AC1C-8343BD0E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8B2DC-C794-44BC-B89E-B4F7B211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5AF6B-061B-4E61-BE83-C7925082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C80C9-CAEF-4EB6-AA76-6C40ACCB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10EA2-CF11-4AD9-A84A-758B068B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08273-778B-4016-89BF-B2AD9F17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A0B50-BBF6-4AD3-83A3-2313FF58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00FC6-1853-4B97-9453-5C6936F7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C729C-7AC1-4577-B223-D1D5D4D9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98812-1591-42C1-BCEA-263DB4E8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3F5-E958-4655-92DC-F17D89121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B666D-9FB2-4C6C-9060-A3A9D6D7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68236-FE7B-42F1-8889-AD329B0C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18312-D07A-4CC3-83EF-022E2765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F06D1-D603-40AF-911F-1098D4D4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A65BB-6299-4D05-B30C-E9FBFEC7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3A3D3-012D-496E-A392-5766F4EA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888E6-D114-4D61-ADA2-A001518B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9078B-1817-45B3-9DE6-C6C463E5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0DD69-94E8-4329-9767-F01AFD6D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63F8E-F884-4E81-8DF1-F1818AC8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EF47-14A1-431B-AD2D-2E787B0D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232B9-3B5B-461B-96FA-2A1FF6D5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510E8-236B-4161-8D1A-30290F96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FD00A-BB45-4310-A55B-291465BA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ECA4EF-9615-46CE-9B77-C71B8060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041FA-068E-42DD-BC65-51EA6CCD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5645FF-D85F-4EF7-873A-0469AC23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9D479-BB44-4F24-A72E-ECF38204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A6742-7123-4EB0-A5CE-44BD3A87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43DE7-F079-438F-A096-38EA5A23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ED5A2-729C-46B5-B728-01DDE0F8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7EAD-1016-4A43-9A21-6C44401E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AE7EB-4779-466E-84BE-66741F0B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6A54D-4FBD-44AC-9123-0CD9EEB8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FEF71-44F1-4F27-BB2F-1354A615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8F35F-997E-45EA-A9BA-697E0348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E78AA-0BD2-43A9-94A1-8E18BA41B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99CDC3-50A4-4F8E-901D-80B5246A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9D01D6-E3D1-4C34-9FEC-BC381A7D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178366-05E8-43FC-B229-887BE04D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03118-1C65-49A2-916E-DF0FC436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6C35A-8C2A-46A5-831B-194A7CCC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C814-4F32-4D73-AB07-A6B29AA8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3BD3C4-E27B-45F9-B063-BEE7E50A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059E0-5664-451A-BA1C-F580449C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48019-DC9F-4429-8BB0-8531C215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64EB2-358F-408C-9855-2867B9E3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41859-699A-41CF-A024-23DA7FCA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85A6B-3C4A-4295-BBB7-9420A714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71B78-8290-4A1D-9B1C-9B7D84D5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3CA78-C06B-4DFC-A044-1D4514AC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2B819D-C1A0-4C0A-BB9B-FAB8A38C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2C82B2-4A33-477D-B644-5F7E5639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C560-F2B2-43E0-918C-C408B9A6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AA47D-BB01-42E8-B42F-F2056378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4BF976-E5BF-442F-9405-13E6B552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6114A-550D-4D54-81DC-A6618C9C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AD669-77DA-45DC-8EFD-D33DBC7A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C1E16-61CB-4D3C-BEA2-309CD95B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21982-2802-44AC-A11D-97D9029B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797A0-DB55-48C0-85CA-A0241394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43E52-4633-4077-A0E6-B44065C0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80820-1859-4971-8149-D789F2BD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B17051-149C-479F-A57B-FE22EEEC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D375-31F7-4C21-8D94-63096536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5767B9-9CF7-4938-9132-8A11B1C1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B532A9-3205-4BF3-ACAC-E020E636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814ADD-BAF7-464C-8C83-D499BF16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A898FE-52F4-43BC-AB94-4FB22D79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3C7950-35CC-434E-8085-5C81FF9A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FE92B-56B6-47C2-B7C1-1AAC0560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A0DD8B-4460-430D-8260-7E7338C2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34BC02-92DB-4CD2-9903-69178AD0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4D624-EAFA-40FB-85E7-DA137DF6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4EF85B-F3E6-4259-AAE3-F2A31EC0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3EF9-EC3C-4A31-8649-D5CFD6442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A48FE3-2438-4F3F-9FF3-2162ED25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C491-1B0A-4B5C-9527-059A684D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390-CD8F-49BF-B2E0-00775F67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EDD9-6207-4105-A408-285FAECF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EE93-A1DA-4813-AACF-D9F91B68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8DA4-B1ED-4DA9-B12F-E4F00B0D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0B79-D25E-498E-9F3D-9231F336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C1F4-78F1-45FD-BEC0-910DE5AF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89EC-BFA5-48EF-9B9E-884EC26D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FA16F-C4A3-493F-96FE-664D2842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C073C-E212-49DF-BEA0-F4827ED1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170D-A5B8-4911-8AA0-18ED8189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D44B3-870C-4714-9647-CA3687C9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95B4-95F0-4C0B-A444-0CD020D0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77A93-3C3D-4DAC-AB17-7A139321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E3059-329C-47A3-A272-53BD0D06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2159B-4C7C-4310-A9CD-F9E9894C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908E-2D8C-4CA4-9473-02BA94E2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065E8-07F7-4BD7-A716-FA8C5282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F9CB-5DBD-43A3-9050-B71AEB72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A76E7-44A8-49EF-97E5-BD33904F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DA6B6-F09E-416A-8617-922EB208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23D60-6831-470E-B1EB-3AABCF17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C5001-8C28-4887-AC5C-1B806059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A22F-D786-4717-BCF8-C0653833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98CE-A1B2-431F-8F17-519A5E4C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A1C2E-DE21-4610-A45D-F5F3A0A3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282BC-EBE6-4E6F-AE3C-C8C299A2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ECA03-6EAE-4F16-9758-458E4604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4B306-C1E5-4AD3-A677-7F4AB28C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0A8BB-446D-4537-BDD9-C6884C39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10EBB-A351-466C-A87F-D6D12806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FBB07-71C4-437C-8BB6-4A3F4A62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86394-6E34-4245-A4BF-CC4BF4E2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AF492-CA51-45CC-8FDF-CB711C3F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95D-D9B2-4CCB-9FEC-D438EA91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90371-9018-4339-BF7E-ACDACB11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527C7-57FB-4150-94E7-1DC7E806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49811-9D42-48BC-9E42-DCBAE9D7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AB72B-9EC2-483F-8AF6-C98451F2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A77AC-C74C-4A71-8175-96D2B4BF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7BB20-9C52-4C2F-A187-3D24CA04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0A85D-3B32-4CC8-BB7A-7FB2E8C2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66F4-CC3A-49CA-90FE-8F99CFFA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66922-550E-4AD3-8D80-C6853367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9232B-F9BA-408D-9091-480422DF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3C2-806E-4F8A-9BD1-B9869E53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594C8-986A-4C85-A681-50F3AE53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1105F-6C11-4626-B8EB-152D8639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D29EC-4636-406A-A05B-90149558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4B901-5DED-4280-B9DF-7069D99D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E47CF-2399-4031-9574-BFD05830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7C766-357F-4C8C-BB51-E188D177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3C8C5-1B61-4FB1-BE85-40E7A309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13E6E-98B8-4732-92C1-1A3C7C40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26C89-1AF9-470D-9D01-5546FBA8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0C767-FDDD-40E6-A765-057415EC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727-6B5E-4B8E-8BED-FD9F5CD1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33A4F-5E78-42B9-9F16-C2AF709F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F375F-FE6F-4BDE-A4FF-05784A8A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8D23B-128E-49DD-8B96-9A117676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76037-B7BB-4D6C-BD4B-AA1C4E6F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9E971-6127-4BD5-91A4-CB516E3C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14079-5811-4A9B-AD5B-FE47351F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D36D5-AB6E-48AF-A06A-17F163FE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97C76-292B-423C-9C56-B3E048D2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8CF28-3103-4A4E-90DF-A871ACF5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9BD20-DE3A-48E3-9BCF-D44A7AC7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302-CA16-4087-AE46-30E64E84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9C57C-554C-47C9-B9C9-4A223E5D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77602-786E-4CB2-AB7D-2C8DF31D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87EDA-6AC8-4CE6-80BE-0E16AA50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297EC-C289-4EF3-BBA8-49CB1D6E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89293-82C7-4B25-BB47-77227F03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ABD8F-E7E3-4371-989D-A54E5199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9E530-3F4C-4ACB-8279-E545E2BF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69F0B-FCBE-442E-8368-95659154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D31C3-53FF-47AD-946F-85EE6B29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363FD-3D52-4966-AA7D-403DD858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D65-6A32-4007-98DA-0CC311EB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4B6B0-EEC6-4D24-81E7-9351D247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81AF4-A230-475B-93F0-5DCA14FF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38EDF-688B-4349-81EF-6C63A098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31448-3C51-4F33-AE45-D0EC25E4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088CB-F6E8-4086-93EA-0205DC08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2A6F7-FD98-41EE-BC8D-CDDD1710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E9C45-42EC-4DD0-80FE-1D8466AB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5CA15-5489-4236-8239-E2F871FD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09C9E-99EF-4529-BF1A-E29FA8F8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AAA84-AA52-46C7-B67C-6D72BFD8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4776-3302-4128-9876-2241A5911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0912-B235-4F45-8604-2B96911217A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A2F1-88CB-43B6-8ABF-764CB743BD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EFDC-927E-45DF-8580-CAF73B94C7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B7BD-2A57-482A-9847-7E802C0792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7EDB-6CB6-493E-A1E5-F51A0BEFF4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9B9A-CBE6-40E8-9462-B189314C1C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4F56-D71C-43FB-9055-BEFD195F3C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2120-8D2C-4E93-BA04-A82BA225E2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6CA9-B90D-43E3-87F6-3FEA654933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070C-85C0-492D-AE27-027BF21C5C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0373-63F6-4B21-B825-3529ED80F69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0338-0659-4AD0-8122-C14AFFEE23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ff"/>
            </a:gs>
            <a:gs pos="100000">
              <a:srgbClr val="66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9A16-82FA-4970-AA4B-DADEC8459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D23D-5FF0-4820-9A8B-CB1434538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91D4-48EF-425A-8364-12E0C837490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51D0-2AD4-4544-87B1-5708AB6175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AA15-D40B-4300-B6BC-953108E01BF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AD4D-2F2E-411B-AF7A-2A6FA427BB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9AAC-970A-4C64-A50C-1F3E222E9C5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C7C8-998B-41E3-BC95-CCC21C7913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E2A1-C219-470B-8891-7F3F6B5909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4254-C8B5-463A-8E02-704AD46F85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C4C6-6ECD-4829-B0A7-9DA389A003B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C1B6-0878-4504-847F-CAF37524D3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A5E3-5DCE-4389-813F-757A2AD6607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F0A4-A1A8-43A3-887F-2315383C42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6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9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5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WordArt 2"/>
          <p:cNvSpPr txBox="1"/>
          <p:nvPr/>
        </p:nvSpPr>
        <p:spPr>
          <a:xfrm>
            <a:off x="1835280" y="2349360"/>
            <a:ext cx="5486400" cy="136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棉花姑娘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16" name="Picture 3" descr="棉花宝宝"/>
          <p:cNvPicPr/>
          <p:nvPr/>
        </p:nvPicPr>
        <p:blipFill>
          <a:blip r:embed="rId2"/>
          <a:stretch/>
        </p:blipFill>
        <p:spPr>
          <a:xfrm>
            <a:off x="7093080" y="4437000"/>
            <a:ext cx="1371600" cy="1096920"/>
          </a:xfrm>
          <a:prstGeom prst="rect">
            <a:avLst/>
          </a:prstGeom>
          <a:ln w="0">
            <a:noFill/>
          </a:ln>
        </p:spPr>
      </p:pic>
      <p:sp>
        <p:nvSpPr>
          <p:cNvPr id="617" name="矩形 6"/>
          <p:cNvSpPr/>
          <p:nvPr/>
        </p:nvSpPr>
        <p:spPr>
          <a:xfrm>
            <a:off x="1332000" y="1700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aq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3"/>
          <p:cNvSpPr/>
          <p:nvPr/>
        </p:nvSpPr>
        <p:spPr>
          <a:xfrm>
            <a:off x="304920" y="376200"/>
            <a:ext cx="90201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不久，棉花姑娘的病好了，长出了碧绿碧绿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叶子，吐出了雪白雪白的棉花。她咧开嘴笑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4"/>
          <p:cNvSpPr/>
          <p:nvPr/>
        </p:nvSpPr>
        <p:spPr>
          <a:xfrm>
            <a:off x="6553080" y="990720"/>
            <a:ext cx="15242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tu 1002 copy"/>
          <p:cNvPicPr/>
          <p:nvPr/>
        </p:nvPicPr>
        <p:blipFill>
          <a:blip r:embed="rId2"/>
          <a:stretch/>
        </p:blipFill>
        <p:spPr>
          <a:xfrm>
            <a:off x="304920" y="380880"/>
            <a:ext cx="1828800" cy="13701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3"/>
          <p:cNvSpPr/>
          <p:nvPr/>
        </p:nvSpPr>
        <p:spPr>
          <a:xfrm>
            <a:off x="1284480" y="2971800"/>
            <a:ext cx="352728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碧绿碧绿的叶子    碧绿碧绿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雪白雪白的棉花    雪白雪白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4"/>
          <p:cNvSpPr/>
          <p:nvPr/>
        </p:nvSpPr>
        <p:spPr>
          <a:xfrm>
            <a:off x="5791320" y="3429000"/>
            <a:ext cx="16761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5"/>
          <p:cNvSpPr/>
          <p:nvPr/>
        </p:nvSpPr>
        <p:spPr>
          <a:xfrm>
            <a:off x="5791320" y="4572000"/>
            <a:ext cx="16761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A3_028"/>
          <p:cNvPicPr/>
          <p:nvPr/>
        </p:nvPicPr>
        <p:blipFill>
          <a:blip r:embed="rId2"/>
          <a:stretch/>
        </p:blipFill>
        <p:spPr>
          <a:xfrm>
            <a:off x="2362320" y="1447920"/>
            <a:ext cx="807840" cy="9903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" descr="A3_075"/>
          <p:cNvPicPr/>
          <p:nvPr/>
        </p:nvPicPr>
        <p:blipFill>
          <a:blip r:embed="rId3"/>
          <a:stretch/>
        </p:blipFill>
        <p:spPr>
          <a:xfrm>
            <a:off x="4724280" y="1295280"/>
            <a:ext cx="1981440" cy="16383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A2_178"/>
          <p:cNvPicPr/>
          <p:nvPr/>
        </p:nvPicPr>
        <p:blipFill>
          <a:blip r:embed="rId4"/>
          <a:stretch/>
        </p:blipFill>
        <p:spPr>
          <a:xfrm>
            <a:off x="5410080" y="4038480"/>
            <a:ext cx="1622520" cy="16462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壁虎"/>
          <p:cNvPicPr/>
          <p:nvPr/>
        </p:nvPicPr>
        <p:blipFill>
          <a:blip r:embed="rId5"/>
          <a:stretch/>
        </p:blipFill>
        <p:spPr>
          <a:xfrm>
            <a:off x="1905120" y="3429000"/>
            <a:ext cx="171432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WordArt 2"/>
          <p:cNvSpPr txBox="1"/>
          <p:nvPr/>
        </p:nvSpPr>
        <p:spPr>
          <a:xfrm>
            <a:off x="971640" y="2781360"/>
            <a:ext cx="731520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朋友们，你们还知道哪些益虫呢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76" name="Picture 3" descr="图片1"/>
          <p:cNvPicPr/>
          <p:nvPr/>
        </p:nvPicPr>
        <p:blipFill>
          <a:blip r:embed="rId2"/>
          <a:stretch/>
        </p:blipFill>
        <p:spPr>
          <a:xfrm>
            <a:off x="1187280" y="476280"/>
            <a:ext cx="1333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思考　"/>
          <p:cNvPicPr/>
          <p:nvPr/>
        </p:nvPicPr>
        <p:blipFill>
          <a:blip r:embed="rId2"/>
          <a:stretch/>
        </p:blipFill>
        <p:spPr>
          <a:xfrm>
            <a:off x="0" y="0"/>
            <a:ext cx="2286000" cy="1828800"/>
          </a:xfrm>
          <a:prstGeom prst="rect">
            <a:avLst/>
          </a:prstGeom>
          <a:ln w="0">
            <a:noFill/>
          </a:ln>
        </p:spPr>
      </p:pic>
      <p:sp>
        <p:nvSpPr>
          <p:cNvPr id="619" name="AutoShape 3"/>
          <p:cNvSpPr/>
          <p:nvPr/>
        </p:nvSpPr>
        <p:spPr>
          <a:xfrm>
            <a:off x="2438280" y="0"/>
            <a:ext cx="3353040" cy="99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900000" y="259092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姑  娘  蚜  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治  啄  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900000" y="1905120"/>
            <a:ext cx="88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400" spc="-1" strike="noStrike">
                <a:solidFill>
                  <a:srgbClr val="006600"/>
                </a:solidFill>
                <a:latin typeface="zypyyb"/>
                <a:ea typeface="zypyyb"/>
              </a:rPr>
              <a:t>g</a:t>
            </a:r>
            <a:r>
              <a:rPr b="1" lang="en-US" sz="4400" spc="-1" strike="noStrike">
                <a:solidFill>
                  <a:srgbClr val="006600"/>
                </a:solidFill>
                <a:latin typeface="宋体"/>
              </a:rPr>
              <a:t>ū   nián</a:t>
            </a:r>
            <a:r>
              <a:rPr b="1" lang="en-US" sz="4400" spc="-1" strike="noStrike">
                <a:solidFill>
                  <a:srgbClr val="006600"/>
                </a:solidFill>
                <a:latin typeface="zypyyb"/>
                <a:ea typeface="zypyyb"/>
              </a:rPr>
              <a:t>g</a:t>
            </a:r>
            <a:r>
              <a:rPr b="1" lang="en-US" sz="4400" spc="-1" strike="noStrike">
                <a:solidFill>
                  <a:srgbClr val="006600"/>
                </a:solidFill>
                <a:latin typeface="宋体"/>
              </a:rPr>
              <a:t>    yá     p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746280" y="388620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006600"/>
                </a:solidFill>
                <a:latin typeface="宋体"/>
              </a:rPr>
              <a:t>zhì    zhuó    b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11"/>
          <p:cNvPicPr/>
          <p:nvPr/>
        </p:nvPicPr>
        <p:blipFill>
          <a:blip r:embed="rId2"/>
          <a:stretch/>
        </p:blipFill>
        <p:spPr>
          <a:xfrm>
            <a:off x="3276720" y="333360"/>
            <a:ext cx="2447640" cy="23734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" descr="11"/>
          <p:cNvPicPr/>
          <p:nvPr/>
        </p:nvPicPr>
        <p:blipFill>
          <a:blip r:embed="rId3"/>
          <a:stretch/>
        </p:blipFill>
        <p:spPr>
          <a:xfrm>
            <a:off x="6300720" y="333360"/>
            <a:ext cx="2448000" cy="23734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4" descr="11"/>
          <p:cNvPicPr/>
          <p:nvPr/>
        </p:nvPicPr>
        <p:blipFill>
          <a:blip r:embed="rId4"/>
          <a:stretch/>
        </p:blipFill>
        <p:spPr>
          <a:xfrm>
            <a:off x="287280" y="3887640"/>
            <a:ext cx="2448000" cy="2373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11"/>
          <p:cNvPicPr/>
          <p:nvPr/>
        </p:nvPicPr>
        <p:blipFill>
          <a:blip r:embed="rId5"/>
          <a:stretch/>
        </p:blipFill>
        <p:spPr>
          <a:xfrm>
            <a:off x="3348000" y="3933720"/>
            <a:ext cx="2448000" cy="23734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11"/>
          <p:cNvPicPr/>
          <p:nvPr/>
        </p:nvPicPr>
        <p:blipFill>
          <a:blip r:embed="rId6"/>
          <a:stretch/>
        </p:blipFill>
        <p:spPr>
          <a:xfrm>
            <a:off x="6372360" y="3933720"/>
            <a:ext cx="2447640" cy="23734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11"/>
          <p:cNvPicPr/>
          <p:nvPr/>
        </p:nvPicPr>
        <p:blipFill>
          <a:blip r:embed="rId7"/>
          <a:stretch/>
        </p:blipFill>
        <p:spPr>
          <a:xfrm>
            <a:off x="216000" y="287280"/>
            <a:ext cx="2448000" cy="2373480"/>
          </a:xfrm>
          <a:prstGeom prst="rect">
            <a:avLst/>
          </a:prstGeom>
          <a:ln w="0">
            <a:noFill/>
          </a:ln>
        </p:spPr>
      </p:pic>
      <p:sp>
        <p:nvSpPr>
          <p:cNvPr id="629" name="Rectangle 8"/>
          <p:cNvSpPr/>
          <p:nvPr/>
        </p:nvSpPr>
        <p:spPr>
          <a:xfrm>
            <a:off x="790560" y="1131840"/>
            <a:ext cx="1836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姑娘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9"/>
          <p:cNvSpPr/>
          <p:nvPr/>
        </p:nvSpPr>
        <p:spPr>
          <a:xfrm>
            <a:off x="3780000" y="1131840"/>
            <a:ext cx="194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蚜虫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0"/>
          <p:cNvSpPr/>
          <p:nvPr/>
        </p:nvSpPr>
        <p:spPr>
          <a:xfrm>
            <a:off x="6661080" y="1104840"/>
            <a:ext cx="172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盼望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1"/>
          <p:cNvSpPr/>
          <p:nvPr/>
        </p:nvSpPr>
        <p:spPr>
          <a:xfrm>
            <a:off x="792000" y="4686480"/>
            <a:ext cx="1835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斑点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3781440" y="4705200"/>
            <a:ext cx="172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治病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3"/>
          <p:cNvSpPr/>
          <p:nvPr/>
        </p:nvSpPr>
        <p:spPr>
          <a:xfrm>
            <a:off x="6573960" y="4702320"/>
            <a:ext cx="2570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啄木鸟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24360" y="907920"/>
            <a:ext cx="5025960" cy="5112000"/>
          </a:xfrm>
          <a:prstGeom prst="rect">
            <a:avLst/>
          </a:prstGeom>
          <a:ln w="0">
            <a:noFill/>
          </a:ln>
        </p:spPr>
      </p:pic>
      <p:sp>
        <p:nvSpPr>
          <p:cNvPr id="636" name="Text Box 3"/>
          <p:cNvSpPr/>
          <p:nvPr/>
        </p:nvSpPr>
        <p:spPr>
          <a:xfrm>
            <a:off x="380880" y="1924200"/>
            <a:ext cx="404676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棉花姑娘生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了，叶子上有许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可恶的蚜虫。她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么盼望有医生来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她治病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609480" y="3657600"/>
            <a:ext cx="152640" cy="1522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5"/>
          <p:cNvSpPr/>
          <p:nvPr/>
        </p:nvSpPr>
        <p:spPr>
          <a:xfrm>
            <a:off x="990720" y="3657600"/>
            <a:ext cx="152280" cy="1522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6"/>
          <p:cNvSpPr/>
          <p:nvPr/>
        </p:nvSpPr>
        <p:spPr>
          <a:xfrm>
            <a:off x="3492360" y="3573360"/>
            <a:ext cx="152640" cy="1526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7"/>
          <p:cNvSpPr/>
          <p:nvPr/>
        </p:nvSpPr>
        <p:spPr>
          <a:xfrm>
            <a:off x="609480" y="4191120"/>
            <a:ext cx="152640" cy="1522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2" descr="青蛙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749600"/>
            <a:ext cx="9144000" cy="510840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3"/>
          <p:cNvSpPr/>
          <p:nvPr/>
        </p:nvSpPr>
        <p:spPr>
          <a:xfrm>
            <a:off x="2463840" y="241200"/>
            <a:ext cx="47055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青蛙跳来了。棉花姑娘高兴地说：</a:t>
            </a:r>
            <a:r>
              <a:rPr b="1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请你帮我捉害虫吧！</a:t>
            </a:r>
            <a:r>
              <a:rPr b="1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青蛙说：</a:t>
            </a:r>
            <a:r>
              <a:rPr b="1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“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对不起，我只会捉田里的害虫，你还是请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帮忙吧！</a:t>
            </a:r>
            <a:r>
              <a:rPr b="1" lang="zh-CN" sz="2400" spc="-1" strike="noStrike">
                <a:solidFill>
                  <a:srgbClr val="006600"/>
                </a:solidFill>
                <a:latin typeface="华文楷体"/>
                <a:ea typeface="华文楷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燕子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781280"/>
            <a:ext cx="9144000" cy="507672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3"/>
          <p:cNvSpPr/>
          <p:nvPr/>
        </p:nvSpPr>
        <p:spPr>
          <a:xfrm>
            <a:off x="228600" y="399960"/>
            <a:ext cx="8915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啄木鸟飞来了。棉花姑娘说：“请你帮我捉害虫吧！”啄木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说：“对不起，我只会捉树干里的害虫，你还是请别人帮忙吧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2" descr="33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494000"/>
            <a:ext cx="9144000" cy="536400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3"/>
          <p:cNvSpPr/>
          <p:nvPr/>
        </p:nvSpPr>
        <p:spPr>
          <a:xfrm>
            <a:off x="380880" y="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燕子飞来了。棉花姑娘说：“请你帮我捉害虫吧！”燕子说：“对不起，我只会捉空中飞的害虫，你还是请别人帮忙吧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qingwa"/>
          <p:cNvPicPr/>
          <p:nvPr/>
        </p:nvPicPr>
        <p:blipFill>
          <a:blip r:embed="rId2"/>
          <a:stretch/>
        </p:blipFill>
        <p:spPr>
          <a:xfrm>
            <a:off x="6265800" y="4005360"/>
            <a:ext cx="2843280" cy="28526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52" name="Picture 3" descr="zhuomuniao"/>
          <p:cNvPicPr/>
          <p:nvPr/>
        </p:nvPicPr>
        <p:blipFill>
          <a:blip r:embed="rId3"/>
          <a:stretch/>
        </p:blipFill>
        <p:spPr>
          <a:xfrm>
            <a:off x="3132000" y="4006800"/>
            <a:ext cx="2808360" cy="285120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53" name="Picture 4" descr="yanzi"/>
          <p:cNvPicPr/>
          <p:nvPr/>
        </p:nvPicPr>
        <p:blipFill>
          <a:blip r:embed="rId4"/>
          <a:stretch/>
        </p:blipFill>
        <p:spPr>
          <a:xfrm>
            <a:off x="0" y="4005360"/>
            <a:ext cx="2843280" cy="28526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54" name="Picture 5" descr="思考"/>
          <p:cNvPicPr/>
          <p:nvPr/>
        </p:nvPicPr>
        <p:blipFill>
          <a:blip r:embed="rId5"/>
          <a:stretch/>
        </p:blipFill>
        <p:spPr>
          <a:xfrm>
            <a:off x="7164360" y="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655" name="Rectangle 6"/>
          <p:cNvSpPr/>
          <p:nvPr/>
        </p:nvSpPr>
        <p:spPr>
          <a:xfrm>
            <a:off x="3348000" y="1425240"/>
            <a:ext cx="36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　　燕子、啄木鸟和青蛙为什么眼睁睁地看着棉花姑娘生病，不帮忙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在小组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分角色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读一读它们的对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7" descr="Snap1"/>
          <p:cNvPicPr/>
          <p:nvPr/>
        </p:nvPicPr>
        <p:blipFill>
          <a:blip r:embed="rId6"/>
          <a:stretch/>
        </p:blipFill>
        <p:spPr>
          <a:xfrm>
            <a:off x="0" y="0"/>
            <a:ext cx="28432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2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4815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58" name="Text Box 3"/>
          <p:cNvSpPr/>
          <p:nvPr/>
        </p:nvSpPr>
        <p:spPr>
          <a:xfrm>
            <a:off x="1949760" y="5018040"/>
            <a:ext cx="55252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忽然，一群圆圆的小虫飞来了，很快就把蚜虫吃光了。棉花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娘惊奇地问：“你们是谁呀？”小虫说：“我们身上有七个斑点，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像七颗星星，大家都叫我们七星瓢虫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4"/>
          <p:cNvSpPr/>
          <p:nvPr/>
        </p:nvSpPr>
        <p:spPr>
          <a:xfrm>
            <a:off x="5105520" y="548640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5"/>
          <p:cNvSpPr/>
          <p:nvPr/>
        </p:nvSpPr>
        <p:spPr>
          <a:xfrm>
            <a:off x="5410080" y="54864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6"/>
          <p:cNvSpPr/>
          <p:nvPr/>
        </p:nvSpPr>
        <p:spPr>
          <a:xfrm>
            <a:off x="457200" y="5867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7"/>
          <p:cNvSpPr/>
          <p:nvPr/>
        </p:nvSpPr>
        <p:spPr>
          <a:xfrm>
            <a:off x="762120" y="58672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23:59:00Z</dcterms:created>
  <dc:creator>第一PPT模板网-WWW.1PPT.COM</dc:creator>
  <dc:description/>
  <cp:keywords>第一PPT模板网-WWW.1PPT.COM</cp:keywords>
  <dc:language>en-US</dc:language>
  <cp:lastModifiedBy>a</cp:lastModifiedBy>
  <dcterms:modified xsi:type="dcterms:W3CDTF">2015-03-17T06:00:12Z</dcterms:modified>
  <cp:revision>4</cp:revision>
  <dc:subject/>
  <dc:title>第一PPT模板网-WWW.1PPT.COM</dc:title>
</cp:coreProperties>
</file>