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png" ContentType="image/png"/>
  <Override PartName="/ppt/media/whoosh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957-84C2-4A99-AF87-CE34C9E0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D94-333D-4EF8-A9AB-4EA8F648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8C87B-6423-40B7-B1B4-AF05B4C7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40EC2-0061-4FFE-A5EF-174B17BB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289F7-28D7-45B6-A677-95DF6EC5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4D26E-D4C5-465A-A68F-C4DB3282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8F987-C288-4E93-9168-B463E786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D253A-153A-45D8-9E77-286A228C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D0969-68DB-4A0B-8C48-7A252395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1ED31-16E9-4A92-B2EF-31FF74A6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A73C3-6F6B-404F-9328-B9241668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8BB9E-80B6-4C37-B2AF-5F48F962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6E1-7C54-4780-AEA1-ADED7999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93D13-2177-4AA9-A2C7-CDEF0BCA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B6CBF-E03B-4316-ACC0-1E575536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05169-AE12-4B33-8E7F-E234D0EC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02152-59E5-411C-98B5-849452D2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E455B-382F-458E-ACD9-EB3C8B4A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F5DB4-4DB1-4DF4-8A16-27496857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A8081-D78B-4768-8CBC-9FF31982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4586F-58A4-4E59-8902-12585FDA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18867-B3CC-48E9-856F-B3B508AA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424D4-6FB9-4F01-9958-966FD32B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481-F3CB-4405-9B63-CF7DE5E5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F4CBF-0528-4946-AD8A-7E206A8F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31822-F115-4AF0-9ECC-7B418D91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C74FC-DFC0-49FF-BEFD-8ABD3D03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F1A8C-4FC0-4111-A6F8-28269802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20C78-1BF2-44B8-B5BD-F2DF0AEE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1E9EF-3BC3-47A4-8CA2-2F5AC100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EBE27-3C40-47F7-B240-1842ADB1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DEEE6-874E-45E8-BD79-89F345C3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2356B-7882-41FF-A262-A6D88804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918C1-870A-469A-8651-42CC0CDD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9073-8F2B-4674-8895-5A0A6C9E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6FE65-AB89-4CBA-BE67-C5E910B2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650D3-FD50-48FB-B3FC-502EBCFA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AEAAE-1178-4946-9555-A2A98987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4AA0F-1D9F-4FEA-B775-63D69FDF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AD11D-4548-4C14-9677-69142788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86063-8129-43A4-B974-C1BE1AD8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283D8-2766-4D66-B4F3-0D56BB59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BBFC8-E13B-4B02-88B5-EFA36E3F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631D3-A2EF-4794-97BA-B51621C4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6FEC2-DD7B-408B-A760-39C279F7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DB8F-576C-4E3D-850A-E1B0404B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30F56-F444-40EB-A20F-0C8D6AA8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7DD8D-033D-45A1-945F-D0872203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76311-B924-475E-AB34-E9C1BB8C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E66A8-A645-4DAA-B108-CB446A01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B58CD-9628-4A84-A6BA-FF08F257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094BE-C130-4BEF-B225-F22DA4B3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C5E97-89FF-4B7E-8742-5086F2C2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96ECE-0387-4894-848E-9D1EA86D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2C157-56E8-4F0B-90DE-6F23965D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FBC1F-FA7E-4F37-8CEE-0321883E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60C2-EA4F-418E-A420-21403F17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DCC7B-C0D9-4841-BDB5-6C935E15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68928-8499-4DA0-9047-AA4BB08C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BA599-EF41-4A36-9959-714F1EAE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DAB7B-6C2A-4E0E-ACE1-17556942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95C30-4282-4FF4-9DFB-9F821AFC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17E910-3598-434F-9D16-0305E95D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F7B7A1-7554-4F7B-8E0A-9DCF78ED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2F44-2D33-44B0-86CA-A9707ECB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9934-5295-43CB-9867-63467DAC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6672-CA07-481C-B404-8EEA0D9D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A278-FDCA-4C78-92A9-FEB2291A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3AF-481C-4575-B932-D9FAB661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D670-4176-4FB3-9293-77A32527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99D9-C06A-4512-A930-A2FF1CD3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1512-0559-401A-8BC8-B4AFB321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9122-43C8-470C-B347-AF97219A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5619-F684-40F5-ABDF-D4F16F16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6DE42-476F-4C4D-8D9F-B86E1D80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BBE3E-D932-440F-A334-C592A69B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A0160-A827-4C5A-B2D8-4FC6558C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AD48-B20B-4A79-856D-E38E9E5B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F9ECB-BAD3-4C92-B0B5-EC9B214E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F34D-6491-4AE7-8D6F-BAAE6ADC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3F79-28D1-400E-872D-EA424FA4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C9560-12B9-46A6-8AC2-1EDA9E78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5AB14-F17B-42BB-B5A1-D7857265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14952-EF64-4681-B90C-75BBC602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D9200-D8B0-4D49-95D6-66BD801F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C45B8-2596-4311-8D9A-78C2C75D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A9775-9469-48F6-B0FF-B16484D4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C294F-421A-4E0E-82AD-1B5D0054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C2653-1C19-4DF4-AD80-911E5BED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0B297-7466-4624-A9C1-A6DD4F5A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7B16-3D4A-4E29-AB34-DB557063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3A5F3-6850-42C9-8913-913652F0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278F1-AB97-4424-8F39-51D1D0DD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B8438-7B5B-4AFD-AFBF-001F8953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44A18-F744-4C90-9391-7F7A2851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CB16F-C938-476F-9B82-0ED99EC0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32FD7-84A2-4503-8930-286AC9E7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8982B-8ECD-48A3-BF51-9B5F17BC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D1A92-EB1E-4D7E-A430-DEDC452E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1615C-0291-4A89-8DC8-16096A2A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C60C0-4770-482B-8387-623AF01D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036-3453-4DE2-B84D-A8EDBF22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DE899-A690-482B-B2BC-FF932A23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D1E36-E62A-4DAD-ADE2-C1693113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08B25-635E-4D8B-861E-D2399DF7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08CD1-4E32-43F6-8746-6C0747E6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B8796-F9CD-451D-9B49-B8AFB762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0415D-DC7E-468B-ADFF-5C6DD7C7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067CF-AF6C-4D58-8B96-F8F6C775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52C1E-6A5B-4411-9B20-91F5421B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12069-12FF-4B66-AAA2-E085FA7A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290EE-F140-40DA-ABF4-B5919A94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CF5-7DD9-4605-BC15-241BD3D9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0D246-47F0-4B12-B3BA-5C9C540C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6C268-3B15-4147-9185-C96C0976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CAF14-72A8-436C-A34A-93592E5F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A9CCE-4FE1-479A-8237-6A8A0875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64E02-0B2C-422A-B493-A323AB92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A8397-5425-4C90-8456-87E64700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AC9DA-8D67-4348-88BC-1B2ECF5A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C88F3-903C-48CD-909C-FC65A48D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1CF3C-40A4-4910-8425-C5A85BCE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5BC8F-27FD-42E5-8916-50D908A9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0AA-9BD0-4C52-8B39-010CB9FA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335FB-D595-4ECB-856E-2068DBEE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D8FBB-555B-48EF-B68A-0B54BB72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0FCDD-EA20-4DE9-B089-FEEF0584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2436E-FF14-4AE4-8545-0E1269F4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DF839-3AD3-4E98-A05F-CBE0BD4E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FF490-3998-4952-AF0F-B7F154C2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508ED-6EEC-4D25-86F0-98C1AD90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A31A9-3408-429A-BEA8-654E49C2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BD312-72BF-4C9B-951E-4D3D3891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CC5BD-E84F-4894-8CC2-4E84F21A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86A-E2E6-449C-9499-8535D75F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A5FF3-433E-45B2-A4D7-F1D1C1DA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EE345-7374-4B49-8624-52367B70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556D1-7AC3-4AF6-AB4D-41A529E3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83B3F-7714-4A8F-834E-B2447CCE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D7D7E-0C4E-4F7A-8B66-731A0D8C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E4391-D5D2-4724-940D-130A5BD8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0E0F2-90B7-4D0E-8B17-5D8D9B60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2A83F-4720-41A7-A9BE-BAD8BBE4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F66C5-CEF5-47CF-8398-369027B0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79AFD-A6AF-4AAD-92ED-A1CA7E0C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31F-5B59-4552-8152-550EA63A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BDAB5-AFAE-4710-9B55-AEABF766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33B6B-8F45-4E5E-B5C2-F350DAC6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E480E-AC08-4906-A27C-DB8B6B74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93D7B-A193-46DE-82ED-B0E6ABA9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B4591-743D-415D-ABFE-691E705A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EBD1B-E2C3-4A79-A8BA-1CD1A642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0B4C8-CD6F-41EC-BC8A-703B33CF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82114-A6D0-4FD6-8670-D56D094D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D1E94-AD1B-4CC0-9370-55C0E0B9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3F509-3520-4382-A89E-4EDB24E0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0158-F03B-4F08-8885-7B06A087BC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46A4-825D-4EE3-9621-1019EC02118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4F59-462D-43CA-A625-33C3BDFA27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D2AC-76D8-4D5A-8635-E54207227D4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8178-44EC-411F-88B0-929BDF9D2C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61C6-EA58-422F-A59B-4F7343FB298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E5A1-6B35-4259-8D67-08EF43042D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FBEA-CD0A-4735-9AC9-414BE4A976D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37F1-309D-4B07-BB18-24E0A599C1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0303-385E-4BF7-BCD1-CBA9644FDFD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8CD2-A007-47F5-AD2D-653AAB864B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70A8-176D-4269-BF38-DEAB5D78A6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E282-6A9F-45EB-AA35-A5B45A82A2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C555-9081-4CB1-9731-4100873BA5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102A-2809-4BBC-B10C-5FB76D9C94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4880-85BC-4928-B5E8-8063CB9095A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8BED-79B7-4EAE-94FB-B81F2AB476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D4E0-E5F4-4B7C-9C92-B7DC1D3C6C8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A719-6BAD-41B2-B7A2-02E292894C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1B2F-FBE4-450E-A062-759CD11D3E3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3AB3-B86F-4B12-8DB8-E53EC62570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5ED1-F116-4D8E-AC2E-8CFE296FDBB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97CC-A3C5-4644-9A28-6E132F6A19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A786-409C-4895-985C-2666E6A9A62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8C1F-BC15-4366-9814-10567DA01F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028" descr="UE-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029" descr="p009"/>
          <p:cNvPicPr/>
          <p:nvPr/>
        </p:nvPicPr>
        <p:blipFill>
          <a:blip r:embed="rId2"/>
          <a:stretch/>
        </p:blipFill>
        <p:spPr>
          <a:xfrm>
            <a:off x="2895480" y="0"/>
            <a:ext cx="3353040" cy="6858000"/>
          </a:xfrm>
          <a:prstGeom prst="rect">
            <a:avLst/>
          </a:prstGeom>
          <a:ln w="0">
            <a:noFill/>
          </a:ln>
        </p:spPr>
      </p:pic>
      <p:pic>
        <p:nvPicPr>
          <p:cNvPr id="535" name="梅花三弄(背).MPG" descr=""/>
          <p:cNvPicPr/>
          <p:nvPr/>
        </p:nvPicPr>
        <p:blipFill>
          <a:blip r:embed="rId3"/>
          <a:stretch/>
        </p:blipFill>
        <p:spPr>
          <a:xfrm>
            <a:off x="0" y="0"/>
            <a:ext cx="5238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7991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梅花，是我们中国最有名的花。旁的花，大抵是春暖才开花。她却不一样，愈是寒冷，愈是风欺雪压，花开的愈精神，愈秀气。她是最有品格、有灵魂、有骨气的呢！几千年来，我们中华民族出了许多有气节的人物，他们不管历尽多少磨难，受到怎样的欺凌，从来都是顶天立地，不肯低头折节。他们就像这梅花一样。一个中国人，无论在怎样的境遇里，总要有梅花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秉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才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梅花，是我们中国最有名的花。旁的花，大抵是春暖才开花。她却不一样，愈是寒冷，愈是风欺雪压，花开的愈精神，愈秀气。她是最有品格、有灵魂、有骨气的呢！几千年来，我们中华民族出了许多有气节的人物，他们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不管历尽多少磨难，受到怎样的欺凌，从来都是顶天立地，不肯低头折节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们就像这梅花一样。一个中国人，无论在怎样的境遇里，总要有梅花的</a:t>
            </a:r>
            <a:r>
              <a:rPr b="1" lang="zh-CN" sz="4000" spc="-1" strike="noStrike">
                <a:solidFill>
                  <a:srgbClr val="ff66cc"/>
                </a:solidFill>
                <a:latin typeface="Times New Roman"/>
              </a:rPr>
              <a:t>秉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才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练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39640" y="2133360"/>
            <a:ext cx="7772400" cy="22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了这篇课文，你感受到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动笔写下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2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</a:rPr>
              <a:t>山中送别</a:t>
            </a:r>
            <a:br>
              <a:rPr sz="4800"/>
            </a:br>
            <a:br>
              <a:rPr sz="4800"/>
            </a:b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唐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王维</a:t>
            </a:r>
            <a:br>
              <a:rPr sz="4400"/>
            </a:br>
            <a:br>
              <a:rPr sz="4400"/>
            </a:br>
            <a:r>
              <a:rPr b="1" i="1" lang="zh-CN" sz="4400" spc="-1" strike="noStrike">
                <a:solidFill>
                  <a:srgbClr val="0000cc"/>
                </a:solidFill>
                <a:latin typeface="Times New Roman"/>
              </a:rPr>
              <a:t>山中相送罢，日暮掩柴扉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0" y="4653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4400" spc="-1" strike="noStrike">
                <a:solidFill>
                  <a:srgbClr val="0000cc"/>
                </a:solidFill>
                <a:latin typeface="Times New Roman"/>
              </a:rPr>
              <a:t>春草明年绿，王孙归不归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762120" y="1676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441680" y="320040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UE-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p020"/>
          <p:cNvPicPr/>
          <p:nvPr/>
        </p:nvPicPr>
        <p:blipFill>
          <a:blip r:embed="rId2"/>
          <a:stretch/>
        </p:blipFill>
        <p:spPr>
          <a:xfrm>
            <a:off x="1143000" y="61920"/>
            <a:ext cx="685800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3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UE-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p031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6" descr="UE-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7" descr="p005"/>
          <p:cNvPicPr/>
          <p:nvPr/>
        </p:nvPicPr>
        <p:blipFill>
          <a:blip r:embed="rId2"/>
          <a:stretch/>
        </p:blipFill>
        <p:spPr>
          <a:xfrm>
            <a:off x="2895480" y="0"/>
            <a:ext cx="364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3" descr="UE-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p045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3" descr="UE-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" descr="p0502"/>
          <p:cNvPicPr/>
          <p:nvPr/>
        </p:nvPicPr>
        <p:blipFill>
          <a:blip r:embed="rId2"/>
          <a:stretch/>
        </p:blipFill>
        <p:spPr>
          <a:xfrm>
            <a:off x="1066680" y="0"/>
            <a:ext cx="693432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梅花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228600" y="685800"/>
            <a:ext cx="89154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一、自学要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把课文读正确、读流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弄清课文围绕梅花写了哪几件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把不懂的词句画下来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457200" y="342900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6" descr="PE02043_"/>
          <p:cNvPicPr/>
          <p:nvPr/>
        </p:nvPicPr>
        <p:blipFill>
          <a:blip r:embed="rId1"/>
          <a:stretch/>
        </p:blipFill>
        <p:spPr>
          <a:xfrm>
            <a:off x="5184720" y="380880"/>
            <a:ext cx="3959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课文围绕梅花着重写了五件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、外祖父教“我”读唐诗、宋词，读到某些诗句就流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、因“我”弄脏了墨梅图，外祖父训斥“我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、外祖父因为年老不能和我们一起回国，难过地哭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、临别前，外祖父送我墨梅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、船快开时，外祖父给“我”一块绣着梅花的手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2-10T02:49:32Z</dcterms:modified>
  <cp:revision>9</cp:revision>
  <dc:subject/>
  <dc:title>PowerPoint Presentation</dc:title>
</cp:coreProperties>
</file>