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243-DC01-40DA-90FD-E37E6D89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019-4CD9-42F2-8F15-A1B8624E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DA529-E02D-4860-846D-2B039FE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5DD78-AFD5-4871-ABBC-5454E60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8FF61-437B-49FD-861C-978AD9D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B0B40-800D-4AD0-82C2-267BB39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A19E4-F8F7-40DA-A937-5E3A8FD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F0B7B-9EBB-464F-9B59-4E8ACFE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EE006-B7E5-4CC4-89E3-9380A490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1D6A1-9018-4D9A-AD83-7A112AE3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C6460-F3D4-4789-AFD1-BA470E2E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2B9AB-0816-4417-B7FF-513945B4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192-12D9-4C0C-BBC0-B9179FD1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69E9B-40E5-46DD-8AFB-D9E2CF9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8D57B-EDD1-456C-BA7F-817D121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D3922-551B-4E97-9504-7239B637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1B614-AC6E-4784-A679-1A98BA3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FCB94-FB09-43C0-AEB8-FA6E1AA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F4ECD-BA90-4361-A92E-28EA3100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29873-025D-4967-A9BC-792970F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05D06-3357-4731-94D6-423DBCB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CA63D-93A1-4E82-8D08-D645C827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32BC-2294-40AB-87A4-57CC8189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900-DAD5-4C24-A2AF-9DCEE91E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2BA03-8F0E-45EB-91D4-A0E9EBE2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D0627-F80E-4753-A386-13A0C1B6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2C52-4A8B-4776-BF76-D11AB947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9F29-5CCE-4CFA-986A-CE5E9CC6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F780-5BA7-4747-9163-44007564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C860-AC67-4480-B5AF-DFFE0697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8848B-BEEF-4A1A-BAA8-9C173CAB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0FC4-C0EB-424F-BE16-45EBFCD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8EC90-9600-4B0D-AFB2-9553DC5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951D6-F741-4DD2-8EB2-9C70FF3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0D00-5D19-4486-A77B-9AB27D13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1CC9-9B29-4B80-B91D-515BEFD3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1121-D2EA-4452-BE00-A4E6FFF7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C206E-7394-4FBC-9FAB-3E749B6B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328CA-8361-4823-AB72-822A0439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939C7-CF65-4094-8DAA-0B198C07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74E46-4E21-4D43-908D-BC1CBF41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678A-DAB2-45EB-98FC-9F878619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304BE-0AF6-451A-BA76-4975D7A5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77458-AE30-4216-A73E-9949DEB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10DC4-B472-4178-8868-274277B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6CB-EAFD-412A-9F21-37A14F65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E6091-D304-4551-AE6C-509A432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D6E85-1BFE-4F46-A17B-508FDC1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BE7F8-CE0B-4896-9E4B-568C4EAB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E083A-297B-49EB-8F96-DD950FC1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48755-F6EA-4459-BBC7-F3AF0A4C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3F7F7-A2A5-4A24-8039-51C5465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452A6-90FC-4F03-B20B-9E538071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2D764-29AC-4F3A-B155-46B34F3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A7AAE-46EF-4E55-8385-3B82787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18CD6-177C-4DAB-B580-8E231C94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3570-71B3-479D-B8D7-F0270A56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A99A1-4794-44F8-952C-4F55BEBF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D726D-C203-4AAA-BA14-8A914A1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CC123-0F83-4E45-B476-5755696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59B37-D992-4B48-B702-D44DD69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57DB4-59BA-49B6-A669-DA99F7BE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097C6-8C55-46A4-8F43-73F81C50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21AEB-125A-474A-A730-C8170C41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7491-6389-40EE-B9DB-A7F2F07C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53A9-696D-4461-BDA0-9BDBA80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CFD7-3855-424F-9494-3537A7A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2A4B-1046-48A3-836F-1C7AF60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EDA-1757-44FF-9950-0F14B83F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88AA-C4E3-4F24-9C87-7F21DB1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A5D6-754D-4BD4-8CFD-7682D602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6489-1894-44BB-A119-CD04EAA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0551-590D-42DB-8E2A-6DCA5870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5D0-81BD-4B09-84CE-282A2705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E243-86C8-4AAA-A83D-92DF7BC3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0180-3BB5-43A8-A1E6-4AF97CA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D1AE-8510-4A54-B39D-F312CCFB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12EC-8B73-4F83-AD77-2311D287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7299-3473-4049-92BF-583B11BB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9C1-9B36-4FE0-9CA4-DC45285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EB3F-02A7-481F-A003-4BBF6564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643D-4F0B-4041-87B2-5707199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B480-09E3-43B2-A487-E66E413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9AE8-D296-4B23-AF25-721AC2B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6BEC-FD7B-4222-B4B5-6B99886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0AE0-2AAE-46E1-A6DA-21D72270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9A6D-49A9-48EE-8C37-4B70E219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B698-E9D5-41CC-B8C6-AEFA1558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780A-4AB9-4399-82D8-2DFE3190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77DB6-796E-4764-8B2D-0B2387DE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B0C-53BB-4D7F-BE30-284C17AD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8F67-76D5-4947-B567-BCB0EB3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4E20-2317-4540-A0BE-65638870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3D07-252D-4EF5-A724-373FEBE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0853-9AB7-4DD0-B9DD-AAD781A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8724-6AF5-4630-AAAB-7CA13B8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619E-6AA1-4EF8-9FA6-6E979FD8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D5AE-5510-4C2E-85E8-691AD83F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AACF-2F0D-4E7D-A34F-85534B01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363A-D12E-489A-93AF-A9E37D0C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EACE-02EB-4BD0-90FF-A206C201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A20-DCF7-426C-8790-1DDA5B02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AACC-0856-4C22-915D-315A220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FE5B-ECD8-43A0-9F25-B9A9A7A5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CDB4-9CE5-4F3B-8F23-0908A46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1462-B7E4-44D9-BFA8-6DBA44A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C4BF-4E8F-4FE7-A824-EE1BAB8A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30A9-A75E-4CA7-A971-68921FC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7A5C-80B8-466A-B9BB-8B0FDF3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0DED-91D4-4B88-939B-6B12320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C792-CA80-45A3-9416-1C3C14A6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FC512-7574-4AD0-B0CF-E377F424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B60-35F0-49D8-971A-DE80253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3DD9-7618-4905-9242-4803A157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DF42-6BAF-4668-8181-796C9EB1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27DC-F671-4B1B-915B-E12E8A3D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A9F7F-31CE-4FAD-A941-85E1830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13FC7-6595-401B-95DD-2E3010C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60E0-D827-45DD-9EE5-0F11D527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BD02-CF20-4D4D-B1DF-7A0A8D5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0B5E-32AF-4246-9309-8D241E5A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7C75-5F2A-411D-AFA2-BBFD93C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4B5C-26D5-4D48-AD04-C44488D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579-56F5-45F8-8955-0CCD0E4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01EC-B432-44F0-9440-C8EC3A8B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C51C-012E-46F5-A0C7-8FB8F801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3BE4C-F00F-4F36-A61F-00075F63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3829A-2BA8-47A5-AF47-D15F4E6C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3ED1-33AE-4BD1-B066-1844AD78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5526-A48B-4588-BC3C-CFCBD072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DA83-7197-4471-95F3-8725F8BE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20E5-BC6C-4A92-8FAA-967758D2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86C3D-4CB5-4D12-AC43-B21F544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A807-5EFD-4159-815F-3127F92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0A9-D9B1-4105-B9DD-B40E66F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D983-6520-4B8E-BFC9-56DE1DB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22AA3-8EF4-4DDF-8F16-9B26734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41A86-2C3E-4DEE-B4CB-8FDA150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B118B-E2DF-4E80-B3B1-E62C04C4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1936B-26D5-483F-95B8-DFE6F1B6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CAD63-C5EF-4014-97D1-5DB6EA62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1A6F9-828A-46F5-A5DB-93E8B63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3C8A5-7CBD-405A-B2BD-F1C143ED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A329-A23F-474F-AA5B-95D6FDE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65E8-455F-43CA-9D93-7575A4F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F57-3198-4CD0-9625-999F1EB5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16866-BD15-4173-AA48-BD5BBB37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7B5B-050A-4F47-9EA9-9294D33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8344D-A4EE-4323-86D8-EA6DBBE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365F4-3904-41B4-8A9C-A34E56D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1345-A709-4B6A-A085-F1D0109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9F36-7838-46F8-8FAF-E36D695D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A52AF-0943-42AC-9C8D-76C9E1BB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B1F03-9892-4477-915F-A7EF36DE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9CE4E-686D-4055-8851-83245C39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81DB8-9FBD-4ED5-9D84-DB9BDA8E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63E-59D6-4C4B-B9CF-91A6E94D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190-E2F4-4E08-BCFE-341504170A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4A0-F87B-48F7-BB7F-C3685D308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FA2F-26B3-40C0-B97A-5C67FE600B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C09-DF52-49C0-95D6-7D88A7815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F0B-3997-439E-AE8C-BAA19AEC3C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6331-21EA-4C87-8C86-5290E7EF1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AC54-7016-44D4-9171-7029E9C6B0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F462-814A-4CBA-AA28-21E281607D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847-E1DE-457D-932C-DCD68206F9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9A49-46BA-4FE6-87C9-F825E1E8D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EFA0-B866-4457-A0FC-091AE8449C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49E4-ECEE-4933-98CC-E24839587C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D391-3DB7-4BA5-BFFC-5A0613878B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F40-8EE7-4571-ACA5-9CF1A7B1AE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73A4-8E07-4329-ABF8-CEA11AF080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98F-AF80-40F3-97E9-2B7F0CFC8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D475-7492-4AF0-9308-B65470E493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216C-2262-4EBD-AF7F-15A11B100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35A9-E599-44E4-AB7E-6EFC2647F9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FE7-9DC1-45DE-ABD0-81DB10E09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09A8-F968-4B57-B52F-CD208187E7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BF0-66FF-4A56-B8BC-9E0B64795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0293-9DB9-430E-BF89-7D5C094327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26C-605A-4CB0-875C-EA91D4F8D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pic_25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380880" y="380880"/>
            <a:ext cx="5257800" cy="916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棉鞋里的阳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4864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育东路小学    林美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362320" y="1522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我会读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685800" y="2362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苹果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读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没读错音）；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读流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没有吞吞吐吐，添字漏字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685800" y="4038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草莓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准确流利有感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762120" y="50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榴莲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准确流利打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2438280" y="1522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认字我最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52280" y="312408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苹果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每个字都认出来，读准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草莓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认准，组一个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榴莲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读准，组两个词以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05740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609480" y="2362320"/>
            <a:ext cx="8153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花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衣 木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树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绵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关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顾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  平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脱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子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衣服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动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990720" y="220968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峰问妈妈：“奶奶的棉被一点儿也没湿，干吗要晒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棉被晒过了，奶奶盖上会更暖和。”妈妈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呢？”小峰又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说：“棉被里又棉花，让阳光钻进棉花里，你说暖和不暖和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762120" y="1981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奶奶睡着了。小峰想：奶奶的棉鞋里也有棉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于是，他轻轻地把奶奶的棉鞋摆在阳光晒到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小峰想：奶奶的棉鞋里也有棉花。那么，我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                                              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762120" y="228600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早晨，阳光照到了阳台上，妈妈在给奶奶晒棉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过午饭，奶奶要睡午觉，妈妈收了棉被铺到了床上。奶奶脱下棉鞋，躺进被窝，说：“这被子真暖和。”她舒服地合上了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a</cp:lastModifiedBy>
  <dcterms:modified xsi:type="dcterms:W3CDTF">2015-03-16T14:56:20Z</dcterms:modified>
  <cp:revision>1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