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3A63-282B-412F-8835-D38CF33F8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B4BB-83A1-463B-AB3D-EF3D21209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48D6-BA08-4D38-BEA6-9D237276D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5CC8-2B18-4A33-B0A7-1A35A1F70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05B0-0F4E-4DE7-BEC0-C975FF94C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535D-4DC1-48DB-8988-FE58D4FB9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0B57-882F-4265-82A2-985B913CE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6250-F6AE-41A4-9A22-3F2156037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2C33-63CD-4D8A-B846-7DBF35DFE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694D-2EAF-4E74-A312-423517000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B245-4DC0-4BA9-B8F2-87DCABC84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860A-254F-4D73-95F4-059419BA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11D9-19AF-4BB6-8E36-EB5C103D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3AA3B-7E66-4FF3-BB71-FDC1C509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0B6CF-A689-43C9-AF42-361438D4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D7FAD-01B2-4ABA-AC65-A45C0347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7AA35-6158-46D9-8104-6C5AE879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43AB3-D636-4A3F-A282-B5E15BCC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35B5A-3AB4-4676-A801-B38A8C7D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156FC-FBE7-4029-8E06-3562040D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2ED03-5E46-4348-93F7-B4DBB788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67A0D-197B-4F15-8F43-8F46CF09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DD0A9-0D04-4FEC-93C8-563274AA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BF60-9881-4385-AB81-DB5EF5A2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6D7DA-7885-4A06-82B1-81D6FAA8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7BBDF-C35C-4145-9B4A-FBE27D0B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26106-2369-4F96-B2D9-80A6B57F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9BEEF-528E-4D19-8E7B-FC66C95E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8CB1A-907A-45AC-9A2D-1F5F42FA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BC495-72FB-41DD-8D45-65A35EEB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A17AA-F678-473B-BF1C-CE21C1BE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DCF0F-AB13-40F3-8489-1D902C58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8BBFA-C4F4-479C-B9E3-BD068263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60848-34C6-4624-B454-7D49165B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695-02BD-4404-AC1A-03725E39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843D3-EECC-4CC8-AF15-363509B6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77E2B-4FA2-4597-BE8F-EE22AF09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5044F-9869-4EF5-BF12-B8072F6C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0A528-F152-42A3-8FCD-500D21C4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5E313-F797-45A7-B6B4-8DB9993E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273D5-61D1-4852-ADB3-211FE642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72394-48C2-4C4D-8F24-96A2628C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B844F-8DE8-4EE3-A3CB-653B6B62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9D734-3623-4762-982E-3BDEA893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3EFAA-13B0-4AC6-B39E-D0992B19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0257-3EFD-47B5-BBA4-FE4290B4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23835-E090-48B1-866F-959F6ADA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33123-3504-4E39-BC42-CF73F6B2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33071-E8D0-43A0-8AA6-06F7C959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31987-3383-415B-95B5-0FA3B9CB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15EA1-D902-406F-94D8-3F66C416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64AD0-B221-49DA-A732-6ADD10F4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4C7E6-5F91-45AB-94C9-BD1147CC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11691-A4EF-44AE-83B7-2E764F04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249DB-600C-4F2D-B1CC-78B07421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EE07A-77D0-4E7F-B9C3-5228624E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1CD9-678C-4447-9CA2-B956C9FF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D92FF-092B-40A3-8DA2-BED29CF7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97B4A-A1AC-4B13-9780-E809F63D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3E01C-9588-4484-B2FA-A18FCF29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7D4C5-DE65-43E9-9A44-B4EDA800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86077-F574-4504-90E8-432A3D55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F3B14-C724-4C31-9EA7-44D71A28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7A612C-9A02-4583-A69A-48C80C93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C5E997-6654-4E83-8AB4-AFA24D7B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A159CC-C47C-4E3D-B4EB-AF642549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F3499C-598F-4A76-A67D-7F65FDC1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3C9C-6155-42DC-86CF-A1EB3A08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376D5D-67B6-44EA-92FD-A966EF6A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02DF59-1176-41AF-BBA1-EE208256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8C8749-C5CE-4C6D-8E1B-6C605B20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0AC904-F76B-468D-9D10-04083035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64D6A-7880-469E-92ED-9199B5C0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B5CE7A-128E-4D85-9155-0FE9A25A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00088F-6B9B-4CBC-9E9B-2DCEC6DF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D753-1B0A-4AA8-898E-E1A3076A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1524-8077-4258-82FA-8278C3F1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118A-D501-47FA-B571-0BCECBFC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79BF-0BBB-46A7-ACDC-E50A38DF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A34-83B2-48B4-8EFA-19F2A495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1155-91DC-48EE-AB34-578EE951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FF0C-5473-482B-8C2C-3FDE6F2F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20E5-C9B2-415D-B38F-A9216388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E975-6D5E-4CFB-8418-6C4CC025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D676-0AB2-4B6E-9F0F-D673B911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AABF5-99DD-442C-965C-D9E76A6A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6EE46-7A3E-4E16-A556-848BDCA0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54701-D316-428D-82DD-1D8EC5E2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2EB40-1B82-45F6-B51C-3008374A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5F111-9E2E-4F81-932A-0B485F55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A1E8-728F-44A6-BED4-7B823FD4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5F519-598F-4976-8C85-61AD96E3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645C8-764F-48D0-A5D7-E3B50EE1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C4B3F-26FB-44C4-BC0E-A2EBB379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098B7-1E5A-4CDF-AA7C-E9F2819E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E55E5-CD72-43B3-B2D5-D83B6854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2AA68-AFCC-4B7C-8AED-3B0D5889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ADC1E-9B57-45C3-AB2F-664C9837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0EFBF-D636-4912-B69D-B3017D9A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96278-C117-4865-9F2D-B6BAB086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846D6-82F9-458A-8B8E-8A2A866E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A0D2-8011-4EA7-AA36-2883BC5E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9E58B-11EB-4493-B7F5-75003771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41773-0E2E-4D2C-B640-01DE9CD7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470E2-3279-4107-9168-7467FC96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F85E0-318F-4A3F-8DA3-CFBF4261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09A10-8FD5-4DA0-BBFC-B33A4292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6A36B-8492-486C-B9A2-14F4C08D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FBB14-38AE-4302-BDAF-E367C0F4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E6637-7A2F-41F5-99D8-0C6D0CFF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C649B-7D33-478D-892A-F12297E3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CD640-B895-47EA-9520-EB52E041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6991-A8E0-404F-89E5-84A4F02C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0F618-3952-4FF0-8638-2E79A086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A30BE-F94E-4326-A411-EE56EAAD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C7C95-54C5-4103-A89B-E67ABA70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D8484-E99E-4076-A6C4-43337179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8EC34-A29F-40E0-888F-EDA52A7C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0B986-4C35-406D-B328-A05D1668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2F2D8-A54A-42F5-A1BA-65FC24C0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957FB-6452-4202-B352-F3EC8274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5322F-9366-4333-A9E8-A12A6DBF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070AE-AE01-47AF-9BAA-D87211B4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2AAE-D915-4147-BC29-3CECB6E4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5484C-58B2-417B-96B9-18DAAC95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0A784-C72D-4AFF-BB6C-D58BE97E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4E745-321E-484F-B8D3-3251C020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0A946-6AD7-4C63-9931-BE26A34D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69525-1571-4484-A6EF-25587BD0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AA810-2467-47DA-8EDA-66CDCD88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91806-AC22-4CCE-9D13-FFA47034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2301B-6332-4526-919D-40DFF7D6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A4973-484E-4012-A0AB-2E3B05E6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41DF3-467C-4349-928F-19FB9E8A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D555-F4C5-4D4C-A5DF-E57FB053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D0F88-78AD-4770-BBE0-74A62413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DE506-0652-4ABF-8221-07B9E21B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555D0-5BB3-4C38-8B0F-2BA946D5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913AD-9D46-41E2-8D8B-F5223449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E8774-04A4-4F83-86E8-4F0B8207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A826F-A4A9-4E08-9564-4D606761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4A80C-A351-48AC-A0BB-776CDCFF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18981-A6AC-475C-B2B3-EC7E6165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00D00-417A-406B-83CC-D01F4409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AF44B-4889-4003-A69B-00AB4780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5098-8AB4-4038-960B-3364E42A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2EF5A-1314-4DA5-8DC7-9A927812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0D4C4-7AD0-4694-BB6B-54C35E4B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F2AAE-6641-4342-9735-50E38DED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99C88-12B8-48EE-8614-6DA06C4B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6B3DA-2E8D-4370-8D67-5340EA38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0A1BB-2122-4F12-8D47-D9F75A8F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A6298-21DF-49FE-88A8-DEE744A0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29B44-A59F-4EBB-8F59-5EAB4217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41A4C-A020-4B09-A44B-7A154703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D3412-CA43-468D-BC2C-75408D09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6CCA-4616-4E69-BA96-8EFC1F56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4F1CD-BAEB-400B-B578-F0B4196F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01B37-ECD6-4886-8A67-636CFBB6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C720F-3C32-4393-98F5-64D2CD72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EAEE3-4297-492A-A634-1EB5D798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24D35-2677-4245-AF0F-00BDB05C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F63AE-3371-4424-93EE-54050FCD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058F0-0A0A-41EB-A7EF-A53161F3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33F53-8A70-4972-8A6A-EBCC005A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E0C1A-C43B-4525-BC58-E672C39C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30DAF-8209-4282-8875-98152A7D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FB68-5C8D-41AF-A042-C8FA66AB9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DE0C-A5F9-4B95-8A19-4F118B56474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2E71-0D20-40E3-A4BC-22473776F0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0706-DD7F-47DA-8985-E690481EAA6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EE9D-C039-4EEE-91C0-0824AA00C8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D5F3-464E-47B1-BD5F-EEA334E3C70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DB86-92F3-4037-9754-47653A6D60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1860-3291-4156-BABE-03A8AA607A3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8CCD-40F2-4AB1-BAF3-F8F8329B0B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71EE-7747-495D-B5F9-E8C009649D5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45C1-50DC-4AB9-B960-BCF4953217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9FEA-700B-42FE-83FC-1A62432DF82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042C-4701-4C5A-9D21-B3D23E7D6F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ABCF-B019-4A51-9914-B01B44F389B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8F20-4925-4057-B25F-CD082D719D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E180-3E26-4AAC-A5E0-AA8D571CDCB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416A-6C08-4B47-8627-5E894AA019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1A87-A5AC-44A8-B213-0C2EC1422B9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DB31-5CF9-4C11-BB03-6DE7B07D98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0B63-877E-4380-8BC4-7E2ECE2A942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6743-06C9-4E59-905F-88365D3316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8010-816E-44F1-9ACA-46CA769849F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0731-14D2-4163-8C94-B87BAF9D13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5D55-5F2C-4C77-9784-66580381F4C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5307-8D8A-4C9D-8413-695457E987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image" Target="../media/image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WordArt 4"/>
          <p:cNvSpPr txBox="1"/>
          <p:nvPr/>
        </p:nvSpPr>
        <p:spPr>
          <a:xfrm rot="5400000">
            <a:off x="4291920" y="2405160"/>
            <a:ext cx="5545080" cy="1243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华文琥珀"/>
              </a:rPr>
              <a:t>毛主席在花山</a:t>
            </a:r>
            <a:endParaRPr b="1" lang="en-US" sz="2400" spc="1" strike="noStrike">
              <a:ln w="176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0" dir="0" blurRad="0" rotWithShape="0">
                  <a:srgbClr val="00000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542" name="图片 1" descr=""/>
          <p:cNvPicPr/>
          <p:nvPr/>
        </p:nvPicPr>
        <p:blipFill>
          <a:blip r:embed="rId13"/>
          <a:srcRect l="0" t="24494" r="0" b="0"/>
          <a:stretch/>
        </p:blipFill>
        <p:spPr>
          <a:xfrm>
            <a:off x="0" y="0"/>
            <a:ext cx="52927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4" descr="毛主席在工作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15636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5"/>
          <p:cNvSpPr/>
          <p:nvPr/>
        </p:nvSpPr>
        <p:spPr>
          <a:xfrm>
            <a:off x="3276720" y="62024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毛主席在工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5"/>
          <p:cNvSpPr/>
          <p:nvPr/>
        </p:nvSpPr>
        <p:spPr>
          <a:xfrm>
            <a:off x="1066680" y="1320840"/>
            <a:ext cx="50292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读读课文，说说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文讲了毛主席在花山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哪几件事，你从中体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到了什么；再想想课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是按什么顺序记叙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4"/>
          <p:cNvSpPr/>
          <p:nvPr/>
        </p:nvSpPr>
        <p:spPr>
          <a:xfrm>
            <a:off x="2362320" y="144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花椒  碾子  皱眉  解释  簸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2438280" y="44496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标线  沏茶  拎着  旮旯  笤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3657600" y="22096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拢了拢 炊事员 粗瓷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3657600" y="300204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一筒茶叶  乐呵呵  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3505320" y="37638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玉米糁儿  吱吱扭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《毛主席在花山》朗读.MP3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4381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4"/>
          <p:cNvSpPr/>
          <p:nvPr/>
        </p:nvSpPr>
        <p:spPr>
          <a:xfrm>
            <a:off x="1981080" y="1523880"/>
            <a:ext cx="685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、毛主席为什么要请群众回来碾米？还给群众沏茶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、毛主席说服警卫员的那段话怎么理解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、怎样理解课文结尾的那一句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、这篇课文表现了毛主席怎样的优良作风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WordArt 6"/>
          <p:cNvSpPr txBox="1"/>
          <p:nvPr/>
        </p:nvSpPr>
        <p:spPr>
          <a:xfrm>
            <a:off x="457200" y="3038400"/>
            <a:ext cx="21337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毛主席在花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552" name="AutoShape 7"/>
          <p:cNvSpPr/>
          <p:nvPr/>
        </p:nvSpPr>
        <p:spPr>
          <a:xfrm>
            <a:off x="2819520" y="236232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3200400" y="2209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Times New Roman"/>
                <a:ea typeface="楷体_GB2312"/>
              </a:rPr>
              <a:t>请群众回来碾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3200400" y="3138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Times New Roman"/>
                <a:ea typeface="楷体_GB2312"/>
              </a:rPr>
              <a:t>给群众沏茶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3200400" y="4129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Times New Roman"/>
                <a:ea typeface="楷体_GB2312"/>
              </a:rPr>
              <a:t>帮母女俩推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Group 15"/>
          <p:cNvGrpSpPr/>
          <p:nvPr/>
        </p:nvGrpSpPr>
        <p:grpSpPr>
          <a:xfrm>
            <a:off x="5715000" y="2895480"/>
            <a:ext cx="838080" cy="1067040"/>
            <a:chOff x="5715000" y="2895480"/>
            <a:chExt cx="838080" cy="1067040"/>
          </a:xfrm>
        </p:grpSpPr>
        <p:sp>
          <p:nvSpPr>
            <p:cNvPr id="557" name="Line 11"/>
            <p:cNvSpPr/>
            <p:nvPr/>
          </p:nvSpPr>
          <p:spPr>
            <a:xfrm>
              <a:off x="5715000" y="3429000"/>
              <a:ext cx="5335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AutoShape 12"/>
            <p:cNvSpPr/>
            <p:nvPr/>
          </p:nvSpPr>
          <p:spPr>
            <a:xfrm>
              <a:off x="6400800" y="2895480"/>
              <a:ext cx="152280" cy="10670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6"/>
          <p:cNvGrpSpPr/>
          <p:nvPr/>
        </p:nvGrpSpPr>
        <p:grpSpPr>
          <a:xfrm>
            <a:off x="6553080" y="2743200"/>
            <a:ext cx="2362320" cy="1296720"/>
            <a:chOff x="6553080" y="2743200"/>
            <a:chExt cx="2362320" cy="1296720"/>
          </a:xfrm>
        </p:grpSpPr>
        <p:sp>
          <p:nvSpPr>
            <p:cNvPr id="560" name="Text Box 13"/>
            <p:cNvSpPr/>
            <p:nvPr/>
          </p:nvSpPr>
          <p:spPr>
            <a:xfrm>
              <a:off x="6553080" y="274320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关心群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4"/>
            <p:cNvSpPr/>
            <p:nvPr/>
          </p:nvSpPr>
          <p:spPr>
            <a:xfrm>
              <a:off x="6553080" y="351936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为群众着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4" descr="毛泽东（1964年）"/>
          <p:cNvPicPr/>
          <p:nvPr/>
        </p:nvPicPr>
        <p:blipFill>
          <a:blip r:embed="rId1"/>
          <a:stretch/>
        </p:blipFill>
        <p:spPr>
          <a:xfrm>
            <a:off x="0" y="0"/>
            <a:ext cx="4560840" cy="60958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" descr="毛泽东和儿童（1959年）"/>
          <p:cNvPicPr/>
          <p:nvPr/>
        </p:nvPicPr>
        <p:blipFill>
          <a:blip r:embed="rId2"/>
          <a:stretch/>
        </p:blipFill>
        <p:spPr>
          <a:xfrm>
            <a:off x="4495680" y="-76320"/>
            <a:ext cx="4648320" cy="61722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6"/>
          <p:cNvSpPr/>
          <p:nvPr/>
        </p:nvSpPr>
        <p:spPr>
          <a:xfrm>
            <a:off x="5562720" y="61722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毛主席和儿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914400" y="61722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毛主席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196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4" descr="毛泽东和科学家钱学森交谈（1955年）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5"/>
          <p:cNvSpPr/>
          <p:nvPr/>
        </p:nvSpPr>
        <p:spPr>
          <a:xfrm>
            <a:off x="1905120" y="4572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毛主席和科学家钱学森交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5" descr="毛泽东在庐山（1961年）"/>
          <p:cNvPicPr/>
          <p:nvPr/>
        </p:nvPicPr>
        <p:blipFill>
          <a:blip r:embed="rId1"/>
          <a:stretch/>
        </p:blipFill>
        <p:spPr>
          <a:xfrm>
            <a:off x="-76320" y="0"/>
            <a:ext cx="4659480" cy="579132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6"/>
          <p:cNvSpPr/>
          <p:nvPr/>
        </p:nvSpPr>
        <p:spPr>
          <a:xfrm>
            <a:off x="685800" y="5943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毛主席在庐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5486400" y="5943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毛主席在书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Picture 8" descr="毛泽东在书房（1963年）"/>
          <p:cNvPicPr/>
          <p:nvPr/>
        </p:nvPicPr>
        <p:blipFill>
          <a:blip r:embed="rId2"/>
          <a:stretch/>
        </p:blipFill>
        <p:spPr>
          <a:xfrm>
            <a:off x="4572000" y="-152280"/>
            <a:ext cx="4559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5" descr="毛泽东在散步（1962年）"/>
          <p:cNvPicPr/>
          <p:nvPr/>
        </p:nvPicPr>
        <p:blipFill>
          <a:blip r:embed="rId1"/>
          <a:stretch/>
        </p:blipFill>
        <p:spPr>
          <a:xfrm>
            <a:off x="0" y="0"/>
            <a:ext cx="4572000" cy="579132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6"/>
          <p:cNvSpPr/>
          <p:nvPr/>
        </p:nvSpPr>
        <p:spPr>
          <a:xfrm>
            <a:off x="685800" y="5943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毛主席在散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7" descr="毛泽东在天安门城楼上（1963年）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579132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8"/>
          <p:cNvSpPr/>
          <p:nvPr/>
        </p:nvSpPr>
        <p:spPr>
          <a:xfrm>
            <a:off x="4724280" y="59436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毛主席在天安门城楼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03:54:12Z</dcterms:created>
  <dc:creator>第一PPT模板网-WWW.1PPT.COM</dc:creator>
  <dc:description>第一PPT模板网-WWW.1PPT.COM
</dc:description>
  <dc:language>en-US</dc:language>
  <cp:lastModifiedBy>a</cp:lastModifiedBy>
  <dcterms:modified xsi:type="dcterms:W3CDTF">2015-02-09T02:17:34Z</dcterms:modified>
  <cp:revision>12</cp:revision>
  <dc:subject/>
  <dc:title>第一PPT模板网-WWW.1PPT.COM</dc:title>
</cp:coreProperties>
</file>