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C6C-C609-4BAE-9D2B-2389B50ACE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宝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www.pptbz.com_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提供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56C5-B83E-428C-AA41-8372DF7128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8D9-EC52-4885-9413-D5278E9F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9A1-1B7A-46D2-AC1C-B4BB2822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840CC-2364-4437-B973-07C3120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3FBD8-C290-4EEB-9399-6575C0C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36EBB-D26B-4202-92CE-A63A762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72B8F-C0AA-4875-BCFA-46FF4B5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8FECC-8262-4A88-9420-7C65844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69E9-B7F2-4838-8A1D-8470FE7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01F2-7594-4A17-8F5D-3C92ABA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C8D6A-5521-4337-8C4E-C41B54AD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F95BD-BC0A-401E-B58B-A8974A7A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DF0CD-AAE9-4F05-9371-1EBA0DDC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9D4-411B-4810-9639-D9608255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CE0B1-8131-4A27-8990-7D4673D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D0D7D-3C4F-4C9E-8212-DD3296C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081FE-11D4-42F8-B4F7-F4302E9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C43CF-C4E7-47B0-B9F3-0498642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2F24D-A5B6-4ADD-8028-598F380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A5902-DFDE-42E2-8532-F8AC1C1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3BD0B-C302-4F42-9A0F-BC6D323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DB768-2B1B-462A-A5D8-4E674EA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99F67-3E74-4119-BE49-5BC37BC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EA91F-2424-49CD-AE8E-75DD31C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965-463C-4E22-8E7E-9C168A4C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C373A-70AE-453F-BD0F-2577523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2ECE-C8E3-4A6F-993D-6718E467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04F3B-43C8-4750-96B2-5E91751D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DDDA4-33FC-4E76-82D8-90DA7F2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27AF-F1B6-4541-AA02-21FF87DD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8FD6-6802-476C-BEC2-E76A140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E9A40-4B5A-4D8B-A3A0-B63D217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7CCEC-5A0D-412B-9E21-6EF6133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0D3C-69EF-45C1-930B-3671FEE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0BF09-7773-4491-ACEA-BB6EE16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105-1600-4095-8491-7CCB077C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ABF8A-ECF1-4021-BC0B-B8F94F5D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CBDB4-D485-47F2-81FB-6F4BFFD2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11FE-4551-416C-9B09-C726B9DC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2A9B1-5502-4B7D-B0FD-A2B11470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A3E94-85EF-4318-ADEE-F2BF62E0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F508D-35D5-4992-B3E3-6D69327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42536-35CE-43AB-80D6-00E1107C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918BC-DBCC-47C8-B6D6-A4DC86C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5CA9C-7157-447B-A648-3599A5A7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8A3AA-B941-4D75-8AC9-F59F207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73A3-A07D-4DF6-B433-10E5B61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95C8B-789C-4C42-A446-F81F90B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BD87-04BD-4A1A-B441-C961741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F656A-4B81-4C49-80C8-9C169E4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D023A-10A9-4F86-AB90-538EFE9D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A7CAC-68E4-467E-AA82-6D2E5AD5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4C494-2477-4105-816B-FB0852ED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9F864-5131-4BC1-A72E-B428B23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7370A-C828-4DF6-8EFE-C2E965E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1DFB7-10E9-4EC5-88A7-3034280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7D77A-3D44-4517-9B56-3871371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978-EF55-451C-BE9F-3617980D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81F92-143A-42FE-A4DA-009EBA4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FE1A8-0E8D-468F-994C-E964BFB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8A029-14A9-4328-97E6-8EFE606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6000A-2E42-45CD-86A0-64F5D0E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B7F31-78B7-4587-A5D5-A2B0DA4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E9315-5E1C-439D-829E-5C4EC65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85123-8814-4D9C-9106-93CEDDF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46DFD-658A-43BE-9D21-C108BE85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A177B-E2DC-4757-83AD-3CDE228A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F95AF-7DFB-4EB7-B8CE-0CD41DB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3C83-AA54-4F60-9ED9-889373AC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BB16D-8F69-4CF2-909F-20A07A89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02538-0E47-4DB2-8420-210A40C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84CBD-316D-4012-8FDE-390ADD9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7D6C7-D328-484B-9B37-6176EDF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9935A-0A54-40D3-8EE6-E47FE35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DEA70-583E-4B40-AD59-0169422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73B7D-D57B-4E50-925F-165C6862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D3B08-3F5E-4B31-A88F-E033AA27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8A4A4-B265-4666-9DC9-995E2C5F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3D1D2-EF4B-4A81-980C-E5D7066C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ECBA-D611-44CA-8E58-3367D85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51879-7463-4E04-8846-1B2356A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AA69E-D14C-40AA-B2BE-3B68227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28A88-8EE0-4CA9-BE19-30D758C4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605C9-4391-4B07-9D81-20566FF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18EED-D94F-447C-BCAD-571BCCD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DF731-9059-4691-8ECD-E933964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BE86E-7A6A-44B9-8DDB-56E5C54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0ADEE-A19F-4B6C-8B20-80C6A79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7466A-CC4B-4B5A-823A-95BBAE9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9121D-F5E6-4700-BC2A-B332BFD8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8DB-0C3C-4905-9165-ECDFB09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9B249-A48F-4AB5-8629-F489564F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D8D-799C-4612-BF96-E27A257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97A-F769-43A9-906C-24C3C5B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734-B18E-480E-9CDA-9D7ECB4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1B4B-59D9-4509-B381-3C80561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3F7C-EDA0-4E6F-8AF2-EC87244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FE2-2DB4-4B35-9224-8DD99871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C5A1-8650-4B8A-86E4-9A1249E9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407E-CC73-4C74-9C42-ABCBEA0C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E2AC-660B-48A9-AE46-68EB3A5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5978-0E31-4582-B2EB-41BA3729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E94C-69F0-4360-A46D-C29B220F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FD46-26DC-4785-AB2F-61EFF09A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D82-75A8-4C5E-A1BA-114665A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E239-393B-4B83-BEB9-14F0FED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816B-05DC-4D7E-A4D0-843D621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AFE7-7759-47A4-81DC-3CAB2A1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6A6D-03D4-4AA9-8AF0-D063008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046E-635D-4F50-9A92-102667D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5334-C80B-4493-A587-82B27F74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300A-70F2-475A-B9B4-8ACF7443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D02B-EC1E-452D-8064-0BC28A9A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BE90-B2A9-4F45-9270-F9A0C673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E6CA-8719-4F3C-9D5B-CACC5149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E49-EE42-480E-AE59-3CC8F6FF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3AB5-A098-4F5F-ACF4-94B85979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C7D0-A16D-41C8-B4C5-F9B86D8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59E6-76CF-4282-ACF8-E3C13162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4F84-6A5F-484C-B4E5-7D00667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3B4B-A3E7-496B-9F3D-BB0BC57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FCA6-9F2B-4C6B-84C6-507C9D4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3AC3-3963-4021-A4F4-5E616A48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45F2-B33D-45DC-BD95-5881536C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2470-BEBF-4151-8A3F-59B65A18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2519-3658-4859-B840-EC4A1C21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5A0-E773-4926-8376-998F00E7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2E42-D323-4464-91B1-7DA4AFA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5F8B-791E-4E95-A220-C2A26B34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EDDC-64F4-4B8A-A549-C8E7590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EAE3-2CA5-47D9-81BF-CE3042F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4B1D-7BF6-4580-A5D0-237DECB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C897-A378-4EE4-B509-D87505E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9E67-0524-45B3-BCF0-162536B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C3B9-8C84-4BA2-9A61-6B377B2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6AB0-2D73-42F4-B4A9-3F36F78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6B0E-8D7B-4B0F-9ED9-11CCDB95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DE5-C160-417A-9008-281429DB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538A-C9AB-4A2D-A146-DA2F80D6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0B7F-A318-4869-9517-B8EE094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870E-292E-4E01-88F1-B5EA477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D9418-4525-46F7-B3E8-60AA5ACF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5453-9F7E-4BF0-B5E5-0208D781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2A2E-52DD-47F5-96EB-963548F7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68645-D59D-4BB3-97EA-2710E798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484D-D62D-474F-B8D2-ABF8E05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372D-E406-454C-A709-9F2C498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9DAFE-A3E7-4E97-940C-8C5A2E8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507-7C6A-49E3-9FB6-65FF5036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3A5DB-2D0E-42F9-8F21-48D8209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69DB3-7D5D-4FA0-BC0A-EA8EC071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8E50-2B9B-4E49-B3BC-CEEB259C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E2CC-9F58-498A-A781-6CF12D9F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890B-B650-46DA-8D58-3D9E420C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7462C-4DCC-4140-A7A8-542D190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0902-4980-4F39-9738-F7FAE17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1152B-6B5F-4A61-A7BA-6DF3F57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79A9-0393-41A6-AAB9-FA8D73B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33891-C27E-4121-B233-B88BEF4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661-7437-4326-97F4-1A6F382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14451-65E3-4FCB-BA0E-0224E64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A3B6-8984-42FF-94DD-B4DB54D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D625-F859-4AAC-B475-BEB83F3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1F1C9-F420-42D6-AB8F-E65B18DE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5CA95-512F-4F8D-8037-FFFB1223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EA85-40D1-45F2-8EEB-958F0F7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E80E-18E9-4EE8-83F5-87658CB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3A27-DFF7-46C1-B929-BFA9EB31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C23A5-0A49-40BE-92BA-12EB5F0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1F4E-93FA-4E80-9778-89319C3B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D5C-C251-4353-944A-B693E9F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3E5B-FB2B-4FD9-B3E1-6686587B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58987-149E-4F85-8CB3-96C882C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6269-53FE-4CDD-9EC9-98DB4C3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9875-C6C1-4B5A-A513-0713080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E229-FE84-449E-B09B-A08F4D9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D0B4-0CEA-46BB-9FE0-15039B04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C8417-75EF-4F4B-954C-BC803CF8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D03F8-0C70-4518-8ADE-23AB06FE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269B4-C2DD-4271-BDBA-1B45A8DC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A46F5-51EE-4ACA-B4D9-51673B70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72CF-9AE0-4623-B573-41A67FAC6A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BD0D-3C83-49FD-AD05-DC6CB67A454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114-D274-4936-B301-80154E7B45E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BD77-9040-446B-A06C-12F71C55ACE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41E6-B549-49AE-8388-BE5ADB6A691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3BAC-B2CD-4699-939E-19102A617DC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56A-9F0C-4398-9422-241ED4A414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545-BB0A-43FA-9D0A-A33B4862D1C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40A0-24F1-4E41-B5AF-A2D3DAE6ED2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298-C1AB-4FD0-8AB1-1F3D9FC2AA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F4F-132F-4DFF-BA4E-42A1B7D9E9B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49D5-B446-431A-A7DD-8A31908FA06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851-06D6-4D30-B2AE-930DE0A3FD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9F8-54A4-4487-BF3E-668886B5C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52B-6244-4BBA-9754-E340C9A8D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301-B9D2-4B35-9DDF-53B9A649A4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380F-FF17-4FDA-AA10-A0237CEB7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527-9316-4B16-8C9C-2B5B139DD83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D07-BE59-4E85-AAFD-D606D3370F0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F30-6D33-4C96-9360-9A934C791D3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A6ED-3DD0-4C8B-AE54-CF7C9361A79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B23-0307-411E-850F-A926CB29A7E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36F-D665-454F-BE20-D8E5E5B2A26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2AC7-F3D1-4005-BBE6-C5D6537DCFD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B5AF-3DC9-4E24-819C-07DBAAD886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B91-9D5C-4B79-8C75-ECC76A735A5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F6CA-A610-4E97-8D65-06AABFC0FB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8" name="TextBox 4" descr=""/>
          <p:cNvPicPr/>
          <p:nvPr/>
        </p:nvPicPr>
        <p:blipFill>
          <a:blip r:embed="rId1"/>
          <a:stretch/>
        </p:blipFill>
        <p:spPr>
          <a:xfrm>
            <a:off x="1407960" y="1908000"/>
            <a:ext cx="6255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liveluo</dc:creator>
  <dc:description/>
  <dc:language>en-US</dc:language>
  <cp:lastModifiedBy>a</cp:lastModifiedBy>
  <dcterms:modified xsi:type="dcterms:W3CDTF">2015-02-09T02:08:0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8000000000001024100</vt:lpwstr>
  </property>
</Properties>
</file>