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.jpeg" ContentType="image/jpeg"/>
  <Override PartName="/ppt/media/DONGW141.WAV" ContentType="audio/x-wav"/>
  <Override PartName="/ppt/media/image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GY.WAV" ContentType="audio/x-wav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836-0BB1-4665-8F6A-511A0F4A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0B8-ADE6-4E05-8F4A-65E7010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6D1B-6A55-40AE-9977-0ED12A4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82DA4-FBE9-4F9C-9AB2-531829AF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922AC-FA94-4B89-B670-F184B159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C8974-281C-4183-B7BA-87A93E0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F410E-682D-4528-A94F-92933DC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5A0EE-AB97-45B7-82F1-204C590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12605-B230-4B98-96BD-EDFFE40E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9B208-954D-427F-BFD0-99532C6E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F55A-4E3A-471D-82A2-751EFABA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0700-CBB3-4155-98C3-E81DF3C7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549-EBE1-457B-82CF-013E697C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DA6C-ACA9-433B-BA75-30DCFA2D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39EE4-CE78-43B1-B023-7EBBA92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2E975-F717-419F-A4AD-B9659D7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4324F-F832-4B24-AB96-233D525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AA25C-CDC7-4F2B-B03E-ADA8CE2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D0885-FFE7-49B0-B90B-8315469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784AA-F2B8-4698-9855-25CAF12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282E3-C971-4A0A-98EC-0501EE5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EFF1-6B63-499B-AB87-1E0B9A8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1E6C1-AA17-4CD3-BC1A-9229497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0E7-F37A-4C90-9069-3ECF1488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BB095-0712-44CC-9E06-48AE7793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76DEE-B24D-4CBB-9037-5438239D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0A0C-E79B-4D2E-B763-E38AA864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11838-EBBA-43F4-81C6-AC381844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7B7E4-2861-45BE-81A9-294347AD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F0369-7E88-4E2F-A9CE-A33E47D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D6DD-DA8A-4707-97C7-77074C18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A771E-3FE2-4FD0-BF72-FEA74AD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74D53-7A63-4384-B07F-EE497B8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405DB-D76D-4A90-A07C-3B3E123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E25-C4C4-46A3-B47F-6CC865B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9980A-E0E6-4DD1-A025-409F2A9A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68C9-693F-4938-9D9D-A16F8AAC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C4E4E-7D8A-4B45-9D28-1EFF0E61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B4B0-3A33-4DC2-927B-12C48BA3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F06F5-7BB8-4E9C-9D38-E46799B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6D618-243B-40C1-B9B0-9EAB790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3269-F927-4AB0-B5A0-CE94232F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608D-4370-4276-BD75-2BDD89D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1EB2E-EDFC-4974-A75F-0D84491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BE67-FD7B-4083-AAD2-0FE279ED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DE7C-6578-44F5-804E-8947712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DF96-70FA-4177-A673-8D3D74B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DC26D-C4D0-49B6-9C6F-E8CA1F2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28D40-8CA9-4140-8AD7-EE241E9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854EE-2D05-4DD0-BCAF-F8DE76C7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3FE3F-F278-481F-B019-CA846EC6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98A2D-E0C8-4820-A793-2C473DE2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52F82-AE83-4DB7-B89C-DED41E7B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200C0-BBF8-44F9-8860-D9522E52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2FA69-6B76-416C-88ED-BD1D83C1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1C056-4469-43F6-8D22-27A6886A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1128-41DF-464E-AF71-6514D2C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1F096-3F71-4110-B429-4211AEE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3A896-8AF5-4DE3-A9A2-C8FEA86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DD15C-6225-4886-BC9D-B8B07281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82001-A560-4010-9EE9-90B156E0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3CFFE-572C-46DB-B003-67A59A5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04F71-0DDF-47DE-A2A1-2BBFACE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C986A-8373-412C-80E8-8617B229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A8D30-E8DD-4B23-B3A4-697216F5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BC3A9-3E05-48E4-8117-5503AB6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D6DAB-C696-4D05-922C-09FABA1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AE8-9C76-444A-9311-067E792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6F175-E53E-4B01-8F55-1727B52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92A84-B437-4897-A9C8-9E53731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8E63A-1EC2-498C-88B3-D8049B2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3021B-8D4A-4048-9AC1-CEC045B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485CC-0E80-44E0-94CA-C2E94E0B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230B1-8A61-487C-80E2-147A0427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3DECD-F0AF-431C-AC2C-ACB1DF9A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7ACDC-8A41-4153-8FF0-215D1BF2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72611-DB7E-4379-9E7E-2C476C6F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23DA-6394-4288-B4F1-EB386F8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8E3-01D1-4921-BBFA-678C54C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AF0F-4567-410E-95B5-04467C1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C4E-373C-4317-A1FA-56456E0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2078-4542-4A64-BA8A-BF7B2DB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175-0FFF-4E2D-AC7D-6A6947A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DA24-A1CB-4CC4-9EC8-E44CB63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26A-58DD-433E-B06B-DF9CD073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8412-0967-4A53-8208-8D9553FE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B237-099F-4625-82DF-0A434DA5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8292-35F3-4FBA-83C4-6CD0A5E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D331-CA8A-417A-8330-C6F2A9C9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804F-C7C4-44AD-9998-708D0C1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FB58-93F4-4EAE-9EC9-9289A2F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F7F-28B4-4443-B963-56169D9E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A935-2AB3-42C0-AE82-7D7A0C40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8F23-E1BF-4183-AE68-46C6C73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3277-939E-4F65-A5F9-1EBEB4B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4B88-AE0E-4228-A7CE-6AE0F7C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BCE7-33A5-4115-B62F-C97F975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978C-88F1-4E2B-8DDC-112A4DD0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25E2-CFCF-41FE-9AC9-4FACFB66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77B8-65D2-4C87-8E96-5D8A5356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334B-2DBA-4B04-A11B-6E6266C2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AAF2-C4CE-449D-BFD8-881801F5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634-3226-45ED-9C43-3D41297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F22F-862E-4E19-A563-27042C97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F8B0-5498-48CA-BFE8-CE6C156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B88B5-4F7E-47CC-A891-7D78539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FCE5-E24E-45A7-9BB7-34FB0BF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8E55-4FE9-4054-8122-C2AD72A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9295-2ED2-4AA4-9690-15C8CBA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214C-7571-4C66-B224-8F906AF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8BEC-73F1-4157-A9EF-BDA434AE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0D45-2A64-45E7-9D11-88E5B5C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7D99-B8D9-4B43-83FD-0314A012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5E4-A3A7-472B-B43B-E183C76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0EE1-7AE6-4B24-A5D7-37AB10B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2128-BF45-4F1C-8462-C20275A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C3F6-CF64-4423-865C-75096FA8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924D-A1B9-40CD-B103-4BE0B99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8FAB-D2F2-44F3-AAC7-49BA82AD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D347-3FD6-44C5-8CF4-E96D551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E4555-B801-437B-B514-C6DF036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8288-679E-40DA-964B-100F564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035A-CBA0-4B47-AEC0-4EC78E5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D0DEE-3F4E-4849-AC54-6671215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56A-790E-4827-A5BE-0732E87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D2DB-F0D8-44D7-821E-9CDD2D0D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1439A-20DB-462E-A2AD-1F1C1779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7F75-177C-4129-A0C2-0EE16995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2295-9C7B-4B86-BEA6-16DA5A67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DCEE-5487-4CC4-8213-49DEB75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D33C-53C5-4C5B-A56C-E480EDF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05C4-74F8-4C86-B836-670F604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44B9-1736-437B-8690-1F62362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39CC-BC32-48D5-B182-A302E3A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CB55-F4D3-4B36-9998-BF2C418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1E6-806C-4125-BFD4-EC07B35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A116-FFFB-44DC-87B7-3DB3E46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584AA-6CD1-4BCC-810F-F40A5A0A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405F-C737-42C9-8024-242DCA0A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47E7-DA59-4AA8-A2D3-4CAC5EA3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E2DE-0D26-4D17-995E-AC087D7D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63BB3-83E9-489B-B80C-B849AC7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4E62D-80ED-49AE-B09C-B8D9BD6C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061C-CA91-47CF-AE25-6B713E2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D646-1F15-4F97-A1AA-068CEAD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F5F6-64AD-4CE9-B5A4-8B54555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F4C-C959-45EB-82E6-86763A5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8FD5-1805-4BB3-BDD9-A3B1DEC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1235-3E5A-4638-B89C-205A8F7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4866-21C4-4FD0-953D-D34B4BA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5276-FE45-440F-9A3E-634C482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2F493-4E02-4375-9342-4A122C65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D1E8-BDAF-49E0-848D-DEBB77DB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11DE1-B1D3-4F1D-A20B-C31FCAC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B5579-E9D2-4AD4-81EC-E73657BA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D09A-CB4B-4CBA-B48E-E0C26A7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5B95-17E8-4767-8F7D-F686B1D8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B0-4D9D-4F9A-B403-99C7A5B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0805-223B-445F-BE1F-8179E03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25E65-74A9-424E-A676-4B108E0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C199-FE13-46D0-8B87-34A259D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5D76-481C-412D-8CA2-F3E35D2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2A03C-039C-404A-8137-2E1089E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ED4C-1B8F-47FC-BE9E-A3DCEFC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D09A4-36A5-41C0-A847-7D5F3AF1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13B7B-DB26-4E84-91CC-C5F24F67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61879-A969-4484-B818-007E097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45453-0AA8-4A92-8E19-76B5E35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BDF-686E-4B16-BA5F-B1DFABC0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6F69-364B-4B98-866B-AD74B4B2EA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D8D-FC7D-42FB-8F3E-A166236A0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6A0F-EB64-446D-AC15-0A38D6DA91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5D1A-DE57-48B6-8978-6FF14A8EE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D07-7D39-4DEB-B602-A501068CC4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D4F-79E4-4570-B207-F6A6D37BC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A40-C072-4495-AA93-B4B82653B7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E2E-C88E-48B2-A932-B1696EFAD0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B33-977B-484B-9443-26F7715E55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419-78FE-4B77-BB03-17EF7DBC6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A65-6472-4CDE-AB02-D0B792B2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C89-7C5B-4354-A0AD-9F7B2DC37D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80FE-A16F-44E5-8612-2CB682273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317E-DC18-4CFD-8436-10738F9411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862-B642-4441-BB20-1377F8456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65A-E120-4867-A34A-A143B121BE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712-446A-46A3-8A2B-D5C91DFD2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85D-1309-497A-B40A-2D4897C3CB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67C-3CEA-4647-BC77-91D8DF98D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4122-A79D-426E-A0D1-468C0060EC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61B1-64C3-46A5-8CF4-6D48495A0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FB8-03EE-47DB-9AC1-6AC744A768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F697-0D92-4490-9D41-AD60171E2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A39-1F0E-4219-9D50-FAE2390A2C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F5CD-91DE-4B7C-AB08-FFF75ED2ED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1.jpeg"/><Relationship Id="rId13" Type="http://schemas.openxmlformats.org/officeDocument/2006/relationships/audio" Target="../media/DONGW141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GY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7"/>
          <p:cNvSpPr/>
          <p:nvPr/>
        </p:nvSpPr>
        <p:spPr>
          <a:xfrm>
            <a:off x="304920" y="54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7"/>
          <p:cNvPicPr/>
          <p:nvPr/>
        </p:nvPicPr>
        <p:blipFill>
          <a:blip r:embed="rId1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WordArt 5"/>
          <p:cNvSpPr txBox="1"/>
          <p:nvPr/>
        </p:nvSpPr>
        <p:spPr>
          <a:xfrm>
            <a:off x="1619280" y="256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鸟的天堂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539640" y="404640"/>
            <a:ext cx="8231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堆在另一簇上面，不留一点缝隙。那翠绿的颜色，明亮地照耀着我们的眼睛，似乎每一片新的生命在颤动。这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826920" y="260280"/>
            <a:ext cx="7728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另一簇上面，不留一点缝隙。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那翠绿的颜色，明亮地照耀着我们的眼睛，似乎每一片新的生命在颤动。</a:t>
            </a:r>
            <a:r>
              <a:rPr b="0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0" y="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小的，花的，黑的，有的站在树枝上叫，有的飞起来，有的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026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027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028"/>
          <p:cNvSpPr/>
          <p:nvPr/>
        </p:nvSpPr>
        <p:spPr>
          <a:xfrm>
            <a:off x="0" y="0"/>
            <a:ext cx="9144000" cy="202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声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影。大的，小的，花的，黑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站在树枝上叫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飞起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6" descr="a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4" descr="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0" y="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1332000" y="1628640"/>
            <a:ext cx="66992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昨天是我的眼睛骗了我，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鸟的天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62120" y="609480"/>
            <a:ext cx="7543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20020702d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352680" y="83808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05320" y="4572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巴金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04~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原名李尧棠、字芾甘。四川成都人。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从封建家庭出走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赴法国留学，写成了处女作出了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灭亡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发表时始用巴金的笔名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8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底回到上海，从事创造和翻译。从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9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中，创作了主要代表作出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755640" y="3429000"/>
            <a:ext cx="807732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的梦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春天里的秋天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砂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爱情三部曲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等中长篇小说。出版了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复仇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短篇小说集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行集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散文集。以其独特的风格和丰硕的创作令人瞩目，被鲁迅称为“一个有热情的有进步思想的作家，在屈指可数的好作家之列的作家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838080" y="54100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，巴金到广东新会访友时，途经新会天马河，看到一株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树龄的大榕树，于是写下了脍炙人口的</a:t>
            </a: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鸟的天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（一说是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小鸟的天堂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G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5"/>
          <p:cNvSpPr/>
          <p:nvPr/>
        </p:nvSpPr>
        <p:spPr>
          <a:xfrm>
            <a:off x="900000" y="2565360"/>
            <a:ext cx="7239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巴金爷爷几次经过鸟的天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经过鸟的天堂后分别在课文中给我们描写了什么样的景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" descr="我会猜"/>
          <p:cNvPicPr/>
          <p:nvPr/>
        </p:nvPicPr>
        <p:blipFill>
          <a:blip r:embed="rId2"/>
          <a:stretch/>
        </p:blipFill>
        <p:spPr>
          <a:xfrm>
            <a:off x="998640" y="560520"/>
            <a:ext cx="1295280" cy="1201680"/>
          </a:xfrm>
          <a:prstGeom prst="rect">
            <a:avLst/>
          </a:prstGeom>
          <a:ln w="0">
            <a:noFill/>
          </a:ln>
        </p:spPr>
      </p:pic>
      <p:sp>
        <p:nvSpPr>
          <p:cNvPr id="586" name="WordArt 8"/>
          <p:cNvSpPr txBox="1"/>
          <p:nvPr/>
        </p:nvSpPr>
        <p:spPr>
          <a:xfrm>
            <a:off x="2433600" y="10922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书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714240" y="1811160"/>
            <a:ext cx="678204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900000" y="620640"/>
            <a:ext cx="77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一株大树，枝干的数目不可计数。枝上又生根，有许多根直垂到地上，伸进泥土里。一部分树枝垂到水面，从远处看，就像一株大树卧在水面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55640" y="981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一株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大树，枝干的数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不可计数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枝上又生根，有许多根直垂到地上，伸进泥土里。一部分树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垂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到水面，从远处看，就像一株大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卧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水面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柳树"/>
          <p:cNvPicPr/>
          <p:nvPr/>
        </p:nvPicPr>
        <p:blipFill>
          <a:blip r:embed="rId2"/>
          <a:stretch/>
        </p:blipFill>
        <p:spPr>
          <a:xfrm>
            <a:off x="533520" y="228600"/>
            <a:ext cx="3606840" cy="29354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松树"/>
          <p:cNvPicPr/>
          <p:nvPr/>
        </p:nvPicPr>
        <p:blipFill>
          <a:blip r:embed="rId3"/>
          <a:stretch/>
        </p:blipFill>
        <p:spPr>
          <a:xfrm>
            <a:off x="5334120" y="228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独木成林"/>
          <p:cNvPicPr/>
          <p:nvPr/>
        </p:nvPicPr>
        <p:blipFill>
          <a:blip r:embed="rId4"/>
          <a:stretch/>
        </p:blipFill>
        <p:spPr>
          <a:xfrm>
            <a:off x="1752480" y="3521160"/>
            <a:ext cx="5029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鸟的天堂1111"/>
          <p:cNvPicPr/>
          <p:nvPr/>
        </p:nvPicPr>
        <p:blipFill>
          <a:blip r:embed="rId2"/>
          <a:stretch/>
        </p:blipFill>
        <p:spPr>
          <a:xfrm>
            <a:off x="160020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4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4:30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10T11:18:16Z</dcterms:modified>
  <cp:revision>29</cp:revision>
  <dc:subject/>
  <dc:title>第一PPT模板网-WWW.1PPT.COM</dc:title>
</cp:coreProperties>
</file>