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72E-2B40-4DC4-B70E-A9B54603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BF8-B5E5-4776-9219-6BCC7BC7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07903-EDD6-4CA5-9FC6-50E1833F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25003-2474-4D34-92DB-B40FA771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72355-7914-410F-90A5-B4321334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B9870-42B3-4695-96BD-845B85A9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0414F-87B1-4CB3-9CFE-5EB3F5C9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8EA73-1981-47B3-A34E-02FF32B9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A06BB-0C5A-43D6-9EEA-644005E0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98724-557A-404F-A8BA-9DE88669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B25AA-C141-45DF-8883-D737D924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4489A-E1ED-4BA6-9CA3-30C6DB48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3B3-C970-4834-A287-E811057E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6B35B-AC2C-4B84-85F0-42C28B3E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D5EC9-4552-41CC-94A6-D250896E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FBE50-031D-44AE-A5BB-928DC8F4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0A2BA-F5CB-4789-ADE0-F94E577D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E3CF0-C905-4890-8A70-A177DC92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72F43-9B80-49B9-95E2-039C3807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482ED-C218-4202-B949-08B73F56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A385E-B3E9-4C34-81C7-7D95FE3A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C9681-D5E0-4363-AE9E-7F9D13C0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1C990-4D05-4FF0-A803-3C7E786E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CD5-8708-41CC-843C-2DEC7DB4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7FEF4-C46E-4AFD-99CD-CFA6F017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F1AFC-C9B4-45D5-ABCA-613890AF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CD5E7-BEC6-4B6D-8BDF-1ADB3E65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0EB23-996D-4729-BDF1-93C154A3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8CE55-85BA-42C4-95B1-CC838F83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BBB20-BC52-47EF-ADF9-1BA070F8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EBF67-8B01-44DC-82DC-53C5670E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C01E4-739F-4F9B-97BE-FADC2660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ABF3C-0115-4E99-8C7A-B58392EC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1C019-AB2C-4E49-9C0B-83AEE8A6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413E-1188-45DA-8697-FA64B006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F676B-013B-433A-974D-F3E49F41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237D4-2813-4FD0-979C-FC248F95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F331C-50D9-4467-8ECC-1FA490B2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E15AD-9C4A-4D10-A7E8-E3BA4AAE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6BD69-9F32-4C6A-AA5A-F95D4C78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AC8FE-C544-4F23-969D-98AF1D0F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E6362-07C2-41B4-8C5F-5EB501E9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53A5F-1AA3-4982-8039-F8D3D9D7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52731-3A4B-4B0E-8633-149F8C5D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0BD90-EB24-4726-9A9E-37E9C8A8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E43C-6B51-467F-8FFA-5C60B511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DA8E1-7DB7-4571-B8E9-B916DD59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9CE8A-8F13-4027-8310-9E0EE394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78AF2-C2F1-45F2-B9D7-7D6EC07E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127BA-D716-4A84-82D7-C62DC119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FD3DF-90D5-4883-BA90-3F47D3B6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EADD1-7656-459E-938F-18C6D905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34187-1A4A-4A0F-B784-6CDF5544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816DA-BA90-437B-BEEF-11BD8F4F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87A37C-77B8-496B-AD71-62D703E9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D7E5E0-521F-45C3-B5FB-44D881EA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175F-B350-44D0-8680-799EEAC9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ADBE1-856E-4B1B-9C34-CD288C97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85B2D-2429-4720-8916-6667A9EE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63C86-FFDF-4111-BD95-71AB06C7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AB38B-1E94-4F23-8B2C-7855B30B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AB349-8FF9-4762-B5BD-63E920BB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4008D-8EE4-4D9A-BBF2-875A6BED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79908-5EB2-4CED-B25A-4591AD44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9420-B954-4176-94AD-5BCFF2A5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C6BD-6839-442D-AEF7-98F814B3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5534-D70F-4382-B532-757CD43F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BE9F-E4A9-4349-8998-DD7F1ACC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4B2-7C4D-4A61-83B4-2256AFC9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C7EB-3475-4C4F-953E-C2679B9D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4B09-17B2-4E95-B140-33936F3B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86E6-74E2-420F-AD18-0F19AAB8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85A5-3CF4-43B9-84A6-BA43E63B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83E9-5D1C-47F4-927C-E00FDFE6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88A78-A326-4992-9A0B-6211A651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CF764-8553-487D-B61F-0AC545A8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26C8D-65C5-4FFD-B7FD-7FC1E9EB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AC7B6-ADF2-473E-AEC6-20A547A8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A90E1-DA72-49AD-865A-2405E86E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92B-562E-43DE-B5C2-D3514B9B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81CF1-6B6D-4393-A9BF-DDCEF6D8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92B0D-5B78-4FD5-AB4B-E5D63AA8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08409-5992-43DE-9C70-EBFE0AA2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52BB-9371-4CC9-88B7-21A5F3A5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F3196-314B-4908-AAA2-A375B819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19A1E-15F0-454F-B43F-5FC76F7A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42C34-B071-455F-8FAC-F2623CA0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5032B-D3E5-4ED0-976E-69143095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11DBB-E0C5-428B-ACBF-7894045B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03671-19F2-484F-9D65-86DB49E0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CFD-4273-48C6-99AD-ED380C78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04AD7-68E2-4B35-8CB0-0F18C175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4F140-E21B-4EE4-BEC3-299450D0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DB70A-EBF4-4D1E-A304-36D17C0E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2B484-8B12-406D-BBFC-5FC361DE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EE9B9-B4E5-4EDE-A165-EF557886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6F6D7-0CC7-4C64-8B21-A4377423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D36C2-247B-4397-83ED-F1A59370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BC9B1-13EF-4431-9307-B4300171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ABD5B-9DCF-4043-B5F2-9DE2CE34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06C60-157E-47CF-8FE5-C7905EE8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18C9-5474-4DAD-A1E2-B702264E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A97E5-D283-417B-BD3B-8AA239CF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2E159-9ED6-4D43-82B2-E70A310F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7BC68-4F7D-4C03-A2B7-E373B917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9C854-89DD-4893-BE72-B35B14E4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7CD20-12F3-4443-8329-5729E6D2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EEDF0-2D2A-4B56-A570-30778925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DFDF5-1B30-4732-BED2-30AF153D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4BFD7-BE87-4BF3-9257-DBCAB1E9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36F1C-3C84-46F5-847A-96C85117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F5C44-ADB8-4D37-80A9-6A863BB5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17D-A135-47A6-B09E-D74EC90E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DB666-905A-49F5-BF77-CF5CF9DA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88C63-B021-4668-B550-BE093B75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EF5A6-2C00-4546-8E4F-E0435043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EBE2A-D6A0-4D84-92BF-839C1BCC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69C89-9061-45E1-B626-19D58E0A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7AFDA-5695-411A-AE69-733DA09D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D7A5F-EF8B-4145-AF9C-7B430F53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05D6D-793D-4DA3-9179-63374D4E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3D198-8B80-47EF-847A-CDB7159E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BE16B-6453-4625-92DA-F6EF7FB8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FA9-A446-406A-9987-0CD1744E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E5212-58AF-4CC2-A74E-F5829813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AF283-C224-4929-8142-9DEFC393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3A842-D29A-4D34-AF2D-1FFFBA91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B6EE7-614E-4BE9-BE53-A69C2029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68B12-C2F1-4132-8048-8F3B7145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B5DE0-7970-4E91-9359-5E87B143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336EC-C786-48FE-8C23-1AA7C4F0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1CEB3-987A-4DD3-BA9B-7A4AF94D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89CE7-3D2E-40D8-9C64-6D4A66F6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C830B-51B4-47F1-BEED-B41A4A59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F2E-3D55-4099-A442-8FBB97E2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3F8B2-096F-4751-9EB2-14B3D6B8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249D2-1FF0-4D5B-90CD-04EEF0CA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019CA-723C-41BA-A2A7-F99A99EC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E96C9-C017-4B6C-BD3F-F94CF184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7CC72-FB30-4287-95E6-AD17CF4B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1A9EF-EFB4-44E0-BB07-74701133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F028F-99B8-4E8F-AA70-17C20CC3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7EC69-5791-4591-B63D-61DAE2DB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8161F-F369-460A-9FCF-176CCEB3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B0B88-721E-4BB9-8116-15F779AF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935-715A-455B-8413-3E7DBA86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45DFC-7C1B-40A8-B9B7-731DC998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B0B4A-4CFE-47AC-9075-E1B41AAB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2F602-B347-4C18-94C1-BEBEF28D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3A6E6-7777-45B0-8170-31E00008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669A6-A3BA-4C54-A7DB-2DFAC8B7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D30FA-0BB8-4AC0-8ABA-743DA2F1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021AE-76CF-455F-89AD-B0024F09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DDF99-A444-4F2B-9BC7-D1CC5C44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F2133-34B3-44BE-836C-F6CDCB33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4F77C-731E-4648-8CDE-A4B22CFF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9BB3-E95B-4FE3-89CF-05C6DD852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D562-8BD6-44A3-ABCA-391EE29B379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A0C4-0513-4688-B728-747B687390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72E8-F3CA-4777-A8E6-64005DD230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1AA3-CC9E-456D-9F96-98328851E9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0A04-3FB7-4951-9B98-908BB08BB4B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F5C4-65E0-4770-8ADB-345D802DB1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3F34-22C1-4619-B417-71FB0A2C3E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A816-F3D0-4DAE-A5B7-07272B98EB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5BFA-FA46-4A07-86E0-3D603E6BAC2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9F25-498F-484B-B837-CB92449287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086D-C197-428F-B862-0854A71243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F680-7E4A-47C9-8930-98F032B79A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5918-4100-431C-9069-222BA93FAE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562D-AAA4-4F44-A3B0-13CDA1B32A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B52A-B3F2-4525-B3B0-FA11F24C463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986D-9B4D-4AF6-B3DD-E5A5B579E7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EB87-736F-43B8-A9BE-E2F4D1E94A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D45B-85F4-445A-85B1-87AF8B2F11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4C57-450F-47F8-BEE1-8F7A9BA60F0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A29A-91E0-47F1-8C92-D1CC643B8A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F7E2-AC46-45C4-9370-4C80F4154A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42B3-C792-4AB7-8DE4-1E14D21D70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BD69-36E3-44AE-86F5-9A8CAEB747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1907-CEE4-4AB2-AD5A-BA3CA2DB41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6.xml"/><Relationship Id="rId9" Type="http://schemas.openxmlformats.org/officeDocument/2006/relationships/slide" Target="slide9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020091231398554002985.mp3" descr=""/>
          <p:cNvPicPr/>
          <p:nvPr/>
        </p:nvPicPr>
        <p:blipFill>
          <a:blip r:embed="rId2"/>
          <a:stretch/>
        </p:blipFill>
        <p:spPr>
          <a:xfrm>
            <a:off x="61128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7"/>
          <p:cNvSpPr/>
          <p:nvPr/>
        </p:nvSpPr>
        <p:spPr>
          <a:xfrm>
            <a:off x="138420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-396720" y="260280"/>
            <a:ext cx="802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鸟鸣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唐）王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闲桂花落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夜静春山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出惊山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鸣春涧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9">
            <a:hlinkClick r:id="" action="ppaction://hlinkshowjump?jump=nextslide"/>
          </p:cNvPr>
          <p:cNvSpPr/>
          <p:nvPr/>
        </p:nvSpPr>
        <p:spPr>
          <a:xfrm>
            <a:off x="8317080" y="6308640"/>
            <a:ext cx="576000" cy="549360"/>
          </a:xfrm>
          <a:custGeom>
            <a:avLst/>
            <a:gdLst>
              <a:gd name="textAreaLeft" fmla="*/ 35280 w 576000"/>
              <a:gd name="textAreaRight" fmla="*/ 540720 w 576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47" h="21600">
                <a:moveTo>
                  <a:pt x="0" y="0"/>
                </a:moveTo>
                <a:lnTo>
                  <a:pt x="22647" y="0"/>
                </a:lnTo>
                <a:lnTo>
                  <a:pt x="22647" y="21600"/>
                </a:lnTo>
                <a:lnTo>
                  <a:pt x="0" y="21600"/>
                </a:lnTo>
                <a:close/>
              </a:path>
              <a:path fill="lightenLess" w="22647" h="21600">
                <a:moveTo>
                  <a:pt x="0" y="0"/>
                </a:moveTo>
                <a:lnTo>
                  <a:pt x="22647" y="0"/>
                </a:lnTo>
                <a:lnTo>
                  <a:pt x="21247" y="1400"/>
                </a:lnTo>
                <a:lnTo>
                  <a:pt x="1400" y="1400"/>
                </a:lnTo>
                <a:close/>
              </a:path>
              <a:path fill="darken" w="22647" h="21600">
                <a:moveTo>
                  <a:pt x="22647" y="0"/>
                </a:moveTo>
                <a:lnTo>
                  <a:pt x="22647" y="21600"/>
                </a:lnTo>
                <a:lnTo>
                  <a:pt x="21247" y="20200"/>
                </a:lnTo>
                <a:lnTo>
                  <a:pt x="21247" y="1400"/>
                </a:lnTo>
                <a:close/>
              </a:path>
              <a:path fill="darkenLess" w="22647" h="21600">
                <a:moveTo>
                  <a:pt x="22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7" y="20200"/>
                </a:lnTo>
                <a:close/>
              </a:path>
              <a:path fill="lighten" w="22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47" h="21600">
                <a:moveTo>
                  <a:pt x="1132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647" h="21600">
                <a:moveTo>
                  <a:pt x="1132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647" h="21600">
                <a:moveTo>
                  <a:pt x="8747" y="8224"/>
                </a:moveTo>
                <a:lnTo>
                  <a:pt x="12612" y="8224"/>
                </a:lnTo>
                <a:lnTo>
                  <a:pt x="12612" y="15221"/>
                </a:lnTo>
                <a:lnTo>
                  <a:pt x="13900" y="15221"/>
                </a:lnTo>
                <a:lnTo>
                  <a:pt x="13900" y="16144"/>
                </a:lnTo>
                <a:lnTo>
                  <a:pt x="8747" y="16144"/>
                </a:lnTo>
                <a:lnTo>
                  <a:pt x="8747" y="15221"/>
                </a:lnTo>
                <a:lnTo>
                  <a:pt x="10035" y="15221"/>
                </a:lnTo>
                <a:lnTo>
                  <a:pt x="10035" y="9129"/>
                </a:lnTo>
                <a:lnTo>
                  <a:pt x="8747" y="912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0">
            <a:hlinkClick r:id="rId3" action="ppaction://hlinksldjump"/>
          </p:cNvPr>
          <p:cNvSpPr/>
          <p:nvPr/>
        </p:nvSpPr>
        <p:spPr>
          <a:xfrm>
            <a:off x="7596360" y="6426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1440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8818" h="21600">
                <a:moveTo>
                  <a:pt x="1440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8818" h="21600">
                <a:moveTo>
                  <a:pt x="11833" y="8224"/>
                </a:moveTo>
                <a:lnTo>
                  <a:pt x="15697" y="8224"/>
                </a:lnTo>
                <a:lnTo>
                  <a:pt x="15697" y="15221"/>
                </a:lnTo>
                <a:lnTo>
                  <a:pt x="16985" y="15221"/>
                </a:lnTo>
                <a:lnTo>
                  <a:pt x="16985" y="16144"/>
                </a:lnTo>
                <a:lnTo>
                  <a:pt x="11833" y="16144"/>
                </a:lnTo>
                <a:lnTo>
                  <a:pt x="11833" y="15221"/>
                </a:lnTo>
                <a:lnTo>
                  <a:pt x="13121" y="15221"/>
                </a:lnTo>
                <a:lnTo>
                  <a:pt x="13121" y="9129"/>
                </a:lnTo>
                <a:lnTo>
                  <a:pt x="11833" y="912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5308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4"/>
          <p:cNvSpPr/>
          <p:nvPr/>
        </p:nvSpPr>
        <p:spPr>
          <a:xfrm>
            <a:off x="3635280" y="134136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Arial"/>
              </a:rPr>
              <a:t>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4367880" y="12682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Arial"/>
              </a:rPr>
              <a:t>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">
            <a:hlinkClick r:id="" action="ppaction://hlinkshowjump?jump=previousslide"/>
          </p:cNvPr>
          <p:cNvSpPr/>
          <p:nvPr/>
        </p:nvSpPr>
        <p:spPr>
          <a:xfrm>
            <a:off x="8244000" y="6453360"/>
            <a:ext cx="360360" cy="71280"/>
          </a:xfrm>
          <a:custGeom>
            <a:avLst/>
            <a:gdLst>
              <a:gd name="textAreaLeft" fmla="*/ 4320 w 360360"/>
              <a:gd name="textAreaRight" fmla="*/ 356040 w 36036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108760" h="21600">
                <a:moveTo>
                  <a:pt x="0" y="0"/>
                </a:moveTo>
                <a:lnTo>
                  <a:pt x="108760" y="0"/>
                </a:lnTo>
                <a:lnTo>
                  <a:pt x="108760" y="21600"/>
                </a:lnTo>
                <a:lnTo>
                  <a:pt x="0" y="21600"/>
                </a:lnTo>
                <a:close/>
              </a:path>
              <a:path fill="lightenLess" w="108760" h="21600">
                <a:moveTo>
                  <a:pt x="0" y="0"/>
                </a:moveTo>
                <a:lnTo>
                  <a:pt x="108760" y="0"/>
                </a:lnTo>
                <a:lnTo>
                  <a:pt x="107360" y="1400"/>
                </a:lnTo>
                <a:lnTo>
                  <a:pt x="1400" y="1400"/>
                </a:lnTo>
                <a:close/>
              </a:path>
              <a:path fill="darken" w="108760" h="21600">
                <a:moveTo>
                  <a:pt x="108760" y="0"/>
                </a:moveTo>
                <a:lnTo>
                  <a:pt x="108760" y="21600"/>
                </a:lnTo>
                <a:lnTo>
                  <a:pt x="107360" y="20200"/>
                </a:lnTo>
                <a:lnTo>
                  <a:pt x="107360" y="1400"/>
                </a:lnTo>
                <a:close/>
              </a:path>
              <a:path fill="darkenLess" w="108760" h="21600">
                <a:moveTo>
                  <a:pt x="108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7360" y="20200"/>
                </a:lnTo>
                <a:close/>
              </a:path>
              <a:path fill="lighten" w="108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8760" h="21600">
                <a:moveTo>
                  <a:pt x="5438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108760" h="21600">
                <a:moveTo>
                  <a:pt x="5438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108760" h="21600">
                <a:moveTo>
                  <a:pt x="51804" y="8224"/>
                </a:moveTo>
                <a:lnTo>
                  <a:pt x="55668" y="8224"/>
                </a:lnTo>
                <a:lnTo>
                  <a:pt x="55668" y="15221"/>
                </a:lnTo>
                <a:lnTo>
                  <a:pt x="56956" y="15221"/>
                </a:lnTo>
                <a:lnTo>
                  <a:pt x="56956" y="16144"/>
                </a:lnTo>
                <a:lnTo>
                  <a:pt x="51804" y="16144"/>
                </a:lnTo>
                <a:lnTo>
                  <a:pt x="51804" y="15221"/>
                </a:lnTo>
                <a:lnTo>
                  <a:pt x="53092" y="15221"/>
                </a:lnTo>
                <a:lnTo>
                  <a:pt x="53092" y="9129"/>
                </a:lnTo>
                <a:lnTo>
                  <a:pt x="51804" y="912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>
            <a:hlinkClick r:id="" action="ppaction://hlinkshowjump?jump=firstslide"/>
          </p:cNvPr>
          <p:cNvSpPr/>
          <p:nvPr/>
        </p:nvSpPr>
        <p:spPr>
          <a:xfrm>
            <a:off x="8101080" y="602136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1347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939" h="21600">
                <a:moveTo>
                  <a:pt x="1347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939" h="21600">
                <a:moveTo>
                  <a:pt x="10893" y="8224"/>
                </a:moveTo>
                <a:lnTo>
                  <a:pt x="14758" y="8224"/>
                </a:lnTo>
                <a:lnTo>
                  <a:pt x="14758" y="15221"/>
                </a:lnTo>
                <a:lnTo>
                  <a:pt x="16046" y="15221"/>
                </a:lnTo>
                <a:lnTo>
                  <a:pt x="16046" y="16144"/>
                </a:lnTo>
                <a:lnTo>
                  <a:pt x="10893" y="16144"/>
                </a:lnTo>
                <a:lnTo>
                  <a:pt x="10893" y="15221"/>
                </a:lnTo>
                <a:lnTo>
                  <a:pt x="12182" y="15221"/>
                </a:lnTo>
                <a:lnTo>
                  <a:pt x="12182" y="9129"/>
                </a:lnTo>
                <a:lnTo>
                  <a:pt x="10893" y="912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4"/>
          <p:cNvSpPr/>
          <p:nvPr/>
        </p:nvSpPr>
        <p:spPr>
          <a:xfrm>
            <a:off x="1929240" y="184464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桂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3863520" y="177336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">
            <a:hlinkClick r:id="rId4" action="ppaction://hlinksldjump"/>
          </p:cNvPr>
          <p:cNvSpPr/>
          <p:nvPr/>
        </p:nvSpPr>
        <p:spPr>
          <a:xfrm>
            <a:off x="5592600" y="184464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">
            <a:hlinkClick r:id="rId6" action="ppaction://hlinksldjump"/>
          </p:cNvPr>
          <p:cNvSpPr/>
          <p:nvPr/>
        </p:nvSpPr>
        <p:spPr>
          <a:xfrm>
            <a:off x="1487160" y="306864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3360240" y="364500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5376600" y="3500280"/>
            <a:ext cx="4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AutoShape 4">
            <a:hlinkClick r:id="rId2" action="ppaction://hlinksldjump"/>
          </p:cNvPr>
          <p:cNvSpPr/>
          <p:nvPr/>
        </p:nvSpPr>
        <p:spPr>
          <a:xfrm>
            <a:off x="8136000" y="6021360"/>
            <a:ext cx="1008000" cy="836640"/>
          </a:xfrm>
          <a:custGeom>
            <a:avLst/>
            <a:gdLst>
              <a:gd name="textAreaLeft" fmla="*/ 54000 w 1008000"/>
              <a:gd name="textAreaRight" fmla="*/ 954000 w 1008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6022" h="21600">
                <a:moveTo>
                  <a:pt x="0" y="0"/>
                </a:moveTo>
                <a:lnTo>
                  <a:pt x="26022" y="0"/>
                </a:lnTo>
                <a:lnTo>
                  <a:pt x="26022" y="21600"/>
                </a:lnTo>
                <a:lnTo>
                  <a:pt x="0" y="21600"/>
                </a:lnTo>
                <a:close/>
              </a:path>
              <a:path fill="lightenLess" w="26022" h="21600">
                <a:moveTo>
                  <a:pt x="0" y="0"/>
                </a:moveTo>
                <a:lnTo>
                  <a:pt x="26022" y="0"/>
                </a:lnTo>
                <a:lnTo>
                  <a:pt x="24622" y="1400"/>
                </a:lnTo>
                <a:lnTo>
                  <a:pt x="1400" y="1400"/>
                </a:lnTo>
                <a:close/>
              </a:path>
              <a:path fill="darken" w="26022" h="21600">
                <a:moveTo>
                  <a:pt x="26022" y="0"/>
                </a:moveTo>
                <a:lnTo>
                  <a:pt x="26022" y="21600"/>
                </a:lnTo>
                <a:lnTo>
                  <a:pt x="24622" y="20200"/>
                </a:lnTo>
                <a:lnTo>
                  <a:pt x="24622" y="1400"/>
                </a:lnTo>
                <a:close/>
              </a:path>
              <a:path fill="darkenLess" w="26022" h="21600">
                <a:moveTo>
                  <a:pt x="26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2" y="20200"/>
                </a:lnTo>
                <a:close/>
              </a:path>
              <a:path fill="lighten" w="26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22" h="21600">
                <a:moveTo>
                  <a:pt x="130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022" h="21600">
                <a:moveTo>
                  <a:pt x="130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022" h="21600">
                <a:moveTo>
                  <a:pt x="10435" y="8224"/>
                </a:moveTo>
                <a:lnTo>
                  <a:pt x="14299" y="8224"/>
                </a:lnTo>
                <a:lnTo>
                  <a:pt x="14299" y="15221"/>
                </a:lnTo>
                <a:lnTo>
                  <a:pt x="15587" y="15221"/>
                </a:lnTo>
                <a:lnTo>
                  <a:pt x="15587" y="16144"/>
                </a:lnTo>
                <a:lnTo>
                  <a:pt x="10435" y="16144"/>
                </a:lnTo>
                <a:lnTo>
                  <a:pt x="10435" y="15221"/>
                </a:lnTo>
                <a:lnTo>
                  <a:pt x="11723" y="15221"/>
                </a:lnTo>
                <a:lnTo>
                  <a:pt x="11723" y="9129"/>
                </a:lnTo>
                <a:lnTo>
                  <a:pt x="10435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3989063369944139861"/>
          <p:cNvPicPr/>
          <p:nvPr/>
        </p:nvPicPr>
        <p:blipFill>
          <a:blip r:embed="rId2"/>
          <a:stretch/>
        </p:blipFill>
        <p:spPr>
          <a:xfrm>
            <a:off x="1166760" y="-380880"/>
            <a:ext cx="6810480" cy="76197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5">
            <a:hlinkClick r:id="rId3" action="ppaction://hlinksldjump"/>
          </p:cNvPr>
          <p:cNvSpPr/>
          <p:nvPr/>
        </p:nvSpPr>
        <p:spPr>
          <a:xfrm>
            <a:off x="8207280" y="6165720"/>
            <a:ext cx="936720" cy="692280"/>
          </a:xfrm>
          <a:custGeom>
            <a:avLst/>
            <a:gdLst>
              <a:gd name="textAreaLeft" fmla="*/ 44640 w 936720"/>
              <a:gd name="textAreaRight" fmla="*/ 892080 w 936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9223" h="21600">
                <a:moveTo>
                  <a:pt x="0" y="0"/>
                </a:moveTo>
                <a:lnTo>
                  <a:pt x="29223" y="0"/>
                </a:lnTo>
                <a:lnTo>
                  <a:pt x="29223" y="21600"/>
                </a:lnTo>
                <a:lnTo>
                  <a:pt x="0" y="21600"/>
                </a:lnTo>
                <a:close/>
              </a:path>
              <a:path fill="lightenLess" w="29223" h="21600">
                <a:moveTo>
                  <a:pt x="0" y="0"/>
                </a:moveTo>
                <a:lnTo>
                  <a:pt x="29223" y="0"/>
                </a:lnTo>
                <a:lnTo>
                  <a:pt x="27823" y="1400"/>
                </a:lnTo>
                <a:lnTo>
                  <a:pt x="1400" y="1400"/>
                </a:lnTo>
                <a:close/>
              </a:path>
              <a:path fill="darken" w="29223" h="21600">
                <a:moveTo>
                  <a:pt x="29223" y="0"/>
                </a:moveTo>
                <a:lnTo>
                  <a:pt x="29223" y="21600"/>
                </a:lnTo>
                <a:lnTo>
                  <a:pt x="27823" y="20200"/>
                </a:lnTo>
                <a:lnTo>
                  <a:pt x="27823" y="1400"/>
                </a:lnTo>
                <a:close/>
              </a:path>
              <a:path fill="darkenLess" w="29223" h="21600">
                <a:moveTo>
                  <a:pt x="292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3" y="20200"/>
                </a:lnTo>
                <a:close/>
              </a:path>
              <a:path fill="lighten" w="292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3" h="21600">
                <a:moveTo>
                  <a:pt x="1461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223" h="21600">
                <a:moveTo>
                  <a:pt x="1461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223" h="21600">
                <a:moveTo>
                  <a:pt x="12035" y="8224"/>
                </a:moveTo>
                <a:lnTo>
                  <a:pt x="15900" y="8224"/>
                </a:lnTo>
                <a:lnTo>
                  <a:pt x="15900" y="15221"/>
                </a:lnTo>
                <a:lnTo>
                  <a:pt x="17188" y="15221"/>
                </a:lnTo>
                <a:lnTo>
                  <a:pt x="17188" y="16144"/>
                </a:lnTo>
                <a:lnTo>
                  <a:pt x="12035" y="16144"/>
                </a:lnTo>
                <a:lnTo>
                  <a:pt x="12035" y="15221"/>
                </a:lnTo>
                <a:lnTo>
                  <a:pt x="13323" y="15221"/>
                </a:lnTo>
                <a:lnTo>
                  <a:pt x="13323" y="9129"/>
                </a:lnTo>
                <a:lnTo>
                  <a:pt x="12035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AutoShape 4"/>
          <p:cNvSpPr/>
          <p:nvPr/>
        </p:nvSpPr>
        <p:spPr>
          <a:xfrm>
            <a:off x="8101080" y="6093000"/>
            <a:ext cx="1042920" cy="493560"/>
          </a:xfrm>
          <a:custGeom>
            <a:avLst/>
            <a:gdLst>
              <a:gd name="textAreaLeft" fmla="*/ 31680 w 1042920"/>
              <a:gd name="textAreaRight" fmla="*/ 1011240 w 104292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2281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5624" h="21600">
                <a:moveTo>
                  <a:pt x="2281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5624" h="21600">
                <a:moveTo>
                  <a:pt x="20236" y="8224"/>
                </a:moveTo>
                <a:lnTo>
                  <a:pt x="24100" y="8224"/>
                </a:lnTo>
                <a:lnTo>
                  <a:pt x="24100" y="15221"/>
                </a:lnTo>
                <a:lnTo>
                  <a:pt x="25389" y="15221"/>
                </a:lnTo>
                <a:lnTo>
                  <a:pt x="25389" y="16144"/>
                </a:lnTo>
                <a:lnTo>
                  <a:pt x="20236" y="16144"/>
                </a:lnTo>
                <a:lnTo>
                  <a:pt x="20236" y="15221"/>
                </a:lnTo>
                <a:lnTo>
                  <a:pt x="21524" y="15221"/>
                </a:lnTo>
                <a:lnTo>
                  <a:pt x="21524" y="9129"/>
                </a:lnTo>
                <a:lnTo>
                  <a:pt x="20236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AutoShape 4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AutoShape 4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4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4:38:17Z</dcterms:created>
  <dc:creator>微软用户</dc:creator>
  <dc:description/>
  <dc:language>en-US</dc:language>
  <cp:lastModifiedBy>a</cp:lastModifiedBy>
  <dcterms:modified xsi:type="dcterms:W3CDTF">2015-03-16T08:53:27Z</dcterms:modified>
  <cp:revision>4</cp:revision>
  <dc:subject/>
  <dc:title>幻灯片 1</dc:title>
</cp:coreProperties>
</file>