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BCF-5A05-4A3A-A7F7-11C2EBC7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564-D182-4F3A-B318-AEA2FA7B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6728F-D5E2-4B4E-B769-32EED6C3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0FBA6-FCD4-46F8-AD05-8638852C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B3C31-BC73-4D8D-844E-3728989F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0530C-C85A-4007-BE94-FDE2751D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EA128-1C24-4EBD-839B-902EA3F8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0FE47-EE50-4B16-B298-3D6F5BF9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E4686-D732-40CD-8ACB-5E570863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D0712-8C03-495E-9388-DBB9DFAB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ED521-3CB1-4C03-9005-FE0782C5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56D65-D7E3-4BA8-BEE9-833D154A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9271-E52C-47AA-AFDE-2903B82E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E02AA-8DD6-4A19-89C4-1DF1277E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65FBF-9ED2-4BC6-912A-00D0C792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5A560-70B8-479D-8DA1-670FB439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6BCF4-B493-4FF1-A698-4638B8D0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193A5-B2C1-4531-846A-03A97957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38438-3836-4495-B791-45B55596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67189-4861-4A85-8F12-2B3A310D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0BED9-8017-4A10-9C81-6F400D4B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BC8BC-4263-4017-841C-7B556373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85BDC-9704-4843-8891-A3798F4C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B00-4535-418E-A730-CFD56D3C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75ABB-EDA7-457B-82E2-21024159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77938-AB35-4949-A462-4B052A7E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23167-73BF-49B6-8496-2BC7B48C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F79D8-6EDC-48D7-B628-3766B0F5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17D34-89C1-479C-9BA6-6DC49779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560A4-5EDE-4C90-B83B-D7D90179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BF5AF-D6F0-47B2-821E-BDE46A1F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72076-17EF-44EB-A33A-5A209FBD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DB939-829C-4C98-A134-76DBBFDD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51B77-8FF9-4208-A7B0-8C922949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0AB2-02E1-4FBC-BAA0-25A2690D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0318B-1CA6-4412-B809-7422858B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FF001-9E95-477A-A893-946951A3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91892-6457-48AE-967C-1D46192A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4A716-A853-45BC-8D60-9A667538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C8AF7-4EB1-45E3-B41E-97E94C92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118E2-E6A2-40BD-A5B4-D7DF36AE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E81C0-0D52-4613-B436-6CC09EF5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0976A-95BF-4196-80FD-1513C4BC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71C63-C6C7-4086-8BD7-A53E7CF6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10F88-77FC-46C5-8A91-B4128FB0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822F-20A5-43B7-85C0-38C507EA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BAE9B-7EA5-414E-9F0E-263868C2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D5879-E6AB-44A4-B071-E282FE06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74757-DE24-4993-BFCB-DD31F249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9628A-163C-461E-B68D-CD30F991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7675F-6054-4A61-AC98-8E3EF75E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D4425-C5D7-4F8A-8D88-A2FA4264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B109B-EFD5-433B-9655-FF3A48EF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E9471-B565-4ED2-8A7D-7C73B49F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63296-FCE0-4497-BF48-206D11ED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F7F46-96FD-4B28-A40B-CEA13D89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829D-BDA1-4D54-BFAD-4FFACFF0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E98B8-B72C-4854-AB4B-3F5515BB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F985B-A45D-4893-82B0-CE49A9EE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EE0A7-4EDB-43F4-AD43-BBAC5745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090BD-0F0B-4598-B993-EED246AB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2E8BC-A44F-4FB3-BC3C-8FDAD0ED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CD368-C013-471A-B427-1B3F8FF9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B57D08-1BF3-46A1-A33E-136375E2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7935-6D7A-44C4-8AA4-BAD30026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6100-9FE7-4EFA-8075-3A9603D2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8A41-CAEC-470F-8316-4A811D7C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B6B3-E171-46F3-BBFA-8989A051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2E9-C70B-41D7-8A64-C1F87236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5547-690D-40DA-B680-417F784D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7A0F-FC7D-4798-933D-D211CF91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C6EC-A960-407F-B145-38CFE26F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B6B9-7108-4656-9E90-4EE1B487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90AB-3629-4643-878E-A535384A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9B6DB-B692-427C-9208-199AF1FC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EB693-13F5-42D1-91EC-8E027464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7DC81-4157-408F-9A40-0CD89F81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41E9B-81D8-426C-A693-92A276CC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3D90C-D569-4407-93D6-058192BE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0C9-C89D-4704-85E8-DC13A267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7DF8A-7905-40D3-A8CA-67D34977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16B3C-09A6-4E95-9ADD-FAB7783B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4252D-C6C9-4D57-90B9-6385DB1A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A3EA8-74D7-4885-908B-7240E4BB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874CD-6C1C-4179-A1B2-6917E66D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313C-14DB-42FF-82B6-5C62BC76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254FA-B5B6-45C4-9D84-C579D1B44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EC6E1-9EEC-4BFB-974C-C8F62D71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3AEEC-C148-4DF1-9958-24450579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7C787-C73A-4FF5-8EBD-0EB8E258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E6A-1110-4309-9B9F-68E1F4DA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EFB84-79D9-41DD-A058-79981DFA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49666-55A1-4F22-9E00-42429C3C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2C119-D5F1-4C5B-9AA9-3F1B481E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E00DD-B624-4E99-A746-9AB9C3A2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A4223-0C8A-4CE4-914C-EEF62921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624D1-E30F-4FD6-859A-78DFDBAA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BB7B5-0946-403A-86C3-DD1B712A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DC9C2-4D96-4E2E-A46C-15171E39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E950B-B2E3-4A02-928C-E0FF32AD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0C0EB-0D5E-44B3-A687-5EEE86CE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252-EAA8-4844-8C52-ABFF2A79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B703B-AF4F-46C1-8FE5-3B145FE4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E742B-6480-4769-9207-B99688D4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5D890-8EBB-4D5D-9CE6-6530834E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71915-6421-4813-9F66-2D60EEDD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B6954-17FD-41D5-9A20-58998417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43FC6-D9C7-453E-84FF-3ECA122B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EE7E7-D947-48D6-A624-54C5A622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9BB23-364A-4645-A5D1-90267211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71035-FFDD-4CFE-8BF8-5D6A7001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DC66A-36B1-4EF7-AAC2-5B92EED4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906-CF19-4B6E-B0F2-07BAC6E5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E147D-D105-4708-923C-5335B991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18D39-B977-4D6C-9ED0-47B81B19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278F8-E4B3-4395-AADC-2FE43E12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F9D39-407A-4745-B958-B5B5CEF4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D7AB7-9BA5-4BA1-8FA2-FC82FD72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05D6C-58B0-4B00-84AA-C7C25363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3A08E-C9E5-493B-89CC-74AECCF9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2C63D-8BEC-4169-A9A7-F8369ABF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0F5EE-4E10-4F37-A387-E6E0E735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AC934-13CD-4598-9CDA-ADEE5754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EF8-2481-4F21-AC72-D0134737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445D1-2860-4C84-9F3E-487DCE2F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F99AA-E11A-478C-80A7-8CDFBBE6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3EAEF-B06B-420E-BDB7-68CC4697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46367-8DE6-4766-9DBB-25C5880E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1E69A-EA5F-45E9-B1C6-A43A12EC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8056E-73CF-4CD7-9863-E9012277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2F696-1A8D-46BB-AA46-965F46EE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BE988-C7B1-4F12-9EC7-A6B3CEEC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F98BD-D343-49F2-A445-02453472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EDD2C-9450-40B5-A955-A618647A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F1C-C53B-4FBA-A604-FFA47159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8DAF5-18F3-4B38-A899-410100C4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1891A-3389-4CE5-8DFA-EC13A4D7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557B9-6C09-420C-9753-4EC98E53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3D707-4CA1-4107-8C4C-1CA82A2E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F9139-79E7-4871-BA5F-81D841B3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06D01-154A-4B08-AF3F-78303651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DB5C6-F003-4EEE-B9B3-96A42734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B633F-87D4-4EC6-8809-FC22F760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78EE6-8B7A-4796-9F06-0D767108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A47BA-2755-48D7-BE26-312C523D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AE4-DEA7-404B-BEA9-01B953D8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9A104-FF8E-4D64-92D4-9A872A23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2D4CA-CAD5-4FB9-AB52-EADB5B8E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999F7-4F7E-4AF5-BB6F-B80B7DA3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A4230-F01B-47C6-8DF4-374A7B65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8CEC5-B95A-426D-A1CD-F11428CE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EF4C2-8846-445F-84ED-C68EDCAA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28D00-E0B1-4BA3-BEFC-0D8D80FF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EC2FB-A0AD-470A-B4EF-7E320D2B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E91F7-84B6-472E-BACD-B271236F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4EFF6-D66F-4001-A598-28981A7D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C72B-A6B3-47EF-91F0-2C2F8111D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F9A1-8447-4B1C-AFD8-E61EB869DF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C620-7DC0-4BB0-9ADB-46FA625ED0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D226-AC24-4C51-AF7C-AE1D9008B2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94EC-B1D2-4B06-80AF-63C113AB26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E885-CD16-4C4B-9226-B78E7369C5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12B8-DF83-4755-B0C4-A4B2EC909D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73AF-85BD-4A34-840C-0214E54AA1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46E0-C5F0-479F-BD80-8FE9F68EBA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6A58-8B8D-41AF-AC2E-CB00C6A2FA4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0A0B-0827-45D0-829E-F8F3CFE426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DB45-3299-49CC-985E-9E0377AD5F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1A74-A60F-466A-B4A2-08013583A8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466F-C8F8-48D1-A565-9770946A97C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B06C-8798-41AA-9D9E-5A7A8B1BE3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010A-FC24-4F55-AA95-53792A20A72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F7C7-9095-4783-8EB6-68F1885890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09F3-6303-4808-A4C8-838512C9848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1F76-85BE-4493-ACBE-ED2BD38EC5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1A89-006C-44DB-BE42-EB5A8195A40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4EA1-F7A7-4EA0-A2D4-DCAC3CC48C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50DF-62CE-4A15-A943-91D13BA00F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AF9C-558D-4EB4-9CE5-DAE41105BF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325C-5CC9-4167-9484-93E977B333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FFA3-418A-4C97-8F1E-00D862D50D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dianyingku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6115680" y="2438280"/>
            <a:ext cx="78984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苏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4"/>
          <p:cNvSpPr/>
          <p:nvPr/>
        </p:nvSpPr>
        <p:spPr>
          <a:xfrm>
            <a:off x="609480" y="609480"/>
            <a:ext cx="5562720" cy="4724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6200280" y="907920"/>
            <a:ext cx="1826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念奴娇  赤壁怀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4"/>
          <p:cNvSpPr/>
          <p:nvPr/>
        </p:nvSpPr>
        <p:spPr>
          <a:xfrm>
            <a:off x="539640" y="105156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豪放派和婉约派是宋代词坛上的两大流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5"/>
          <p:cNvSpPr txBox="1"/>
          <p:nvPr/>
        </p:nvSpPr>
        <p:spPr>
          <a:xfrm>
            <a:off x="468360" y="0"/>
            <a:ext cx="1368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宋体"/>
              </a:rPr>
              <a:t>比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539640" y="170028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豪放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品气势豪放，意境雄浑，充满豪情壮志，多给人一种积极向上的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代表词人以苏轼、辛弃疾为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611280" y="335448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婉约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品语言清丽、含蓄，表达的感情婉转缠绵，情调或轻松活泼，或离愁别绪，或深沉幽怨，刻工精细，题材较狭窄，多是写个人遭遇，男女恋情，也间有写山水，融情于景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代表词人有柳永、秦观、李清照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3"/>
          <p:cNvSpPr/>
          <p:nvPr/>
        </p:nvSpPr>
        <p:spPr>
          <a:xfrm>
            <a:off x="611280" y="191628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：都是苏轼被贬黄州时所作，同是以赤壁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，通过描写赤壁景色，来缅怀和赤壁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的历史人物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1833480" y="836640"/>
            <a:ext cx="52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念奴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赤壁怀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赤壁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4093200" y="3645000"/>
            <a:ext cx="1622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写赤壁景，但景色迥然不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写有关赤壁的历史人物，但人物成败不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抒怀，感情基调又各不相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3" descr="苏东坡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5"/>
          <p:cNvSpPr/>
          <p:nvPr/>
        </p:nvSpPr>
        <p:spPr>
          <a:xfrm>
            <a:off x="5435640" y="76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苏   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4643280" y="1844640"/>
            <a:ext cx="450072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乌台诗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唐宋八大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苏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豪放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书法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苏黄米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黄庭坚、米芾、蔡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chibi_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2" name="zmj-9781-21123.mp3" descr=""/>
          <p:cNvPicPr/>
          <p:nvPr/>
        </p:nvPicPr>
        <p:blipFill>
          <a:blip r:embed="rId3"/>
          <a:stretch/>
        </p:blipFill>
        <p:spPr>
          <a:xfrm>
            <a:off x="75564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99280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Oval 4"/>
          <p:cNvSpPr/>
          <p:nvPr/>
        </p:nvSpPr>
        <p:spPr>
          <a:xfrm>
            <a:off x="4191120" y="1231920"/>
            <a:ext cx="4952880" cy="4392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395280" y="1819440"/>
            <a:ext cx="4176720" cy="30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ecff"/>
                </a:solidFill>
                <a:latin typeface="Arial"/>
                <a:ea typeface="隶书"/>
              </a:rPr>
              <a:t>整体感知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ecff"/>
                </a:solidFill>
                <a:latin typeface="Arial"/>
                <a:ea typeface="隶书"/>
              </a:rPr>
              <a:t>      </a:t>
            </a:r>
            <a:r>
              <a:rPr b="1" lang="zh-CN" sz="4800" spc="-1" strike="noStrike">
                <a:solidFill>
                  <a:srgbClr val="ccecff"/>
                </a:solidFill>
                <a:latin typeface="Arial"/>
                <a:ea typeface="隶书"/>
              </a:rPr>
              <a:t>谈谈初读感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ec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3"/>
          <p:cNvSpPr/>
          <p:nvPr/>
        </p:nvSpPr>
        <p:spPr>
          <a:xfrm>
            <a:off x="611280" y="1484280"/>
            <a:ext cx="4895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阕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绘赤壁的景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周瑜的丰功伟绩和词人的感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5" descr="图片8"/>
          <p:cNvPicPr/>
          <p:nvPr/>
        </p:nvPicPr>
        <p:blipFill>
          <a:blip r:embed="rId2"/>
          <a:stretch/>
        </p:blipFill>
        <p:spPr>
          <a:xfrm>
            <a:off x="5489640" y="82440"/>
            <a:ext cx="3475080" cy="6370920"/>
          </a:xfrm>
          <a:prstGeom prst="rect">
            <a:avLst/>
          </a:prstGeom>
          <a:ln w="0">
            <a:noFill/>
          </a:ln>
        </p:spPr>
      </p:pic>
      <p:sp>
        <p:nvSpPr>
          <p:cNvPr id="548" name="WordArt 6"/>
          <p:cNvSpPr txBox="1"/>
          <p:nvPr/>
        </p:nvSpPr>
        <p:spPr>
          <a:xfrm>
            <a:off x="539640" y="333360"/>
            <a:ext cx="2016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宋体"/>
              </a:rPr>
              <a:t>整体感知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7"/>
          <p:cNvSpPr/>
          <p:nvPr/>
        </p:nvSpPr>
        <p:spPr>
          <a:xfrm>
            <a:off x="1187280" y="549360"/>
            <a:ext cx="40388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龄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婚姻：小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表：英俊儒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职位：东吴都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际遇：功成名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4643280" y="2708280"/>
            <a:ext cx="3505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苏轼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龄：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婚姻：不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外表：早生华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职位：团练副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际遇：功业未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4984200" y="9079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新宋体"/>
              </a:rPr>
              <a:t>个人档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324000" y="692280"/>
            <a:ext cx="49323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生如梦，一尊还酹江月”作者是一味的消极吗？将“酹江月”理解成借酒浇愁，你同意吗？如果不同意，能说说自己的理由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474200" y="4692600"/>
            <a:ext cx="21009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精神情感的自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洒脱旷达的情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8" descr="图片8"/>
          <p:cNvPicPr/>
          <p:nvPr/>
        </p:nvPicPr>
        <p:blipFill>
          <a:blip r:embed="rId2"/>
          <a:stretch/>
        </p:blipFill>
        <p:spPr>
          <a:xfrm>
            <a:off x="5489640" y="82440"/>
            <a:ext cx="3475080" cy="637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3"/>
          <p:cNvSpPr/>
          <p:nvPr/>
        </p:nvSpPr>
        <p:spPr>
          <a:xfrm>
            <a:off x="611280" y="1484280"/>
            <a:ext cx="540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容：写景、咏史、抒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调：昂扬、豪迈、苍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4" descr="图片8"/>
          <p:cNvPicPr/>
          <p:nvPr/>
        </p:nvPicPr>
        <p:blipFill>
          <a:blip r:embed="rId2"/>
          <a:stretch/>
        </p:blipFill>
        <p:spPr>
          <a:xfrm>
            <a:off x="5489640" y="82440"/>
            <a:ext cx="3475080" cy="6370920"/>
          </a:xfrm>
          <a:prstGeom prst="rect">
            <a:avLst/>
          </a:prstGeom>
          <a:ln w="0">
            <a:noFill/>
          </a:ln>
        </p:spPr>
      </p:pic>
      <p:sp>
        <p:nvSpPr>
          <p:cNvPr id="559" name="WordArt 5"/>
          <p:cNvSpPr txBox="1"/>
          <p:nvPr/>
        </p:nvSpPr>
        <p:spPr>
          <a:xfrm>
            <a:off x="539640" y="333360"/>
            <a:ext cx="2016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宋体"/>
              </a:rPr>
              <a:t>总结全文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3"/>
          <p:cNvSpPr/>
          <p:nvPr/>
        </p:nvSpPr>
        <p:spPr>
          <a:xfrm>
            <a:off x="611280" y="69228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寒蝉凄切，对长亭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骤雨初歇。都门帐饮无绪，留恋处，兰舟催发。执手相看泪眼，竟无语凝噎。 念去去千里烟波，暮霭沉沉楚天阔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多情自古伤离别，更那堪冷落清秋节。今宵酒醒何处，杨柳岸晓风残月。此去经年，应是良辰好景虚设。便纵有千种风情，更与何人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柳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雨霖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8:37:13Z</dcterms:created>
  <dc:creator>Billgates</dc:creator>
  <dc:description/>
  <dc:language>en-US</dc:language>
  <cp:lastModifiedBy>a</cp:lastModifiedBy>
  <dcterms:modified xsi:type="dcterms:W3CDTF">2015-03-17T07:13:03Z</dcterms:modified>
  <cp:revision>54</cp:revision>
  <dc:subject/>
  <dc:title>幻灯片 1</dc:title>
</cp:coreProperties>
</file>