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571-D011-4242-A08A-C909276B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B34-EEF1-43A3-9950-7B39ED2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C5F8-583D-4A6A-9FB2-64E5631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4839-2F3A-43FB-A1EC-6F8AC425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5BB05-1F8A-4A48-A449-74B8517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A255-0C6C-43A4-A01F-5BD40AF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6736B-AAEC-43E5-8CC3-771358D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A435D-03F6-46B2-80FC-F139F72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C7F19-9490-47D5-8A37-5279A5F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E261B-82C2-4183-AF6C-C2181CF5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3E132-E428-4D47-B0F4-04F4AE11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C2952-F759-47C7-9A98-4C6AD829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6A8-24F6-42DD-8FBB-CCB5B6A3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96446-0A6C-4791-9665-4FAEDDE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79398-FC9F-4969-A91A-1B9D0BDF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64AE-DF34-4A05-8285-6C30CEF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EAFEE-5613-477B-A0B9-857D3BAA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BDFA7-3A2D-4755-8B9C-4306362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182F-5771-4D51-BD95-381754E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A200-B04B-4DC4-8B6B-91E8FFC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F9172-6D1F-4DF9-823D-4624F67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02E3A-C883-4A87-831E-ECBB21B4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0437C-2260-4F4C-92B7-1161BAE6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F5C-DB76-4889-A36A-F6E8196F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8A762-2D68-433E-8CA7-56A6C8D1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2530-A91B-4C70-9F41-5C2779FA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CB5F7-F562-4CE6-B782-E42F630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1E22-8D1B-49CE-87E1-C1C0813E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F9F6C-D74B-4898-89C8-73A47E6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2B3A-BE92-4B0B-A141-EB34B523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1761-F09B-46BF-85D1-396EEC7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BD1F-9107-4F66-A274-9A51C7A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FFFA-CCD1-4B41-A6CB-28E6F30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F84EF-2456-4EE0-BD96-41BEBB3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5231-82E6-4705-A57F-A82551E6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48169-BF07-4377-864E-AFCBD03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94D96-C5CF-49E1-A9F4-87B5A89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B1DEC-6ADA-445F-AF4D-0AEF8A7D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F99EA-BD43-4BDC-B8C7-A8DB6FAD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8B1A5-B3EE-434B-889A-D7E85F8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7B0CF-C7C1-4928-BFF9-3B184EEA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0BEC6-791B-454F-99B1-76B350B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213D-1638-4D50-B4AC-A8A58D8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3AE9B-0C12-449D-B780-2B0955C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E444E-7D70-4B6B-B6B3-B571A0F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FB0-033C-4EC2-B7DE-9D3650C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32021-6FF2-491A-A322-3F37DA6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1E6F-C4E0-4639-83BB-097A898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F567-AA69-4B44-8916-EE3BAC1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AFC38-3F14-4617-8847-BAAA014D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5CE6D-97DA-401F-804A-3B7A80B1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E4AEB-2E4B-4284-8AEF-62CAD648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875B6-BDFC-43C3-BE35-9A8BBB5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8E502-F0D4-4949-A7BB-6134331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D5243-A499-4B3F-9ABE-AE987C4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71F05-CC39-4D91-8F41-67D9539A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8D0-C95A-4C2C-85C4-0386380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ABD38-E9CC-4FBA-BE01-3688E0F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3EEB7-6B82-4B7D-BE1D-02F0966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3C8EC-BD81-4F91-9AD7-0042C54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AABF3-1CD7-4889-8224-23D7B0F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85631-5A0B-48CC-B3AB-239D288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81463-663F-4F0F-8488-FC3D35B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3F678-52D2-420F-8F55-C2B1CC66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15D-936B-46C9-BCC5-947B433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7B46-53DD-4273-B9E5-698B898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407A-95B2-457F-A6BF-3157FD3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D4F1-A4CE-4663-89FF-435991B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6F4-BE83-4DE1-8012-C413199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B47-028F-468D-9434-B2377FA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102-E929-4556-A807-0FCD415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CBB-B38B-46DF-99B6-B94FBF37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22AD-5EE1-4734-9C21-EC9A18E5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2D14-E79E-4AE6-B258-F79B2685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417E-08E0-44FC-B044-E1217FC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5F0D-149A-478D-A9FB-2B02E87B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0AF4-F41A-48BC-B651-5277F55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DEB6-B648-4E7A-8D15-65D6B18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ADC7-D83E-47ED-BE14-A7A598A0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D1C-C772-4FD6-AA27-04C10C9E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0618-1D75-4303-A004-1604BB87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BE09-762A-4148-BBCF-2236EA0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02BF-6E30-494C-B145-6718C7A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9A82-A098-44D5-83A3-75A6E2AE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2106-D38E-4125-906C-E38FBDC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7D22-C653-4B94-A911-DDBA1D8B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90D2-88FF-4D82-B1C1-C6062282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7382-DDC9-4784-9A5D-FC6AC1FD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F069-8298-42F5-B6CA-9DDFFA5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41DA-2D82-4B2D-AB47-8CB7C7C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149-615B-4D68-83CC-0E44417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B8FC-E13E-4928-BBBB-E613AF9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B680-5B49-4B86-90EA-D6F5F395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F3D6-7A71-4D95-B0D3-341F59F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9A52-2988-4A6B-B51E-DF12EED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6542-BAD6-40CE-A0D1-C92CA73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2647-1777-4C40-82B0-D5E54D7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17CB-C196-46A7-8DBB-03D2F26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AC6E-53BA-465B-9686-07EEFC4D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6981-3C67-49CB-AA0F-6B53108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7F59-6282-49CF-A8D0-536CBC79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257-0030-4729-87E9-057C3C75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10CB-7DE8-414F-BA49-F129E69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CA57-766B-4265-9E12-4E67161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5744-8E22-40AE-92A5-A7249B7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D266-28B6-4702-BBC8-92A8D50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8CD9-57CD-432C-BAE7-01665FB6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DE6B-4376-4326-801B-CDC5E34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3F81-2606-4B8E-8465-C2A101E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2FFA-8BDB-467D-B92C-4436313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64875-DAF7-4059-A66E-F6F7FC6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4F45-2372-41B2-86EA-B96F2938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016-F424-49F2-8D07-8FDFA86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CE22-3C37-4706-9B5E-8998D405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0560-988A-415C-A4F2-809219F3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B7F2-F8AC-4E8A-8113-7C5BF67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C40D-9791-41B1-AAD5-6F5F1CC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F35F-2FFE-4574-B092-B3E58332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9FAD-2AFA-44F7-84A8-26C1E4A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BD56C-54AD-4B03-A6A4-05756479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47AD-0C28-4016-8637-94DAAEAC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D7C5-EDEC-473A-9F06-0A9268E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31332-0C77-41CF-AAF5-91DF53F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D8C-ADF9-4AF5-B503-4C8B0A7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6359-B954-42E9-B7BF-A20CAD1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26DB-F308-4D24-9ECC-CDD45A0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BD12-72AE-41EB-9F7C-562847D8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B8F2-D24F-41E2-92ED-078545A8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979FC-873F-44CA-AB34-712326AE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C457F-E813-473D-98BB-25110FA1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513D-490F-4037-AEB2-657BFC81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5DFD-3971-4D99-9384-E433B02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F37E-1B48-46BF-B0F2-B3F5D35F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FA0C7-792C-4B81-AFD9-8B9B72F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105-2630-4B75-888F-89B0EF3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F69B1-F08C-4088-8430-77740EB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F08E-DC3C-42A0-91CE-EB1184B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1ACBF-DAEC-4CCC-B58B-FA385A7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3402F-4D7C-4454-8563-F19B8384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69C6-9157-49DE-A554-BA24122B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287F-B162-4EAC-B78B-BA177EF1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322DA-150F-4BD6-94D1-0E5F1835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059E1-834C-4928-AE2A-89FDCA68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43B8-43C0-4D69-8823-05C5C9F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D551-758D-4C5C-86D8-3989B005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9D1-E989-46CB-8C64-95DDAF3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2F62-154D-4DFD-90CF-BF98DD80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11468-1677-42CA-BD1F-8C4D55D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ED29-24CC-4162-84B2-A6CADD5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0C01-1B01-4AD2-AB1C-083465A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B619-0FFE-470D-AFDA-A052434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FDBB-BCE4-4BCF-BE2C-D3F6E846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8671-0939-4A18-9B31-79FDB1C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45B09-BE39-4F66-A58E-2F8AA8F7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842E-0F83-43A8-BCCD-1186EDB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65C85-AFE5-4E3B-BD0C-FFB1AF45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A09-CF7D-4D46-AF7D-A7032AFA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4B0-1431-44C0-8FDE-E7626007B9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DCA-9349-4885-8B4A-68B5B46009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1A2A-5630-42E9-B20F-4AA2DFDA49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ECF-5DDD-41FD-9420-1379D5549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895A-A2C4-4544-8246-2C83C893C7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EFB-AA41-431D-929F-83625763A2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484B-E094-44E1-8958-B0736DCFA2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E83-FD96-4DA7-A20E-639D34B6B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417-99C1-48B2-A55A-594DA4FD0B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4D8A-5E17-4C7B-BEC7-4F66AC022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2E33-D7BD-4ACA-9DD6-919B54F0C7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CD0-F8E3-48B6-9480-65A83E220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429-661C-4327-B212-38CD3E9F86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CDD0-6F97-4BFC-834A-CC1FB23682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CF1C-747F-4FE2-BE68-D7AAB00EBB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9E5B-A591-4342-BDA9-674CC75B9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489-7FDB-4F9F-84B7-91675E7468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B85-CB1D-4198-90B1-B14C7936D2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707-BC89-48F6-AB7C-578D3E1470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8724-FDBA-46A3-BA08-24B1C5269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B3E-4E90-445C-9D40-B53DBFBB86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135-4547-4ABA-9105-9443851F9E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4141-9877-4682-BC7B-AD9610D306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3E3-ED8C-4336-9868-F06859423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143092337_c6c9151cc8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9"/>
          <p:cNvSpPr/>
          <p:nvPr/>
        </p:nvSpPr>
        <p:spPr>
          <a:xfrm>
            <a:off x="1392120" y="549360"/>
            <a:ext cx="539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幼圆"/>
                <a:ea typeface="幼圆"/>
              </a:rPr>
              <a:t>26.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那片绿绿的爬山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6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虽然未见叶老先生的面，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却从他的批改中感受到他的认真、平和以及温暖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如春风拂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301400" y="4221000"/>
            <a:ext cx="583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拂”，轻轻擦过，“春风拂面”指像春风一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脸上轻轻擦过，形容使人感到非常愉快、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服。作者运用这个比喻，更形象地表达出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叶老的感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683532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BJ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826920" y="765000"/>
            <a:ext cx="744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看一看，议一议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看了叶老的修改你有什么感想？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2002101111573210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6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在哪里见到了爬山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哪些地方描写了爬山虎？能找出来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刚进里院，一墙绿葱葱的爬山虎扑入眼帘，使得夏日的燥热一下子减少了许多，阳光都变成绿色的，像温柔的小精灵一样在上面跳跃着，闪烁着迷离的光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我一眼又望见院里那一墙爬山虎，黄昏中绿得沉郁，如同一片浓浓的湖水，映在客厅的玻璃窗上，不停地摇曳着，显得虎虎有生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刚进里院，一墙绿葱葱的爬山虎扑入眼帘，使得夏日的燥热一下子减少了许多，阳光都变成绿色的，像温柔的小精灵一样在上面跳跃着，闪烁着迷离的光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我一眼又望见院里那一墙爬山虎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黄昏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中绿得沉郁，如同一片浓浓的湖水，映在客厅的玻璃窗上，不停地摇曳着，显得虎虎有生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刚进里院，一墙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</a:rPr>
              <a:t>绿葱葱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的爬山虎扑入眼帘，使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夏日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的燥热一下子减少了许多，阳光都变成绿色的，像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</a:rPr>
              <a:t>温柔的小精灵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一样在上面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</a:rPr>
              <a:t>跳跃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着，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</a:rPr>
              <a:t>闪烁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着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</a:rPr>
              <a:t>迷离的光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我一眼又望见院里那一墙爬山虎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黄昏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中绿得</a:t>
            </a:r>
            <a:r>
              <a:rPr b="1" lang="zh-CN" sz="3200" spc="-1" strike="noStrike" u="sng">
                <a:solidFill>
                  <a:srgbClr val="0066cc"/>
                </a:solidFill>
                <a:uFillTx/>
                <a:latin typeface="Times New Roman"/>
              </a:rPr>
              <a:t>沉郁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，如同一片</a:t>
            </a:r>
            <a:r>
              <a:rPr b="1" lang="zh-CN" sz="3200" spc="-1" strike="noStrike" u="sng">
                <a:solidFill>
                  <a:srgbClr val="0066cc"/>
                </a:solidFill>
                <a:uFillTx/>
                <a:latin typeface="Times New Roman"/>
              </a:rPr>
              <a:t>浓浓的湖水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，映在客厅的玻璃窗上，不停地</a:t>
            </a:r>
            <a:r>
              <a:rPr b="1" lang="zh-CN" sz="3200" spc="-1" strike="noStrike" u="sng">
                <a:solidFill>
                  <a:srgbClr val="0066cc"/>
                </a:solidFill>
                <a:uFillTx/>
                <a:latin typeface="Times New Roman"/>
              </a:rPr>
              <a:t>摇曳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着，显得</a:t>
            </a:r>
            <a:r>
              <a:rPr b="1" lang="zh-CN" sz="3200" spc="-1" strike="noStrike" u="sng">
                <a:solidFill>
                  <a:srgbClr val="0066cc"/>
                </a:solidFill>
                <a:uFillTx/>
                <a:latin typeface="Times New Roman"/>
              </a:rPr>
              <a:t>虎虎有生气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2002101111573210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0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任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写了几件有关叶老先生的事？什么事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从哪些句子看出叶老先生人格的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虽然未见叶老先生的面，却从他的批改中感受到他的认真、平和以及温暖，如春风拂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虽然未见叶老先生的面，却从他的批改中感受到他的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认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平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及温暖，如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春风拂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感到意外：像叶老先生那样的大作家，居然要见一个初中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叶老先生见了我，像会见大人一样同我握了握手，一下子让我觉得距离缩短了不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20066201146266117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感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意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像叶老先生那样的大作家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居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见一个初中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叶老先生见了我，像会见大人一样同我握了握手，一下子让我觉得距离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缩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不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我们的交谈很融洽，仿佛我不是小孩，而是大人，一个他的老朋友。他亲切之中蕴含的认真，质朴之中包容的期待，把我小小的心融化了，以至不知黄昏什么时候到来，悄悄将落日的余晖染红窗棂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我们的交谈很融洽，仿佛我不是小孩，而是大人，一个他的老朋友。他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亲切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蕴含的认真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质朴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包容的期待，把我小小的心融化了，以至不知黄昏什么时候到来，悄悄将落日的余晖染红窗棂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我们的交谈很融洽，仿佛我不是小孩，而是大人，一个他的老朋友。他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亲切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蕴含的认真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质朴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包容的期待，把我小小的心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融化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了，以至不知黄昏什么时候到来，悄悄将落日的余晖染红窗棂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我们的交谈很融洽，仿佛我不是小孩，而是大人，一个他的老朋友。他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亲切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蕴含的认真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质朴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之中包容的期待，把我小小的心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融化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了，以至不知黄昏什么时候到来，悄悄将</a:t>
            </a:r>
            <a:r>
              <a:rPr b="0" lang="zh-CN" sz="3600" spc="-1" strike="noStrike" u="sng">
                <a:solidFill>
                  <a:srgbClr val="cc00cc"/>
                </a:solidFill>
                <a:uFillTx/>
                <a:latin typeface="Times New Roman"/>
              </a:rPr>
              <a:t>落日的余晖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染红</a:t>
            </a:r>
            <a:r>
              <a:rPr b="0" lang="zh-CN" sz="3600" spc="-1" strike="noStrike" u="sng">
                <a:solidFill>
                  <a:srgbClr val="cc00cc"/>
                </a:solidFill>
                <a:uFillTx/>
                <a:latin typeface="Times New Roman"/>
              </a:rPr>
              <a:t>窗棂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056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1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非常庆幸，自己第一次见到作家，竟是这样一位人品与作品都堪称楷模的大作家。他跟我的谈话，让我好像知道了或者模模糊糊的懂得了：作家就是这样做的，作家的作品就是这么写的。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那个夏天意义非凡。在我的眼前，那片爬山虎总是那么绿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056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1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非常庆幸，自己第一次见到作家，竟是这样一位人品与作品都堪称楷模的大作家。他跟我的谈话，让我好像知道了或者模模糊糊的懂得了：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作家就是这样做的，作家的作品就是这么写的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那个夏天意义非凡。在我的眼前，那片爬山虎总是那么绿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056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1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非常庆幸，自己第一次见到作家，竟是这样一位人品与作品都堪称楷模的大作家。他跟我的谈话，让我好像知道了或者模模糊糊的懂得了：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作家就是这样做的，作家的作品就是这么写的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那个夏天意义非凡。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在我的眼前，那片爬山虎总是那么绿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4" descr="WH15C_pashanhu9050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7"/>
          <p:cNvSpPr/>
          <p:nvPr/>
        </p:nvSpPr>
        <p:spPr>
          <a:xfrm>
            <a:off x="324000" y="6602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为什么以“那片绿绿的爬山虎”为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250920" y="21668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因为在叶老家做客见到那片爬山虎，叶老教导我懂得了应该怎样做人、怎样作文。时间过去近三十年了，但当时情景如在眼前，一想起叶老，就仿佛又看到那片绿绿的爬山虎，所以此为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WH15C_pashanhu9050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40654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叶圣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186080" y="17208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404820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09860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进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4182120" y="551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194000" y="33559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板书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pashan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叶圣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894-1988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作家、儿童文学作家、教育家。江苏苏州人。原名叶绍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字圣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笔名有叶匋、 圣陶、桂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yeshengtao2"/>
          <p:cNvPicPr/>
          <p:nvPr/>
        </p:nvPicPr>
        <p:blipFill>
          <a:blip r:embed="rId1"/>
          <a:stretch/>
        </p:blipFill>
        <p:spPr>
          <a:xfrm>
            <a:off x="3203640" y="260280"/>
            <a:ext cx="27558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1219320" y="609480"/>
            <a:ext cx="6705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叶圣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国著名的教育家叶圣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894-198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名绍钧，江苏苏州人，著名作家、教育家，父亲在地主家做账房，家境清苦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0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考入草桥中学，毕业后在一个初等小学当教员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被排挤出学校，闲居期间作文言小说发表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礼拜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杂志上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秋到上海商务印书馆附设的尚公学校教国文，并为商务印书馆编小学国文课本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应聘到吴县甪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里县立第五高等小学任教，他称甪里为自己的第二故乡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与沈雁冰、郑振铎等人发起组织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学研究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曾与夏丏尊合作出版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阅读与写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讲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解放后，历任出版总署副署长、人民教育出版社社长、教部副部长等职，并当选为第五届全国人大常委，第五届全国政协常委和民进中央主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98004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3"/>
          <p:cNvSpPr/>
          <p:nvPr/>
        </p:nvSpPr>
        <p:spPr>
          <a:xfrm>
            <a:off x="1066680" y="609480"/>
            <a:ext cx="7010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肖复兴，北京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8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毕业于中央戏剧学院。现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民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杂志社副主编。已出版长篇小说、中短篇小说集、报告文学集、散文随笔集和理论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余部。曾有长篇小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三部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早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女中学生的日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回旋曲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报告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对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通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近著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的隔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聆听与吟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浪漫的丧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纸的生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遥远的含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曾经获得过全国以及北京上海优秀文学奖多种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获首届冰心散文奖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那片绿绿的爬山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向往奥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荔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银色的心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寻找贝多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篇入选大中小学课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7"/>
          <p:cNvSpPr/>
          <p:nvPr/>
        </p:nvSpPr>
        <p:spPr>
          <a:xfrm>
            <a:off x="1848600" y="620640"/>
            <a:ext cx="4707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叶圣陶先生是怎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修改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我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”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的作文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请同学们速读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小节。</a:t>
            </a:r>
            <a:r>
              <a:rPr b="0" lang="zh-CN" sz="4400" spc="-1" strike="noStrike">
                <a:solidFill>
                  <a:srgbClr val="9933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1842120" y="836640"/>
            <a:ext cx="538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者当初刚看到这份修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稿时，有什么反应呢？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690960" y="5516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使得句子干净了也规范了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1095480" y="28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2301480" y="2360520"/>
            <a:ext cx="465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干净”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，在这里指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简洁明白，不啰嗦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规范”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，指语言标准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典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3:37:10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10T02:25:01Z</dcterms:modified>
  <cp:revision>23</cp:revision>
  <dc:subject/>
  <dc:title>第一PPT模板网-WWW.1PPT.COM</dc:title>
</cp:coreProperties>
</file>