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2CD-7D8D-456D-8938-847F1E07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C4D-3EB8-409C-B08D-68067330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46A03-DB7F-491A-AB24-8018E9D4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B2C94-47B8-4B53-B589-DAC14455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7971D-8213-4253-950C-8A3762D8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C0983-565B-42B8-9880-B1927D67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1ED0B-A714-4F85-9805-DB203F8E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73A51-DC62-4C65-B12A-1D42C644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74D0D-697A-4EE3-A674-566B7C9D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1F969-882D-4B4B-8EE7-EF7A1733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ED0F5-5B75-4CA8-85A5-D4BE352B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2D1FD-3D45-44EB-8670-B33EE9F4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1ED-ED43-4415-BCE0-C1B35E91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8D937-15E2-41FD-BB05-25F168BF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A96F4-726D-456F-A168-38FB1876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E8B50-35C9-4E2D-8851-1077C526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B6891-CD84-4DE7-B3FF-B3FDDB2A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CD448-CC95-47EA-B5E5-59C084DE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4BA98-0E7F-455A-9619-12C90BAE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FAB0C-75DD-4A4F-B367-509BD34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23A25-D38A-4EAE-8F9C-02ED9B77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8116B-93E9-478B-9A36-7267D172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32CD0-53A8-4532-A291-EF2A8922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561-892C-429B-A0A6-00F50C12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C51B8-D415-4109-A94E-FC6087ED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95AB2-0FCE-4A58-B833-5756DA44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EB4EF-4C57-4F34-BD79-EEDBBEF7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DA3A8-ABD9-44DA-84D7-764C01D6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78D04-A0F0-454E-ABC2-2DAB6121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559B6-9CAA-452A-8C1C-3805FF6B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3DE9B-4C15-4680-8027-828CB61A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57B95-C430-43E2-A56E-F157BE92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FDA85-8C53-43DF-B1EB-0FBD0175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A5335-F171-4203-93D3-B1E625AB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DFC2-9986-496F-ABDA-9BB39A03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44D1C-493F-4294-8714-19F79960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DFB07-1316-41A3-BCB3-0D999F4F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49379-3D0D-4720-BA0F-197A26F7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5D3C7-C0FB-48E0-AD9D-71A5D52D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C2A6B-F184-485A-BB8D-23705CB5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90942-7D1B-4007-8DFB-FCC4F2B4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CD981-B1C2-4012-B22A-8966E21A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ED4C8-FEBF-4F40-BD33-E5136AEC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8C4C1-8F6C-4EDD-9BC4-8DE8B042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4FADC-313A-4695-AA8D-6D968E5F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8E45-5BFD-4EEC-A915-B0061EA6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AEBF9-5CB9-40AA-9982-A2CF0812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5B0AD-5220-4139-A8BA-443182A6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C11E0-99F0-42E7-BB20-5058B42E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9495E-ED40-45C8-A1B8-66916700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E6E79-9047-4C88-9980-B2F08D29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D3A3A-23DE-4663-918C-9BDF1A76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20941-D662-49A5-B269-5CC4218F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ABD18-F611-4664-9630-E783A14F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4C265-684B-452B-BA5B-3B49CC00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77792-3D0C-4DFA-82F7-BEE1E3DD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0056-1665-43A6-91EC-D7370094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E61D9-9666-4666-BA11-B6A0C741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93978-77BA-40D3-B1D3-04656108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E9C72-DC4F-4E72-AF85-C2D5EED3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C62A8-0AB5-4C68-9400-F03E03B4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C63CC-0BDC-45E8-A84F-1D934A36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1FE54-05BF-4789-9202-21C1862F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8BAB2-827C-403D-8A97-419651B9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28EE-D48D-4A63-BF98-DDEA81F8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0D98-4044-4343-973E-162D1FED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5D95-E769-4D21-9904-3C2FCF45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959B-E95F-4EA7-9C2F-DB6B65C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3BD-2F3E-48A0-88AB-DAD4745C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2DEF-4273-4DA4-8AA4-59E8FF98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83C5-6BEA-4F46-9003-A8BB554B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06EC-3335-47EE-B3A0-7BBF6F7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C29D-2E4F-4239-89D1-710FBA46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6B9D-68B7-4E67-8C2B-62E48E8E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F6B0-DD65-4BA2-BB6E-A714F9CE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2D68-BB34-4DCA-BC74-DA6C5B55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EFD6-0287-4C81-8018-8EE2DE83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6A02-AF4B-4222-919E-902F3679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D2E4-A007-4BB5-B36A-B3DDA4D7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CC5-DF98-4347-AEB4-95232F42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AA6A-08CE-4F30-9CBA-355D732B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6FC3-A2EA-4372-A065-B5E2E93C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6BC2-2C84-4B2B-A32B-8C303516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06B0-B73D-4D42-A1D7-49289E23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65F84-6CEA-4C8A-A128-0D4CBCC3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85CC-034D-49DE-BAFE-63D37AF3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ED41-A476-443C-A0E3-851B88E9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ACAA8-19A6-4E77-AD7F-74A4998A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188C-73EF-4FCB-AFE4-5E44B5A4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ED22-6836-4934-A9A1-48F23D36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B89-CB03-4404-A971-FC127B40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4EE90-4B7A-4754-8B46-1C57C4A2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7279E-63DE-41F5-901A-218F2A23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68B6C-4257-46A0-AE70-1A0D6F40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0EFB-1F87-4FBF-B401-A576A1AB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1F00-B005-4BD6-8CAF-1DD8014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C5E7-A8A5-4DD1-AFE7-BBA4ABAF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0471E-C8B8-4443-B826-A6380BE1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DD100-BF7D-4E10-8581-3CDF8EC7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3BE4-C624-4326-8D43-578B753A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BABC4-4609-4354-8399-236DF57B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FB7-DB15-4C35-A667-873F42F4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C5E99-1237-42E7-A14F-8A9E209B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B94F7-E469-4050-B405-ED81B3D3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D206E-8077-410B-9E0F-165A63E3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81CBA-7A4E-4388-96E6-8DA6D01C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950BE-0372-4BE6-9F96-92BAFA7B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F1736-6DEA-48B4-ADC2-52359312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144B-429E-435D-B782-BCD888C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00676-56EC-4A3E-BC5B-54FAE81A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8C641-1504-4138-9C77-9634CFC7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C9422-32D0-4900-A483-F8E60900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77A-A0F2-4105-81B3-139DAE1C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C736-3DEB-43ED-9A14-78EFAD10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26BCE-0B12-46B5-A1ED-0CF5E031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B49A4-8576-4E7B-B57B-2844F366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DF11-CA5C-42A0-AEC6-75B501AB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D25B7-3435-46B3-884A-85AEB342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3E3F3-38B7-47C6-A924-A986084C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E172-209B-46C7-884A-E9C4654B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A4134-64A4-4C6E-B644-21322799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E89A0-DD7E-4B7E-BF68-41E33FD7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C2818-E3E2-43D4-9C9E-CE0E54F1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F7C-A730-4899-8705-64EFF7A2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08CA9-1A5B-4B04-9C3A-EFF453B0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1BA03-190D-454F-8187-BD43C151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A6496-A0BB-4B33-ABA9-A8A72590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99746-F0BA-4C15-B5AA-495EFD48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17896-9F3A-4A7A-B550-32B6D306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81C49-BE7D-4F74-82FB-3664C31A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37E4E-CE30-4410-8661-654907B5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3EB64-F9D0-4B5E-9FC6-DF866931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F5E0C-1A29-40D0-AFA2-71E593B1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F06D5-9D39-4E77-B4BB-2EC10A3D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25B-B06D-47E8-A9F8-B7E65BCA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7E546-541F-4621-92D0-519D4960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4814-31F6-4ED8-B940-8F4DC9B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87850-904A-4544-9906-3690A202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25A5B-98C4-4D7C-A23F-A5CF030A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C0410-A164-4C01-93EB-BB3E06BC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E640B-9B21-455D-9D54-E3FA7F51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C093C-0E56-4784-8731-9B2C077C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C7216-C9F2-445D-ADA4-C2832B7A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C493F-5296-47D2-8CA1-A7DF23DF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B1AC4-5668-4FF0-B290-996C072C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9DB-84A4-4535-849C-DFD64E4B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A58E2-67A5-4AEB-88E6-C2CB3A4C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DCA9B-BD3E-49B3-936B-9A81CBB8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D76CA-3ED4-4F60-ACE3-60BCAC06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E4BA5-D5E9-46B9-9387-AFEE2503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F4B5E-A5E6-4D10-B34B-4A0703BE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661D1-3F44-495E-9657-96C750BF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B23C1-3BF1-44A7-A2CC-2A2DE317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4DD67-5D57-41B7-8529-ABF7849E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BC636-B9AE-4752-BC06-159383B2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29309-E890-41DE-A200-B98D1308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6531-3C9B-4BDE-907B-50B6D5927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7F38-BFF8-40F7-84BE-32F28AFEED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2FCF-7CEB-4153-91D3-42F542CB5C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E33F-36E6-4C83-A3EA-F37DB82055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92EF-4889-4D23-A6DE-B2B0F6ABA6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3BFA-3E44-4B78-8A76-6159A3614D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DF49-F038-4315-9EAD-AD87ECAE39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A512-872A-425D-9521-44C7E43C34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522B-F66C-4304-8C06-2A59D18D0B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9D68-0472-42CA-A6D6-A88AD2B956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2552-3A86-4ABC-9604-5FA7946876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CF56-8282-415B-9474-9B1B857BDD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6ABA-9027-4001-9DAA-F3B165E219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F0CD-15FC-4FDD-886F-40428C9BA3F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0794-CC4E-4F71-8CF6-F587741632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9FD7-0203-4069-81F6-1FCBBCAA7A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E889-DCC1-4375-B465-749453DD73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DDCB-260A-49B1-99FA-6BA750D0C3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0DB7-15F0-4028-8AD6-B1A3968C51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A928-08BB-4BC3-8AE4-37990A7C31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2710-8C10-4424-B477-E9D51C0BA0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EBF6-1C9A-4717-A27C-E29DA8FC3D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9EBE-AF2E-4965-B18F-F959A780FA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0B42-8BC6-45B0-9CC9-252811DC753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4AA-17E7-4E2D-8BAB-2555043BF6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C:\Documents and Settings\Owner\My Documents\刘淑华\未标题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创艺简隶书"/>
              </a:rPr>
              <a:t>人教版小学语文第三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2391480" y="22860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创艺简隶书"/>
              </a:rPr>
              <a:t>农业的变化真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WordArt 6"/>
          <p:cNvSpPr txBox="1"/>
          <p:nvPr/>
        </p:nvSpPr>
        <p:spPr>
          <a:xfrm>
            <a:off x="457200" y="838080"/>
            <a:ext cx="33526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读读记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66261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兴致勃勃      引人注目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科学技术      百花盛开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瓜果飘香      十分茁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4" descr="C:\Documents and Settings\Owner\My Documents\刘淑华\未标题-3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C:\Documents and Settings\Owner\My Documents\刘淑华\未标题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4" descr="C:\Documents and Settings\Owner\My Documents\刘淑华\未标题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C:\Documents and Settings\Owner\My Documents\刘淑华\未标题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C:\Documents and Settings\Owner\My Documents\刘淑华\未标题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4" descr="C:\Documents and Settings\Owner\My Documents\刘淑华\未标题-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C:\Documents and Settings\Owner\My Documents\My Pictures\TN_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WordArt 6"/>
          <p:cNvSpPr txBox="1"/>
          <p:nvPr/>
        </p:nvSpPr>
        <p:spPr>
          <a:xfrm>
            <a:off x="685800" y="1066680"/>
            <a:ext cx="2286000" cy="11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我会认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隶书"/>
              <a:ea typeface="华文隶书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2286000" y="236232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创艺简隶书"/>
              </a:rPr>
              <a:t>农    技   袁    隆   介    绍    培   育   产    棚    控    制   泥   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C:\Documents and Settings\Owner\My Documents\My Pictures\回3 拷贝.jpg"/>
          <p:cNvPicPr/>
          <p:nvPr/>
        </p:nvPicPr>
        <p:blipFill>
          <a:blip r:embed="rId1"/>
          <a:stretch/>
        </p:blipFill>
        <p:spPr>
          <a:xfrm>
            <a:off x="-304920" y="-343080"/>
            <a:ext cx="9753840" cy="7544160"/>
          </a:xfrm>
          <a:prstGeom prst="rect">
            <a:avLst/>
          </a:prstGeom>
          <a:ln w="0">
            <a:noFill/>
          </a:ln>
        </p:spPr>
      </p:pic>
      <p:sp>
        <p:nvSpPr>
          <p:cNvPr id="558" name="WordArt 6"/>
          <p:cNvSpPr txBox="1"/>
          <p:nvPr/>
        </p:nvSpPr>
        <p:spPr>
          <a:xfrm>
            <a:off x="228600" y="990720"/>
            <a:ext cx="228600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我会写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隶书"/>
              <a:ea typeface="华文隶书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纺织       科技     农业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介绍      工厂      产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07:22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09T02:21:50Z</dcterms:modified>
  <cp:revision>6</cp:revision>
  <dc:subject/>
  <dc:title>第一PPT模板网-WWW.1PPT.COM</dc:title>
</cp:coreProperties>
</file>