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6880-787A-41F7-A2B0-71C24255E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DD26-83A7-4170-8C00-8974C7EA0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FBFA6-07D5-4A1C-8F5F-3C5C8D63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C2C45-0B6B-4D6F-882F-E2F6A619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75861-FF5B-4340-9690-5CBCAE29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96B1E-98C9-4D31-B4BD-8BAF15FB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C8A1E-28B8-44B3-B938-E6664DE9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57890-F08D-45B7-B295-AC5C2121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8AF39-DA29-469A-B223-84577123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6631B-7C94-4C4C-AAE4-64E95018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6832E-84E7-402C-9C14-94CB5C64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C2971-EE33-4A47-9ECE-8E086C68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155C3-493D-4015-9204-87B11E2E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DAFD2-88BD-49CC-B581-E5B102AC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F1389-F1CB-4988-9B93-97CC9430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9A0E0-C495-453F-AED6-955C1055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89678-0AAF-4861-A780-4B07C31C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6ACC9-532D-4679-8BD2-625A50A6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C6CC6-693F-4CB3-9E0B-2977A5ED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572BD-4A05-492E-879B-C4DF48D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98C36-0A08-47DA-A14C-3A093229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1D665-CC82-45BA-96C4-39FA1ABA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8576B-4520-4081-892B-61A251CE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21A19-BAF1-4A1B-AA05-EEAF3B1B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F46B7-EE7C-4F09-AEA9-2A69262D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99D23-342E-4608-BE77-9AED77B9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F5333-6AB7-45E1-8F9F-8F58A20C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F324D-528D-4269-8242-199170C3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B915D-C271-487C-909E-16ADB776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0E080-84D9-4DD6-9177-4FA8398D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CEAEB-EBE2-4330-A9DD-80B749D3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08279-EB03-4A28-8F00-9032927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CC0-3E31-484A-8E87-384B7CB4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220A5-3B81-4931-857A-0E0C3603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ADC38-FF76-4D2C-96BC-FE1D401A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3A2B2-E019-4695-902C-2EE73585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7D3F9-F089-4C60-ADDB-6A10ACF0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E9E02-9B4A-45C0-9B57-06FE3211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F4167-EAE7-4882-AFF3-EA0D8095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80970-A63A-405A-B026-BC5F9495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AFF32-9F4C-473A-903C-14976C22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46D47-2B47-4CF3-9B32-BDDEEBF9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87D0E-8F45-4378-A16D-F67F5BB2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7E9-E0C3-4F98-B96E-49E4C81B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68D9F-722A-4567-9C34-132AF84C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7D02F-AEDA-4A59-9650-BD73AEF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00535-B847-4501-9F35-10CFB5BB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129A2-3F3D-40C7-8A57-568F2C55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520FD-A6BE-48AA-B3C8-64428F23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ABB81-B947-4330-B8D7-3E1D90D7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211D0-6BD6-45A1-A85A-4512CF43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4DDB0-F529-4F35-99C0-CD3C5297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6FEC7-CFED-4270-9819-3921ECA5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05492-6004-43E6-9FBF-7E0008E5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D49-F5E5-4466-8EA5-209A8C0E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2E0DA-6122-47FE-8F14-E1F114D3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91145-4782-4ADD-9231-02EB4C55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0AB1C-78E5-42B0-98FE-4E966BAB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7644C-9033-4CE7-93C5-83E173BC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3035C-1413-407C-87BD-B87AAA0B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A4A11-45E9-4969-89BD-587F0C79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2BB93-1A16-4C8A-A089-5F6F9D06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D0D9B-B83B-4455-B325-7381E976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22A32-E577-4216-ABC9-3728D23D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95F87-B3DB-4D71-8350-41C79171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D93-F573-42FB-8F77-8A971F3A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FE892-3C31-401A-AD1F-7030B7AA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010DF-F1FF-40C4-B8C8-23B33CBA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ED7BD-AD1F-4025-B636-77B24A68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6152E-30AD-4AE5-BCD4-2535F943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BEFAD-D988-426A-9D12-2452F8FE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1974D-B97A-41F7-84BD-412369B7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C5FDA-A322-41C0-85A2-4CC3FD58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E235B-17A0-42DE-B71D-68BDEB92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C3982-A4E8-44CC-A1DB-DA1E03C8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C2C-F275-4397-B3E6-BE887AB9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072-DF23-4709-86E3-68EA5E1F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022-46FC-4B32-BD1B-F8F630E5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562-F833-4F64-94B1-7846037F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B68-6328-4D2E-AF0D-4D3ADCF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9D3-EB54-4BEC-91AE-8FCA367D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1D0-46DF-4B13-9C4F-B6861CEA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888-0814-45F0-83F1-2F902C21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9FDC-2876-4C21-A2D6-A5BFB8CB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E8DA-EA18-41CF-9D9A-630BE994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0C4C-E176-455C-905B-E2390D31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C338-DB62-4810-8BC0-ADF7E135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8C38-F0D3-4C0C-B6C5-7159F206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DA83-C781-4EAF-A3E4-80A780F0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062C-09CF-4B44-9ED3-D75038CC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2B71-AD8A-47D3-B4EB-2AFB98B4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7E00-87CD-4C58-9A01-40F563E5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C5BF-6C08-42E5-90F9-C5D2FE58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F03F-52F6-4961-9D6D-26D47BDC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1C22-F24D-43CB-927C-4C83AD35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ECF7D-F405-45A8-9E2C-4E814DA3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54230-93EC-4E1F-ADF7-F2D7BC6B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B0CD-6C30-492A-ABE6-15D726EB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33CA-0C99-4086-8D45-A66FC83F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30A16-8BBB-4F07-97B9-1C53B2B1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08EB-F163-4170-A6D1-24131A73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B612-E6C4-4408-8C79-66FC8D91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F55DC-5CBE-49F0-89F0-0C2E1B64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CEF6-A54E-4FC6-BE95-5FBB49E7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63AA-86F3-454B-A2AA-1AEA6888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93A83-4DFD-4FB9-845F-552D822F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08632-BAF7-4B28-B94B-70806472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0336A-F8BD-4BE8-AECA-70348BE3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36A71-D97B-4136-9A09-07C0A704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EED22-741D-4AE5-B363-FE0D74A7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74FA6-CE37-4C6C-81DA-3A8736A6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E2694-7918-48CE-8AA2-90813EFB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FC55-B014-4ABF-AAA3-DC764160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BCD1F-B39A-4188-813E-979E745B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95ABF-9174-4009-9487-6C93F200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38A88-3EC2-43A6-BC7D-1AD68F57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0951A-B2C2-49AF-A7BA-34506381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0D4C0-7DFC-461B-9A01-664C83E7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72EE0-9A5D-403F-A2F5-B2C5BF4F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24D3B-1393-4D14-846A-E31AE5BA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50821-189C-4F2B-88D2-77B97AEA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BD46D-666C-4463-8BE9-42F22E20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0B89-6B6D-4CAF-9C25-10A8F7C5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6917C-7722-4642-9D66-D0FB96D9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C28E8-CE6F-4229-8145-8F166648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BF4D4-8358-49AE-8D6E-970BEE72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FE227-F80F-47FD-B069-451A6191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6582A-C5E6-4D70-B44B-C7A4EB89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25A98-B121-4DAF-BFD9-CF8202DB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FE518-C19C-4EB6-BED2-B744978E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C3B58-B899-4963-B397-87AAACAC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F3E7A-923A-4C5C-9E4D-74A2AA5F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C112-D02C-4C78-91FE-0B2D0547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2B16B-0A7D-422E-9948-32747B9D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BD4C7-1343-45C2-8968-A494F955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A9C66-61FD-4B7F-A4F4-E759ADBE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927E-CC2F-4DA0-A658-A73FBA2A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01906-806E-4EB1-A6DA-226F5A8D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0974A-D184-49E7-AF69-64AD91A4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D53DD-9E0B-4D60-84BC-F53E0FE7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33E7F-BFFE-453A-8239-A80751BC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AA0DA-40F0-4200-B485-4F9A4110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135D7-FCCB-4188-8719-34E71712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A9D7B-0A86-453B-AC42-91F9FA26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9BD95-5AB0-45C3-B0D0-84EACF07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AA717-554C-4185-BC2F-A2204EBB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封面-色块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2538360" y="3252960"/>
            <a:ext cx="4191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Demi"/>
              </a:rPr>
              <a:t>Make collective repor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封面标题"/>
          <p:cNvPicPr/>
          <p:nvPr/>
        </p:nvPicPr>
        <p:blipFill>
          <a:blip r:embed="rId3"/>
          <a:stretch/>
        </p:blipFill>
        <p:spPr>
          <a:xfrm>
            <a:off x="2940120" y="2695680"/>
            <a:ext cx="847800" cy="642960"/>
          </a:xfrm>
          <a:prstGeom prst="rect">
            <a:avLst/>
          </a:prstGeom>
          <a:ln w="0">
            <a:noFill/>
          </a:ln>
        </p:spPr>
      </p:pic>
      <p:sp>
        <p:nvSpPr>
          <p:cNvPr id="3" name="Text Box 12"/>
          <p:cNvSpPr/>
          <p:nvPr/>
        </p:nvSpPr>
        <p:spPr>
          <a:xfrm>
            <a:off x="3543480" y="2709720"/>
            <a:ext cx="28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ed"/>
              </a:rPr>
              <a:t>Designer:S.G.C.chen83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573360" y="2994120"/>
            <a:ext cx="277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海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水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正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蓝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作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02AA-760F-4E3D-BCC8-88647EA45F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2C84-254F-49FB-9B61-5AF643982F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1B9E-86CE-40DF-93BE-793BA70B84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5211-0ED1-43DC-9378-E255A0A067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E241-B228-4FED-A40D-B162DEE01A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985D-7CBA-4BC3-9403-2426C88E78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4DAC-5DAD-4BC5-B903-55D62CF5DD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75C9-E916-4441-A04E-4095EC5416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DEB2-E09A-4A56-84B6-474EA60B02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77D7-9CC0-437B-8534-8C9E6E1559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7E19-4400-4C56-B305-EF784EE248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18A6-B00F-423D-8E49-29959F3872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封面标题"/>
          <p:cNvPicPr/>
          <p:nvPr/>
        </p:nvPicPr>
        <p:blipFill>
          <a:blip r:embed="rId2"/>
          <a:stretch/>
        </p:blipFill>
        <p:spPr>
          <a:xfrm>
            <a:off x="5595840" y="6019920"/>
            <a:ext cx="847800" cy="642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6199200" y="6033960"/>
            <a:ext cx="28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ed"/>
              </a:rPr>
              <a:t>Designer:S.G.C.chen83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229440" y="6318360"/>
            <a:ext cx="277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海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水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正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蓝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作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内页-底图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封面标题"/>
          <p:cNvPicPr/>
          <p:nvPr/>
        </p:nvPicPr>
        <p:blipFill>
          <a:blip r:embed="rId4"/>
          <a:stretch/>
        </p:blipFill>
        <p:spPr>
          <a:xfrm>
            <a:off x="1990800" y="380880"/>
            <a:ext cx="847800" cy="6429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3"/>
          <p:cNvSpPr/>
          <p:nvPr/>
        </p:nvSpPr>
        <p:spPr>
          <a:xfrm>
            <a:off x="2593800" y="39528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ed"/>
              </a:rPr>
              <a:t>Designer:S.G.C.chen83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624040" y="679320"/>
            <a:ext cx="277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海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水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正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蓝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作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45520" y="6191280"/>
            <a:ext cx="798480" cy="396720"/>
            <a:chOff x="8345520" y="6191280"/>
            <a:chExt cx="798480" cy="396720"/>
          </a:xfrm>
        </p:grpSpPr>
        <p:pic>
          <p:nvPicPr>
            <p:cNvPr id="90" name="Picture 21" descr="内页-页码"/>
            <p:cNvPicPr/>
            <p:nvPr/>
          </p:nvPicPr>
          <p:blipFill>
            <a:blip r:embed="rId5"/>
            <a:stretch/>
          </p:blipFill>
          <p:spPr>
            <a:xfrm>
              <a:off x="8345520" y="6191280"/>
              <a:ext cx="798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2">
              <a:hlinkClick r:id="" action="ppaction://hlinkshowjump?jump=nextslide"/>
            </p:cNvPr>
            <p:cNvSpPr/>
            <p:nvPr/>
          </p:nvSpPr>
          <p:spPr>
            <a:xfrm>
              <a:off x="8424720" y="6248520"/>
              <a:ext cx="719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abylon5"/>
                </a:rPr>
                <a:t>NEXT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C1CE-BCAB-4517-9599-776D28ACAA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9159-D6B2-4A4A-BD5C-524838C98D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A408-1A43-411A-B73F-E12D4467E9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500F-47B4-40B7-A8ED-E9CF0C1BE0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8FF4-6910-4777-B027-D8FD23F942D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E62D-847D-4894-A661-C3EC03D7ED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280B-8D52-48A1-82D5-18893D3507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5F4C-7104-4836-A462-E9D7D03F47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A29C-8017-4EBD-8568-2F3A613101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CCFF-4065-43DF-8921-00287E1035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E324-7BD9-4880-B589-F0389C0A210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3B6E-7FC8-4B69-B57C-1159574729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7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6" descr="目录-底色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9" name="Picture 7" descr="目录-绿色条"/>
          <p:cNvPicPr/>
          <p:nvPr/>
        </p:nvPicPr>
        <p:blipFill>
          <a:blip r:embed="rId2"/>
          <a:stretch/>
        </p:blipFill>
        <p:spPr>
          <a:xfrm>
            <a:off x="0" y="1978200"/>
            <a:ext cx="9144000" cy="725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" descr="封面标题"/>
          <p:cNvPicPr/>
          <p:nvPr/>
        </p:nvPicPr>
        <p:blipFill>
          <a:blip r:embed="rId3"/>
          <a:stretch/>
        </p:blipFill>
        <p:spPr>
          <a:xfrm>
            <a:off x="2004840" y="2035080"/>
            <a:ext cx="847800" cy="6429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0"/>
          <p:cNvSpPr/>
          <p:nvPr/>
        </p:nvSpPr>
        <p:spPr>
          <a:xfrm>
            <a:off x="2608200" y="204948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ed"/>
              </a:rPr>
              <a:t>Designer:S.G.C.chen83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2638440" y="2333520"/>
            <a:ext cx="277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海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水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正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蓝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作   </a:t>
            </a:r>
            <a:r>
              <a:rPr b="0" lang="en-US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.  </a:t>
            </a:r>
            <a:r>
              <a:rPr b="0" lang="zh-CN" sz="13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502240" y="1959120"/>
            <a:ext cx="3092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abylon5"/>
              </a:rPr>
              <a:t>CONTEN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19"/>
          <p:cNvGrpSpPr/>
          <p:nvPr/>
        </p:nvGrpSpPr>
        <p:grpSpPr>
          <a:xfrm>
            <a:off x="5559480" y="2990880"/>
            <a:ext cx="3584520" cy="368280"/>
            <a:chOff x="5559480" y="2990880"/>
            <a:chExt cx="3584520" cy="368280"/>
          </a:xfrm>
        </p:grpSpPr>
        <p:sp>
          <p:nvSpPr>
            <p:cNvPr id="595" name="Rectangle 18"/>
            <p:cNvSpPr/>
            <p:nvPr/>
          </p:nvSpPr>
          <p:spPr>
            <a:xfrm>
              <a:off x="5559480" y="3030480"/>
              <a:ext cx="3584520" cy="290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3">
              <a:hlinkClick r:id="" action="ppaction://hlinkshowjump?jump=nextslide"/>
            </p:cNvPr>
            <p:cNvSpPr/>
            <p:nvPr/>
          </p:nvSpPr>
          <p:spPr>
            <a:xfrm>
              <a:off x="5646600" y="299088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abylon5"/>
                </a:rPr>
                <a:t>1.ANYT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0"/>
          <p:cNvGrpSpPr/>
          <p:nvPr/>
        </p:nvGrpSpPr>
        <p:grpSpPr>
          <a:xfrm>
            <a:off x="5559480" y="3340080"/>
            <a:ext cx="3584520" cy="368280"/>
            <a:chOff x="5559480" y="3340080"/>
            <a:chExt cx="3584520" cy="368280"/>
          </a:xfrm>
        </p:grpSpPr>
        <p:sp>
          <p:nvSpPr>
            <p:cNvPr id="598" name="Rectangle 21"/>
            <p:cNvSpPr/>
            <p:nvPr/>
          </p:nvSpPr>
          <p:spPr>
            <a:xfrm>
              <a:off x="5559480" y="3379680"/>
              <a:ext cx="3584520" cy="2905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22">
              <a:hlinkClick r:id="" action="ppaction://hlinkshowjump?jump=nextslide"/>
            </p:cNvPr>
            <p:cNvSpPr/>
            <p:nvPr/>
          </p:nvSpPr>
          <p:spPr>
            <a:xfrm>
              <a:off x="5646600" y="334008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abylon5"/>
                </a:rPr>
                <a:t>2.ANYT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3"/>
          <p:cNvGrpSpPr/>
          <p:nvPr/>
        </p:nvGrpSpPr>
        <p:grpSpPr>
          <a:xfrm>
            <a:off x="5559480" y="3687840"/>
            <a:ext cx="3584520" cy="368280"/>
            <a:chOff x="5559480" y="3687840"/>
            <a:chExt cx="3584520" cy="368280"/>
          </a:xfrm>
        </p:grpSpPr>
        <p:sp>
          <p:nvSpPr>
            <p:cNvPr id="601" name="Rectangle 24"/>
            <p:cNvSpPr/>
            <p:nvPr/>
          </p:nvSpPr>
          <p:spPr>
            <a:xfrm>
              <a:off x="5559480" y="3727080"/>
              <a:ext cx="3584520" cy="290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25">
              <a:hlinkClick r:id="" action="ppaction://hlinkshowjump?jump=nextslide"/>
            </p:cNvPr>
            <p:cNvSpPr/>
            <p:nvPr/>
          </p:nvSpPr>
          <p:spPr>
            <a:xfrm>
              <a:off x="5646600" y="368784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abylon5"/>
                </a:rPr>
                <a:t>3.ANYT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26"/>
          <p:cNvGrpSpPr/>
          <p:nvPr/>
        </p:nvGrpSpPr>
        <p:grpSpPr>
          <a:xfrm>
            <a:off x="5559480" y="4035600"/>
            <a:ext cx="3584520" cy="368280"/>
            <a:chOff x="5559480" y="4035600"/>
            <a:chExt cx="3584520" cy="368280"/>
          </a:xfrm>
        </p:grpSpPr>
        <p:sp>
          <p:nvSpPr>
            <p:cNvPr id="604" name="Rectangle 27"/>
            <p:cNvSpPr/>
            <p:nvPr/>
          </p:nvSpPr>
          <p:spPr>
            <a:xfrm>
              <a:off x="5559480" y="4074840"/>
              <a:ext cx="3584520" cy="290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28">
              <a:hlinkClick r:id="" action="ppaction://hlinkshowjump?jump=nextslide"/>
            </p:cNvPr>
            <p:cNvSpPr/>
            <p:nvPr/>
          </p:nvSpPr>
          <p:spPr>
            <a:xfrm>
              <a:off x="5646600" y="40356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abylon5"/>
                </a:rPr>
                <a:t>4.ANYT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29"/>
          <p:cNvGrpSpPr/>
          <p:nvPr/>
        </p:nvGrpSpPr>
        <p:grpSpPr>
          <a:xfrm>
            <a:off x="5559480" y="4384800"/>
            <a:ext cx="3584520" cy="368280"/>
            <a:chOff x="5559480" y="4384800"/>
            <a:chExt cx="3584520" cy="368280"/>
          </a:xfrm>
        </p:grpSpPr>
        <p:sp>
          <p:nvSpPr>
            <p:cNvPr id="607" name="Rectangle 30"/>
            <p:cNvSpPr/>
            <p:nvPr/>
          </p:nvSpPr>
          <p:spPr>
            <a:xfrm>
              <a:off x="5559480" y="4424040"/>
              <a:ext cx="3584520" cy="290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31">
              <a:hlinkClick r:id="" action="ppaction://hlinkshowjump?jump=nextslide"/>
            </p:cNvPr>
            <p:cNvSpPr/>
            <p:nvPr/>
          </p:nvSpPr>
          <p:spPr>
            <a:xfrm>
              <a:off x="5646600" y="43848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abylon5"/>
                </a:rPr>
                <a:t>5.ANYT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19"/>
          <p:cNvSpPr/>
          <p:nvPr/>
        </p:nvSpPr>
        <p:spPr>
          <a:xfrm>
            <a:off x="944640" y="2290680"/>
            <a:ext cx="7575480" cy="31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45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2000" spc="-1" strike="noStrike">
                <a:solidFill>
                  <a:srgbClr val="0099b5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2"/>
          <p:cNvSpPr/>
          <p:nvPr/>
        </p:nvSpPr>
        <p:spPr>
          <a:xfrm>
            <a:off x="5502240" y="274680"/>
            <a:ext cx="3641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abylon5"/>
              </a:rPr>
              <a:t>A.CAPTION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6"/>
          <p:cNvSpPr/>
          <p:nvPr/>
        </p:nvSpPr>
        <p:spPr>
          <a:xfrm>
            <a:off x="5502240" y="274680"/>
            <a:ext cx="3641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abylon5"/>
              </a:rPr>
              <a:t>B.CAPTION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09T02:21:3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