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4A0-C7D4-4663-A0F5-75C45247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E1B-C1DD-4C3F-9C08-684B5A3E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BE0E7-C6AF-4982-B7BA-41A88B56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EEC01-CFE3-447E-8718-16834F1D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D0144-FA3B-4FCA-A41A-AF724AFD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E827D-038D-4821-A22B-0EE8187C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B2A08-83F1-4CEE-8804-F64F241D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4767C-78D1-4497-BD63-0747EA7D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783D1-93D2-4075-91F1-3D987F71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F7141-A54D-4AC0-94C0-94E16D18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C3714-D59B-422D-A649-71BA7167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F1487-E7AF-40E1-98C7-732A5CA2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07B-B537-4651-A1B8-03CBCA7E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2B026-4C2F-44F8-9439-5286CBD1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2753B-03D5-4598-9ABC-9F3BBD82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9372B-E0DC-4AA4-B9E5-4BB60D6C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72EB5-D94E-4775-850B-B96F9970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6FEFB-FF1E-448B-B774-451552FA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7BFB0-0A5A-4A02-AD5D-A5A365E8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4DB3D-607E-4025-A32A-C10BD48D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8A330-D4D1-4C5F-869C-25483EC7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8782D-8E36-4351-BD58-2D7F90DA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1A82F-8068-4D3E-A12B-66BB13C0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204-ED96-467F-8D35-0FB44760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3B96F-4576-4A42-BABD-CA9D8820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5DD8A-BD02-4DDF-8443-9D0DCEC2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346BB-1B60-4104-8339-96CAF8B5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27772-622B-4F9D-AE89-2221B411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F81A3-64E0-43A2-80C5-355D462D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F3363-DAA3-495B-8F41-089644D7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F4F6B-6612-4B85-85BF-4AE08D70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1E51A-0D4E-4C1F-A1D6-4A343B18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B29EE-C22B-4632-8939-7DC8F0B8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2CE9B-90EE-46AD-A790-8009617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90C8-D13F-423A-9DC6-BE15FF76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F5E0E-C592-44AB-94B8-92ADE109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58A9F-6BBB-48AF-9DA2-FD3CBB5B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F3FF3-F874-4CA4-9BFD-CF34A149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D40B6-CAEE-4AF3-85B7-C660798B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504FB-E3B6-4B53-A63A-898DBE96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D8924-0069-47C4-8E48-7279E7B3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9F9D3-07E7-440A-86C8-D6D8620B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E0816-5F6F-40E8-8451-1E156E04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D3630-3709-4D1C-9DC8-A1838709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9D302-8605-453B-8BA7-4C28DB1A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DBCC-DC4F-4233-9D63-1E4C6E0B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78EDC-4EF7-4DFA-99E7-8678D629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4DA87-E012-46A6-A40D-5D3B3EFB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16C39-C30C-46DA-AD1F-C4C613C8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920B8-1970-413F-8351-9DFE793B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0BF2C-B616-46EB-A11A-44C87AC2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F1751-AF51-4020-910B-B91C1A25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E76E6-A484-4A5A-B5DD-5613FE19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1CAA7-490F-433E-9B3B-F6AD2474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15983-5672-4CE9-AA13-5F5357AE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81331-E2B5-4C38-809D-1D400610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6F21-0FF1-4E0F-9A3D-999B8314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1F492-7F33-4F86-B138-9189856A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E1781-11AC-4849-861C-6DBAFE29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E5630-8682-48D7-A62E-B47E8BB2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46E49-8D9D-4672-81BA-6AA828A9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AE149-9C16-4F0F-BAFD-3019FDE3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B62D9-98D3-4821-8347-83FD1132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E7D46-543B-4494-91F9-E3D7DC3E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4E05-B838-4C32-A791-A0E58C3B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489B-00E1-4E49-8F26-8A45AA4D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D106-2C2A-47D7-8793-F9665434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FDB7-85DB-40EC-9648-A43A4514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768-F09D-442B-BB9B-BBB3BAB2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4257-2A6E-4D24-AA9C-41DD94B3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5F38-7750-4710-8E3C-E230370C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8119-2436-43EE-9514-B421EAFB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9682-391A-4D49-9E17-104A6575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6518-2301-4691-B751-DAFE7D4F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BCDD-2F29-475B-A918-DD8E3BD6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1C11-78BB-404E-BF1F-A733D376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0FF2-9DCC-433C-8C27-92FBFAB4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82FD-C617-4D2E-8D9C-EFEA089C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B29D-E621-46BB-A4B4-20454F49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AA1-96E9-426A-9721-1EAE413C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445E-3BE5-4227-9D02-11A73B78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58FB-F7EF-4431-9D49-958EA599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5489-CAF8-4450-B535-D2CD2DC7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C74A-FF87-4ABB-8C9C-EAD40949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8342-9B34-498E-9324-E7015D5C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38276-E569-4676-9A2B-482342F7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E0DE-523E-41ED-B4A4-393C9F0C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8722-032A-483D-A6AA-39474B9F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A7CDC-2827-4696-877D-46B78323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C7AF-1BC2-4B18-A872-5C7313BC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519-A9F5-4B6E-BBE3-172F1450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5AE9-4A62-40A3-9DC5-BF9D93B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3C4DC-263C-4C88-84D6-F40548FF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39BA-9CE0-410A-996B-0778DC57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7E59-D2C9-4F07-9E6A-AB400DB3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EBA1C-5A00-4AE4-BB6C-23D96191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9F0A9-98EE-47FE-9FC8-6403C8D7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2BE9-882F-4231-AFDE-E0521F96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70954-5C2F-463C-BE32-3AE26094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2C7BD-1D0F-4EEE-A885-1301CE45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3E275-3F98-441A-B794-5CFE45E7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DFC-F63A-4B7D-B00A-B36C1D2F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D45C6-5412-4382-8AE9-883BA12B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558F8-98B0-4E0B-A266-8EBF5800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E473E-05EC-4A3E-AEAF-1E03C74A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763A2-F772-47FA-8D31-E9F4FCBA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629ED-48F0-4B14-A247-82E785EC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A1F98-1618-4A69-B77F-7328AD3F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5261-72DB-4B55-86B9-5BD33219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D9854-3E08-48F1-A53F-EE0C400F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4EEE9-2634-4F14-AFB1-5FB23611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2E29A-10C9-45C4-B4F9-9164D806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8ED-B3C8-4CD8-8796-A0CDF639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806D-DA2E-452C-900F-416E937E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14F22-A87F-48B2-A402-16096C39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52CC5-E958-4747-977A-A659AF0C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6CDFC-389E-469A-8F20-884707CE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82E2C-B7E5-4C60-8C53-E2FD76A9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82284-D999-497E-B0B9-6CD928BF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61BC8-9E92-4146-8F98-3059466D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87CD8-B735-48FF-B06E-A733E9E1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6D849-790F-4510-A214-6BAE9940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42D1A-C1A3-4652-BA62-50C5060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324-12DC-44B9-8A5D-C223BBA6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21C5E-590A-4EDD-BDD9-6FFD28D2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CFD6F-0118-4114-9DC1-B496FC96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F20F8-120B-4A66-9B38-F1887FAE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61113-DB18-4852-9567-CE5175E9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79DF-313C-4C96-8E56-8AC98FC4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647F2-3252-485E-9EC1-54D445A3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D96DA-8E83-4D3D-8015-597643AB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421E4-2496-498E-B2EA-134E9A92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738CF-9B40-4F51-B0BC-F5A3F3A5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6F72-EA71-4081-809D-93CDB34F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6B3-BAC3-4AB4-8053-0B91D844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9B8B0-0DAC-4621-826C-75CE6029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B60AF-1339-4951-B8B9-B37EA15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D45E6-D10B-4C99-A623-31E98795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A4A36-59B4-4102-AFDD-452BCF94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B17DC-2866-424C-9FFC-D6F18E12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6B460-2CD6-48AE-B05F-A983CB4E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7186F-5F65-4A74-97AC-73C0DC33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7EF00-CDD7-4B37-8C0A-BCF33239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3D8BF-132F-4A2D-A26E-C5D2440D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F06A4-D5B5-4A90-AC89-CC321FBF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2D8-158A-459E-91C4-221BCD06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7C04D-80C9-4A15-BE8E-A34C6458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78C88-8B96-4748-AF08-E950EB6B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9C58D-3ED3-467F-9E42-D8C25145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D3FB9-6E65-4CA3-8F42-AD64D8BD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61306-10BF-4600-8FC7-4BEAF929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CFE4E-DBC6-4268-B6D4-E8748C16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678C6-6001-4ACC-BE01-BDE48ABF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8A845-AEC3-4269-9202-6277E2DB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1AF62-C845-42CE-B091-FF68BB0B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E1619-B632-42FB-9C51-D447F5DA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87C8-0002-494A-AF7A-27D22D05D6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39FD-27BB-46B5-80B2-F51518ACF6B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27F6-2806-4114-82A9-9591AE1F039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B46D-4773-4A46-AF32-66CAAAB2D8A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B0DE-ACCA-4207-BE17-6707FD1494B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D1DD-AFD9-4994-89ED-A6FBD2B87E5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8245-990B-4F86-BDDC-136109442D7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C9DC-941D-4D6D-97E8-3AF907B0284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F9BA-47FD-46BA-9D7A-805286CD459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840C-F967-4813-A226-D2DF764B79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E8AE-E822-48C6-9A10-F1F4607BC9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FB0-9997-4124-A99C-9C2F70C587B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2C12-75DC-4792-92D9-9C6C8534D3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2C46-1BC3-4D5E-B673-7FF82E0932A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86D0-6A39-4359-BABE-610D17E6EE6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EB3-0FBA-48A1-84AD-1E1237F3F00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5688-6E66-4B85-9D23-97D993A4F64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E6F0-9E45-456C-81E6-3C10CD8647D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1263-E6C8-4CB2-8394-3CEDFFD65A7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9866-22F5-47C5-818A-7EAB049C18B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AAEE-BC1D-4461-B8EA-048D0E8BA88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04A4-D6CE-4933-B9CB-C32494D0348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D874-6A3D-48C3-B45C-1E4A27F1784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F5A2-67D1-43B4-84A5-E3244672D87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696E-DA2C-4806-978F-C1BD278653F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5013360" y="1353960"/>
            <a:ext cx="1892160" cy="1893960"/>
            <a:chOff x="5013360" y="1353960"/>
            <a:chExt cx="1892160" cy="1893960"/>
          </a:xfrm>
        </p:grpSpPr>
        <p:sp>
          <p:nvSpPr>
            <p:cNvPr id="534" name="椭圆 6"/>
            <p:cNvSpPr/>
            <p:nvPr/>
          </p:nvSpPr>
          <p:spPr>
            <a:xfrm>
              <a:off x="5013360" y="1353960"/>
              <a:ext cx="1892160" cy="1893960"/>
            </a:xfrm>
            <a:prstGeom prst="ellipse">
              <a:avLst/>
            </a:prstGeom>
            <a:solidFill>
              <a:srgbClr val="db7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接连接符 8"/>
            <p:cNvSpPr/>
            <p:nvPr/>
          </p:nvSpPr>
          <p:spPr>
            <a:xfrm>
              <a:off x="5959440" y="1353960"/>
              <a:ext cx="0" cy="47340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任意多边形 19"/>
            <p:cNvSpPr/>
            <p:nvPr/>
          </p:nvSpPr>
          <p:spPr>
            <a:xfrm>
              <a:off x="5167080" y="2579040"/>
              <a:ext cx="1568520" cy="668880"/>
            </a:xfrm>
            <a:custGeom>
              <a:avLst/>
              <a:gdLst/>
              <a:ahLst/>
              <a:rect l="l" t="t" r="r" b="b"/>
              <a:pathLst>
                <a:path w="1646438" h="701643">
                  <a:moveTo>
                    <a:pt x="273817" y="0"/>
                  </a:moveTo>
                  <a:lnTo>
                    <a:pt x="0" y="250524"/>
                  </a:lnTo>
                  <a:lnTo>
                    <a:pt x="105736" y="390516"/>
                  </a:lnTo>
                  <a:cubicBezTo>
                    <a:pt x="243140" y="516730"/>
                    <a:pt x="234841" y="497242"/>
                    <a:pt x="299394" y="550605"/>
                  </a:cubicBezTo>
                  <a:cubicBezTo>
                    <a:pt x="362729" y="586231"/>
                    <a:pt x="368287" y="586687"/>
                    <a:pt x="499448" y="639898"/>
                  </a:cubicBezTo>
                  <a:cubicBezTo>
                    <a:pt x="679862" y="702396"/>
                    <a:pt x="689453" y="686856"/>
                    <a:pt x="784456" y="699274"/>
                  </a:cubicBezTo>
                  <a:cubicBezTo>
                    <a:pt x="879937" y="702636"/>
                    <a:pt x="910213" y="706430"/>
                    <a:pt x="1063526" y="679863"/>
                  </a:cubicBezTo>
                  <a:cubicBezTo>
                    <a:pt x="1264949" y="627719"/>
                    <a:pt x="1258033" y="615712"/>
                    <a:pt x="1353949" y="563622"/>
                  </a:cubicBezTo>
                  <a:cubicBezTo>
                    <a:pt x="1433045" y="500709"/>
                    <a:pt x="1477726" y="462377"/>
                    <a:pt x="1539615" y="411754"/>
                  </a:cubicBezTo>
                  <a:cubicBezTo>
                    <a:pt x="1607898" y="340578"/>
                    <a:pt x="1610812" y="324723"/>
                    <a:pt x="1646438" y="281180"/>
                  </a:cubicBezTo>
                  <a:lnTo>
                    <a:pt x="1393751" y="3654"/>
                  </a:lnTo>
                  <a:lnTo>
                    <a:pt x="2738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3d255"/>
                </a:gs>
                <a:gs pos="100000">
                  <a:srgbClr val="f7fa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饼形 15"/>
            <p:cNvSpPr/>
            <p:nvPr/>
          </p:nvSpPr>
          <p:spPr>
            <a:xfrm rot="16200000">
              <a:off x="5745960" y="2348640"/>
              <a:ext cx="431280" cy="430920"/>
            </a:xfrm>
            <a:custGeom>
              <a:avLst/>
              <a:gdLst/>
              <a:ahLst/>
              <a:rect l="l" t="t" r="r" b="b"/>
              <a:pathLst>
                <a:path w="452284" h="452284">
                  <a:moveTo>
                    <a:pt x="226142" y="452284"/>
                  </a:moveTo>
                  <a:cubicBezTo>
                    <a:pt x="145349" y="452284"/>
                    <a:pt x="70694" y="409182"/>
                    <a:pt x="30297" y="339213"/>
                  </a:cubicBezTo>
                  <a:cubicBezTo>
                    <a:pt x="-10099" y="269244"/>
                    <a:pt x="-10099" y="183040"/>
                    <a:pt x="30297" y="113071"/>
                  </a:cubicBezTo>
                  <a:cubicBezTo>
                    <a:pt x="70693" y="43102"/>
                    <a:pt x="145349" y="0"/>
                    <a:pt x="226142" y="0"/>
                  </a:cubicBezTo>
                  <a:lnTo>
                    <a:pt x="226142" y="226142"/>
                  </a:lnTo>
                  <a:lnTo>
                    <a:pt x="226142" y="45228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矩形 9"/>
            <p:cNvSpPr/>
            <p:nvPr/>
          </p:nvSpPr>
          <p:spPr>
            <a:xfrm>
              <a:off x="5762520" y="1827360"/>
              <a:ext cx="196560" cy="285840"/>
            </a:xfrm>
            <a:prstGeom prst="rect">
              <a:avLst/>
            </a:pr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矩形 10"/>
            <p:cNvSpPr/>
            <p:nvPr/>
          </p:nvSpPr>
          <p:spPr>
            <a:xfrm>
              <a:off x="5959440" y="1827360"/>
              <a:ext cx="196560" cy="285840"/>
            </a:xfrm>
            <a:prstGeom prst="rect">
              <a:avLst/>
            </a:pr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饼形 12"/>
            <p:cNvSpPr/>
            <p:nvPr/>
          </p:nvSpPr>
          <p:spPr>
            <a:xfrm>
              <a:off x="5432040" y="2047680"/>
              <a:ext cx="1077120" cy="1078200"/>
            </a:xfrm>
            <a:custGeom>
              <a:avLst/>
              <a:gdLst/>
              <a:ahLst/>
              <a:rect l="l" t="t" r="r" b="b"/>
              <a:pathLst>
                <a:path w="1130710" h="1130710">
                  <a:moveTo>
                    <a:pt x="15" y="561173"/>
                  </a:moveTo>
                  <a:cubicBezTo>
                    <a:pt x="2313" y="250577"/>
                    <a:pt x="254750" y="0"/>
                    <a:pt x="565355" y="0"/>
                  </a:cubicBezTo>
                  <a:lnTo>
                    <a:pt x="565355" y="565355"/>
                  </a:lnTo>
                  <a:lnTo>
                    <a:pt x="15" y="561173"/>
                  </a:lnTo>
                  <a:close/>
                </a:path>
              </a:pathLst>
            </a:cu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饼形 13"/>
            <p:cNvSpPr/>
            <p:nvPr/>
          </p:nvSpPr>
          <p:spPr>
            <a:xfrm flipH="1">
              <a:off x="5420880" y="2047680"/>
              <a:ext cx="1077120" cy="1078200"/>
            </a:xfrm>
            <a:custGeom>
              <a:avLst/>
              <a:gdLst/>
              <a:ahLst/>
              <a:rect l="l" t="t" r="r" b="b"/>
              <a:pathLst>
                <a:path w="1130710" h="1130710">
                  <a:moveTo>
                    <a:pt x="15" y="561173"/>
                  </a:moveTo>
                  <a:cubicBezTo>
                    <a:pt x="2313" y="250577"/>
                    <a:pt x="254750" y="0"/>
                    <a:pt x="565355" y="0"/>
                  </a:cubicBezTo>
                  <a:lnTo>
                    <a:pt x="565355" y="565355"/>
                  </a:lnTo>
                  <a:lnTo>
                    <a:pt x="15" y="561173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文本框 24"/>
          <p:cNvSpPr/>
          <p:nvPr/>
        </p:nvSpPr>
        <p:spPr>
          <a:xfrm>
            <a:off x="3833640" y="3465360"/>
            <a:ext cx="43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报告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12"/>
          <p:cNvSpPr/>
          <p:nvPr/>
        </p:nvSpPr>
        <p:spPr>
          <a:xfrm>
            <a:off x="4618080" y="4173480"/>
            <a:ext cx="30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演示者的名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空心弧 28"/>
          <p:cNvSpPr/>
          <p:nvPr/>
        </p:nvSpPr>
        <p:spPr>
          <a:xfrm>
            <a:off x="4916520" y="1265400"/>
            <a:ext cx="2070000" cy="2070000"/>
          </a:xfrm>
          <a:custGeom>
            <a:avLst/>
            <a:gdLst/>
            <a:ahLst/>
            <a:rect l="l" t="t" r="r" b="b"/>
            <a:pathLst>
              <a:path w="2070399" h="2070399">
                <a:moveTo>
                  <a:pt x="177978" y="1615552"/>
                </a:moveTo>
                <a:cubicBezTo>
                  <a:pt x="-114491" y="1183554"/>
                  <a:pt x="-39806" y="601425"/>
                  <a:pt x="352243" y="257248"/>
                </a:cubicBezTo>
                <a:cubicBezTo>
                  <a:pt x="744292" y="-86929"/>
                  <a:pt x="1331192" y="-85598"/>
                  <a:pt x="1721677" y="260352"/>
                </a:cubicBezTo>
                <a:cubicBezTo>
                  <a:pt x="2112162" y="606303"/>
                  <a:pt x="2184207" y="1188765"/>
                  <a:pt x="1889783" y="1619432"/>
                </a:cubicBezTo>
                <a:lnTo>
                  <a:pt x="1889782" y="1619432"/>
                </a:lnTo>
                <a:cubicBezTo>
                  <a:pt x="2184207" y="1188764"/>
                  <a:pt x="2112161" y="606302"/>
                  <a:pt x="1721676" y="260352"/>
                </a:cubicBezTo>
                <a:cubicBezTo>
                  <a:pt x="1331191" y="-85599"/>
                  <a:pt x="744292" y="-86929"/>
                  <a:pt x="352242" y="257248"/>
                </a:cubicBezTo>
                <a:cubicBezTo>
                  <a:pt x="-39807" y="601425"/>
                  <a:pt x="-114492" y="1183554"/>
                  <a:pt x="177977" y="1615552"/>
                </a:cubicBezTo>
                <a:lnTo>
                  <a:pt x="177978" y="1615552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17"/>
          <p:cNvSpPr/>
          <p:nvPr/>
        </p:nvSpPr>
        <p:spPr>
          <a:xfrm>
            <a:off x="5568840" y="507348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同心圆 30"/>
          <p:cNvSpPr/>
          <p:nvPr/>
        </p:nvSpPr>
        <p:spPr>
          <a:xfrm>
            <a:off x="5573880" y="4792680"/>
            <a:ext cx="898200" cy="900000"/>
          </a:xfrm>
          <a:custGeom>
            <a:avLst/>
            <a:gdLst/>
            <a:ahLst/>
            <a:rect l="l" t="t" r="r" b="b"/>
            <a:pathLst>
              <a:path w="984250" h="985838">
                <a:moveTo>
                  <a:pt x="0" y="492919"/>
                </a:moveTo>
                <a:cubicBezTo>
                  <a:pt x="0" y="220687"/>
                  <a:pt x="220332" y="0"/>
                  <a:pt x="492125" y="0"/>
                </a:cubicBezTo>
                <a:cubicBezTo>
                  <a:pt x="763918" y="0"/>
                  <a:pt x="984250" y="220687"/>
                  <a:pt x="984250" y="492919"/>
                </a:cubicBezTo>
                <a:cubicBezTo>
                  <a:pt x="984250" y="765151"/>
                  <a:pt x="763918" y="985838"/>
                  <a:pt x="492125" y="985838"/>
                </a:cubicBezTo>
                <a:cubicBezTo>
                  <a:pt x="220332" y="985838"/>
                  <a:pt x="0" y="765151"/>
                  <a:pt x="0" y="492919"/>
                </a:cubicBezTo>
                <a:close/>
                <a:moveTo>
                  <a:pt x="0" y="492919"/>
                </a:moveTo>
                <a:cubicBezTo>
                  <a:pt x="0" y="765151"/>
                  <a:pt x="220332" y="985838"/>
                  <a:pt x="492125" y="985838"/>
                </a:cubicBezTo>
                <a:cubicBezTo>
                  <a:pt x="763918" y="985838"/>
                  <a:pt x="984250" y="765151"/>
                  <a:pt x="984250" y="492919"/>
                </a:cubicBezTo>
                <a:cubicBezTo>
                  <a:pt x="984250" y="220687"/>
                  <a:pt x="763918" y="0"/>
                  <a:pt x="492125" y="0"/>
                </a:cubicBezTo>
                <a:cubicBezTo>
                  <a:pt x="220332" y="0"/>
                  <a:pt x="0" y="220687"/>
                  <a:pt x="0" y="492919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文本框 24"/>
          <p:cNvSpPr/>
          <p:nvPr/>
        </p:nvSpPr>
        <p:spPr>
          <a:xfrm>
            <a:off x="2354400" y="2057400"/>
            <a:ext cx="13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空心弧 28"/>
          <p:cNvSpPr/>
          <p:nvPr/>
        </p:nvSpPr>
        <p:spPr>
          <a:xfrm rot="7561800">
            <a:off x="1702440" y="1359360"/>
            <a:ext cx="2071440" cy="2070000"/>
          </a:xfrm>
          <a:custGeom>
            <a:avLst/>
            <a:gdLst/>
            <a:ahLst/>
            <a:rect l="l" t="t" r="r" b="b"/>
            <a:pathLst>
              <a:path w="2070399" h="2070399">
                <a:moveTo>
                  <a:pt x="177978" y="1615552"/>
                </a:moveTo>
                <a:cubicBezTo>
                  <a:pt x="-114491" y="1183554"/>
                  <a:pt x="-39806" y="601425"/>
                  <a:pt x="352243" y="257248"/>
                </a:cubicBezTo>
                <a:cubicBezTo>
                  <a:pt x="744292" y="-86929"/>
                  <a:pt x="1331192" y="-85598"/>
                  <a:pt x="1721677" y="260352"/>
                </a:cubicBezTo>
                <a:cubicBezTo>
                  <a:pt x="2112162" y="606303"/>
                  <a:pt x="2184207" y="1188765"/>
                  <a:pt x="1889783" y="1619432"/>
                </a:cubicBezTo>
                <a:lnTo>
                  <a:pt x="1889782" y="1619432"/>
                </a:lnTo>
                <a:cubicBezTo>
                  <a:pt x="2184207" y="1188764"/>
                  <a:pt x="2112161" y="606302"/>
                  <a:pt x="1721676" y="260352"/>
                </a:cubicBezTo>
                <a:cubicBezTo>
                  <a:pt x="1331191" y="-85599"/>
                  <a:pt x="744292" y="-86929"/>
                  <a:pt x="352242" y="257248"/>
                </a:cubicBezTo>
                <a:cubicBezTo>
                  <a:pt x="-39807" y="601425"/>
                  <a:pt x="-114492" y="1183554"/>
                  <a:pt x="177977" y="1615552"/>
                </a:cubicBezTo>
                <a:lnTo>
                  <a:pt x="177978" y="1615552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003320" y="874440"/>
            <a:ext cx="1846080" cy="1845720"/>
            <a:chOff x="1003320" y="874440"/>
            <a:chExt cx="1846080" cy="1845720"/>
          </a:xfrm>
        </p:grpSpPr>
        <p:sp>
          <p:nvSpPr>
            <p:cNvPr id="550" name="椭圆 6"/>
            <p:cNvSpPr/>
            <p:nvPr/>
          </p:nvSpPr>
          <p:spPr>
            <a:xfrm rot="18302400">
              <a:off x="1263600" y="1134360"/>
              <a:ext cx="1324800" cy="1325520"/>
            </a:xfrm>
            <a:prstGeom prst="ellipse">
              <a:avLst/>
            </a:prstGeom>
            <a:solidFill>
              <a:srgbClr val="db7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直接连接符 8"/>
            <p:cNvSpPr/>
            <p:nvPr/>
          </p:nvSpPr>
          <p:spPr>
            <a:xfrm flipV="1">
              <a:off x="1311840" y="1590120"/>
              <a:ext cx="304560" cy="45792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任意多边形 19"/>
            <p:cNvSpPr/>
            <p:nvPr/>
          </p:nvSpPr>
          <p:spPr>
            <a:xfrm rot="18302400">
              <a:off x="1725120" y="1813680"/>
              <a:ext cx="1098000" cy="468360"/>
            </a:xfrm>
            <a:custGeom>
              <a:avLst/>
              <a:gdLst/>
              <a:ahLst/>
              <a:rect l="l" t="t" r="r" b="b"/>
              <a:pathLst>
                <a:path w="1646438" h="701643">
                  <a:moveTo>
                    <a:pt x="273817" y="0"/>
                  </a:moveTo>
                  <a:lnTo>
                    <a:pt x="0" y="250524"/>
                  </a:lnTo>
                  <a:lnTo>
                    <a:pt x="105736" y="390516"/>
                  </a:lnTo>
                  <a:cubicBezTo>
                    <a:pt x="243140" y="516730"/>
                    <a:pt x="234841" y="497242"/>
                    <a:pt x="299394" y="550605"/>
                  </a:cubicBezTo>
                  <a:cubicBezTo>
                    <a:pt x="362729" y="586231"/>
                    <a:pt x="368287" y="586687"/>
                    <a:pt x="499448" y="639898"/>
                  </a:cubicBezTo>
                  <a:cubicBezTo>
                    <a:pt x="679862" y="702396"/>
                    <a:pt x="689453" y="686856"/>
                    <a:pt x="784456" y="699274"/>
                  </a:cubicBezTo>
                  <a:cubicBezTo>
                    <a:pt x="879937" y="702636"/>
                    <a:pt x="910213" y="706430"/>
                    <a:pt x="1063526" y="679863"/>
                  </a:cubicBezTo>
                  <a:cubicBezTo>
                    <a:pt x="1264949" y="627719"/>
                    <a:pt x="1258033" y="615712"/>
                    <a:pt x="1353949" y="563622"/>
                  </a:cubicBezTo>
                  <a:cubicBezTo>
                    <a:pt x="1433045" y="500709"/>
                    <a:pt x="1477726" y="462377"/>
                    <a:pt x="1539615" y="411754"/>
                  </a:cubicBezTo>
                  <a:cubicBezTo>
                    <a:pt x="1607898" y="340578"/>
                    <a:pt x="1610812" y="324723"/>
                    <a:pt x="1646438" y="281180"/>
                  </a:cubicBezTo>
                  <a:lnTo>
                    <a:pt x="1393751" y="3654"/>
                  </a:lnTo>
                  <a:lnTo>
                    <a:pt x="2738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3d255"/>
                </a:gs>
                <a:gs pos="100000">
                  <a:srgbClr val="f7fa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饼形 15"/>
            <p:cNvSpPr/>
            <p:nvPr/>
          </p:nvSpPr>
          <p:spPr>
            <a:xfrm rot="12902400">
              <a:off x="1927080" y="1751040"/>
              <a:ext cx="301680" cy="301680"/>
            </a:xfrm>
            <a:custGeom>
              <a:avLst/>
              <a:gdLst/>
              <a:ahLst/>
              <a:rect l="l" t="t" r="r" b="b"/>
              <a:pathLst>
                <a:path w="431013" h="431013">
                  <a:moveTo>
                    <a:pt x="215507" y="431013"/>
                  </a:moveTo>
                  <a:cubicBezTo>
                    <a:pt x="138514" y="431013"/>
                    <a:pt x="67369" y="389938"/>
                    <a:pt x="28872" y="323260"/>
                  </a:cubicBezTo>
                  <a:cubicBezTo>
                    <a:pt x="-9625" y="256582"/>
                    <a:pt x="-9625" y="174431"/>
                    <a:pt x="28872" y="107753"/>
                  </a:cubicBezTo>
                  <a:cubicBezTo>
                    <a:pt x="67369" y="41075"/>
                    <a:pt x="138513" y="-1"/>
                    <a:pt x="215507" y="-1"/>
                  </a:cubicBezTo>
                  <a:lnTo>
                    <a:pt x="215507" y="215507"/>
                  </a:lnTo>
                  <a:lnTo>
                    <a:pt x="215507" y="431013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9"/>
            <p:cNvSpPr/>
            <p:nvPr/>
          </p:nvSpPr>
          <p:spPr>
            <a:xfrm rot="18302400">
              <a:off x="1628280" y="1620720"/>
              <a:ext cx="137520" cy="199800"/>
            </a:xfrm>
            <a:prstGeom prst="rect">
              <a:avLst/>
            </a:pr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10"/>
            <p:cNvSpPr/>
            <p:nvPr/>
          </p:nvSpPr>
          <p:spPr>
            <a:xfrm rot="18302400">
              <a:off x="1707480" y="1508040"/>
              <a:ext cx="137520" cy="199800"/>
            </a:xfrm>
            <a:prstGeom prst="rect">
              <a:avLst/>
            </a:pr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饼形 12"/>
            <p:cNvSpPr/>
            <p:nvPr/>
          </p:nvSpPr>
          <p:spPr>
            <a:xfrm rot="18302400">
              <a:off x="1717560" y="1528200"/>
              <a:ext cx="754200" cy="75456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饼形 13"/>
            <p:cNvSpPr/>
            <p:nvPr/>
          </p:nvSpPr>
          <p:spPr>
            <a:xfrm flipH="1" rot="18303000">
              <a:off x="1712520" y="1534680"/>
              <a:ext cx="754200" cy="75456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饼形 3"/>
            <p:cNvSpPr/>
            <p:nvPr/>
          </p:nvSpPr>
          <p:spPr>
            <a:xfrm rot="2031600">
              <a:off x="1542960" y="1504440"/>
              <a:ext cx="231120" cy="205200"/>
            </a:xfrm>
            <a:custGeom>
              <a:avLst/>
              <a:gdLst/>
              <a:ahLst/>
              <a:rect l="l" t="t" r="r" b="b"/>
              <a:pathLst>
                <a:path w="330307" h="293191">
                  <a:moveTo>
                    <a:pt x="158912" y="293086"/>
                  </a:moveTo>
                  <a:cubicBezTo>
                    <a:pt x="68654" y="290056"/>
                    <a:pt x="-2119" y="223229"/>
                    <a:pt x="47" y="143079"/>
                  </a:cubicBezTo>
                  <a:cubicBezTo>
                    <a:pt x="2197" y="63509"/>
                    <a:pt x="75485" y="-1"/>
                    <a:pt x="165154" y="-1"/>
                  </a:cubicBezTo>
                  <a:lnTo>
                    <a:pt x="165154" y="146596"/>
                  </a:lnTo>
                  <a:lnTo>
                    <a:pt x="158912" y="293086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9" name="文本框 31"/>
          <p:cNvSpPr/>
          <p:nvPr/>
        </p:nvSpPr>
        <p:spPr>
          <a:xfrm>
            <a:off x="5410080" y="22604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Group 15"/>
          <p:cNvGrpSpPr/>
          <p:nvPr/>
        </p:nvGrpSpPr>
        <p:grpSpPr>
          <a:xfrm>
            <a:off x="4756320" y="2171880"/>
            <a:ext cx="536400" cy="543240"/>
            <a:chOff x="4756320" y="2171880"/>
            <a:chExt cx="536400" cy="543240"/>
          </a:xfrm>
        </p:grpSpPr>
        <p:sp>
          <p:nvSpPr>
            <p:cNvPr id="561" name="同心圆 14"/>
            <p:cNvSpPr/>
            <p:nvPr/>
          </p:nvSpPr>
          <p:spPr>
            <a:xfrm>
              <a:off x="4756320" y="2171880"/>
              <a:ext cx="536400" cy="536400"/>
            </a:xfrm>
            <a:custGeom>
              <a:avLst/>
              <a:gdLst/>
              <a:ahLst/>
              <a:rect l="l" t="t" r="r" b="b"/>
              <a:pathLst>
                <a:path w="536498" h="536498">
                  <a:moveTo>
                    <a:pt x="0" y="268249"/>
                  </a:moveTo>
                  <a:cubicBezTo>
                    <a:pt x="0" y="120099"/>
                    <a:pt x="120099" y="0"/>
                    <a:pt x="268249" y="0"/>
                  </a:cubicBezTo>
                  <a:cubicBezTo>
                    <a:pt x="416399" y="0"/>
                    <a:pt x="536498" y="120099"/>
                    <a:pt x="536498" y="268249"/>
                  </a:cubicBezTo>
                  <a:cubicBezTo>
                    <a:pt x="536498" y="416399"/>
                    <a:pt x="416399" y="536498"/>
                    <a:pt x="268249" y="536498"/>
                  </a:cubicBezTo>
                  <a:cubicBezTo>
                    <a:pt x="120099" y="536498"/>
                    <a:pt x="0" y="416399"/>
                    <a:pt x="0" y="268249"/>
                  </a:cubicBezTo>
                  <a:close/>
                  <a:moveTo>
                    <a:pt x="0" y="268249"/>
                  </a:moveTo>
                  <a:cubicBezTo>
                    <a:pt x="0" y="416399"/>
                    <a:pt x="120099" y="536498"/>
                    <a:pt x="268249" y="536498"/>
                  </a:cubicBezTo>
                  <a:cubicBezTo>
                    <a:pt x="416399" y="536498"/>
                    <a:pt x="536498" y="416399"/>
                    <a:pt x="536498" y="268249"/>
                  </a:cubicBezTo>
                  <a:cubicBezTo>
                    <a:pt x="536498" y="120099"/>
                    <a:pt x="416399" y="0"/>
                    <a:pt x="268249" y="0"/>
                  </a:cubicBezTo>
                  <a:cubicBezTo>
                    <a:pt x="120099" y="0"/>
                    <a:pt x="0" y="120099"/>
                    <a:pt x="0" y="268249"/>
                  </a:cubicBez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文本框 16"/>
            <p:cNvSpPr/>
            <p:nvPr/>
          </p:nvSpPr>
          <p:spPr>
            <a:xfrm>
              <a:off x="4847760" y="2194560"/>
              <a:ext cx="3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Group 18"/>
          <p:cNvGrpSpPr/>
          <p:nvPr/>
        </p:nvGrpSpPr>
        <p:grpSpPr>
          <a:xfrm>
            <a:off x="4756320" y="3208320"/>
            <a:ext cx="536400" cy="543240"/>
            <a:chOff x="4756320" y="3208320"/>
            <a:chExt cx="536400" cy="543240"/>
          </a:xfrm>
        </p:grpSpPr>
        <p:sp>
          <p:nvSpPr>
            <p:cNvPr id="564" name="同心圆 32"/>
            <p:cNvSpPr/>
            <p:nvPr/>
          </p:nvSpPr>
          <p:spPr>
            <a:xfrm>
              <a:off x="4756320" y="3208320"/>
              <a:ext cx="536400" cy="536760"/>
            </a:xfrm>
            <a:custGeom>
              <a:avLst/>
              <a:gdLst/>
              <a:ahLst/>
              <a:rect l="l" t="t" r="r" b="b"/>
              <a:pathLst>
                <a:path w="536498" h="536498">
                  <a:moveTo>
                    <a:pt x="0" y="268249"/>
                  </a:moveTo>
                  <a:cubicBezTo>
                    <a:pt x="0" y="120099"/>
                    <a:pt x="120099" y="0"/>
                    <a:pt x="268249" y="0"/>
                  </a:cubicBezTo>
                  <a:cubicBezTo>
                    <a:pt x="416399" y="0"/>
                    <a:pt x="536498" y="120099"/>
                    <a:pt x="536498" y="268249"/>
                  </a:cubicBezTo>
                  <a:cubicBezTo>
                    <a:pt x="536498" y="416399"/>
                    <a:pt x="416399" y="536498"/>
                    <a:pt x="268249" y="536498"/>
                  </a:cubicBezTo>
                  <a:cubicBezTo>
                    <a:pt x="120099" y="536498"/>
                    <a:pt x="0" y="416399"/>
                    <a:pt x="0" y="268249"/>
                  </a:cubicBezTo>
                  <a:close/>
                  <a:moveTo>
                    <a:pt x="0" y="268249"/>
                  </a:moveTo>
                  <a:cubicBezTo>
                    <a:pt x="0" y="416399"/>
                    <a:pt x="120099" y="536498"/>
                    <a:pt x="268249" y="536498"/>
                  </a:cubicBezTo>
                  <a:cubicBezTo>
                    <a:pt x="416399" y="536498"/>
                    <a:pt x="536498" y="416399"/>
                    <a:pt x="536498" y="268249"/>
                  </a:cubicBezTo>
                  <a:cubicBezTo>
                    <a:pt x="536498" y="120099"/>
                    <a:pt x="416399" y="0"/>
                    <a:pt x="268249" y="0"/>
                  </a:cubicBezTo>
                  <a:cubicBezTo>
                    <a:pt x="120099" y="0"/>
                    <a:pt x="0" y="120099"/>
                    <a:pt x="0" y="268249"/>
                  </a:cubicBez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33"/>
            <p:cNvSpPr/>
            <p:nvPr/>
          </p:nvSpPr>
          <p:spPr>
            <a:xfrm>
              <a:off x="4847760" y="3231000"/>
              <a:ext cx="3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文本框 31"/>
          <p:cNvSpPr/>
          <p:nvPr/>
        </p:nvSpPr>
        <p:spPr>
          <a:xfrm>
            <a:off x="5410080" y="33764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7" name="Group 22"/>
          <p:cNvGrpSpPr/>
          <p:nvPr/>
        </p:nvGrpSpPr>
        <p:grpSpPr>
          <a:xfrm>
            <a:off x="4756320" y="4227480"/>
            <a:ext cx="536400" cy="543240"/>
            <a:chOff x="4756320" y="4227480"/>
            <a:chExt cx="536400" cy="543240"/>
          </a:xfrm>
        </p:grpSpPr>
        <p:sp>
          <p:nvSpPr>
            <p:cNvPr id="568" name="同心圆 36"/>
            <p:cNvSpPr/>
            <p:nvPr/>
          </p:nvSpPr>
          <p:spPr>
            <a:xfrm>
              <a:off x="4756320" y="4227480"/>
              <a:ext cx="536400" cy="536760"/>
            </a:xfrm>
            <a:custGeom>
              <a:avLst/>
              <a:gdLst/>
              <a:ahLst/>
              <a:rect l="l" t="t" r="r" b="b"/>
              <a:pathLst>
                <a:path w="536498" h="536498">
                  <a:moveTo>
                    <a:pt x="0" y="268249"/>
                  </a:moveTo>
                  <a:cubicBezTo>
                    <a:pt x="0" y="120099"/>
                    <a:pt x="120099" y="0"/>
                    <a:pt x="268249" y="0"/>
                  </a:cubicBezTo>
                  <a:cubicBezTo>
                    <a:pt x="416399" y="0"/>
                    <a:pt x="536498" y="120099"/>
                    <a:pt x="536498" y="268249"/>
                  </a:cubicBezTo>
                  <a:cubicBezTo>
                    <a:pt x="536498" y="416399"/>
                    <a:pt x="416399" y="536498"/>
                    <a:pt x="268249" y="536498"/>
                  </a:cubicBezTo>
                  <a:cubicBezTo>
                    <a:pt x="120099" y="536498"/>
                    <a:pt x="0" y="416399"/>
                    <a:pt x="0" y="268249"/>
                  </a:cubicBezTo>
                  <a:close/>
                  <a:moveTo>
                    <a:pt x="0" y="268249"/>
                  </a:moveTo>
                  <a:cubicBezTo>
                    <a:pt x="0" y="416399"/>
                    <a:pt x="120099" y="536498"/>
                    <a:pt x="268249" y="536498"/>
                  </a:cubicBezTo>
                  <a:cubicBezTo>
                    <a:pt x="416399" y="536498"/>
                    <a:pt x="536498" y="416399"/>
                    <a:pt x="536498" y="268249"/>
                  </a:cubicBezTo>
                  <a:cubicBezTo>
                    <a:pt x="536498" y="120099"/>
                    <a:pt x="416399" y="0"/>
                    <a:pt x="268249" y="0"/>
                  </a:cubicBezTo>
                  <a:cubicBezTo>
                    <a:pt x="120099" y="0"/>
                    <a:pt x="0" y="120099"/>
                    <a:pt x="0" y="268249"/>
                  </a:cubicBez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文本框 37"/>
            <p:cNvSpPr/>
            <p:nvPr/>
          </p:nvSpPr>
          <p:spPr>
            <a:xfrm>
              <a:off x="4847760" y="4250160"/>
              <a:ext cx="3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31"/>
          <p:cNvSpPr/>
          <p:nvPr/>
        </p:nvSpPr>
        <p:spPr>
          <a:xfrm>
            <a:off x="5410080" y="43340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文本框 24"/>
          <p:cNvSpPr/>
          <p:nvPr/>
        </p:nvSpPr>
        <p:spPr>
          <a:xfrm>
            <a:off x="3003480" y="9907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可长可短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1379160" y="705960"/>
            <a:ext cx="1345320" cy="1343880"/>
            <a:chOff x="1379160" y="705960"/>
            <a:chExt cx="1345320" cy="1343880"/>
          </a:xfrm>
        </p:grpSpPr>
        <p:sp>
          <p:nvSpPr>
            <p:cNvPr id="573" name="椭圆 6"/>
            <p:cNvSpPr/>
            <p:nvPr/>
          </p:nvSpPr>
          <p:spPr>
            <a:xfrm rot="16246800">
              <a:off x="1388520" y="714240"/>
              <a:ext cx="1325880" cy="1327320"/>
            </a:xfrm>
            <a:prstGeom prst="ellipse">
              <a:avLst/>
            </a:prstGeom>
            <a:solidFill>
              <a:srgbClr val="db7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接连接符 8"/>
            <p:cNvSpPr/>
            <p:nvPr/>
          </p:nvSpPr>
          <p:spPr>
            <a:xfrm flipV="1">
              <a:off x="1673640" y="1381320"/>
              <a:ext cx="4680" cy="55692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任意多边形 19"/>
            <p:cNvSpPr/>
            <p:nvPr/>
          </p:nvSpPr>
          <p:spPr>
            <a:xfrm rot="16246800">
              <a:off x="1931760" y="1154520"/>
              <a:ext cx="1099080" cy="468720"/>
            </a:xfrm>
            <a:custGeom>
              <a:avLst/>
              <a:gdLst/>
              <a:ahLst/>
              <a:rect l="l" t="t" r="r" b="b"/>
              <a:pathLst>
                <a:path w="1646438" h="701643">
                  <a:moveTo>
                    <a:pt x="273817" y="0"/>
                  </a:moveTo>
                  <a:lnTo>
                    <a:pt x="0" y="250524"/>
                  </a:lnTo>
                  <a:lnTo>
                    <a:pt x="105736" y="390516"/>
                  </a:lnTo>
                  <a:cubicBezTo>
                    <a:pt x="243140" y="516730"/>
                    <a:pt x="234841" y="497242"/>
                    <a:pt x="299394" y="550605"/>
                  </a:cubicBezTo>
                  <a:cubicBezTo>
                    <a:pt x="362729" y="586231"/>
                    <a:pt x="368287" y="586687"/>
                    <a:pt x="499448" y="639898"/>
                  </a:cubicBezTo>
                  <a:cubicBezTo>
                    <a:pt x="679862" y="702396"/>
                    <a:pt x="689453" y="686856"/>
                    <a:pt x="784456" y="699274"/>
                  </a:cubicBezTo>
                  <a:cubicBezTo>
                    <a:pt x="879937" y="702636"/>
                    <a:pt x="910213" y="706430"/>
                    <a:pt x="1063526" y="679863"/>
                  </a:cubicBezTo>
                  <a:cubicBezTo>
                    <a:pt x="1264949" y="627719"/>
                    <a:pt x="1258033" y="615712"/>
                    <a:pt x="1353949" y="563622"/>
                  </a:cubicBezTo>
                  <a:cubicBezTo>
                    <a:pt x="1433045" y="500709"/>
                    <a:pt x="1477726" y="462377"/>
                    <a:pt x="1539615" y="411754"/>
                  </a:cubicBezTo>
                  <a:cubicBezTo>
                    <a:pt x="1607898" y="340578"/>
                    <a:pt x="1610812" y="324723"/>
                    <a:pt x="1646438" y="281180"/>
                  </a:cubicBezTo>
                  <a:lnTo>
                    <a:pt x="1393751" y="3654"/>
                  </a:lnTo>
                  <a:lnTo>
                    <a:pt x="2738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3d255"/>
                </a:gs>
                <a:gs pos="100000">
                  <a:srgbClr val="f7fa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饼形 15"/>
            <p:cNvSpPr/>
            <p:nvPr/>
          </p:nvSpPr>
          <p:spPr>
            <a:xfrm rot="10846800">
              <a:off x="2084760" y="1228320"/>
              <a:ext cx="302040" cy="301680"/>
            </a:xfrm>
            <a:custGeom>
              <a:avLst/>
              <a:gdLst/>
              <a:ahLst/>
              <a:rect l="l" t="t" r="r" b="b"/>
              <a:pathLst>
                <a:path w="431013" h="431013">
                  <a:moveTo>
                    <a:pt x="215507" y="431013"/>
                  </a:moveTo>
                  <a:cubicBezTo>
                    <a:pt x="138514" y="431013"/>
                    <a:pt x="67369" y="389938"/>
                    <a:pt x="28872" y="323260"/>
                  </a:cubicBezTo>
                  <a:cubicBezTo>
                    <a:pt x="-9625" y="256582"/>
                    <a:pt x="-9625" y="174431"/>
                    <a:pt x="28872" y="107753"/>
                  </a:cubicBezTo>
                  <a:cubicBezTo>
                    <a:pt x="67369" y="41075"/>
                    <a:pt x="138513" y="-1"/>
                    <a:pt x="215507" y="-1"/>
                  </a:cubicBezTo>
                  <a:lnTo>
                    <a:pt x="215507" y="215507"/>
                  </a:lnTo>
                  <a:lnTo>
                    <a:pt x="215507" y="431013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9"/>
            <p:cNvSpPr/>
            <p:nvPr/>
          </p:nvSpPr>
          <p:spPr>
            <a:xfrm rot="16246800">
              <a:off x="1750320" y="1343880"/>
              <a:ext cx="137520" cy="200160"/>
            </a:xfrm>
            <a:prstGeom prst="rect">
              <a:avLst/>
            </a:pr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矩形 10"/>
            <p:cNvSpPr/>
            <p:nvPr/>
          </p:nvSpPr>
          <p:spPr>
            <a:xfrm rot="16246800">
              <a:off x="1752480" y="1205640"/>
              <a:ext cx="137520" cy="200160"/>
            </a:xfrm>
            <a:prstGeom prst="rect">
              <a:avLst/>
            </a:pr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饼形 12"/>
            <p:cNvSpPr/>
            <p:nvPr/>
          </p:nvSpPr>
          <p:spPr>
            <a:xfrm rot="16246800">
              <a:off x="1874880" y="995040"/>
              <a:ext cx="754920" cy="75564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饼形 13"/>
            <p:cNvSpPr/>
            <p:nvPr/>
          </p:nvSpPr>
          <p:spPr>
            <a:xfrm flipH="1" rot="16247400">
              <a:off x="1874520" y="1002960"/>
              <a:ext cx="754920" cy="75528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饼形 3"/>
            <p:cNvSpPr/>
            <p:nvPr/>
          </p:nvSpPr>
          <p:spPr>
            <a:xfrm rot="21576000">
              <a:off x="1607400" y="1269000"/>
              <a:ext cx="231480" cy="205200"/>
            </a:xfrm>
            <a:custGeom>
              <a:avLst/>
              <a:gdLst/>
              <a:ahLst/>
              <a:rect l="l" t="t" r="r" b="b"/>
              <a:pathLst>
                <a:path w="330307" h="293191">
                  <a:moveTo>
                    <a:pt x="158912" y="293086"/>
                  </a:moveTo>
                  <a:cubicBezTo>
                    <a:pt x="68654" y="290056"/>
                    <a:pt x="-2119" y="223229"/>
                    <a:pt x="47" y="143079"/>
                  </a:cubicBezTo>
                  <a:cubicBezTo>
                    <a:pt x="2197" y="63509"/>
                    <a:pt x="75485" y="-1"/>
                    <a:pt x="165154" y="-1"/>
                  </a:cubicBezTo>
                  <a:lnTo>
                    <a:pt x="165154" y="146596"/>
                  </a:lnTo>
                  <a:lnTo>
                    <a:pt x="158912" y="293086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直接连接符 2"/>
          <p:cNvSpPr/>
          <p:nvPr/>
        </p:nvSpPr>
        <p:spPr>
          <a:xfrm>
            <a:off x="2768760" y="1763640"/>
            <a:ext cx="61131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8"/>
          <p:cNvSpPr/>
          <p:nvPr/>
        </p:nvSpPr>
        <p:spPr>
          <a:xfrm>
            <a:off x="4976640" y="3238560"/>
            <a:ext cx="350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图片 23" descr=""/>
          <p:cNvPicPr/>
          <p:nvPr/>
        </p:nvPicPr>
        <p:blipFill>
          <a:blip r:embed="rId1"/>
          <a:stretch/>
        </p:blipFill>
        <p:spPr>
          <a:xfrm>
            <a:off x="3809880" y="2408400"/>
            <a:ext cx="835200" cy="1083960"/>
          </a:xfrm>
          <a:prstGeom prst="rect">
            <a:avLst/>
          </a:prstGeom>
          <a:ln w="0">
            <a:noFill/>
          </a:ln>
        </p:spPr>
      </p:pic>
      <p:sp>
        <p:nvSpPr>
          <p:cNvPr id="585" name="文本框 25"/>
          <p:cNvSpPr/>
          <p:nvPr/>
        </p:nvSpPr>
        <p:spPr>
          <a:xfrm>
            <a:off x="4976640" y="2668680"/>
            <a:ext cx="20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图片 30" descr=""/>
          <p:cNvPicPr/>
          <p:nvPr/>
        </p:nvPicPr>
        <p:blipFill>
          <a:blip r:embed="rId2"/>
          <a:stretch/>
        </p:blipFill>
        <p:spPr>
          <a:xfrm>
            <a:off x="3809880" y="405936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587" name="文本框 38"/>
          <p:cNvSpPr/>
          <p:nvPr/>
        </p:nvSpPr>
        <p:spPr>
          <a:xfrm>
            <a:off x="4976640" y="4842000"/>
            <a:ext cx="350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42"/>
          <p:cNvSpPr/>
          <p:nvPr/>
        </p:nvSpPr>
        <p:spPr>
          <a:xfrm>
            <a:off x="4976640" y="4272120"/>
            <a:ext cx="20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文本框 24"/>
          <p:cNvSpPr/>
          <p:nvPr/>
        </p:nvSpPr>
        <p:spPr>
          <a:xfrm>
            <a:off x="3003480" y="9907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可长可短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1379160" y="705960"/>
            <a:ext cx="1345320" cy="1343880"/>
            <a:chOff x="1379160" y="705960"/>
            <a:chExt cx="1345320" cy="1343880"/>
          </a:xfrm>
        </p:grpSpPr>
        <p:sp>
          <p:nvSpPr>
            <p:cNvPr id="591" name="椭圆 6"/>
            <p:cNvSpPr/>
            <p:nvPr/>
          </p:nvSpPr>
          <p:spPr>
            <a:xfrm rot="16246800">
              <a:off x="1388520" y="714240"/>
              <a:ext cx="1325880" cy="1327320"/>
            </a:xfrm>
            <a:prstGeom prst="ellipse">
              <a:avLst/>
            </a:prstGeom>
            <a:solidFill>
              <a:srgbClr val="db7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直接连接符 8"/>
            <p:cNvSpPr/>
            <p:nvPr/>
          </p:nvSpPr>
          <p:spPr>
            <a:xfrm flipV="1">
              <a:off x="1673640" y="1381320"/>
              <a:ext cx="4680" cy="55692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任意多边形 19"/>
            <p:cNvSpPr/>
            <p:nvPr/>
          </p:nvSpPr>
          <p:spPr>
            <a:xfrm rot="16246800">
              <a:off x="1931760" y="1154520"/>
              <a:ext cx="1099080" cy="468720"/>
            </a:xfrm>
            <a:custGeom>
              <a:avLst/>
              <a:gdLst/>
              <a:ahLst/>
              <a:rect l="l" t="t" r="r" b="b"/>
              <a:pathLst>
                <a:path w="1646438" h="701643">
                  <a:moveTo>
                    <a:pt x="273817" y="0"/>
                  </a:moveTo>
                  <a:lnTo>
                    <a:pt x="0" y="250524"/>
                  </a:lnTo>
                  <a:lnTo>
                    <a:pt x="105736" y="390516"/>
                  </a:lnTo>
                  <a:cubicBezTo>
                    <a:pt x="243140" y="516730"/>
                    <a:pt x="234841" y="497242"/>
                    <a:pt x="299394" y="550605"/>
                  </a:cubicBezTo>
                  <a:cubicBezTo>
                    <a:pt x="362729" y="586231"/>
                    <a:pt x="368287" y="586687"/>
                    <a:pt x="499448" y="639898"/>
                  </a:cubicBezTo>
                  <a:cubicBezTo>
                    <a:pt x="679862" y="702396"/>
                    <a:pt x="689453" y="686856"/>
                    <a:pt x="784456" y="699274"/>
                  </a:cubicBezTo>
                  <a:cubicBezTo>
                    <a:pt x="879937" y="702636"/>
                    <a:pt x="910213" y="706430"/>
                    <a:pt x="1063526" y="679863"/>
                  </a:cubicBezTo>
                  <a:cubicBezTo>
                    <a:pt x="1264949" y="627719"/>
                    <a:pt x="1258033" y="615712"/>
                    <a:pt x="1353949" y="563622"/>
                  </a:cubicBezTo>
                  <a:cubicBezTo>
                    <a:pt x="1433045" y="500709"/>
                    <a:pt x="1477726" y="462377"/>
                    <a:pt x="1539615" y="411754"/>
                  </a:cubicBezTo>
                  <a:cubicBezTo>
                    <a:pt x="1607898" y="340578"/>
                    <a:pt x="1610812" y="324723"/>
                    <a:pt x="1646438" y="281180"/>
                  </a:cubicBezTo>
                  <a:lnTo>
                    <a:pt x="1393751" y="3654"/>
                  </a:lnTo>
                  <a:lnTo>
                    <a:pt x="2738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3d255"/>
                </a:gs>
                <a:gs pos="100000">
                  <a:srgbClr val="f7fa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饼形 15"/>
            <p:cNvSpPr/>
            <p:nvPr/>
          </p:nvSpPr>
          <p:spPr>
            <a:xfrm rot="10846800">
              <a:off x="2084760" y="1228320"/>
              <a:ext cx="302040" cy="301680"/>
            </a:xfrm>
            <a:custGeom>
              <a:avLst/>
              <a:gdLst/>
              <a:ahLst/>
              <a:rect l="l" t="t" r="r" b="b"/>
              <a:pathLst>
                <a:path w="431013" h="431013">
                  <a:moveTo>
                    <a:pt x="215507" y="431013"/>
                  </a:moveTo>
                  <a:cubicBezTo>
                    <a:pt x="138514" y="431013"/>
                    <a:pt x="67369" y="389938"/>
                    <a:pt x="28872" y="323260"/>
                  </a:cubicBezTo>
                  <a:cubicBezTo>
                    <a:pt x="-9625" y="256582"/>
                    <a:pt x="-9625" y="174431"/>
                    <a:pt x="28872" y="107753"/>
                  </a:cubicBezTo>
                  <a:cubicBezTo>
                    <a:pt x="67369" y="41075"/>
                    <a:pt x="138513" y="-1"/>
                    <a:pt x="215507" y="-1"/>
                  </a:cubicBezTo>
                  <a:lnTo>
                    <a:pt x="215507" y="215507"/>
                  </a:lnTo>
                  <a:lnTo>
                    <a:pt x="215507" y="431013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矩形 9"/>
            <p:cNvSpPr/>
            <p:nvPr/>
          </p:nvSpPr>
          <p:spPr>
            <a:xfrm rot="16246800">
              <a:off x="1750320" y="1343880"/>
              <a:ext cx="137520" cy="200160"/>
            </a:xfrm>
            <a:prstGeom prst="rect">
              <a:avLst/>
            </a:pr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矩形 10"/>
            <p:cNvSpPr/>
            <p:nvPr/>
          </p:nvSpPr>
          <p:spPr>
            <a:xfrm rot="16246800">
              <a:off x="1752480" y="1205640"/>
              <a:ext cx="137520" cy="200160"/>
            </a:xfrm>
            <a:prstGeom prst="rect">
              <a:avLst/>
            </a:pr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饼形 12"/>
            <p:cNvSpPr/>
            <p:nvPr/>
          </p:nvSpPr>
          <p:spPr>
            <a:xfrm rot="16246800">
              <a:off x="1874880" y="995040"/>
              <a:ext cx="754920" cy="75564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饼形 13"/>
            <p:cNvSpPr/>
            <p:nvPr/>
          </p:nvSpPr>
          <p:spPr>
            <a:xfrm flipH="1" rot="16247400">
              <a:off x="1874520" y="1002960"/>
              <a:ext cx="754920" cy="75528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饼形 3"/>
            <p:cNvSpPr/>
            <p:nvPr/>
          </p:nvSpPr>
          <p:spPr>
            <a:xfrm rot="21576000">
              <a:off x="1607400" y="1269000"/>
              <a:ext cx="231480" cy="205200"/>
            </a:xfrm>
            <a:custGeom>
              <a:avLst/>
              <a:gdLst/>
              <a:ahLst/>
              <a:rect l="l" t="t" r="r" b="b"/>
              <a:pathLst>
                <a:path w="330307" h="293191">
                  <a:moveTo>
                    <a:pt x="158912" y="293086"/>
                  </a:moveTo>
                  <a:cubicBezTo>
                    <a:pt x="68654" y="290056"/>
                    <a:pt x="-2119" y="223229"/>
                    <a:pt x="47" y="143079"/>
                  </a:cubicBezTo>
                  <a:cubicBezTo>
                    <a:pt x="2197" y="63509"/>
                    <a:pt x="75485" y="-1"/>
                    <a:pt x="165154" y="-1"/>
                  </a:cubicBezTo>
                  <a:lnTo>
                    <a:pt x="165154" y="146596"/>
                  </a:lnTo>
                  <a:lnTo>
                    <a:pt x="158912" y="293086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直接连接符 2"/>
          <p:cNvSpPr/>
          <p:nvPr/>
        </p:nvSpPr>
        <p:spPr>
          <a:xfrm>
            <a:off x="2768760" y="1763640"/>
            <a:ext cx="61131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Group 14"/>
          <p:cNvGrpSpPr/>
          <p:nvPr/>
        </p:nvGrpSpPr>
        <p:grpSpPr>
          <a:xfrm>
            <a:off x="2084400" y="2566800"/>
            <a:ext cx="1823040" cy="1823040"/>
            <a:chOff x="2084400" y="2566800"/>
            <a:chExt cx="1823040" cy="1823040"/>
          </a:xfrm>
        </p:grpSpPr>
        <p:sp>
          <p:nvSpPr>
            <p:cNvPr id="602" name="同心圆 26"/>
            <p:cNvSpPr/>
            <p:nvPr/>
          </p:nvSpPr>
          <p:spPr>
            <a:xfrm>
              <a:off x="2260440" y="2743200"/>
              <a:ext cx="147168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空心弧 27"/>
            <p:cNvSpPr/>
            <p:nvPr/>
          </p:nvSpPr>
          <p:spPr>
            <a:xfrm rot="12246000">
              <a:off x="2305800" y="2788200"/>
              <a:ext cx="137988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0" y="689824"/>
                  </a:moveTo>
                  <a:cubicBezTo>
                    <a:pt x="0" y="390829"/>
                    <a:pt x="192617" y="125873"/>
                    <a:pt x="477031" y="33641"/>
                  </a:cubicBezTo>
                  <a:cubicBezTo>
                    <a:pt x="761445" y="-58591"/>
                    <a:pt x="1072897" y="42902"/>
                    <a:pt x="1248365" y="284995"/>
                  </a:cubicBezTo>
                  <a:cubicBezTo>
                    <a:pt x="1423832" y="527088"/>
                    <a:pt x="1423364" y="854659"/>
                    <a:pt x="1247205" y="1096249"/>
                  </a:cubicBezTo>
                  <a:lnTo>
                    <a:pt x="1093624" y="984263"/>
                  </a:lnTo>
                  <a:cubicBezTo>
                    <a:pt x="1221244" y="809241"/>
                    <a:pt x="1221584" y="571928"/>
                    <a:pt x="1094465" y="396542"/>
                  </a:cubicBezTo>
                  <a:cubicBezTo>
                    <a:pt x="967346" y="221155"/>
                    <a:pt x="741711" y="147627"/>
                    <a:pt x="535664" y="214446"/>
                  </a:cubicBezTo>
                  <a:cubicBezTo>
                    <a:pt x="329618" y="281264"/>
                    <a:pt x="190074" y="473215"/>
                    <a:pt x="190074" y="689825"/>
                  </a:cubicBezTo>
                  <a:lnTo>
                    <a:pt x="0" y="689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Group 17"/>
          <p:cNvGrpSpPr/>
          <p:nvPr/>
        </p:nvGrpSpPr>
        <p:grpSpPr>
          <a:xfrm>
            <a:off x="5231520" y="2566800"/>
            <a:ext cx="1822680" cy="1823040"/>
            <a:chOff x="5231520" y="2566800"/>
            <a:chExt cx="1822680" cy="1823040"/>
          </a:xfrm>
        </p:grpSpPr>
        <p:sp>
          <p:nvSpPr>
            <p:cNvPr id="605" name="同心圆 29"/>
            <p:cNvSpPr/>
            <p:nvPr/>
          </p:nvSpPr>
          <p:spPr>
            <a:xfrm>
              <a:off x="5407200" y="2743200"/>
              <a:ext cx="147132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空心弧 31"/>
            <p:cNvSpPr/>
            <p:nvPr/>
          </p:nvSpPr>
          <p:spPr>
            <a:xfrm rot="12246000">
              <a:off x="5452920" y="2788200"/>
              <a:ext cx="137952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149057" y="1118109"/>
                  </a:moveTo>
                  <a:cubicBezTo>
                    <a:pt x="-72511" y="838350"/>
                    <a:pt x="-44122" y="435781"/>
                    <a:pt x="214515" y="189885"/>
                  </a:cubicBezTo>
                  <a:cubicBezTo>
                    <a:pt x="473152" y="-56011"/>
                    <a:pt x="876641" y="-64043"/>
                    <a:pt x="1144860" y="171366"/>
                  </a:cubicBezTo>
                  <a:cubicBezTo>
                    <a:pt x="1413078" y="406774"/>
                    <a:pt x="1457465" y="807894"/>
                    <a:pt x="1247206" y="1096249"/>
                  </a:cubicBezTo>
                  <a:lnTo>
                    <a:pt x="1093624" y="984263"/>
                  </a:lnTo>
                  <a:cubicBezTo>
                    <a:pt x="1245948" y="775361"/>
                    <a:pt x="1213791" y="484766"/>
                    <a:pt x="1019479" y="314222"/>
                  </a:cubicBezTo>
                  <a:cubicBezTo>
                    <a:pt x="825166" y="143678"/>
                    <a:pt x="532854" y="149497"/>
                    <a:pt x="345482" y="327639"/>
                  </a:cubicBezTo>
                  <a:cubicBezTo>
                    <a:pt x="158110" y="505780"/>
                    <a:pt x="137543" y="797425"/>
                    <a:pt x="298060" y="1000100"/>
                  </a:cubicBezTo>
                  <a:lnTo>
                    <a:pt x="149057" y="1118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Group 20"/>
          <p:cNvGrpSpPr/>
          <p:nvPr/>
        </p:nvGrpSpPr>
        <p:grpSpPr>
          <a:xfrm>
            <a:off x="8334720" y="2566800"/>
            <a:ext cx="1823040" cy="1823040"/>
            <a:chOff x="8334720" y="2566800"/>
            <a:chExt cx="1823040" cy="1823040"/>
          </a:xfrm>
        </p:grpSpPr>
        <p:sp>
          <p:nvSpPr>
            <p:cNvPr id="608" name="同心圆 33"/>
            <p:cNvSpPr/>
            <p:nvPr/>
          </p:nvSpPr>
          <p:spPr>
            <a:xfrm>
              <a:off x="8516880" y="2743200"/>
              <a:ext cx="147168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空心弧 34"/>
            <p:cNvSpPr/>
            <p:nvPr/>
          </p:nvSpPr>
          <p:spPr>
            <a:xfrm rot="12246000">
              <a:off x="8556120" y="2788200"/>
              <a:ext cx="137988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580497" y="8718"/>
                  </a:moveTo>
                  <a:cubicBezTo>
                    <a:pt x="856448" y="-35576"/>
                    <a:pt x="1131857" y="91014"/>
                    <a:pt x="1277929" y="329287"/>
                  </a:cubicBezTo>
                  <a:cubicBezTo>
                    <a:pt x="1424001" y="567560"/>
                    <a:pt x="1411868" y="870425"/>
                    <a:pt x="1247204" y="1096249"/>
                  </a:cubicBezTo>
                  <a:lnTo>
                    <a:pt x="1093624" y="984263"/>
                  </a:lnTo>
                  <a:cubicBezTo>
                    <a:pt x="1212916" y="820662"/>
                    <a:pt x="1221706" y="601249"/>
                    <a:pt x="1115883" y="428630"/>
                  </a:cubicBezTo>
                  <a:cubicBezTo>
                    <a:pt x="1010059" y="256010"/>
                    <a:pt x="810537" y="164302"/>
                    <a:pt x="610621" y="196391"/>
                  </a:cubicBezTo>
                  <a:lnTo>
                    <a:pt x="580497" y="8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文本框 5"/>
          <p:cNvSpPr/>
          <p:nvPr/>
        </p:nvSpPr>
        <p:spPr>
          <a:xfrm>
            <a:off x="2585880" y="315612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文本框 17"/>
          <p:cNvSpPr/>
          <p:nvPr/>
        </p:nvSpPr>
        <p:spPr>
          <a:xfrm>
            <a:off x="5646600" y="315612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19"/>
          <p:cNvSpPr/>
          <p:nvPr/>
        </p:nvSpPr>
        <p:spPr>
          <a:xfrm>
            <a:off x="8756640" y="315612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1839960" y="442764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文本框 12"/>
          <p:cNvSpPr/>
          <p:nvPr/>
        </p:nvSpPr>
        <p:spPr>
          <a:xfrm>
            <a:off x="5122800" y="442764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12"/>
          <p:cNvSpPr/>
          <p:nvPr/>
        </p:nvSpPr>
        <p:spPr>
          <a:xfrm>
            <a:off x="8237520" y="442764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5013360" y="1353960"/>
            <a:ext cx="1892160" cy="1893960"/>
            <a:chOff x="5013360" y="1353960"/>
            <a:chExt cx="1892160" cy="1893960"/>
          </a:xfrm>
        </p:grpSpPr>
        <p:sp>
          <p:nvSpPr>
            <p:cNvPr id="617" name="椭圆 6"/>
            <p:cNvSpPr/>
            <p:nvPr/>
          </p:nvSpPr>
          <p:spPr>
            <a:xfrm>
              <a:off x="5013360" y="1353960"/>
              <a:ext cx="1892160" cy="1893960"/>
            </a:xfrm>
            <a:prstGeom prst="ellipse">
              <a:avLst/>
            </a:prstGeom>
            <a:solidFill>
              <a:srgbClr val="db7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接连接符 8"/>
            <p:cNvSpPr/>
            <p:nvPr/>
          </p:nvSpPr>
          <p:spPr>
            <a:xfrm>
              <a:off x="5959440" y="1353960"/>
              <a:ext cx="0" cy="47340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任意多边形 19"/>
            <p:cNvSpPr/>
            <p:nvPr/>
          </p:nvSpPr>
          <p:spPr>
            <a:xfrm>
              <a:off x="5167080" y="2579040"/>
              <a:ext cx="1568520" cy="668880"/>
            </a:xfrm>
            <a:custGeom>
              <a:avLst/>
              <a:gdLst/>
              <a:ahLst/>
              <a:rect l="l" t="t" r="r" b="b"/>
              <a:pathLst>
                <a:path w="1646438" h="701643">
                  <a:moveTo>
                    <a:pt x="273817" y="0"/>
                  </a:moveTo>
                  <a:lnTo>
                    <a:pt x="0" y="250524"/>
                  </a:lnTo>
                  <a:lnTo>
                    <a:pt x="105736" y="390516"/>
                  </a:lnTo>
                  <a:cubicBezTo>
                    <a:pt x="243140" y="516730"/>
                    <a:pt x="234841" y="497242"/>
                    <a:pt x="299394" y="550605"/>
                  </a:cubicBezTo>
                  <a:cubicBezTo>
                    <a:pt x="362729" y="586231"/>
                    <a:pt x="368287" y="586687"/>
                    <a:pt x="499448" y="639898"/>
                  </a:cubicBezTo>
                  <a:cubicBezTo>
                    <a:pt x="679862" y="702396"/>
                    <a:pt x="689453" y="686856"/>
                    <a:pt x="784456" y="699274"/>
                  </a:cubicBezTo>
                  <a:cubicBezTo>
                    <a:pt x="879937" y="702636"/>
                    <a:pt x="910213" y="706430"/>
                    <a:pt x="1063526" y="679863"/>
                  </a:cubicBezTo>
                  <a:cubicBezTo>
                    <a:pt x="1264949" y="627719"/>
                    <a:pt x="1258033" y="615712"/>
                    <a:pt x="1353949" y="563622"/>
                  </a:cubicBezTo>
                  <a:cubicBezTo>
                    <a:pt x="1433045" y="500709"/>
                    <a:pt x="1477726" y="462377"/>
                    <a:pt x="1539615" y="411754"/>
                  </a:cubicBezTo>
                  <a:cubicBezTo>
                    <a:pt x="1607898" y="340578"/>
                    <a:pt x="1610812" y="324723"/>
                    <a:pt x="1646438" y="281180"/>
                  </a:cubicBezTo>
                  <a:lnTo>
                    <a:pt x="1393751" y="3654"/>
                  </a:lnTo>
                  <a:lnTo>
                    <a:pt x="2738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3d255"/>
                </a:gs>
                <a:gs pos="100000">
                  <a:srgbClr val="f7fa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饼形 15"/>
            <p:cNvSpPr/>
            <p:nvPr/>
          </p:nvSpPr>
          <p:spPr>
            <a:xfrm rot="16200000">
              <a:off x="5745960" y="2348640"/>
              <a:ext cx="431280" cy="430920"/>
            </a:xfrm>
            <a:custGeom>
              <a:avLst/>
              <a:gdLst/>
              <a:ahLst/>
              <a:rect l="l" t="t" r="r" b="b"/>
              <a:pathLst>
                <a:path w="452284" h="452284">
                  <a:moveTo>
                    <a:pt x="226142" y="452284"/>
                  </a:moveTo>
                  <a:cubicBezTo>
                    <a:pt x="145349" y="452284"/>
                    <a:pt x="70694" y="409182"/>
                    <a:pt x="30297" y="339213"/>
                  </a:cubicBezTo>
                  <a:cubicBezTo>
                    <a:pt x="-10099" y="269244"/>
                    <a:pt x="-10099" y="183040"/>
                    <a:pt x="30297" y="113071"/>
                  </a:cubicBezTo>
                  <a:cubicBezTo>
                    <a:pt x="70693" y="43102"/>
                    <a:pt x="145349" y="0"/>
                    <a:pt x="226142" y="0"/>
                  </a:cubicBezTo>
                  <a:lnTo>
                    <a:pt x="226142" y="226142"/>
                  </a:lnTo>
                  <a:lnTo>
                    <a:pt x="226142" y="45228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9"/>
            <p:cNvSpPr/>
            <p:nvPr/>
          </p:nvSpPr>
          <p:spPr>
            <a:xfrm>
              <a:off x="5762520" y="1827360"/>
              <a:ext cx="196560" cy="285840"/>
            </a:xfrm>
            <a:prstGeom prst="rect">
              <a:avLst/>
            </a:pr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矩形 10"/>
            <p:cNvSpPr/>
            <p:nvPr/>
          </p:nvSpPr>
          <p:spPr>
            <a:xfrm>
              <a:off x="5959440" y="1827360"/>
              <a:ext cx="196560" cy="285840"/>
            </a:xfrm>
            <a:prstGeom prst="rect">
              <a:avLst/>
            </a:pr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饼形 12"/>
            <p:cNvSpPr/>
            <p:nvPr/>
          </p:nvSpPr>
          <p:spPr>
            <a:xfrm>
              <a:off x="5432040" y="2047680"/>
              <a:ext cx="1077120" cy="1078200"/>
            </a:xfrm>
            <a:custGeom>
              <a:avLst/>
              <a:gdLst/>
              <a:ahLst/>
              <a:rect l="l" t="t" r="r" b="b"/>
              <a:pathLst>
                <a:path w="1130710" h="1130710">
                  <a:moveTo>
                    <a:pt x="15" y="561173"/>
                  </a:moveTo>
                  <a:cubicBezTo>
                    <a:pt x="2313" y="250577"/>
                    <a:pt x="254750" y="0"/>
                    <a:pt x="565355" y="0"/>
                  </a:cubicBezTo>
                  <a:lnTo>
                    <a:pt x="565355" y="565355"/>
                  </a:lnTo>
                  <a:lnTo>
                    <a:pt x="15" y="561173"/>
                  </a:lnTo>
                  <a:close/>
                </a:path>
              </a:pathLst>
            </a:cu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饼形 13"/>
            <p:cNvSpPr/>
            <p:nvPr/>
          </p:nvSpPr>
          <p:spPr>
            <a:xfrm flipH="1">
              <a:off x="5420880" y="2047680"/>
              <a:ext cx="1077120" cy="1078200"/>
            </a:xfrm>
            <a:custGeom>
              <a:avLst/>
              <a:gdLst/>
              <a:ahLst/>
              <a:rect l="l" t="t" r="r" b="b"/>
              <a:pathLst>
                <a:path w="1130710" h="1130710">
                  <a:moveTo>
                    <a:pt x="15" y="561173"/>
                  </a:moveTo>
                  <a:cubicBezTo>
                    <a:pt x="2313" y="250577"/>
                    <a:pt x="254750" y="0"/>
                    <a:pt x="565355" y="0"/>
                  </a:cubicBezTo>
                  <a:lnTo>
                    <a:pt x="565355" y="565355"/>
                  </a:lnTo>
                  <a:lnTo>
                    <a:pt x="15" y="561173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5" name="文本框 24"/>
          <p:cNvSpPr/>
          <p:nvPr/>
        </p:nvSpPr>
        <p:spPr>
          <a:xfrm>
            <a:off x="4862520" y="3309840"/>
            <a:ext cx="23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12"/>
          <p:cNvSpPr/>
          <p:nvPr/>
        </p:nvSpPr>
        <p:spPr>
          <a:xfrm>
            <a:off x="5261040" y="3959280"/>
            <a:ext cx="1689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D5B5-AF8A-41A1-9D40-9C2B33055E9A}" type="datetime"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0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空心弧 28"/>
          <p:cNvSpPr/>
          <p:nvPr/>
        </p:nvSpPr>
        <p:spPr>
          <a:xfrm>
            <a:off x="4916520" y="1265400"/>
            <a:ext cx="2070000" cy="2070000"/>
          </a:xfrm>
          <a:custGeom>
            <a:avLst/>
            <a:gdLst/>
            <a:ahLst/>
            <a:rect l="l" t="t" r="r" b="b"/>
            <a:pathLst>
              <a:path w="2070399" h="2070399">
                <a:moveTo>
                  <a:pt x="177978" y="1615552"/>
                </a:moveTo>
                <a:cubicBezTo>
                  <a:pt x="-114491" y="1183554"/>
                  <a:pt x="-39806" y="601425"/>
                  <a:pt x="352243" y="257248"/>
                </a:cubicBezTo>
                <a:cubicBezTo>
                  <a:pt x="744292" y="-86929"/>
                  <a:pt x="1331192" y="-85598"/>
                  <a:pt x="1721677" y="260352"/>
                </a:cubicBezTo>
                <a:cubicBezTo>
                  <a:pt x="2112162" y="606303"/>
                  <a:pt x="2184207" y="1188765"/>
                  <a:pt x="1889783" y="1619432"/>
                </a:cubicBezTo>
                <a:lnTo>
                  <a:pt x="1889782" y="1619432"/>
                </a:lnTo>
                <a:cubicBezTo>
                  <a:pt x="2184207" y="1188764"/>
                  <a:pt x="2112161" y="606302"/>
                  <a:pt x="1721676" y="260352"/>
                </a:cubicBezTo>
                <a:cubicBezTo>
                  <a:pt x="1331191" y="-85599"/>
                  <a:pt x="744292" y="-86929"/>
                  <a:pt x="352242" y="257248"/>
                </a:cubicBezTo>
                <a:cubicBezTo>
                  <a:pt x="-39807" y="601425"/>
                  <a:pt x="-114492" y="1183554"/>
                  <a:pt x="177977" y="1615552"/>
                </a:cubicBezTo>
                <a:lnTo>
                  <a:pt x="177978" y="1615552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17"/>
          <p:cNvSpPr/>
          <p:nvPr/>
        </p:nvSpPr>
        <p:spPr>
          <a:xfrm>
            <a:off x="5619600" y="487980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同心圆 30"/>
          <p:cNvSpPr/>
          <p:nvPr/>
        </p:nvSpPr>
        <p:spPr>
          <a:xfrm>
            <a:off x="5611680" y="4641840"/>
            <a:ext cx="898560" cy="898560"/>
          </a:xfrm>
          <a:custGeom>
            <a:avLst/>
            <a:gdLst/>
            <a:ahLst/>
            <a:rect l="l" t="t" r="r" b="b"/>
            <a:pathLst>
              <a:path w="984250" h="985838">
                <a:moveTo>
                  <a:pt x="0" y="492919"/>
                </a:moveTo>
                <a:cubicBezTo>
                  <a:pt x="0" y="220687"/>
                  <a:pt x="220332" y="0"/>
                  <a:pt x="492125" y="0"/>
                </a:cubicBezTo>
                <a:cubicBezTo>
                  <a:pt x="763918" y="0"/>
                  <a:pt x="984250" y="220687"/>
                  <a:pt x="984250" y="492919"/>
                </a:cubicBezTo>
                <a:cubicBezTo>
                  <a:pt x="984250" y="765151"/>
                  <a:pt x="763918" y="985838"/>
                  <a:pt x="492125" y="985838"/>
                </a:cubicBezTo>
                <a:cubicBezTo>
                  <a:pt x="220332" y="985838"/>
                  <a:pt x="0" y="765151"/>
                  <a:pt x="0" y="492919"/>
                </a:cubicBezTo>
                <a:close/>
                <a:moveTo>
                  <a:pt x="0" y="492919"/>
                </a:moveTo>
                <a:cubicBezTo>
                  <a:pt x="0" y="765151"/>
                  <a:pt x="220332" y="985838"/>
                  <a:pt x="492125" y="985838"/>
                </a:cubicBezTo>
                <a:cubicBezTo>
                  <a:pt x="763918" y="985838"/>
                  <a:pt x="984250" y="765151"/>
                  <a:pt x="984250" y="492919"/>
                </a:cubicBezTo>
                <a:cubicBezTo>
                  <a:pt x="984250" y="220687"/>
                  <a:pt x="763918" y="0"/>
                  <a:pt x="492125" y="0"/>
                </a:cubicBezTo>
                <a:cubicBezTo>
                  <a:pt x="220332" y="0"/>
                  <a:pt x="0" y="220687"/>
                  <a:pt x="0" y="492919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3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1:34:15Z</dcterms:created>
  <dc:creator>D13001</dc:creator>
  <dc:description/>
  <cp:keywords/>
  <dc:language>en-US</dc:language>
  <cp:lastModifiedBy>a</cp:lastModifiedBy>
  <dcterms:modified xsi:type="dcterms:W3CDTF">2015-01-23T02:56:39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