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533-69FB-4FD3-8F7C-AF606DBB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31C0-2832-4636-A328-0CF970D3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E8B-9DE2-4FC7-BD1E-73A8CC4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A40-9D62-4988-99AD-0C7AA67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2E232-2B9F-4C31-A0BD-08CDD20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34F81-BA01-4C04-9DD7-FE06ACA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899C5-5DDE-4B7C-877B-7B7BD3C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B8D37-4417-426E-8523-D2B65EB4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8A4F0-2D4F-4BBF-B060-F032464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E1EE3-747F-41B5-AC46-721E72E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00D8-7F5C-4388-8CD6-A86A3EB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A4C76-6D76-482E-96E8-E65DFB5E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C9A45-233A-41A6-8ACE-1A8EF57E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83C5-DCAB-4C6F-B05E-A378CE8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72A-86A0-42FB-8318-50572CD0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F3F9A-5E28-4B57-9FBA-641C896B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F2C9F-3BBC-4144-A205-A60DEB61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6F91B-D05A-47C1-80AE-9489AA30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2358A-9357-4B04-9BAF-7B2BFEA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F5B9A-51B8-4081-9DFD-F2B0BAA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71671-A46A-4031-8CB8-8ACC08A9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3156-513B-493E-BAEC-1D72E7A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40503-25AE-43C8-9CFF-188BCCD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CC1D1-AD96-434B-B6D8-A6BF2B5B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2CFD2-23C3-47C4-B1B8-76873E6B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3F2-A924-4655-9F41-BA2202A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21AA2-A0D8-40E9-8683-5A98CCF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1D78E-AF85-4879-ABD4-712A5FFF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F868B-5EE5-4715-A32E-92EDDF31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D1BC-4023-4F42-8990-4787A3CC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CAE7-6645-40E1-8C96-515F3A24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545A4-FBEB-4A65-B06D-716E8FB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85072-A49B-48F0-852B-C39F174A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C752-2032-4128-9057-26C55FE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469EF-1CAE-4701-A80C-0C51F03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D385D-9C9B-45AF-9923-4214DE9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49A7-152E-4795-8AB2-6A16D633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B2819-7882-4C24-A696-A17B251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F259-A7E0-4746-B428-640EEEA8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9D97C-3144-4CC6-B00B-AAEF94B1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574A6-D513-4FC7-87B1-F2E00C9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2BC8-2352-4B65-9E6D-F75C91EF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E752B-81D7-4F37-B6B7-BFCF685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7D46A-7F6B-4C84-B5BF-ACA3F91E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E0756-A1D0-4551-BBA0-09ADF53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22D7-3F85-41BE-B287-22CE5B80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81521-F425-487F-8918-9463618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E83-70B5-4480-9996-68DF6FD3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16C0E-5E40-4BBE-B8A2-BE893DA0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E58B3-1ACE-4E0F-A9F5-F3091FC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C3BF8-14FB-4D6B-AFFC-062448F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44EC-466A-4C35-A910-BB75C10C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BFB94-6ABC-46D4-B932-7A7B0F2C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D1BE-4198-4EB2-80F0-35D78A5E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6DFA4-DC00-449A-90C2-20844F72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9301FF-CB60-4158-84E3-B5EBDD42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0201D-A01A-4976-B0C1-AAD15C48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E5B41-5835-4966-8625-12D7F9AF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13C-FA14-4F19-A36D-BCA1DA85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6496C-3616-4080-8FE9-BB2D0769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01178-6C5A-4198-863F-A38AF32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26B97-F95C-4046-A1C0-6B44B16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D22160-5A46-4623-836E-9D0797E8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13B2A-2299-4E9C-80F1-46607E7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41E22-BF90-45F3-BA77-8D30B34A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45B6B-3068-4A1D-84E3-4088CECA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7546-66B2-44FD-9AE9-D53F225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175A-2725-405A-A74A-2187968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36BE-44C0-4E74-8DCF-CBC2F3E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48AC-E214-4AE7-A612-7C6E1899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2B0-D744-4E5B-8E41-55508ADD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19F4-AD4E-4974-95E1-26B0AC1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B98-4018-45E4-82DE-7ECD03C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447-D59F-4306-9A8B-8C11A8C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59E6-DCBC-4897-97E2-3EC654C9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5BB-B4AA-4301-BC9D-00DB5C12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260F-89A4-434F-960B-37F12A44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008D-171C-4E4C-B943-8E339DE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0EE5-9D61-4CF9-AE8E-A8E076F0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8F85-C32A-4DFD-8EF0-80F2E2F8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42E2-B992-4D49-9A1F-60AE981C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3E6-08A6-47C7-B6B7-95BF49C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CC72-55C1-4850-B38E-E5FF1625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6960-1D27-4DF0-A1AB-87D39AA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4469-95F0-4A1D-8F70-88F3DD1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EFDA-C714-4759-86A2-3E7533E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BBD5-1234-4C8A-949D-09FCA5C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DF6D-4C98-4A22-9778-76577E7F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B831-8C53-4F73-AC44-3A242169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9CE2-8FF1-445B-96E9-7E4713BC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6F2B-1955-4FED-BF9C-93164B6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AE77-07EE-4EE1-950F-C41ED3B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EEB-2F84-4835-A2ED-207DC043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E52A-53B1-4DA1-AB06-BD1F542A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A8F7-E218-4052-8ED2-17B1AB5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C755-7A0E-4A09-A3D5-D19D36E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DEC4E-215E-44AA-AA76-E469B98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BCE4-6497-4028-A87D-90A375B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654F-92D5-4DFA-B7F3-0FCF909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04EA-CAC8-417E-B584-F33A5C9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1CC5-1FE1-4DBB-B29E-4EFCDAC6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7D21-CA1B-409B-B13A-44650438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7037-424F-47C6-947A-39641A57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9AB-FA00-44C1-B94C-55D00FF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2A427-2392-414B-8BBB-54D077D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D69D-BDD0-40C9-AB88-6C9008F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5ACD-B79E-4200-9304-38AD7E6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8B03-B41F-4243-B9C8-61E69E3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2CD11-3C7A-4A52-900B-0C823A0E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AA7A-A7F2-430F-ADF7-BE28EE86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F0F45-F143-436E-8EAD-373C6FA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7FC2-4FAB-4CC1-BFA8-C9431A3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CBC0-7407-4AFD-A084-D035A05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0141-186B-4059-AC82-0C67204A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432-8976-4478-92CC-1B960B1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F6A5F-DB40-4E17-B86B-27EAEEE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BCFB-E51D-4C0A-8986-A9BD5098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4AB67-AF8B-4E53-BAB5-6CC7CDF7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F339-3C28-4EC0-99BF-B7E10B4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8277-7ECD-4B4A-A9DB-540899FD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B029-5E63-4E8D-91D3-B652954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D9B2-7887-4B91-88A5-99DB4EDE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CCE9-AD0C-4C46-A882-BD11909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55ECA-D090-4B81-BEA6-4C6FEFB9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9B68-6FED-4D4F-8125-4BDCF3FC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F03-B69F-4910-954E-B248322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86B2-E1F7-4FE8-AE75-60249A7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47CCD-0EE3-405A-AF68-3D93C836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8730-2E75-48DC-81E5-A0876852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45B8F-9517-4013-BDE3-5F7DD46D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9D8D4-BA55-4BCA-89FC-BC8DCA2B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2171-FFED-4C92-9389-8335643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89139-4A19-4C66-A709-86AFA817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A19BD-3DC2-4E2C-9531-611585F2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3092-4D34-46B4-97E3-886FF1E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E6C63-6C4E-4322-97CE-F54F57B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6D9-82DC-4ACD-B521-6F3E27F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5F54-0E9F-4C1E-8A72-35DCC45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A65A1-60ED-4382-B220-F17C55B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FF6B-0AE6-4EF2-8C9C-23DCCEF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F6B28-F9F5-4F04-8720-0703639C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AF88-BD63-48DC-AFC4-0075C2E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F009-8053-4182-AB36-540F7ED5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3F734-F614-4B7C-B448-5E0CFA2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7C292-C43D-423B-B519-AA79CC0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1ECA8-4B10-4DE8-B1DA-40A311A8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BEA47-45A3-4BE1-8B99-EA2B222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EB7-B4C9-4E64-84EF-9358031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EB14-C673-4F2E-ACF0-1E2ABFB0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3F95-4B02-40B5-A7F7-2036BB3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766B-BF7F-4C28-A1DE-D9B6AD90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0ED67-4EB6-41AE-B55A-E99F9D6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CA31-2D3E-4030-A81A-BC388065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CE30-D583-4857-81C5-D1F64D6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FA67-DB67-4129-8B64-AB404CF2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CF61-F304-41A8-A159-98EF1A56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CA895-3492-466B-9EEF-F3789AF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48AB-16DF-4FC0-9EEE-E293C73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7268-2C8E-4526-B2E1-9DE7DF33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437-68E7-407D-906C-DEAE0A4C77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755-9598-49F1-9BE2-120972141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E356-7D2D-49AA-85F2-11993C4005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8BD0-E48E-4C74-8006-C25034C04C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1F3-762D-4AE8-B897-73B3231FDB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F652-D07D-4A53-A415-615893A2A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2959-C049-4731-80D7-C2EC2654EB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6B54-DA2A-4F7A-9416-834620247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3D82-B184-4654-87D4-AB0CB3334A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57B1-08E3-49E2-99BB-76413489C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B612-DCA7-4096-8ABD-E671170462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38A9-EE43-45B4-8A81-46A233C5D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346E-19AE-44E8-B9B1-E828C025BE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420B-5CA9-452B-A26E-A2661E48E1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CEB7-CF22-4AF0-A0FF-8677073A30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1952-631A-4F7B-AE94-5DA213646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74C-A82D-4167-A81F-4176609BDE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3334-6450-4670-8C0A-A9AB86A5F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D02-F178-4249-A702-23BD26293D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D89-0616-4587-88D1-B2635B44D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1B26-CAFA-49E2-B74F-0AC1BFBE8D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C05-BFFE-4934-9220-4612232D1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856-324F-413A-8278-FB9F0D117E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C33-C09B-4F95-B402-9BA208CDE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F:\ppt\612\人教版一年级语文下册《胖乎乎的小手》课件PPT\图片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1332000" y="2349360"/>
            <a:ext cx="525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棵小树十个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长叶子不开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能写会算还会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天干活不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方正彩云简体"/>
                <a:ea typeface="方正彩云简体"/>
              </a:rPr>
              <a:t>胖乎乎的小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F:\ppt\612\人教版一年级语文下册《胖乎乎的小手》课件PPT\图片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5"/>
          <p:cNvSpPr/>
          <p:nvPr/>
        </p:nvSpPr>
        <p:spPr>
          <a:xfrm>
            <a:off x="3419640" y="1268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3203640" y="2060640"/>
            <a:ext cx="424980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谁记得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7472520" y="476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6012000" y="26028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7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582" name="Rectangle 8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9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0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908000" y="4724280"/>
            <a:ext cx="936360" cy="1274760"/>
            <a:chOff x="1908000" y="4724280"/>
            <a:chExt cx="936360" cy="1274760"/>
          </a:xfrm>
        </p:grpSpPr>
        <p:sp>
          <p:nvSpPr>
            <p:cNvPr id="586" name="Rectangle 12"/>
            <p:cNvSpPr/>
            <p:nvPr/>
          </p:nvSpPr>
          <p:spPr>
            <a:xfrm>
              <a:off x="190800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3"/>
            <p:cNvSpPr/>
            <p:nvPr/>
          </p:nvSpPr>
          <p:spPr>
            <a:xfrm flipV="1">
              <a:off x="190800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4"/>
            <p:cNvSpPr/>
            <p:nvPr/>
          </p:nvSpPr>
          <p:spPr>
            <a:xfrm>
              <a:off x="241092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5"/>
          <p:cNvGrpSpPr/>
          <p:nvPr/>
        </p:nvGrpSpPr>
        <p:grpSpPr>
          <a:xfrm>
            <a:off x="6372360" y="4724280"/>
            <a:ext cx="936360" cy="1274760"/>
            <a:chOff x="6372360" y="4724280"/>
            <a:chExt cx="936360" cy="1274760"/>
          </a:xfrm>
        </p:grpSpPr>
        <p:sp>
          <p:nvSpPr>
            <p:cNvPr id="590" name="Rectangle 16"/>
            <p:cNvSpPr/>
            <p:nvPr/>
          </p:nvSpPr>
          <p:spPr>
            <a:xfrm>
              <a:off x="637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"/>
            <p:cNvSpPr/>
            <p:nvPr/>
          </p:nvSpPr>
          <p:spPr>
            <a:xfrm flipV="1">
              <a:off x="637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"/>
            <p:cNvSpPr/>
            <p:nvPr/>
          </p:nvSpPr>
          <p:spPr>
            <a:xfrm>
              <a:off x="687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4932360" y="4724280"/>
            <a:ext cx="936360" cy="1274760"/>
            <a:chOff x="4932360" y="4724280"/>
            <a:chExt cx="936360" cy="1274760"/>
          </a:xfrm>
        </p:grpSpPr>
        <p:sp>
          <p:nvSpPr>
            <p:cNvPr id="594" name="Rectangle 20"/>
            <p:cNvSpPr/>
            <p:nvPr/>
          </p:nvSpPr>
          <p:spPr>
            <a:xfrm>
              <a:off x="493236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1"/>
            <p:cNvSpPr/>
            <p:nvPr/>
          </p:nvSpPr>
          <p:spPr>
            <a:xfrm flipV="1">
              <a:off x="493236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2"/>
            <p:cNvSpPr/>
            <p:nvPr/>
          </p:nvSpPr>
          <p:spPr>
            <a:xfrm>
              <a:off x="543528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3"/>
          <p:cNvGrpSpPr/>
          <p:nvPr/>
        </p:nvGrpSpPr>
        <p:grpSpPr>
          <a:xfrm>
            <a:off x="3419640" y="4724280"/>
            <a:ext cx="936360" cy="1274760"/>
            <a:chOff x="3419640" y="4724280"/>
            <a:chExt cx="936360" cy="1274760"/>
          </a:xfrm>
        </p:grpSpPr>
        <p:sp>
          <p:nvSpPr>
            <p:cNvPr id="598" name="Rectangle 24"/>
            <p:cNvSpPr/>
            <p:nvPr/>
          </p:nvSpPr>
          <p:spPr>
            <a:xfrm>
              <a:off x="341964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 flipV="1">
              <a:off x="341964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6"/>
            <p:cNvSpPr/>
            <p:nvPr/>
          </p:nvSpPr>
          <p:spPr>
            <a:xfrm>
              <a:off x="392256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7"/>
          <p:cNvGrpSpPr/>
          <p:nvPr/>
        </p:nvGrpSpPr>
        <p:grpSpPr>
          <a:xfrm>
            <a:off x="7885080" y="4724280"/>
            <a:ext cx="936360" cy="1274760"/>
            <a:chOff x="7885080" y="4724280"/>
            <a:chExt cx="936360" cy="1274760"/>
          </a:xfrm>
        </p:grpSpPr>
        <p:sp>
          <p:nvSpPr>
            <p:cNvPr id="602" name="Rectangle 28"/>
            <p:cNvSpPr/>
            <p:nvPr/>
          </p:nvSpPr>
          <p:spPr>
            <a:xfrm>
              <a:off x="788508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9"/>
            <p:cNvSpPr/>
            <p:nvPr/>
          </p:nvSpPr>
          <p:spPr>
            <a:xfrm flipV="1">
              <a:off x="788508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0"/>
            <p:cNvSpPr/>
            <p:nvPr/>
          </p:nvSpPr>
          <p:spPr>
            <a:xfrm>
              <a:off x="838800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5" name="Picture 31" descr="toriblue.jpg (23158 バイト)"/>
          <p:cNvPicPr/>
          <p:nvPr/>
        </p:nvPicPr>
        <p:blipFill>
          <a:blip r:embed="rId6">
            <a:lum contrast="100000"/>
          </a:blip>
          <a:stretch/>
        </p:blipFill>
        <p:spPr>
          <a:xfrm>
            <a:off x="4500720" y="260280"/>
            <a:ext cx="1671480" cy="21337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2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3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4"/>
          <p:cNvSpPr/>
          <p:nvPr/>
        </p:nvSpPr>
        <p:spPr>
          <a:xfrm>
            <a:off x="8244000" y="2060640"/>
            <a:ext cx="649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5"/>
          <p:cNvSpPr/>
          <p:nvPr/>
        </p:nvSpPr>
        <p:spPr>
          <a:xfrm>
            <a:off x="5292720" y="206064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6"/>
          <p:cNvSpPr/>
          <p:nvPr/>
        </p:nvSpPr>
        <p:spPr>
          <a:xfrm>
            <a:off x="6732720" y="206064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i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toriblue.jpg (23158 バイト)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toriblue.jpg (23158 バイト)"/>
          <p:cNvPicPr/>
          <p:nvPr/>
        </p:nvPicPr>
        <p:blipFill>
          <a:blip r:embed="rId2">
            <a:lum contrast="100000"/>
          </a:blip>
          <a:stretch/>
        </p:blipFill>
        <p:spPr>
          <a:xfrm>
            <a:off x="6443640" y="189000"/>
            <a:ext cx="1671840" cy="21333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toriblue.jpg (23158 バイト)"/>
          <p:cNvPicPr/>
          <p:nvPr/>
        </p:nvPicPr>
        <p:blipFill>
          <a:blip r:embed="rId3">
            <a:lum contrast="100000"/>
          </a:blip>
          <a:stretch/>
        </p:blipFill>
        <p:spPr>
          <a:xfrm>
            <a:off x="3059280" y="333360"/>
            <a:ext cx="1671480" cy="2133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toriblue.jpg (23158 バイト)"/>
          <p:cNvPicPr/>
          <p:nvPr/>
        </p:nvPicPr>
        <p:blipFill>
          <a:blip r:embed="rId4">
            <a:lum contrast="100000"/>
          </a:blip>
          <a:stretch/>
        </p:blipFill>
        <p:spPr>
          <a:xfrm>
            <a:off x="1403280" y="333360"/>
            <a:ext cx="16718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6"/>
          <p:cNvGrpSpPr/>
          <p:nvPr/>
        </p:nvGrpSpPr>
        <p:grpSpPr>
          <a:xfrm>
            <a:off x="324000" y="4797360"/>
            <a:ext cx="936360" cy="1274760"/>
            <a:chOff x="324000" y="4797360"/>
            <a:chExt cx="936360" cy="1274760"/>
          </a:xfrm>
        </p:grpSpPr>
        <p:sp>
          <p:nvSpPr>
            <p:cNvPr id="617" name="Rectangle 7"/>
            <p:cNvSpPr/>
            <p:nvPr/>
          </p:nvSpPr>
          <p:spPr>
            <a:xfrm>
              <a:off x="324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8"/>
            <p:cNvSpPr/>
            <p:nvPr/>
          </p:nvSpPr>
          <p:spPr>
            <a:xfrm flipV="1">
              <a:off x="324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9"/>
            <p:cNvSpPr/>
            <p:nvPr/>
          </p:nvSpPr>
          <p:spPr>
            <a:xfrm>
              <a:off x="826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0"/>
          <p:cNvGrpSpPr/>
          <p:nvPr/>
        </p:nvGrpSpPr>
        <p:grpSpPr>
          <a:xfrm>
            <a:off x="2050920" y="4724280"/>
            <a:ext cx="936360" cy="1274760"/>
            <a:chOff x="2050920" y="4724280"/>
            <a:chExt cx="936360" cy="1274760"/>
          </a:xfrm>
        </p:grpSpPr>
        <p:sp>
          <p:nvSpPr>
            <p:cNvPr id="621" name="Rectangle 11"/>
            <p:cNvSpPr/>
            <p:nvPr/>
          </p:nvSpPr>
          <p:spPr>
            <a:xfrm>
              <a:off x="2050920" y="522756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2"/>
            <p:cNvSpPr/>
            <p:nvPr/>
          </p:nvSpPr>
          <p:spPr>
            <a:xfrm flipV="1">
              <a:off x="2050920" y="472428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3"/>
            <p:cNvSpPr/>
            <p:nvPr/>
          </p:nvSpPr>
          <p:spPr>
            <a:xfrm>
              <a:off x="2553840" y="472428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4"/>
          <p:cNvGrpSpPr/>
          <p:nvPr/>
        </p:nvGrpSpPr>
        <p:grpSpPr>
          <a:xfrm>
            <a:off x="7451640" y="4653000"/>
            <a:ext cx="936360" cy="1274760"/>
            <a:chOff x="7451640" y="4653000"/>
            <a:chExt cx="936360" cy="1274760"/>
          </a:xfrm>
        </p:grpSpPr>
        <p:sp>
          <p:nvSpPr>
            <p:cNvPr id="625" name="Rectangle 15"/>
            <p:cNvSpPr/>
            <p:nvPr/>
          </p:nvSpPr>
          <p:spPr>
            <a:xfrm>
              <a:off x="7451640" y="515628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 flipV="1">
              <a:off x="7451640" y="465300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954560" y="465300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5580000" y="4797360"/>
            <a:ext cx="936360" cy="1274760"/>
            <a:chOff x="5580000" y="4797360"/>
            <a:chExt cx="936360" cy="1274760"/>
          </a:xfrm>
        </p:grpSpPr>
        <p:sp>
          <p:nvSpPr>
            <p:cNvPr id="629" name="Rectangle 19"/>
            <p:cNvSpPr/>
            <p:nvPr/>
          </p:nvSpPr>
          <p:spPr>
            <a:xfrm>
              <a:off x="558000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V="1">
              <a:off x="558000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08292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2"/>
          <p:cNvGrpSpPr/>
          <p:nvPr/>
        </p:nvGrpSpPr>
        <p:grpSpPr>
          <a:xfrm>
            <a:off x="3851280" y="4797360"/>
            <a:ext cx="936360" cy="1274760"/>
            <a:chOff x="3851280" y="4797360"/>
            <a:chExt cx="936360" cy="1274760"/>
          </a:xfrm>
        </p:grpSpPr>
        <p:sp>
          <p:nvSpPr>
            <p:cNvPr id="633" name="Rectangle 23"/>
            <p:cNvSpPr/>
            <p:nvPr/>
          </p:nvSpPr>
          <p:spPr>
            <a:xfrm>
              <a:off x="3851280" y="5300640"/>
              <a:ext cx="936360" cy="7714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V="1">
              <a:off x="3851280" y="4797360"/>
              <a:ext cx="50292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5"/>
            <p:cNvSpPr/>
            <p:nvPr/>
          </p:nvSpPr>
          <p:spPr>
            <a:xfrm>
              <a:off x="4354200" y="4797360"/>
              <a:ext cx="432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6" name="Picture 26" descr="toriblue.jpg (23158 バイト)"/>
          <p:cNvPicPr/>
          <p:nvPr/>
        </p:nvPicPr>
        <p:blipFill>
          <a:blip r:embed="rId5">
            <a:lum contrast="100000"/>
          </a:blip>
          <a:stretch/>
        </p:blipFill>
        <p:spPr>
          <a:xfrm>
            <a:off x="4643280" y="260280"/>
            <a:ext cx="1671840" cy="21337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7"/>
          <p:cNvSpPr/>
          <p:nvPr/>
        </p:nvSpPr>
        <p:spPr>
          <a:xfrm>
            <a:off x="611280" y="1989000"/>
            <a:ext cx="718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2124000" y="198900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5651640" y="1916280"/>
            <a:ext cx="863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7380360" y="1916280"/>
            <a:ext cx="934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3780000" y="1989000"/>
            <a:ext cx="863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1176480" y="1249200"/>
            <a:ext cx="1702800" cy="1704240"/>
            <a:chOff x="1176480" y="1249200"/>
            <a:chExt cx="1702800" cy="1704240"/>
          </a:xfrm>
        </p:grpSpPr>
        <p:sp>
          <p:nvSpPr>
            <p:cNvPr id="643" name="AutoShape 3"/>
            <p:cNvSpPr/>
            <p:nvPr/>
          </p:nvSpPr>
          <p:spPr>
            <a:xfrm rot="20508600">
              <a:off x="1547280" y="134136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4"/>
            <p:cNvSpPr/>
            <p:nvPr/>
          </p:nvSpPr>
          <p:spPr>
            <a:xfrm rot="5869200">
              <a:off x="2267280" y="184500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5"/>
            <p:cNvSpPr/>
            <p:nvPr/>
          </p:nvSpPr>
          <p:spPr>
            <a:xfrm rot="12435600">
              <a:off x="1332000" y="227736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6"/>
            <p:cNvSpPr/>
            <p:nvPr/>
          </p:nvSpPr>
          <p:spPr>
            <a:xfrm rot="16066800">
              <a:off x="1187280" y="17013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7"/>
            <p:cNvSpPr/>
            <p:nvPr/>
          </p:nvSpPr>
          <p:spPr>
            <a:xfrm>
              <a:off x="1690560" y="184608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8"/>
            <p:cNvSpPr/>
            <p:nvPr/>
          </p:nvSpPr>
          <p:spPr>
            <a:xfrm rot="8799600">
              <a:off x="2050560" y="227736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9"/>
            <p:cNvSpPr/>
            <p:nvPr/>
          </p:nvSpPr>
          <p:spPr>
            <a:xfrm rot="2375400">
              <a:off x="1995120" y="136656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0"/>
          <p:cNvGrpSpPr/>
          <p:nvPr/>
        </p:nvGrpSpPr>
        <p:grpSpPr>
          <a:xfrm>
            <a:off x="2905560" y="744480"/>
            <a:ext cx="1702440" cy="1703880"/>
            <a:chOff x="2905560" y="744480"/>
            <a:chExt cx="1702440" cy="1703880"/>
          </a:xfrm>
        </p:grpSpPr>
        <p:sp>
          <p:nvSpPr>
            <p:cNvPr id="651" name="AutoShape 11"/>
            <p:cNvSpPr/>
            <p:nvPr/>
          </p:nvSpPr>
          <p:spPr>
            <a:xfrm rot="20508600">
              <a:off x="3276000" y="83664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2"/>
            <p:cNvSpPr/>
            <p:nvPr/>
          </p:nvSpPr>
          <p:spPr>
            <a:xfrm rot="5869200">
              <a:off x="3996000" y="134028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 rot="12435600">
              <a:off x="3060360" y="177228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14"/>
            <p:cNvSpPr/>
            <p:nvPr/>
          </p:nvSpPr>
          <p:spPr>
            <a:xfrm rot="16066800">
              <a:off x="2916360" y="119664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5"/>
            <p:cNvSpPr/>
            <p:nvPr/>
          </p:nvSpPr>
          <p:spPr>
            <a:xfrm>
              <a:off x="3419280" y="134136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6"/>
            <p:cNvSpPr/>
            <p:nvPr/>
          </p:nvSpPr>
          <p:spPr>
            <a:xfrm rot="8799600">
              <a:off x="3778920" y="177264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17"/>
            <p:cNvSpPr/>
            <p:nvPr/>
          </p:nvSpPr>
          <p:spPr>
            <a:xfrm rot="2375400">
              <a:off x="3723840" y="86184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8"/>
          <p:cNvGrpSpPr/>
          <p:nvPr/>
        </p:nvGrpSpPr>
        <p:grpSpPr>
          <a:xfrm>
            <a:off x="4632480" y="600120"/>
            <a:ext cx="1702800" cy="1704240"/>
            <a:chOff x="4632480" y="600120"/>
            <a:chExt cx="1702800" cy="1704240"/>
          </a:xfrm>
        </p:grpSpPr>
        <p:sp>
          <p:nvSpPr>
            <p:cNvPr id="659" name="AutoShape 19"/>
            <p:cNvSpPr/>
            <p:nvPr/>
          </p:nvSpPr>
          <p:spPr>
            <a:xfrm rot="20508600">
              <a:off x="5003280" y="69228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0"/>
            <p:cNvSpPr/>
            <p:nvPr/>
          </p:nvSpPr>
          <p:spPr>
            <a:xfrm rot="5869200">
              <a:off x="5723280" y="119592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1"/>
            <p:cNvSpPr/>
            <p:nvPr/>
          </p:nvSpPr>
          <p:spPr>
            <a:xfrm rot="12435600">
              <a:off x="4788000" y="162828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2"/>
            <p:cNvSpPr/>
            <p:nvPr/>
          </p:nvSpPr>
          <p:spPr>
            <a:xfrm rot="16066800">
              <a:off x="4643280" y="105228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23"/>
            <p:cNvSpPr/>
            <p:nvPr/>
          </p:nvSpPr>
          <p:spPr>
            <a:xfrm>
              <a:off x="5146560" y="119700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4"/>
            <p:cNvSpPr/>
            <p:nvPr/>
          </p:nvSpPr>
          <p:spPr>
            <a:xfrm rot="8799600">
              <a:off x="5506560" y="162828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5"/>
            <p:cNvSpPr/>
            <p:nvPr/>
          </p:nvSpPr>
          <p:spPr>
            <a:xfrm rot="2375400">
              <a:off x="5451120" y="71748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Group 26"/>
          <p:cNvGrpSpPr/>
          <p:nvPr/>
        </p:nvGrpSpPr>
        <p:grpSpPr>
          <a:xfrm>
            <a:off x="2616480" y="2689200"/>
            <a:ext cx="1702440" cy="1703880"/>
            <a:chOff x="2616480" y="2689200"/>
            <a:chExt cx="1702440" cy="1703880"/>
          </a:xfrm>
        </p:grpSpPr>
        <p:sp>
          <p:nvSpPr>
            <p:cNvPr id="667" name="AutoShape 27"/>
            <p:cNvSpPr/>
            <p:nvPr/>
          </p:nvSpPr>
          <p:spPr>
            <a:xfrm rot="20508600">
              <a:off x="2986920" y="278136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"/>
            <p:cNvSpPr/>
            <p:nvPr/>
          </p:nvSpPr>
          <p:spPr>
            <a:xfrm rot="5869200">
              <a:off x="3706920" y="328500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 rot="12435600">
              <a:off x="2771280" y="371700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0"/>
            <p:cNvSpPr/>
            <p:nvPr/>
          </p:nvSpPr>
          <p:spPr>
            <a:xfrm rot="16066800">
              <a:off x="2627280" y="314136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31"/>
            <p:cNvSpPr/>
            <p:nvPr/>
          </p:nvSpPr>
          <p:spPr>
            <a:xfrm>
              <a:off x="3130200" y="3286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2"/>
            <p:cNvSpPr/>
            <p:nvPr/>
          </p:nvSpPr>
          <p:spPr>
            <a:xfrm rot="8799600">
              <a:off x="3489840" y="371736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3"/>
            <p:cNvSpPr/>
            <p:nvPr/>
          </p:nvSpPr>
          <p:spPr>
            <a:xfrm rot="2375400">
              <a:off x="3434760" y="28065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34"/>
          <p:cNvGrpSpPr/>
          <p:nvPr/>
        </p:nvGrpSpPr>
        <p:grpSpPr>
          <a:xfrm>
            <a:off x="6361560" y="815760"/>
            <a:ext cx="1702440" cy="1703880"/>
            <a:chOff x="6361560" y="815760"/>
            <a:chExt cx="1702440" cy="1703880"/>
          </a:xfrm>
        </p:grpSpPr>
        <p:sp>
          <p:nvSpPr>
            <p:cNvPr id="675" name="AutoShape 35"/>
            <p:cNvSpPr/>
            <p:nvPr/>
          </p:nvSpPr>
          <p:spPr>
            <a:xfrm rot="20508600">
              <a:off x="6732000" y="90792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36"/>
            <p:cNvSpPr/>
            <p:nvPr/>
          </p:nvSpPr>
          <p:spPr>
            <a:xfrm rot="5869200">
              <a:off x="7452000" y="141156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37"/>
            <p:cNvSpPr/>
            <p:nvPr/>
          </p:nvSpPr>
          <p:spPr>
            <a:xfrm rot="12435600">
              <a:off x="6516360" y="184356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38"/>
            <p:cNvSpPr/>
            <p:nvPr/>
          </p:nvSpPr>
          <p:spPr>
            <a:xfrm rot="16066800">
              <a:off x="6372360" y="126792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9"/>
            <p:cNvSpPr/>
            <p:nvPr/>
          </p:nvSpPr>
          <p:spPr>
            <a:xfrm>
              <a:off x="6875280" y="141264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40"/>
            <p:cNvSpPr/>
            <p:nvPr/>
          </p:nvSpPr>
          <p:spPr>
            <a:xfrm rot="8799600">
              <a:off x="7234920" y="184392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41"/>
            <p:cNvSpPr/>
            <p:nvPr/>
          </p:nvSpPr>
          <p:spPr>
            <a:xfrm rot="2375400">
              <a:off x="7179840" y="93312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6073920" y="2328840"/>
            <a:ext cx="1702800" cy="1704240"/>
            <a:chOff x="6073920" y="2328840"/>
            <a:chExt cx="1702800" cy="1704240"/>
          </a:xfrm>
        </p:grpSpPr>
        <p:sp>
          <p:nvSpPr>
            <p:cNvPr id="683" name="AutoShape 43"/>
            <p:cNvSpPr/>
            <p:nvPr/>
          </p:nvSpPr>
          <p:spPr>
            <a:xfrm rot="20508600">
              <a:off x="6444720" y="242100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44"/>
            <p:cNvSpPr/>
            <p:nvPr/>
          </p:nvSpPr>
          <p:spPr>
            <a:xfrm rot="5869200">
              <a:off x="7164720" y="292464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45"/>
            <p:cNvSpPr/>
            <p:nvPr/>
          </p:nvSpPr>
          <p:spPr>
            <a:xfrm rot="12435600">
              <a:off x="6229440" y="335700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46"/>
            <p:cNvSpPr/>
            <p:nvPr/>
          </p:nvSpPr>
          <p:spPr>
            <a:xfrm rot="16066800">
              <a:off x="6084720" y="278100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7"/>
            <p:cNvSpPr/>
            <p:nvPr/>
          </p:nvSpPr>
          <p:spPr>
            <a:xfrm>
              <a:off x="6588000" y="292572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48"/>
            <p:cNvSpPr/>
            <p:nvPr/>
          </p:nvSpPr>
          <p:spPr>
            <a:xfrm rot="8799600">
              <a:off x="6948000" y="335700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9"/>
            <p:cNvSpPr/>
            <p:nvPr/>
          </p:nvSpPr>
          <p:spPr>
            <a:xfrm rot="2375400">
              <a:off x="6892560" y="244620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50"/>
          <p:cNvGrpSpPr/>
          <p:nvPr/>
        </p:nvGrpSpPr>
        <p:grpSpPr>
          <a:xfrm>
            <a:off x="4416840" y="2257200"/>
            <a:ext cx="1702440" cy="1703880"/>
            <a:chOff x="4416840" y="2257200"/>
            <a:chExt cx="1702440" cy="1703880"/>
          </a:xfrm>
        </p:grpSpPr>
        <p:sp>
          <p:nvSpPr>
            <p:cNvPr id="691" name="AutoShape 51"/>
            <p:cNvSpPr/>
            <p:nvPr/>
          </p:nvSpPr>
          <p:spPr>
            <a:xfrm rot="20508600">
              <a:off x="4787280" y="2349360"/>
              <a:ext cx="504720" cy="57600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52"/>
            <p:cNvSpPr/>
            <p:nvPr/>
          </p:nvSpPr>
          <p:spPr>
            <a:xfrm rot="5869200">
              <a:off x="5507280" y="2853000"/>
              <a:ext cx="574560" cy="57600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53"/>
            <p:cNvSpPr/>
            <p:nvPr/>
          </p:nvSpPr>
          <p:spPr>
            <a:xfrm rot="12435600">
              <a:off x="4571640" y="3285000"/>
              <a:ext cx="574200" cy="576360"/>
            </a:xfrm>
            <a:custGeom>
              <a:avLst/>
              <a:gdLst>
                <a:gd name="textAreaLeft" fmla="*/ 133200 w 574200"/>
                <a:gd name="textAreaRight" fmla="*/ 439560 w 5742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54"/>
            <p:cNvSpPr/>
            <p:nvPr/>
          </p:nvSpPr>
          <p:spPr>
            <a:xfrm rot="16066800">
              <a:off x="4427640" y="2709360"/>
              <a:ext cx="576000" cy="57600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5"/>
            <p:cNvSpPr/>
            <p:nvPr/>
          </p:nvSpPr>
          <p:spPr>
            <a:xfrm>
              <a:off x="4930560" y="2854080"/>
              <a:ext cx="57600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56"/>
            <p:cNvSpPr/>
            <p:nvPr/>
          </p:nvSpPr>
          <p:spPr>
            <a:xfrm rot="8799600">
              <a:off x="5290200" y="3285360"/>
              <a:ext cx="504360" cy="57636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57"/>
            <p:cNvSpPr/>
            <p:nvPr/>
          </p:nvSpPr>
          <p:spPr>
            <a:xfrm rot="2375400">
              <a:off x="5235120" y="237456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58"/>
          <p:cNvGrpSpPr/>
          <p:nvPr/>
        </p:nvGrpSpPr>
        <p:grpSpPr>
          <a:xfrm>
            <a:off x="889200" y="2760480"/>
            <a:ext cx="1702800" cy="1704240"/>
            <a:chOff x="889200" y="2760480"/>
            <a:chExt cx="1702800" cy="1704240"/>
          </a:xfrm>
        </p:grpSpPr>
        <p:sp>
          <p:nvSpPr>
            <p:cNvPr id="699" name="AutoShape 59"/>
            <p:cNvSpPr/>
            <p:nvPr/>
          </p:nvSpPr>
          <p:spPr>
            <a:xfrm rot="20508600">
              <a:off x="1260000" y="2852640"/>
              <a:ext cx="505080" cy="576000"/>
            </a:xfrm>
            <a:custGeom>
              <a:avLst/>
              <a:gdLst>
                <a:gd name="textAreaLeft" fmla="*/ 117360 w 505080"/>
                <a:gd name="textAreaRight" fmla="*/ 387720 w 505080"/>
                <a:gd name="textAreaTop" fmla="*/ 60120 h 576000"/>
                <a:gd name="textAreaBottom" fmla="*/ 3650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60"/>
            <p:cNvSpPr/>
            <p:nvPr/>
          </p:nvSpPr>
          <p:spPr>
            <a:xfrm rot="5869200">
              <a:off x="1980000" y="335628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61"/>
            <p:cNvSpPr/>
            <p:nvPr/>
          </p:nvSpPr>
          <p:spPr>
            <a:xfrm rot="12435600">
              <a:off x="1044720" y="3788640"/>
              <a:ext cx="574560" cy="576360"/>
            </a:xfrm>
            <a:custGeom>
              <a:avLst/>
              <a:gdLst>
                <a:gd name="textAreaLeft" fmla="*/ 133200 w 574560"/>
                <a:gd name="textAreaRight" fmla="*/ 439920 w 5745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62"/>
            <p:cNvSpPr/>
            <p:nvPr/>
          </p:nvSpPr>
          <p:spPr>
            <a:xfrm rot="16066800">
              <a:off x="900000" y="3212640"/>
              <a:ext cx="576000" cy="576360"/>
            </a:xfrm>
            <a:custGeom>
              <a:avLst/>
              <a:gdLst>
                <a:gd name="textAreaLeft" fmla="*/ 134640 w 576000"/>
                <a:gd name="textAreaRight" fmla="*/ 441360 w 57600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3"/>
            <p:cNvSpPr/>
            <p:nvPr/>
          </p:nvSpPr>
          <p:spPr>
            <a:xfrm>
              <a:off x="1403280" y="3357360"/>
              <a:ext cx="57636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64"/>
            <p:cNvSpPr/>
            <p:nvPr/>
          </p:nvSpPr>
          <p:spPr>
            <a:xfrm rot="8799600">
              <a:off x="1763280" y="3788640"/>
              <a:ext cx="504720" cy="57636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65"/>
            <p:cNvSpPr/>
            <p:nvPr/>
          </p:nvSpPr>
          <p:spPr>
            <a:xfrm rot="2375400">
              <a:off x="1707840" y="2877840"/>
              <a:ext cx="576360" cy="576360"/>
            </a:xfrm>
            <a:custGeom>
              <a:avLst/>
              <a:gdLst>
                <a:gd name="textAreaLeft" fmla="*/ 135000 w 576360"/>
                <a:gd name="textAreaRight" fmla="*/ 441360 w 576360"/>
                <a:gd name="textAreaTop" fmla="*/ 60120 h 576360"/>
                <a:gd name="textAreaBottom" fmla="*/ 3654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66"/>
          <p:cNvGrpSpPr/>
          <p:nvPr/>
        </p:nvGrpSpPr>
        <p:grpSpPr>
          <a:xfrm>
            <a:off x="468360" y="4869000"/>
            <a:ext cx="1366920" cy="1584360"/>
            <a:chOff x="468360" y="4869000"/>
            <a:chExt cx="1366920" cy="1584360"/>
          </a:xfrm>
        </p:grpSpPr>
        <p:sp>
          <p:nvSpPr>
            <p:cNvPr id="707" name="Oval 67"/>
            <p:cNvSpPr/>
            <p:nvPr/>
          </p:nvSpPr>
          <p:spPr>
            <a:xfrm>
              <a:off x="46836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68"/>
            <p:cNvSpPr/>
            <p:nvPr/>
          </p:nvSpPr>
          <p:spPr>
            <a:xfrm>
              <a:off x="46836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69"/>
            <p:cNvSpPr/>
            <p:nvPr/>
          </p:nvSpPr>
          <p:spPr>
            <a:xfrm flipH="1">
              <a:off x="147600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70"/>
            <p:cNvSpPr/>
            <p:nvPr/>
          </p:nvSpPr>
          <p:spPr>
            <a:xfrm>
              <a:off x="82692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 Box 71"/>
          <p:cNvSpPr/>
          <p:nvPr/>
        </p:nvSpPr>
        <p:spPr>
          <a:xfrm>
            <a:off x="468360" y="558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72"/>
          <p:cNvGrpSpPr/>
          <p:nvPr/>
        </p:nvGrpSpPr>
        <p:grpSpPr>
          <a:xfrm>
            <a:off x="4716360" y="4797360"/>
            <a:ext cx="1366920" cy="1584360"/>
            <a:chOff x="4716360" y="4797360"/>
            <a:chExt cx="1366920" cy="1584360"/>
          </a:xfrm>
        </p:grpSpPr>
        <p:sp>
          <p:nvSpPr>
            <p:cNvPr id="713" name="Oval 73"/>
            <p:cNvSpPr/>
            <p:nvPr/>
          </p:nvSpPr>
          <p:spPr>
            <a:xfrm>
              <a:off x="471636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74"/>
            <p:cNvSpPr/>
            <p:nvPr/>
          </p:nvSpPr>
          <p:spPr>
            <a:xfrm>
              <a:off x="471636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75"/>
            <p:cNvSpPr/>
            <p:nvPr/>
          </p:nvSpPr>
          <p:spPr>
            <a:xfrm flipH="1">
              <a:off x="572400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76"/>
            <p:cNvSpPr/>
            <p:nvPr/>
          </p:nvSpPr>
          <p:spPr>
            <a:xfrm>
              <a:off x="507492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77"/>
          <p:cNvGrpSpPr/>
          <p:nvPr/>
        </p:nvGrpSpPr>
        <p:grpSpPr>
          <a:xfrm>
            <a:off x="2411280" y="4869000"/>
            <a:ext cx="1366920" cy="1584360"/>
            <a:chOff x="2411280" y="4869000"/>
            <a:chExt cx="1366920" cy="1584360"/>
          </a:xfrm>
        </p:grpSpPr>
        <p:sp>
          <p:nvSpPr>
            <p:cNvPr id="718" name="Oval 78"/>
            <p:cNvSpPr/>
            <p:nvPr/>
          </p:nvSpPr>
          <p:spPr>
            <a:xfrm>
              <a:off x="2411280" y="486900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79"/>
            <p:cNvSpPr/>
            <p:nvPr/>
          </p:nvSpPr>
          <p:spPr>
            <a:xfrm>
              <a:off x="2411280" y="522936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80"/>
            <p:cNvSpPr/>
            <p:nvPr/>
          </p:nvSpPr>
          <p:spPr>
            <a:xfrm flipH="1">
              <a:off x="3418920" y="522936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81"/>
            <p:cNvSpPr/>
            <p:nvPr/>
          </p:nvSpPr>
          <p:spPr>
            <a:xfrm>
              <a:off x="2769840" y="630864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82"/>
          <p:cNvGrpSpPr/>
          <p:nvPr/>
        </p:nvGrpSpPr>
        <p:grpSpPr>
          <a:xfrm>
            <a:off x="6804000" y="4797360"/>
            <a:ext cx="1366920" cy="1584360"/>
            <a:chOff x="6804000" y="4797360"/>
            <a:chExt cx="1366920" cy="1584360"/>
          </a:xfrm>
        </p:grpSpPr>
        <p:sp>
          <p:nvSpPr>
            <p:cNvPr id="723" name="Oval 83"/>
            <p:cNvSpPr/>
            <p:nvPr/>
          </p:nvSpPr>
          <p:spPr>
            <a:xfrm>
              <a:off x="6804000" y="4797360"/>
              <a:ext cx="136692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84"/>
            <p:cNvSpPr/>
            <p:nvPr/>
          </p:nvSpPr>
          <p:spPr>
            <a:xfrm>
              <a:off x="6804000" y="5157720"/>
              <a:ext cx="35856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85"/>
            <p:cNvSpPr/>
            <p:nvPr/>
          </p:nvSpPr>
          <p:spPr>
            <a:xfrm flipH="1">
              <a:off x="7811640" y="5157720"/>
              <a:ext cx="3589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6"/>
            <p:cNvSpPr/>
            <p:nvPr/>
          </p:nvSpPr>
          <p:spPr>
            <a:xfrm>
              <a:off x="7162560" y="6237000"/>
              <a:ext cx="720720" cy="14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87"/>
          <p:cNvSpPr/>
          <p:nvPr/>
        </p:nvSpPr>
        <p:spPr>
          <a:xfrm>
            <a:off x="2567520" y="5445000"/>
            <a:ext cx="10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8"/>
          <p:cNvSpPr/>
          <p:nvPr/>
        </p:nvSpPr>
        <p:spPr>
          <a:xfrm>
            <a:off x="488268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9"/>
          <p:cNvSpPr/>
          <p:nvPr/>
        </p:nvSpPr>
        <p:spPr>
          <a:xfrm>
            <a:off x="6970320" y="544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0"/>
          <p:cNvSpPr/>
          <p:nvPr/>
        </p:nvSpPr>
        <p:spPr>
          <a:xfrm>
            <a:off x="0" y="189000"/>
            <a:ext cx="1908000" cy="120168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7" descr="F:\ppt\612\人教版一年级语文下册《胖乎乎的小手》课件PPT\图片8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3419640" y="126828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再来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的脑子最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3"/>
          <p:cNvSpPr/>
          <p:nvPr/>
        </p:nvSpPr>
        <p:spPr>
          <a:xfrm>
            <a:off x="755640" y="549360"/>
            <a:ext cx="8388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全家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欢兰兰画的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画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900000" y="549360"/>
            <a:ext cx="7991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下班回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拿起画看了又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把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胖乎乎"/>
          <p:cNvPicPr/>
          <p:nvPr/>
        </p:nvPicPr>
        <p:blipFill>
          <a:blip r:embed="rId1"/>
          <a:stretch/>
        </p:blipFill>
        <p:spPr>
          <a:xfrm>
            <a:off x="0" y="0"/>
            <a:ext cx="9144000" cy="56008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3"/>
          <p:cNvSpPr/>
          <p:nvPr/>
        </p:nvSpPr>
        <p:spPr>
          <a:xfrm>
            <a:off x="179280" y="5445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爸爸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拿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拖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panghuhu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3"/>
          <p:cNvSpPr/>
          <p:nvPr/>
        </p:nvSpPr>
        <p:spPr>
          <a:xfrm>
            <a:off x="1416960" y="5634000"/>
            <a:ext cx="700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妈妈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给我洗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手绢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2" descr="panghuhu1"/>
          <p:cNvPicPr/>
          <p:nvPr/>
        </p:nvPicPr>
        <p:blipFill>
          <a:blip r:embed="rId1"/>
          <a:stretch/>
        </p:blipFill>
        <p:spPr>
          <a:xfrm>
            <a:off x="0" y="0"/>
            <a:ext cx="9144000" cy="548172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1111320" y="5410080"/>
            <a:ext cx="73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姥姥说：“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乎乎的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挠过痒痒啊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8"/>
          <p:cNvSpPr/>
          <p:nvPr/>
        </p:nvSpPr>
        <p:spPr>
          <a:xfrm>
            <a:off x="468360" y="5734080"/>
            <a:ext cx="539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的小手可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--------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4"/>
          <p:cNvSpPr/>
          <p:nvPr/>
        </p:nvSpPr>
        <p:spPr>
          <a:xfrm>
            <a:off x="6732720" y="53737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5"/>
          <p:cNvSpPr/>
          <p:nvPr/>
        </p:nvSpPr>
        <p:spPr>
          <a:xfrm>
            <a:off x="3203640" y="32130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148360" y="0"/>
            <a:ext cx="3816360" cy="3240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的小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能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3"/>
          <p:cNvSpPr/>
          <p:nvPr/>
        </p:nvSpPr>
        <p:spPr>
          <a:xfrm>
            <a:off x="468360" y="476280"/>
            <a:ext cx="7991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长大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成了大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做更多的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7" descr="F:\ppt\612\人教版一年级语文下册《胖乎乎的小手》课件PPT\图片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"/>
          <p:cNvSpPr/>
          <p:nvPr/>
        </p:nvSpPr>
        <p:spPr>
          <a:xfrm>
            <a:off x="3419640" y="1268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擂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4"/>
          <p:cNvSpPr/>
          <p:nvPr/>
        </p:nvSpPr>
        <p:spPr>
          <a:xfrm>
            <a:off x="3276720" y="2060640"/>
            <a:ext cx="4249440" cy="30970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也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5"/>
          <p:cNvSpPr/>
          <p:nvPr/>
        </p:nvSpPr>
        <p:spPr>
          <a:xfrm>
            <a:off x="8172360" y="6021360"/>
            <a:ext cx="576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6"/>
          <p:cNvSpPr/>
          <p:nvPr/>
        </p:nvSpPr>
        <p:spPr>
          <a:xfrm>
            <a:off x="1476360" y="0"/>
            <a:ext cx="619272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6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胖乎乎的小手2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250920" y="0"/>
            <a:ext cx="7704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为什么全家人都喜欢兰兰这双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胖乎乎的小手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胖乎乎的小手2"/>
          <p:cNvPicPr/>
          <p:nvPr/>
        </p:nvPicPr>
        <p:blipFill>
          <a:blip r:embed="rId1"/>
          <a:stretch/>
        </p:blipFill>
        <p:spPr>
          <a:xfrm>
            <a:off x="1116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250920" y="0"/>
            <a:ext cx="7704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971640" y="0"/>
            <a:ext cx="777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１、借助拼音读懂全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　　２、说说你读懂了什么？或你知道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F:\ppt\612\人教版一年级语文下册《胖乎乎的小手》课件PPT\图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619280" y="476280"/>
            <a:ext cx="6553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华文彩云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爸爸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妈妈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奶奶喜欢兰兰的小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兰兰明白了，大家喜欢她的画，是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1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1623960" y="90792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140480" y="620640"/>
            <a:ext cx="63349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ǐ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　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zh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i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Arial"/>
              </a:rPr>
              <a:t>ē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q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　　  　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tu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xi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    d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ě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i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à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q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6" descr="F:\ppt\612\人教版一年级语文下册《胖乎乎的小手》课件PPT\图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1697040" y="836640"/>
            <a:ext cx="66546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喜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张 　 刚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贴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拖鞋  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70880" y="333360"/>
            <a:ext cx="560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1" descr="F:\ppt\612\人教版一年级语文下册《胖乎乎的小手》课件PPT\图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之家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763640" y="1197000"/>
            <a:ext cx="429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喜  张  刚  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墙  替  拖  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帮  等  变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477840" y="5889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2124000" y="260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9"/>
          <p:cNvSpPr/>
          <p:nvPr/>
        </p:nvSpPr>
        <p:spPr>
          <a:xfrm>
            <a:off x="7236000" y="6093000"/>
            <a:ext cx="50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组汇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09:01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6T08:55:44Z</dcterms:modified>
  <cp:revision>54</cp:revision>
  <dc:subject/>
  <dc:title>第一PPT模板网-WWW.1PPT.COM</dc:title>
</cp:coreProperties>
</file>