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E5C-AFB4-4BC2-933D-4CEE8CB3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359-ECD5-48C4-A045-E1CD9E8F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4EF1B-2625-4531-97C5-E44502A5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7B83D-0D0D-4195-816D-2B75F80F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3892B-24AD-42A2-B3DC-10242642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ED6D9-2470-457A-8B70-83C5A4D4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7C897-C17B-4A42-998B-4B710F6E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717C0-2A67-4483-8CCA-B549D879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777EE-09A7-4C16-9B0C-46E77D1C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D47CC-27E0-4047-94B3-5BF3420D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314E4-4DCA-43FB-8E4F-FE6D0C5B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D6396-4157-40E8-85AD-C32A5F3C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EEC-38A6-4527-A9FD-040466CC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EDD6C-0F12-4BCA-85B2-0ECA364B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3C03B-6CE0-4545-B0C0-91A5CDCD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9ECA7-F2EB-4CDF-BB43-C948DDCE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989C9-8852-46C4-8EE2-060401C9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2C6A1-8A43-410D-855F-FDA88505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44A29-240A-4F93-9845-3789AB55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038E3-3BAF-45D0-A5CE-D48DB139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18732-0B89-4235-A871-A10688F5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F1FB1-2087-4E22-8F3B-55308E4E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A269A-28F6-448A-817A-148E16E5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412-DBD2-4C83-90B6-E3A882CF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4A1E1-CC00-414E-AE01-5217F993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7738B-65FB-4CFF-8B3E-704AFE77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04A9B-D8FE-4F8E-A64C-EFD0D84A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57177-3D18-409E-9050-C521CC0C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42472-9A0C-40E4-B56A-61BD91A8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7B27B-65DF-4A86-94B6-E5193B60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8EA54-88D3-45FD-8F92-297769D3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4DB59-469C-4876-89F7-77A79995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35370-B89C-4969-BC63-E81A81C0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13EEB-AA38-462A-B5A6-1EB27149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71BC-B71B-4EBB-9691-E912FD23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2DF59-2B8A-4F54-8021-21AEAD6D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F0E21-8275-4AED-8F5A-E7FB2EB2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7DC48-E0DA-4BBF-8223-93B6FA26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65979-B2E0-44F5-9AE3-F41D018B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DAF5D-1B15-4EA0-B7EE-8615B6EB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F1A5C-F596-4ED3-A61C-B88BCA8C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0AFFD-3562-4D4E-8E7B-66C81756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05E64-5B9F-48F9-963C-9DFEC9A9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C9D71-7E7F-4E33-962A-F2F57CA3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EA867-7EE2-4329-9F51-76BBB883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926E-2466-4B6D-AC8B-52C427BF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B77B7-69ED-4C91-AB53-029F57BA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A1875-1DDD-45C1-9912-953E3022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418C5-1FE6-4802-9433-40250383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B08D0-1E84-4245-A3C5-6FC4353E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72CA7-F015-4D85-AC93-D718F641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8E7A9-70DB-4569-84DE-8CF21681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61150-FEDF-4BA1-9966-31B62FBF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23213-7240-4BE2-B0B0-6E45B020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3DACE-FBC8-4013-BA64-89697915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184C3-25ED-48F2-AEFB-6AA111FD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678C-7E57-42D0-9A95-5FDE37F5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292BA-37AC-47B0-85AC-7C80FAF1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FB3D7-BA20-4EB2-BA73-2CB71C9F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5FD74-8BAF-4B04-B274-D193AD02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03497-CA60-475C-8F66-B56A8471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9468C-8349-4AA2-8BF8-F359BA6D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72B1C-6CB6-4699-AB89-D03BABF0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D4F91-AEEC-4E13-A97C-21554199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103893-46D6-469C-AAB9-0E35F9D2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4D5B5-924D-4AA9-BABE-5CF6DEB5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1B95F-7168-4B97-A074-C95F7A6A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19DB-620F-4357-8E2B-6EED652F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FF390-F22F-4CEE-A099-04F0C870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94D7C-71FB-47FD-A1C2-6A44D924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282E5-6B3B-47D9-A131-9130F5AA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4F6ED-E5E7-4EAE-B949-D15F50F9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5CA9E-B2DB-4031-B80A-8A2B92AA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2347C-3843-4485-85BE-9C7DE684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DFF23-EFE9-40B3-A204-9CB3F7F6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F2DFD-B6C5-41C8-BC5E-D071E1C8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CC2FB-9C6E-4916-9D8C-F3C6EFEB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839D-E247-4DD0-BA94-13004E16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0433-FCFE-4FFF-BA5A-9D4C8C1D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1A7B-E9EA-4F1D-A520-EAFD6ED2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CA3-31EE-4F7B-B018-D432A19F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3AE9-E806-4D31-817E-FBD1C633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A181-A8C3-4534-8D2C-0538DF87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9B05-266C-4908-8962-C5B54518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E1E5-332C-4AF1-9F82-410BB6A2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1CC2-1B2A-4782-9CB0-50EA658E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BC63-AE86-48F9-8DA0-028ADDCE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7C2F3-D32E-4586-B272-2707E697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6355-5355-4208-8C3B-DCD9A77F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52BF-6C8F-4CF0-8F50-61E89480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19408-DB09-4C16-844A-F95A3AA2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DCA-CA80-46C7-97E5-C19D093A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A8528-23BA-4A41-8EFD-FC03C4D2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762A0-0C69-42BC-AA63-647C4E6C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9724-42E3-4600-B897-00A938BB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6E3E-87F3-44C0-8899-3A45547B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A7AC-EDE6-43F9-B5BC-9E65F83B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9C78-4C39-45E5-A95A-FEF0FC14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6AE0-F92F-4822-8443-A4A7BCD5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519D-316D-463D-80DF-5EB54D46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D8366-00A0-499D-8572-397FED58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71674-163C-4284-A60B-A9309465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5EA-22D1-44DD-98B8-6C26C6C2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97F5-7B37-4E46-B9F8-640135AC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A412E-5931-42C5-A9F1-A3C4735C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76640-C8AB-42A8-90DC-17275FAF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D3F05-D9D1-49F9-8476-5582C1E4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648D4-3724-4BA0-AB20-26623F17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AE5E6-73D6-4BEC-BF35-B0A39548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B0391-B97C-49DD-A150-D82CF3B8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70B2C-A17E-4AE0-8A5B-5F774E21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1E825-3CDE-4234-9FA5-116C6436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4166A-8487-4051-9B58-F75F9728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655-7A1B-4EAA-A56C-56AD5AF2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51D6A-33E3-48B2-BA3C-E428E707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2E74F-FE7E-44DA-9EB7-94F2EEF6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49AB1-4547-4649-94B4-33F2A993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8A87A-5FE0-47BE-BA60-6B775EDE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4DE8F-0BDD-49B5-BF65-6FD39202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582F0-4D17-488C-BC9D-62C655D7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3842-9816-4B43-A506-C78CCD8B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15907-2F7D-40BD-A0F7-74BEE88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9DC2-46D6-48EE-B61A-4917CED6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2E19E-D4A0-49FD-B63C-84AC467C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4B4-D391-443E-88E5-8B15B066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048F2-2D00-4910-B5E4-6C672E1F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60D6D-382B-4D0B-9472-8BBCE8A3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C9650-B352-4DD9-8668-AFF6B4CC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8F849-EDCD-4E5A-B232-7138E451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25EF9-65F4-4DBC-907B-C46B7F76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C616E-47E4-4B85-9F3D-769C359F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5AB09-FAD0-4B04-BF14-F9E1B95B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EB2F8-A97D-447C-BD67-1159F2F6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00505-B7A9-4897-9B32-04A07EDD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A3AB7-57B5-444A-9900-9915EFA8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004-0D12-49C8-9F38-E7D869D8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04E3B-B926-4A48-A643-9E868F77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249BC-546F-4C7C-84D5-A7F4036D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96A21-1FFC-419A-92A1-72846E36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90ED9-79E4-40FA-B7A5-ED794FD4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AB1DC-6392-4DF2-8F70-2E3886BF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07941-7437-4FA4-8565-BE0933E6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4D20C-8474-4479-B53B-9BAC5AA3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D6FE1-1C65-495D-9B3C-77688F5D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A052B-AC45-4321-9085-9596BCE7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51595-D53E-494C-9FD5-24E8BD07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A835-4BCF-40DC-A951-E91BBDD3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8F3C8-5473-440B-ABEB-9F6BF408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3BBD9-18AD-462E-9B8F-9D3CE56F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03229-FF60-4594-A47B-26613AF6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9BD66-C4EA-44BF-B6EA-C643E65C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0F2B8-85FF-430F-9E5C-63191BB5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C62E0-3AA6-4C59-8921-29C5D4AC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E3FB2-0848-4B0D-8BFA-91068896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82FCF-3B0B-4298-AB6D-29D2FF38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8D65E-A81D-4D20-8992-073CD58B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12AA7-D063-4259-A378-477BBE09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D0E-9AE4-41C1-BD58-F10E70E1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B71DA-F470-42EE-995D-4FCC2A0B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2C05C-C8F4-45E3-8AA6-4F46DEC6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5F5DF-74B9-4BB4-BA66-EDDAD9B5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40619-8364-42DD-8353-C47515C2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27E3C-9ADA-4FF5-80E2-F8DDF9E3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3DCB8-BC7E-4422-B3F2-45AAF001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2CAB4-999D-4284-9322-5DF2AAB0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C09B5-D89C-4DAC-96A6-627AF3FE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F2E58-2D05-48B1-97DD-C1993981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A2B04-8A25-4A20-A4C3-B71C6630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46FC-D1AE-4184-A488-FAE8219E3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1FE8-F930-435B-BC0C-93BB437A83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9E73-ED35-4A41-A133-444E10A495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ACB2-6741-44AA-945C-20B48376D3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B9A6-486E-40BD-9857-3C96C201DC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2C57-29EC-4EAF-B23B-D4364785A2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D859-ADFE-4458-9751-58CB478E48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A788-5B43-4F6C-926E-2935E64F42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6E51-EA17-48C2-BF50-2F8D8A2D70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4FF1-D527-4079-9C23-F29629609C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14AB-D6A3-4634-8004-CA1101D760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1B6A-90E4-4F87-90D6-C9914AD341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86C5-3AC0-4633-9C9B-A4AE4C8ABA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CEB3-3BB1-4E8A-8EAF-E99A5CF78BA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E361-01D8-490E-A18C-78CCE4D920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2BAC-1FD9-4DA6-8699-651E2C9586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2C47-5651-4B70-A145-AED69C12FF7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46C8-CD69-4B15-972C-89D2125413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BD61-830B-4646-A042-9C06B16B87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4DB6-AE7C-48A7-9DAC-60316CA4E7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8292-4E43-400B-9272-C61B0117E92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7C49-2F80-40A9-AD45-8C0B385CB6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0ED-0FED-4D06-9C0A-4FA08E7C46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FA60-AA7F-45E5-B220-1D45FC6CB5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40A2-58A3-420B-9A0D-265B8BC458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7736-D260-4027-94DA-46C158BDB3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2"/>
          <p:cNvSpPr txBox="1"/>
          <p:nvPr/>
        </p:nvSpPr>
        <p:spPr>
          <a:xfrm rot="5400000">
            <a:off x="5218920" y="278136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方正姚体"/>
              </a:rPr>
              <a:t>普罗米修斯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方正姚体"/>
              <a:ea typeface="方正姚体"/>
            </a:endParaRPr>
          </a:p>
        </p:txBody>
      </p:sp>
      <p:pic>
        <p:nvPicPr>
          <p:cNvPr id="576" name="Picture 4" descr="普"/>
          <p:cNvPicPr/>
          <p:nvPr/>
        </p:nvPicPr>
        <p:blipFill>
          <a:blip r:embed="rId1"/>
          <a:stretch/>
        </p:blipFill>
        <p:spPr>
          <a:xfrm>
            <a:off x="2268360" y="1255680"/>
            <a:ext cx="46800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1332000" y="2349360"/>
            <a:ext cx="74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尽管如此，普罗米修斯就是不向宙斯屈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20051015182732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457200" y="91440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4000" spc="-1" strike="noStrike">
                <a:solidFill>
                  <a:srgbClr val="e9e2b6"/>
                </a:solidFill>
                <a:latin typeface="Times New Roman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e2b6"/>
                </a:solidFill>
                <a:latin typeface="Times New Roman"/>
              </a:rPr>
              <a:t>抄写故事中生动感人的词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2268360" y="1413000"/>
            <a:ext cx="5473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普罗米修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太阳神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阿波罗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众神领袖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宙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大力神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赫拉克勒斯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高加索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3"/>
          <p:cNvSpPr/>
          <p:nvPr/>
        </p:nvSpPr>
        <p:spPr>
          <a:xfrm>
            <a:off x="1403280" y="90792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普罗米修斯的双手和双脚戴着铁环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被死死地锁在高高的悬崖上。他既不能动弹，也不能睡觉，日夜遭受着风吹雨淋的痛苦。尽管如此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普罗米修斯就是不向宙斯屈服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403280" y="90792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普罗米修斯的双手和双脚戴着铁环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被死死地锁在高高的悬崖上。他既不能动弹，也不能睡觉，日夜遭受着风吹雨淋的痛苦。尽管如此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普罗米修斯就是不向宙斯屈服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3"/>
          <p:cNvSpPr/>
          <p:nvPr/>
        </p:nvSpPr>
        <p:spPr>
          <a:xfrm>
            <a:off x="1476360" y="76500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狠心的宙斯又派了一只凶恶的鹫鹰，每天站在普罗米修斯的双膝上，用它尖利的嘴巴，啄食他的肝脏。白天，他的肝脏被吃光了，可是一到晚上，肝脏又重新长了起来。这样，普罗米修斯所承受的痛苦，永远没有尽头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476360" y="76500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狠心的宙斯又派了一只凶恶的鹫鹰，每天站在普罗米修斯的双膝上，用它尖利的嘴巴，啄食他的肝脏。白天，他的肝脏被吃光了，可是一到晚上，肝脏又重新长了起来。这样，普罗米修斯所承受的痛苦，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永远没有尽头了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476360" y="765000"/>
            <a:ext cx="74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狠心的宙斯又派了一只凶恶的鹫鹰，每天站在普罗米修斯的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膝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，用它尖利的嘴巴，啄食他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肝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白天，他的肝脏被吃光了，可是一到晚上，肝脏又重新长了起来。这样，普罗米修斯所承受的痛苦，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永远没有尽头了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6"/>
          <p:cNvSpPr/>
          <p:nvPr/>
        </p:nvSpPr>
        <p:spPr>
          <a:xfrm>
            <a:off x="1447920" y="1523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54f41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7" descr="普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1523880"/>
            <a:ext cx="74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许多年来，普罗米修斯一直被锁在那个可怕的悬崖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3:34:44Z</dcterms:created>
  <dc:creator>user</dc:creator>
  <dc:description/>
  <dc:language>en-US</dc:language>
  <cp:lastModifiedBy>a</cp:lastModifiedBy>
  <dcterms:modified xsi:type="dcterms:W3CDTF">2015-03-18T05:54:35Z</dcterms:modified>
  <cp:revision>23</cp:revision>
  <dc:subject/>
  <dc:title>PowerPoint 演示文稿</dc:title>
</cp:coreProperties>
</file>