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chimes.wav" ContentType="audio/x-wav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7E4-6C41-4351-BB86-53C1E532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FE7-4CAF-4EA6-B29E-E4CB6F7B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69C5C-B0EE-477C-BD9B-1630EE0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DAA5A-F7EA-4773-B132-200A5A90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50F48-AB1C-445C-A874-B771388D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B2015-B875-453D-9AD6-D15208D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C0214-04D8-43F0-9890-0FF225E0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7E36E-DCCD-49C0-927A-E2D11E7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56814-44A6-4B22-BEC6-49D663FB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813BA-8363-430C-BE70-EEA61629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D7840-953C-4DD6-952E-DA325C18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876DD-65F6-439D-8C38-9C50DAED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78F-A28F-4847-80A3-615CAD12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992F8-04CC-43BF-8D16-085C46C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AE5B6-5B41-4C20-8723-6A0243D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73CFE-E7DE-47B7-A860-07B295EF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26748-71A4-4AD3-AD19-ABAEEB8E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8D7D5-C30D-436B-8A9F-01F4CA06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56A7A-EA4A-4F10-8722-ECB236C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8263E-065E-4534-A815-FC9A43D3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C29B9-F620-40D9-9649-788D3977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AB9EB-8037-40F3-85D3-C6715F2A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BCDC5-2246-4557-8CDD-F23DB7BA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D08-B56A-4BE2-84A4-37EA5A98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692C3-7A80-42E5-A6B2-6EFB628C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CE844-C405-4D81-B255-6DF9AA72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AF3E1-7A4C-47C2-8C3C-893E8CEF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22E77-DB28-4F39-985A-7C5B3515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04016-1228-4F96-A20B-5393D2D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4884F-A2D5-4AFF-876B-6C5B356A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D4F4-1C8F-4531-BD4F-1C72F5ED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5270C-7498-41D5-A960-30449CD5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5CFF2-DE86-4CAA-8861-37404E4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7F00F-B3D2-4F55-BE50-B85193F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0B4C-B10D-46C6-B9AC-B79B6CE2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88261-11CF-4AB9-B5F2-365CC05E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FDC96-A43A-4921-B582-0E887A54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D10F7-0DE6-4B7D-B24C-1E89C4CE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97795-0848-4016-9B51-A371EC8B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4AE0F-AB45-4BD2-A204-F41CB673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6F6C6-3C64-4F23-B05F-787F6B4D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E4FE5-A35A-42C2-A995-3D035DAA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34454-6734-47EB-8427-8874A93F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DB348-506F-452C-8FD3-711D5165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D53C6-8F70-4922-8686-983E867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9472-EE00-4246-873B-CE52F13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43AAF-2C73-4AB3-AD54-48012885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2DDA0-5BFC-4E2C-965D-67E6C11A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8198B-8BD3-4A2D-8855-EB80D02D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80645-2005-4320-873A-91EE1A37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085BC-898C-4DCF-B80F-84D1F51B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C8D60-1B64-4B80-8709-86AEE043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EE8E3-12D2-408C-ADD5-A3D05ACF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60FC4-916C-4769-906F-670242A9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CC0BD-D131-48E1-9BFC-867F3D63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A88F5-33C5-4E2B-B12D-DAB58101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C606-C5AC-40AD-A17A-409D762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32588-CC8D-46A3-98C4-5335BA4F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8D77C-ED1B-40EF-B326-F6FC6BFF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EAA2E-815C-4773-982F-2153633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85175-E328-484E-8C7B-936485B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E588D-9A6A-45B6-9F89-4D53C752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3663C-2945-4E69-80A5-DA8C6408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17B53-33FD-43E0-9268-F6BFD0AC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1DFCA-3F07-4A64-8857-EF16EF43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37987-23F6-4B65-999C-A6F8D601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A87F3-F73E-49C0-AF72-30C80460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76D8-E870-42B4-85FB-F21C2CB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FECF5-F8A4-4E46-BE7D-6A04C2F9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045EB-BFF3-40B7-AE4A-52C876C7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A65DB-10F4-46AB-83C9-9AD1DCAB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98B2F-E429-4F2E-A6B8-EE83B0E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91E3F-4170-4001-A302-3625EE2B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7A2C9-76D2-41F4-AB83-C6D2B5A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9FDE2-E5C4-4E5D-A3A8-D81CCBD4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2DE51-48BD-4E16-82B3-FF8EE365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9CE31-C6CA-4850-8B4D-4ADDD269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8A041-5F88-441B-8A14-E059F37E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E537-59AD-40DC-BDCD-D61BD706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2C993-CC26-4930-A4FF-2BD6D57B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2FB8F-911A-49DD-A778-2D2A77E3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D15F1-7E52-4C46-8961-6E3882B1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E6AA4-9DA4-4264-85F7-1672D888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1C193-7DA0-49D3-9061-CBFE77BE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69F52-2089-4C4A-B5C4-FBF2C8A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1BC9C-CAF9-4966-A33F-9475BA54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483F9-BB9F-41F2-9593-AA791B3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F31A7-87A7-46DD-871E-DE494B2E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38CF7-A50A-4105-815C-3CBBDCDE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E3D-49B2-48AD-BDA7-B857725D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65189-A1E4-4703-AC5F-A847AC08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288F-21B1-42EE-B679-DB5D316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540-2E13-4BFB-BC6F-FDA256F9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9C00-0D71-4AB9-91E1-1D32422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67F-B6EE-4994-B8CB-7D0DDFF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F37D-6442-4EF9-ADBE-83F38940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6EE6-7590-4E4B-B9DD-831C047C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9793-21C0-49BE-B3C0-05D0AA96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A80C-A17E-4CF8-9E8A-9DB1FF13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B36E-094F-4028-83A8-988B1868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38AB-1FB7-4A2E-938B-93145C69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36E7-9A70-47E5-BBEE-EDE6BA21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842A-81DA-496E-BE51-D798734C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09E-9BB7-4F41-9DE6-F079AC15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D33C-8BDD-4440-A496-77BDCFF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3C9A-4EE5-4452-B978-6A090FCC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13DF-3E27-4DB8-B0D3-7296FB1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31B9-12EF-48E0-A26A-B8569C41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6D7E-7933-49F0-82CB-C16014BA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CF44-BC68-4CA0-8652-0617E97D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3D979-4A45-4540-97EF-A86468EB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1C99-F162-435E-962A-C44D64D3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4FC8-F214-40CC-BBF3-DE0C29B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6A86-9A7B-4DBD-B262-11E3937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FAC-4764-4999-93E0-1A25879D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03EC-ADBD-4953-9601-C79B026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788C-FA7E-44AA-841C-D064B993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7507-9FBC-4B56-B170-DC5ACB18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E1A4-39E9-4C73-BEA3-BDD377C7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0247B-AC75-4855-9E26-749A621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2C02-43C7-48FF-B46E-DB8E621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31C65-8C61-402E-A1C6-0EF1AFFC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E6DE-00DE-43FD-A1A8-DBBB16CF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E4A0-3FC9-4622-AE33-2D7FBEE8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6D49F-0C1A-4727-901F-3C4EACA5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5EC-9D6E-4FD1-863B-6BFBC762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166C7-148E-4A85-8927-534DDD5D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C6B55-C136-4509-94D0-99AE67B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AC8F4-7E99-437D-A1C2-3FD62AD5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63378-C8A7-4344-8307-141FC0CB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9F13A-6F7F-4E84-BD0D-D2CD73E1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0109D-9C41-48B2-BFB0-72B52E6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0B528-27A5-4C6B-97E9-75E871D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9FA8-D90A-4E9C-9316-5131070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C122-9FB5-4130-B29B-2A06868E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B93F-36AA-43C6-8423-71C321BA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8ED-9D6B-4834-BD22-BC280CA7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7827-3810-4413-9F84-EB733F52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9884A-AF58-4FDD-BAFC-D0646536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7E3D8-23B7-49E4-8346-C92AD35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B867-DF0B-40B1-925E-21484C80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79703-585D-421D-8938-5B454B4E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71B93-C930-40D1-B021-E431213F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C3A6-B6B8-4DB1-801B-44AEF82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EABF1-87DA-4DE7-A2CF-DD5DEC01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6D9D-599E-44B1-9E64-8766D34D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29219-5590-4225-B3D2-93F95B30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3DF-DE0B-4D0F-A635-7D9A5DF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E6EE-A472-4646-A962-CF745634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2230-A0B9-41FD-91AB-0D093346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7CA3C-D98F-4BAA-80CE-F6E5F281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2B71E-0D4B-4772-97AB-B28FB86E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B24F-7883-4894-8B69-93E4A7A4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6C5B6-B83F-4129-A54E-F60D5AF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CCEDE-9AF3-4006-B6A5-AE6D6F74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7FBA3-9B41-457D-84A7-22E83EA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30225-0C12-4E05-883C-E5CDF943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DA168-65EF-48E0-8641-372B383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109-2971-4215-AF9E-4A009903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B8488-5C3A-4455-A479-0611EE4E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C23CE-53D4-447A-A3A8-2F4E2FA4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52E73-CE27-423F-87AF-3F71B14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2CE05-20BF-4606-8572-2DA01084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2F6C9-55F1-49F4-A65A-B7B900F3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C706E-C03A-491B-8210-8BB2D0DE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20F66-79F6-49A0-B4AF-61A15EC8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ABF81-DA16-4196-A9B2-6E9CAF61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50F3D-7B25-42C8-ACBB-7A580115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48F8-2CC3-4418-8109-16D87422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B98-1B9E-4432-B6A4-4952431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E6145-E45F-4733-B4CF-65A16444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19369-081C-4F77-AE76-AE9E01D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894B-25B4-476F-A06A-FEF01F5B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6729E-DB12-4EA1-885C-2CBE28FB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982C7-98B2-4292-9E73-13387E79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D85EE-5A45-414B-B19D-B17F6189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91ED2-E33B-49DB-BF4D-50AF5567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701F5-FD67-4ADB-8B68-DF906AC8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434DB-32EF-4A07-978E-8BA6842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9C5CF-CA67-4C13-A1EE-4028EE05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8CD-CBC5-4CF4-9DCE-B5CEA711E71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DD3C-3A24-4536-B445-205D127C76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3A2B-1BF8-4593-8EAD-637E70FD79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3D53-3170-484C-B847-3B1B1F60E3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F48-FA59-4570-B24D-6DBA732111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DC73-6E56-4820-A792-CEA5E0F86D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AF20-3878-43E9-9402-D252C73F3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7A3A-74EA-4603-9690-DC72397009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C2D1-CAB3-4406-9A1B-6F02D5B61E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2DC1-F237-4076-9B81-52586DCBBD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87BB-55CC-495D-AC58-4BCB262A6E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5C84-3640-4EEE-942B-135197074B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8B32-F2FE-4782-992F-9A0363AE84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4A04-89A0-430E-8B29-E3C0E3EFE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39C2-B170-4B79-B80D-EF854D9D32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110F-C75C-450E-8DE5-512860649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81CF-D156-4B2D-B556-F526D156B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680C-7A60-40E8-ABF8-83E520DE9C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6913-369C-4DF3-BA9E-B654A2938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C89A-C808-4C14-836A-E36026075B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2A4F-91A3-4387-A56E-7BAB9006D6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C6D7-2073-4045-8393-606520EA24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186E-E081-4B7F-8C7E-7908B989BF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BB87-208E-45C3-B792-4501A379DB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1C17-9395-45A6-8AA4-5A8F8FE73D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563B-AC51-4E31-8C8E-53FB0D6629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D121-52CD-4E42-A9ED-4BF8DD7E08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6"/>
          <p:cNvSpPr txBox="1"/>
          <p:nvPr/>
        </p:nvSpPr>
        <p:spPr>
          <a:xfrm>
            <a:off x="2484360" y="2565360"/>
            <a:ext cx="38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平平搭积木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5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《平平搭积木》课文插图1"/>
          <p:cNvPicPr/>
          <p:nvPr/>
        </p:nvPicPr>
        <p:blipFill>
          <a:blip r:embed="rId3"/>
          <a:stretch/>
        </p:blipFill>
        <p:spPr>
          <a:xfrm>
            <a:off x="1835280" y="155736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我会读pic_227543"/>
          <p:cNvPicPr/>
          <p:nvPr/>
        </p:nvPicPr>
        <p:blipFill>
          <a:blip r:embed="rId2"/>
          <a:stretch/>
        </p:blipFill>
        <p:spPr>
          <a:xfrm>
            <a:off x="0" y="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380880" y="2666880"/>
            <a:ext cx="8458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 平    搭 积 木     这 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都 给 谁 住 呢        没 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还 有 一 间 啊        很 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1214280" y="2133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p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í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ng 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3476520" y="2133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dā  jī  m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6381720" y="511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hěn du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638172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zh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è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 xi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6400800" y="3581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m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é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i yǒ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1295280" y="3581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dōu gěi shu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í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 zh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ù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 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1357200" y="5110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hāi yǒu y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ì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 jiān 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3"/>
          <p:cNvSpPr/>
          <p:nvPr/>
        </p:nvSpPr>
        <p:spPr>
          <a:xfrm>
            <a:off x="1476360" y="1773360"/>
            <a:ext cx="676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平　搭　间　这　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都　住　呢　啊　没　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03280" y="119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píng   dā     jiān    zhè    xi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332000" y="3284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dōu    zhù    ne      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a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   méi     hě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3"/>
          <p:cNvSpPr/>
          <p:nvPr/>
        </p:nvSpPr>
        <p:spPr>
          <a:xfrm>
            <a:off x="1332000" y="30002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平平，平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这些／房子／都给／谁住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2" descr="想问题"/>
          <p:cNvPicPr/>
          <p:nvPr/>
        </p:nvPicPr>
        <p:blipFill>
          <a:blip r:embed="rId3"/>
          <a:stretch/>
        </p:blipFill>
        <p:spPr>
          <a:xfrm>
            <a:off x="900000" y="549360"/>
            <a:ext cx="1967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611280" y="30672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一间／给／爷爷／和／他的／书／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一间／给／奶奶／和／平平／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一间／给／爸爸妈妈／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8" name="Picture 2" descr="想问题"/>
          <p:cNvPicPr/>
          <p:nvPr/>
        </p:nvPicPr>
        <p:blipFill>
          <a:blip r:embed="rId3"/>
          <a:stretch/>
        </p:blipFill>
        <p:spPr>
          <a:xfrm>
            <a:off x="900000" y="549360"/>
            <a:ext cx="1967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3"/>
          <p:cNvSpPr/>
          <p:nvPr/>
        </p:nvSpPr>
        <p:spPr>
          <a:xfrm>
            <a:off x="1332000" y="3068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平平，平平，还有／一间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Picture 2" descr="想问题"/>
          <p:cNvPicPr/>
          <p:nvPr/>
        </p:nvPicPr>
        <p:blipFill>
          <a:blip r:embed="rId3"/>
          <a:stretch/>
        </p:blipFill>
        <p:spPr>
          <a:xfrm>
            <a:off x="900000" y="549360"/>
            <a:ext cx="1967040" cy="234936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5"/>
          <p:cNvSpPr/>
          <p:nvPr/>
        </p:nvSpPr>
        <p:spPr>
          <a:xfrm>
            <a:off x="784080" y="49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1476360" y="3068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有一间给没有房子的人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2" descr="想问题"/>
          <p:cNvPicPr/>
          <p:nvPr/>
        </p:nvPicPr>
        <p:blipFill>
          <a:blip r:embed="rId3"/>
          <a:stretch/>
        </p:blipFill>
        <p:spPr>
          <a:xfrm>
            <a:off x="900000" y="549360"/>
            <a:ext cx="1967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矩形 7"/>
          <p:cNvSpPr/>
          <p:nvPr/>
        </p:nvSpPr>
        <p:spPr>
          <a:xfrm>
            <a:off x="4356000" y="134136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ziliao/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kejian/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fanwen/     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2" descr="1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FC_003"/>
          <p:cNvPicPr/>
          <p:nvPr/>
        </p:nvPicPr>
        <p:blipFill>
          <a:blip r:embed="rId13"/>
          <a:stretch/>
        </p:blipFill>
        <p:spPr>
          <a:xfrm>
            <a:off x="4114800" y="5943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0"/>
          <p:cNvPicPr/>
          <p:nvPr/>
        </p:nvPicPr>
        <p:blipFill>
          <a:blip r:embed="rId14"/>
          <a:stretch/>
        </p:blipFill>
        <p:spPr>
          <a:xfrm>
            <a:off x="684360" y="692280"/>
            <a:ext cx="2447640" cy="21272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6"/>
          <p:cNvSpPr/>
          <p:nvPr/>
        </p:nvSpPr>
        <p:spPr>
          <a:xfrm>
            <a:off x="1209600" y="3057480"/>
            <a:ext cx="54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平平／还要搭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很多很多的／房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给／大家／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2:13:06Z</dcterms:modified>
  <cp:revision>96</cp:revision>
  <dc:subject/>
  <dc:title>PowerPoint Presentation</dc:title>
</cp:coreProperties>
</file>