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6.png" ContentType="image/png"/>
  <Override PartName="/ppt/media/image7.jpeg" ContentType="image/jpeg"/>
  <Override PartName="/ppt/media/image8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3581-FE52-41BA-9960-20D2F182B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EC89-3B71-4C24-9CDF-C68230DA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9DB9A-D501-45CD-9BC8-45AEE3B3D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6EA35D-CB42-4350-9A00-245866F11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FB9FA-FEE0-425E-A164-5AA48164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D76A65-585E-443F-897B-CA7835C22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644BEA-1BC6-4CC2-A26E-9B7361BE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3223D-8035-4E79-A905-965F0A97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D8812F-8F5F-42BF-9596-1F0692860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BBDF91-FAA5-418A-9550-BE5A3C90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1A5251-3C2E-4732-8B51-CCC5395F0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7651FF-495D-4BBD-BBF3-31F82A44D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2C3C-E082-43F1-90A8-DF312782E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CB3A9-67DC-4352-8517-3F67E89B2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5A5F5-279F-46A3-A383-989D7659D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DE2160-F0D8-4FA3-9146-9A1CCA434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7FC33D-EA67-4172-98FF-9DDAF26BA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D3FD3-0EF3-4F01-B5C7-79A4ACA4A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EB0E5F-029F-4F63-A81F-D4A004789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45A16-E751-4E87-BDA8-8EFC9D4B1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57AF2-DCC2-4E62-A00E-C82C46277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AE62B8-1C84-48B2-8597-8EB3A197D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7E4479-9858-44F1-B3CC-99BEB037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C429-3359-4EF4-9362-77BE032D3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B5AECD-8BED-48CA-9768-52084049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04BEC2-1EE6-49D9-BC98-140ED4CE7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979E53-C81D-4649-A744-466802C73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D2CD08-D499-4C6D-AE1A-CA4C4960B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30711C-4204-4BE7-ADAF-5863F7AF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EAD69-8233-49C3-8404-9E2D67C6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964D5-880E-4EFB-BAEC-350A8367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44FAE9-43B5-4E61-B5B7-BA21EEC2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6FC4D-6D61-4DED-A0C5-CBC094EC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535CA2-D924-4AF2-81E0-CB1C5F1E1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332859-F401-47F6-B7EB-8201EE4F2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764DF6-D51F-45C1-B135-BCAFD89BA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ECCDF6-CD60-4747-B46D-27A9FA56E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384942-8CEA-48FB-9425-35E040BE2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AF1BA4-26E9-4A86-B628-0B1BA1BD2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69784D-5BEE-4676-B9B8-23550886B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37B6F-8AB3-4CC8-AA4E-35779E08D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BB113-7F66-4D8D-A39C-C3EA6733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3C942-D141-4A1B-8020-79B9AC5D5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78B24-B32D-49C7-9870-9F7ADB806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099932-84C7-477C-AB2B-5969EE328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1C0F-8898-45AB-9EF1-2FD4FE339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1D8B9C-DF6A-4900-BA25-F9705EB1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EAB8AD-4C84-45E0-96BF-A9C499135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9236F5-32D0-4A3A-A02E-87489C43D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721D65-12DA-4F89-8273-7CA87BC82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6E5D42-BC72-4F31-B9FD-ECD73DC3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17D0245-60FD-42DB-B175-FC7917A25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228E75-D8B0-4AC1-8D1C-F9C8FA68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8EC3F-6E40-4BAE-A598-A27ADAE9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3D78AB-199B-4550-8EE4-9833F8C4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FBB59B-A2B5-4D11-BB73-30BE6AFC3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A6014-89AB-43FC-92C5-AF02D9939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41EE90-D6D7-4C70-8B66-88A5BAA5F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5A3EA3-DA7F-4690-8805-E3297F3E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779E4-1217-4531-ABF7-F2C52D42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7004A0-F438-4304-911A-E1BE9FD1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7238E4-FAD1-4F7F-9F96-F0131D95E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B79FAF-FCF1-4DA6-BFDC-4809A3AD5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ABF6E0-8688-4760-BC27-7E895D71D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4E187-CFD0-4BD3-A2EA-BAA02AD0D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6F52-3552-496A-A9BD-37553426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3D35-EE74-48E8-879D-948BF1A45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223EE-A7B4-461F-B1B1-4DED404C4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994-9E98-4B86-816D-85D5FF5F7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49F9-66C7-4DC5-B7FF-8A973306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F3B7A-A919-4CBB-AF2A-A58599634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A2EBA-9D19-4A5A-9920-3546CA82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6BF4-0CE7-4AA9-99F8-5EF54A3C1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B1490-7E73-4D8A-A9D6-8CC2B3704F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13657-69C5-4217-9686-FCD22494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1C0550-E7DB-4B07-8B78-7B1A4CA92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A10CA0-94FE-4404-B2A9-2F4C133C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EAC63-E932-4180-BED0-EA4B32AC7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DB555-4CA7-4D0C-9767-103D67FB4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E209-12D1-4654-ACE4-D6E65B1B5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805265-E6F9-47CE-8E54-CDFABD787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31044A-5B8A-4E68-B13E-CAEF8807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95610-82F3-4F55-BA28-28C31F7F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55BCC-3EBE-4062-9156-8523A363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811F4-EADE-40BD-8A1C-083D023DF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C00E3-A75B-4DA1-A57C-2FB4BC7A0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009D6-DE67-47E3-9425-34914BD35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4B9164-F707-4113-B7F1-4C0ACECDD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65EB2C-F64D-4E28-A844-BEB6AFB8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A21FE-6AA5-49F7-A8E3-467DB4398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C80-6798-4DB7-AE50-9387E1D07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1FB79-825B-4E46-B582-D1C610C6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4B530-6C50-4ACC-8A86-B1CF0B3B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359B2F-703A-421A-9D7B-090327B69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985B9-ECBA-4A18-969B-0A4C555AD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290D1-3D26-44C5-BD9E-29F57F476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154E73-094F-47E3-BA3E-DC46062F0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DAD5E3-C22E-429E-A170-5837C9E58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2FB9BF-098B-488E-8C3A-AA72AEE3A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F47832-3A52-4334-9FDD-A6BD9A8A0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19778F-82D7-4FBF-B51F-21C07279E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1C89-FA64-408B-9AF3-EE032A03E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EC04A0-13AD-4958-A0D3-F74C14AA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D4768-E028-40D8-AB32-224A34E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A5559E-0808-42D5-AF7C-FFE9A4449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4F62-AFB5-426B-A090-FA4DFDD6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8F50D-07B5-44CB-85BC-2606CCCE1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4E8136-DCFF-4719-9C5E-DF61D761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A0BC-46F2-44F2-96D1-E15E53EF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28E8A-9986-46F1-9E7E-F0F7B623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C28F75-3541-457C-8C3C-F88029EB7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834706-D0C0-42D9-90D6-263A4BA05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0DF4-720D-4CBA-8B00-F726C478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3C279-7F57-452A-A693-7A1B0697A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D627-D53C-43B1-AA25-A3C0241F1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495E9-539F-458D-9503-72E3493F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822425-11C6-45D4-AC53-358C37900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C418E7-6051-4D4B-8718-59EBD93F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305BF0-D323-495C-B280-12BECBF64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30514-55B4-42A7-A5B1-8941471FC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0F29F9-B45E-4B1C-ABEF-BED839AE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604C7-B6C6-4B93-A7F6-68E899F75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16326-D9EC-4E60-8FC4-844DB314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591A-16DA-4272-B647-76CCE2F3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80C588-696F-47A6-A094-A6EFD98E7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859B23-263C-447F-84CD-09334796F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72C78D-6259-41E3-95C4-0BF55424D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76B35A-1DF0-493D-9E45-2737C5EDF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6F92F-9BD1-42F4-A479-C4D9162C5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60FDC8-99A0-49AD-B400-1933816DE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56B230-E1EF-41AD-BC32-0386D6B37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9C94DB-1EE0-42BE-9B66-3CC57C185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87C62-8DEE-4DB8-AFC1-8A52A704D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1A290-B8A0-4A22-A1A3-E4ADA53E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14C2-8DE5-41CF-A5C4-2AEB8BDCF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1B543A-59D2-4D0A-A75B-BE2074A4D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B44F12-F7FC-4128-9BEE-AE2FE0E09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85559-9281-474E-9CE8-35D42140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E09F23-19EE-47CE-8E3D-B5357C73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D657E6-6A76-4514-962C-2A6B649E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700EB2-61C9-4AD7-BC5A-B3F28CA9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0011B1-6440-450F-A5E2-4A5C5DC48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D424E0-8C1D-427E-A1AF-3DAA5877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ADD7D1-7ADA-4884-B273-F0FF31E63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EC1B9-3252-4836-994F-C81EFA870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ED2A-5126-4C2B-A75F-51A37137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D4652-CF5B-4B94-82F8-E72CF97D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65EFF7-F1F7-42B5-845D-A8BF553A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091E3-1991-4E99-B8B9-49F7340F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F25A-F184-4E7F-9AA3-2AC0412DB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96F0B2-D364-40F6-8E57-CAA80607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61C95B-AC63-4941-83F2-46B24D7A4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A9AB31-050C-4FFF-B167-6FC207BDD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762CC-FE2D-459F-B958-A61219BC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D0B5E3-76A7-44EB-A48F-5D7B28FD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AFB773-4E02-4238-BE65-3C0EF4757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CFAF-58B6-4113-9286-6E83EA10E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DD483-C38E-450D-B7B5-83ED645B8401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F0B8-8C8C-4DDA-9763-5712D55E5C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9862-56DC-4828-8D20-DE1C04787CD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31EC-2497-4C93-B455-4350DE6E002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47186-679E-4470-B9A2-EF21D9795D4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A798-BE87-43CA-94DB-B31FC2CBA0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23D7D-0DCF-448F-9C74-C4A754CF6F2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48119-BDEC-4D45-B34B-8AF4338F27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58BC0-37C0-44BB-AA07-BAF1B476AD3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1C249-E3D1-4E45-A5D4-138760C709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1C47-3617-4FE4-92F0-6293BE5CD4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D2203-5E45-4AB7-8360-93A956338F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9A6FD-7C82-4959-9B9F-DBDA8945ADD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2B20D-1038-4ACF-ADA7-AA2E5F08EA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00A4F-0623-4977-9125-E70EE367A20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F8A9-5A9A-45E7-985F-A7FB38E5A9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3EEEA-5845-4134-8E4F-DD41742351A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C24A3-6ECD-4988-94CE-8FF3B836BD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EC19-FD01-400C-95D4-20693F47D07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EA939-B4A9-4E04-8271-3A65149796B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B1F6F-1CB4-4E17-A1BA-FEF42665614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77BA8-8014-47D8-A01D-4C94B47E97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27495-DE36-4987-8B1C-C4467139D50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7CD7D-4266-4393-8884-8CEE8EA0D37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WordArt 4"/>
          <p:cNvSpPr txBox="1"/>
          <p:nvPr/>
        </p:nvSpPr>
        <p:spPr>
          <a:xfrm>
            <a:off x="1066680" y="1371600"/>
            <a:ext cx="6629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平行四边形和梯形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Text Box 2"/>
          <p:cNvSpPr/>
          <p:nvPr/>
        </p:nvSpPr>
        <p:spPr>
          <a:xfrm>
            <a:off x="1828800" y="5562720"/>
            <a:ext cx="624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你能看图说出它们之间的关系吗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3"/>
          <p:cNvSpPr/>
          <p:nvPr/>
        </p:nvSpPr>
        <p:spPr>
          <a:xfrm>
            <a:off x="990720" y="685800"/>
            <a:ext cx="7086600" cy="4419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Oval 4"/>
          <p:cNvSpPr/>
          <p:nvPr/>
        </p:nvSpPr>
        <p:spPr>
          <a:xfrm>
            <a:off x="1371600" y="1600200"/>
            <a:ext cx="3200400" cy="266688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Oval 5"/>
          <p:cNvSpPr/>
          <p:nvPr/>
        </p:nvSpPr>
        <p:spPr>
          <a:xfrm>
            <a:off x="4724280" y="1752480"/>
            <a:ext cx="2743200" cy="2514600"/>
          </a:xfrm>
          <a:prstGeom prst="ellipse">
            <a:avLst/>
          </a:prstGeom>
          <a:solidFill>
            <a:srgbClr val="ffa62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Oval 6"/>
          <p:cNvSpPr/>
          <p:nvPr/>
        </p:nvSpPr>
        <p:spPr>
          <a:xfrm>
            <a:off x="1676520" y="2362320"/>
            <a:ext cx="2514600" cy="16761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Oval 7"/>
          <p:cNvSpPr/>
          <p:nvPr/>
        </p:nvSpPr>
        <p:spPr>
          <a:xfrm>
            <a:off x="2133720" y="3048120"/>
            <a:ext cx="1600200" cy="914400"/>
          </a:xfrm>
          <a:prstGeom prst="ellipse">
            <a:avLst/>
          </a:prstGeom>
          <a:solidFill>
            <a:srgbClr val="ffdea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Oval 8"/>
          <p:cNvSpPr/>
          <p:nvPr/>
        </p:nvSpPr>
        <p:spPr>
          <a:xfrm>
            <a:off x="4952880" y="2590920"/>
            <a:ext cx="1143000" cy="114300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Oval 9"/>
          <p:cNvSpPr/>
          <p:nvPr/>
        </p:nvSpPr>
        <p:spPr>
          <a:xfrm>
            <a:off x="6248520" y="2590920"/>
            <a:ext cx="1066680" cy="1218960"/>
          </a:xfrm>
          <a:prstGeom prst="ellipse">
            <a:avLst/>
          </a:prstGeom>
          <a:solidFill>
            <a:srgbClr val="ffbc5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4240080" y="1081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仿宋_GB2312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11"/>
          <p:cNvSpPr/>
          <p:nvPr/>
        </p:nvSpPr>
        <p:spPr>
          <a:xfrm>
            <a:off x="2444040" y="179064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平行四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2549160" y="25146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长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2549160" y="3276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5881320" y="19810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5230440" y="27432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等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16"/>
          <p:cNvSpPr/>
          <p:nvPr/>
        </p:nvSpPr>
        <p:spPr>
          <a:xfrm>
            <a:off x="6491160" y="27590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66ff"/>
                </a:solidFill>
                <a:latin typeface="Times New Roman"/>
                <a:ea typeface="仿宋_GB2312"/>
              </a:rPr>
              <a:t>梯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WordArt 2"/>
          <p:cNvSpPr txBox="1"/>
          <p:nvPr/>
        </p:nvSpPr>
        <p:spPr>
          <a:xfrm>
            <a:off x="1905120" y="1752480"/>
            <a:ext cx="5562360" cy="312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行楷"/>
              </a:rPr>
              <a:t>再见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60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Text Box 5"/>
          <p:cNvSpPr/>
          <p:nvPr/>
        </p:nvSpPr>
        <p:spPr>
          <a:xfrm>
            <a:off x="2505960" y="30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四边形的种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矩形 5"/>
          <p:cNvSpPr/>
          <p:nvPr/>
        </p:nvSpPr>
        <p:spPr>
          <a:xfrm>
            <a:off x="1676520" y="114300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6" name="ShockwaveFlash1"/>
          <p:cNvGraphicFramePr/>
          <p:nvPr/>
        </p:nvGraphicFramePr>
        <p:xfrm>
          <a:off x="762120" y="914400"/>
          <a:ext cx="761976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914400"/>
                    <a:ext cx="761976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AutoShape 3"/>
          <p:cNvSpPr/>
          <p:nvPr/>
        </p:nvSpPr>
        <p:spPr>
          <a:xfrm>
            <a:off x="2743200" y="1371600"/>
            <a:ext cx="3657600" cy="1523880"/>
          </a:xfrm>
          <a:prstGeom prst="parallelogram">
            <a:avLst>
              <a:gd name="adj" fmla="val 600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4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5"/>
          <p:cNvSpPr/>
          <p:nvPr/>
        </p:nvSpPr>
        <p:spPr>
          <a:xfrm>
            <a:off x="4667400" y="4114800"/>
            <a:ext cx="33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两组对边分别平行的四边形叫做平行四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6" descr="姑娘眨眼"/>
          <p:cNvPicPr/>
          <p:nvPr/>
        </p:nvPicPr>
        <p:blipFill>
          <a:blip r:embed="rId1"/>
          <a:stretch/>
        </p:blipFill>
        <p:spPr>
          <a:xfrm>
            <a:off x="457200" y="4572000"/>
            <a:ext cx="17524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Text Box 3"/>
          <p:cNvSpPr/>
          <p:nvPr/>
        </p:nvSpPr>
        <p:spPr>
          <a:xfrm>
            <a:off x="2629440" y="3049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平行四边形的特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3" name="ShockwaveFlash1"/>
          <p:cNvGraphicFramePr/>
          <p:nvPr/>
        </p:nvGraphicFramePr>
        <p:xfrm>
          <a:off x="990720" y="1066680"/>
          <a:ext cx="7467480" cy="487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4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066680"/>
                    <a:ext cx="7467480" cy="487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2" descr="姑娘眨眼"/>
          <p:cNvPicPr/>
          <p:nvPr/>
        </p:nvPicPr>
        <p:blipFill>
          <a:blip r:embed="rId1"/>
          <a:stretch/>
        </p:blipFill>
        <p:spPr>
          <a:xfrm>
            <a:off x="1523880" y="3809880"/>
            <a:ext cx="1752840" cy="1905120"/>
          </a:xfrm>
          <a:prstGeom prst="rect">
            <a:avLst/>
          </a:prstGeom>
          <a:ln w="0">
            <a:noFill/>
          </a:ln>
        </p:spPr>
      </p:pic>
      <p:sp>
        <p:nvSpPr>
          <p:cNvPr id="546" name="AutoShape 3"/>
          <p:cNvSpPr/>
          <p:nvPr/>
        </p:nvSpPr>
        <p:spPr>
          <a:xfrm>
            <a:off x="2971800" y="1752480"/>
            <a:ext cx="4724280" cy="2210040"/>
          </a:xfrm>
          <a:prstGeom prst="cloudCallout">
            <a:avLst>
              <a:gd name="adj1" fmla="val -48791"/>
              <a:gd name="adj2" fmla="val 5553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长方形和正方形可以看成是特殊的平行四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Text Box 2"/>
          <p:cNvSpPr/>
          <p:nvPr/>
        </p:nvSpPr>
        <p:spPr>
          <a:xfrm>
            <a:off x="4363920" y="457200"/>
            <a:ext cx="3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Arial"/>
              </a:rPr>
              <a:t>正方形、长方形与平行四边形的关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8" name="ShockwaveFlash1"/>
          <p:cNvGraphicFramePr/>
          <p:nvPr/>
        </p:nvGraphicFramePr>
        <p:xfrm>
          <a:off x="914400" y="1371600"/>
          <a:ext cx="685800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9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371600"/>
                    <a:ext cx="685800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Line 8"/>
          <p:cNvSpPr/>
          <p:nvPr/>
        </p:nvSpPr>
        <p:spPr>
          <a:xfrm flipH="1">
            <a:off x="2057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10"/>
          <p:cNvSpPr/>
          <p:nvPr/>
        </p:nvSpPr>
        <p:spPr>
          <a:xfrm>
            <a:off x="2057400" y="228600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11"/>
          <p:cNvSpPr/>
          <p:nvPr/>
        </p:nvSpPr>
        <p:spPr>
          <a:xfrm>
            <a:off x="2590920" y="762120"/>
            <a:ext cx="2286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12"/>
          <p:cNvSpPr/>
          <p:nvPr/>
        </p:nvSpPr>
        <p:spPr>
          <a:xfrm flipH="1">
            <a:off x="4343400" y="762120"/>
            <a:ext cx="533520" cy="1523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13"/>
          <p:cNvSpPr/>
          <p:nvPr/>
        </p:nvSpPr>
        <p:spPr>
          <a:xfrm>
            <a:off x="2590920" y="762120"/>
            <a:ext cx="0" cy="15238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5" name="Group 14"/>
          <p:cNvGrpSpPr/>
          <p:nvPr/>
        </p:nvGrpSpPr>
        <p:grpSpPr>
          <a:xfrm>
            <a:off x="2590920" y="2057400"/>
            <a:ext cx="228600" cy="228600"/>
            <a:chOff x="2590920" y="2057400"/>
            <a:chExt cx="228600" cy="228600"/>
          </a:xfrm>
        </p:grpSpPr>
        <p:sp>
          <p:nvSpPr>
            <p:cNvPr id="556" name="Line 15"/>
            <p:cNvSpPr/>
            <p:nvPr/>
          </p:nvSpPr>
          <p:spPr>
            <a:xfrm>
              <a:off x="2590920" y="2057400"/>
              <a:ext cx="2286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16"/>
            <p:cNvSpPr/>
            <p:nvPr/>
          </p:nvSpPr>
          <p:spPr>
            <a:xfrm>
              <a:off x="2819520" y="2057400"/>
              <a:ext cx="0" cy="22860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8" name="Text Box 17"/>
          <p:cNvSpPr/>
          <p:nvPr/>
        </p:nvSpPr>
        <p:spPr>
          <a:xfrm>
            <a:off x="2643480" y="12924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8"/>
          <p:cNvSpPr/>
          <p:nvPr/>
        </p:nvSpPr>
        <p:spPr>
          <a:xfrm>
            <a:off x="2795760" y="23623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9"/>
          <p:cNvSpPr/>
          <p:nvPr/>
        </p:nvSpPr>
        <p:spPr>
          <a:xfrm>
            <a:off x="685800" y="327672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从平行四边形的一条边上的一点到对边引一条垂线，这点和垂足之间的线段叫做平行四边形的高，垂足所在的边叫做平行四边形的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1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2" name="Group 2"/>
          <p:cNvGrpSpPr/>
          <p:nvPr/>
        </p:nvGrpSpPr>
        <p:grpSpPr>
          <a:xfrm>
            <a:off x="2743200" y="304920"/>
            <a:ext cx="6172200" cy="4114800"/>
            <a:chOff x="2743200" y="304920"/>
            <a:chExt cx="6172200" cy="4114800"/>
          </a:xfrm>
        </p:grpSpPr>
        <p:grpSp>
          <p:nvGrpSpPr>
            <p:cNvPr id="563" name="Group 3"/>
            <p:cNvGrpSpPr/>
            <p:nvPr/>
          </p:nvGrpSpPr>
          <p:grpSpPr>
            <a:xfrm>
              <a:off x="2743200" y="3048120"/>
              <a:ext cx="3429000" cy="1371600"/>
              <a:chOff x="2743200" y="3048120"/>
              <a:chExt cx="3429000" cy="1371600"/>
            </a:xfrm>
          </p:grpSpPr>
          <p:sp>
            <p:nvSpPr>
              <p:cNvPr id="564" name="Line 4"/>
              <p:cNvSpPr/>
              <p:nvPr/>
            </p:nvSpPr>
            <p:spPr>
              <a:xfrm>
                <a:off x="3733920" y="3048120"/>
                <a:ext cx="198108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5"/>
              <p:cNvSpPr/>
              <p:nvPr/>
            </p:nvSpPr>
            <p:spPr>
              <a:xfrm flipH="1">
                <a:off x="2743200" y="3048120"/>
                <a:ext cx="9907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6"/>
              <p:cNvSpPr/>
              <p:nvPr/>
            </p:nvSpPr>
            <p:spPr>
              <a:xfrm>
                <a:off x="5638680" y="3048120"/>
                <a:ext cx="533520" cy="13716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7"/>
              <p:cNvSpPr/>
              <p:nvPr/>
            </p:nvSpPr>
            <p:spPr>
              <a:xfrm>
                <a:off x="2743200" y="4419720"/>
                <a:ext cx="342900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8" name="Text Box 8"/>
            <p:cNvSpPr/>
            <p:nvPr/>
          </p:nvSpPr>
          <p:spPr>
            <a:xfrm>
              <a:off x="7391520" y="304920"/>
              <a:ext cx="1523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000000"/>
                  </a:solidFill>
                  <a:latin typeface="Times New Roman"/>
                  <a:ea typeface="隶书"/>
                </a:rPr>
                <a:t>梯形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9" name="Text Box 9"/>
          <p:cNvSpPr/>
          <p:nvPr/>
        </p:nvSpPr>
        <p:spPr>
          <a:xfrm>
            <a:off x="914400" y="4572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只有一组对边平行的四边形叫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"/>
          <p:cNvSpPr/>
          <p:nvPr/>
        </p:nvSpPr>
        <p:spPr>
          <a:xfrm>
            <a:off x="380880" y="129528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在梯形里，互相平行的一组对边叫做梯形的</a:t>
            </a:r>
            <a:r>
              <a:rPr b="1" lang="zh-CN" sz="32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底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 Box 11"/>
          <p:cNvSpPr/>
          <p:nvPr/>
        </p:nvSpPr>
        <p:spPr>
          <a:xfrm>
            <a:off x="304920" y="2438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通常把较短的底叫做上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2"/>
          <p:cNvSpPr/>
          <p:nvPr/>
        </p:nvSpPr>
        <p:spPr>
          <a:xfrm>
            <a:off x="304920" y="358128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较长的底叫做下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13"/>
          <p:cNvSpPr/>
          <p:nvPr/>
        </p:nvSpPr>
        <p:spPr>
          <a:xfrm>
            <a:off x="6553080" y="2895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不平行的一组对边叫做梯形的</a:t>
            </a:r>
            <a:r>
              <a:rPr b="1" lang="zh-CN" sz="2800" spc="-1" strike="noStrike">
                <a:solidFill>
                  <a:srgbClr val="0000ff"/>
                </a:solidFill>
                <a:latin typeface="隶书"/>
                <a:ea typeface="隶书"/>
              </a:rPr>
              <a:t>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14"/>
          <p:cNvSpPr/>
          <p:nvPr/>
        </p:nvSpPr>
        <p:spPr>
          <a:xfrm>
            <a:off x="457200" y="5029200"/>
            <a:ext cx="868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上底的一点到下底引一条垂线，这点和垂足之间的线段叫做梯形的</a:t>
            </a: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高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Line 15"/>
          <p:cNvSpPr/>
          <p:nvPr/>
        </p:nvSpPr>
        <p:spPr>
          <a:xfrm>
            <a:off x="3733920" y="3048120"/>
            <a:ext cx="0" cy="1371600"/>
          </a:xfrm>
          <a:prstGeom prst="line">
            <a:avLst/>
          </a:prstGeom>
          <a:ln w="57240">
            <a:solidFill>
              <a:srgbClr val="66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6" name="Group 16"/>
          <p:cNvGrpSpPr/>
          <p:nvPr/>
        </p:nvGrpSpPr>
        <p:grpSpPr>
          <a:xfrm>
            <a:off x="3733920" y="4191120"/>
            <a:ext cx="228600" cy="228600"/>
            <a:chOff x="3733920" y="4191120"/>
            <a:chExt cx="228600" cy="228600"/>
          </a:xfrm>
        </p:grpSpPr>
        <p:sp>
          <p:nvSpPr>
            <p:cNvPr id="577" name="Line 17"/>
            <p:cNvSpPr/>
            <p:nvPr/>
          </p:nvSpPr>
          <p:spPr>
            <a:xfrm>
              <a:off x="3733920" y="4191120"/>
              <a:ext cx="22860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18"/>
            <p:cNvSpPr/>
            <p:nvPr/>
          </p:nvSpPr>
          <p:spPr>
            <a:xfrm>
              <a:off x="3962520" y="4191120"/>
              <a:ext cx="0" cy="228600"/>
            </a:xfrm>
            <a:prstGeom prst="line">
              <a:avLst/>
            </a:prstGeom>
            <a:ln w="5724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9" name="Text Box 19"/>
          <p:cNvSpPr/>
          <p:nvPr/>
        </p:nvSpPr>
        <p:spPr>
          <a:xfrm>
            <a:off x="4343400" y="2514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上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20"/>
          <p:cNvSpPr/>
          <p:nvPr/>
        </p:nvSpPr>
        <p:spPr>
          <a:xfrm>
            <a:off x="41911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下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21"/>
          <p:cNvSpPr/>
          <p:nvPr/>
        </p:nvSpPr>
        <p:spPr>
          <a:xfrm>
            <a:off x="3809880" y="3505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Group 22"/>
          <p:cNvGrpSpPr/>
          <p:nvPr/>
        </p:nvGrpSpPr>
        <p:grpSpPr>
          <a:xfrm>
            <a:off x="2743200" y="3124080"/>
            <a:ext cx="3733920" cy="536040"/>
            <a:chOff x="2743200" y="3124080"/>
            <a:chExt cx="3733920" cy="536040"/>
          </a:xfrm>
        </p:grpSpPr>
        <p:sp>
          <p:nvSpPr>
            <p:cNvPr id="583" name="Text Box 23"/>
            <p:cNvSpPr/>
            <p:nvPr/>
          </p:nvSpPr>
          <p:spPr>
            <a:xfrm>
              <a:off x="5867280" y="312408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Text Box 24"/>
            <p:cNvSpPr/>
            <p:nvPr/>
          </p:nvSpPr>
          <p:spPr>
            <a:xfrm>
              <a:off x="2743200" y="320040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仿宋_GB2312"/>
                </a:rPr>
                <a:t>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Line 25"/>
          <p:cNvSpPr/>
          <p:nvPr/>
        </p:nvSpPr>
        <p:spPr>
          <a:xfrm>
            <a:off x="3733920" y="3048120"/>
            <a:ext cx="19047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26"/>
          <p:cNvSpPr/>
          <p:nvPr/>
        </p:nvSpPr>
        <p:spPr>
          <a:xfrm>
            <a:off x="2743200" y="4419720"/>
            <a:ext cx="3429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27"/>
          <p:cNvGrpSpPr/>
          <p:nvPr/>
        </p:nvGrpSpPr>
        <p:grpSpPr>
          <a:xfrm>
            <a:off x="2743200" y="3048120"/>
            <a:ext cx="3429000" cy="1371600"/>
            <a:chOff x="2743200" y="3048120"/>
            <a:chExt cx="3429000" cy="1371600"/>
          </a:xfrm>
        </p:grpSpPr>
        <p:sp>
          <p:nvSpPr>
            <p:cNvPr id="588" name="Line 28"/>
            <p:cNvSpPr/>
            <p:nvPr/>
          </p:nvSpPr>
          <p:spPr>
            <a:xfrm flipH="1">
              <a:off x="2743200" y="3048120"/>
              <a:ext cx="99072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29"/>
            <p:cNvSpPr/>
            <p:nvPr/>
          </p:nvSpPr>
          <p:spPr>
            <a:xfrm flipH="1" flipV="1">
              <a:off x="5638680" y="3048120"/>
              <a:ext cx="533520" cy="1371600"/>
            </a:xfrm>
            <a:prstGeom prst="line">
              <a:avLst/>
            </a:prstGeom>
            <a:ln w="572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5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5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5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9:50:11Z</dcterms:modified>
  <cp:revision>3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