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type.wav" ContentType="audio/x-wav"/>
  <Override PartName="/ppt/media/projctor.wav" ContentType="audio/x-wav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B6CF-209B-4A2B-8F3C-F54D39FBC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C519-E801-4711-82EB-9AA636054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7EDF-9079-4046-976B-EDAFB45B4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47AD-7AE6-4A84-A1A8-7E8FB3AEF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BD67-8D17-459E-9F0C-03A9865F0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00AC-A28E-4633-B14C-1AEC882DF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CBD4-2FB2-4CB4-83DC-BE3B9638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EE6F-F28A-45CF-BB6A-BDCD84AA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4A347-5ED6-484C-8775-067ACDFA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B88A7-2E1E-4F37-8C2D-60C7DC56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CC260-9440-4D06-8A1D-6252D169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E95A6-FBF0-4C52-BA05-02BEDD07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88EB2-CFCF-44DB-BCEB-39CE7BF4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E8F5B-BA4E-43CE-938D-BCA25D60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C7371-8E06-413E-8A88-E50A9A31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C0E69-002C-4788-8F36-2AA1C57B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AE1E4-F72C-4F1C-998C-376309E2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9BFD1-40F9-4521-8386-9937ED91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947-DA5F-493B-B3E8-1CC862EC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EED7A-C848-4EB8-914F-7516E4F1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D3102-63CA-4A69-9EC5-543CBC20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3F732-8E1D-41CE-8C5F-BB469557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F2097-FC9B-4933-81EE-B8896C0D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AE19F-68CD-4CA3-8303-E9297251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03C89-643F-4FC6-B078-99F3D631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C7D3D-DAEE-4DFB-B745-1CC3F07D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5E1D9-F173-48B0-9FD3-20D8E2AB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F21C4-CB34-49F6-9454-D446D323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A907F-925D-4C34-8A1E-87CC1215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AF4-30FD-4B64-AC0A-79997E26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12EAD-0E91-40BB-984D-57A9E9A3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4AFB2-0EB7-4AB5-A922-D8D1029E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85ED8-6614-4FC5-8AFB-BC77DC1F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F6405-C7D8-4BCB-9E99-D9B6EC4B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68668-D348-4330-AAE0-DBC32AF7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29761-CC39-4F73-A0EC-8FED6907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7513E-8156-452C-8B07-EF14C226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A5B35-0CF8-40A0-925E-B9C9B683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15A74-E922-49CA-B002-7630EF7C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8C489-98AF-4CFE-88AA-69F45E1F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C9A1-02FF-49A8-A851-F247E2C0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20D6F-FC7F-4F2A-B809-3446E401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E124B-BDF3-4495-B8CA-AD5772FF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06EEE-5E98-4DFD-9B96-931DEEF6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94043-EABC-4A15-A8AC-F28261A0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39766-A41B-4EC6-A8C7-0E58F63D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EFC0A-E590-492D-9AE9-7F97E674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46CE3-0CC1-4232-8150-A6AEECB8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F7FEE-4EF8-415C-A599-CED15EF2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A507B-9AF2-45DA-B60E-F23958E0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A9AF4-A912-4F2D-92ED-64F50867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EA71-FF38-4B6B-8EC8-0686EE4A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F8F16-8477-4076-9ADE-55E42035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C8548-643A-4683-B5D1-0D0E4208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BF540-51DF-43DF-AC10-5DF83C54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BFE02-AF85-426B-A943-92C203F1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3043D-1078-4004-93E0-ABC10BB7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E3833-D111-489C-A32F-B5B61729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5F2F1-DEFF-4682-9CC1-D63CD602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B13F3B-EF76-4981-BA13-CA55D96D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D6DF9-1D9F-4E5C-A474-023923CE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912462-6698-439B-A673-C6610A18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8AFE-2006-4709-A999-6AFF79BF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B5CA6-680D-4F27-9790-76DC8113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5E7BCB-1482-407A-B33B-AB517AAA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F8165-D9FB-403A-A926-0CB6EE16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C2E80B-26B8-41EA-874F-4EB3BEC4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6BEC6B-FF8A-4170-B14C-7D3948A6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D2543-BD17-4AE2-B932-1EBB7A3C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C473A6-38DB-41E8-8B96-4A136AED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D68BD5-E78F-41EC-B760-8FD559E4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A4CEE9-1B98-4429-A5D1-8C7A0BB4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BDFDD1-A9EE-4114-A560-4A6EA39A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C060-FD02-4402-A36C-0C370FB1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5E2767-9C4F-453A-8028-2A0F8F3F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87C57-762A-4D03-8971-756F3A7C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4B1A8F-254D-4481-BFEC-F918198B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B01337-E080-4390-BFA6-B886B3DB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EF822-E6C7-4B7E-86D1-E1BDA560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644BC2-4D12-4789-A02F-F9647AAB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1ECD2C-EE25-41B1-B849-D132F7EF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80CFCD-048B-4FA0-B5FB-FA981274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E34CD3-3ACE-4131-9454-9B1437F6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A041-457E-4607-AAF8-805E6334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62E9-345D-4E13-9AE9-78E1AA91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BBCA-AEC1-4BAA-B88F-AD3B12F3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9F1-2E37-4995-A317-90A97A90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CD75-F793-44A2-8A1C-96D3D3D4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5A5A-367C-4945-AC81-43939BCB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0942-B81B-4EF9-8B64-13B66031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9634-C103-454F-AF32-D7B4BC27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ED3B-65B5-45EB-B37B-6B2563DB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AD642-3509-4C1B-9E08-5AEAF86F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BEDB2-8ABC-43BF-9D3B-EAF50D99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DEFD9-EEF4-4F45-8B6E-FAF8A7BC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DBACD-8474-4672-9D19-30626C1F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9BEFD-194B-44DC-B3A5-77202E9B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783-5D74-4F9A-9E07-863FF94A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F83A9-D164-4AAC-ABB7-3C919833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8032C-BEC9-49FC-9993-AFEB81B5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8A291-B690-4943-BA3D-333D4158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42B39-0863-45CB-84F2-A2F4406E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1CBC3-08D2-44BA-BB41-1637C478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4AE31-3804-4FE3-81D6-E265138A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B5A38-DBF9-4F3C-BDE4-9A135DF6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94FE8-6E92-4CE2-B1F8-AE1A8E52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AFC9C-695A-4E85-9059-FDF1BAA3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A014C-725D-4FAE-8E92-C0838FBF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E87-99C0-462E-8685-B8BABFF9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DE12E-A014-4AF2-921B-D7CF0106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94A45-2A36-42B9-B6F2-2F0D3A6E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2C549-F7E2-4224-8498-3FC3E170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E04BC-1E40-4F44-B0FC-4F6F96E8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A21B7-7483-4151-878A-1BC4661E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ECB8B-CE77-43FE-A89D-CB9F5367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E911E-E25B-4261-BC06-448B1974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BB077-5FAA-472A-BE53-AF4B9BE9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BE974-D038-4A4B-9798-93C888F8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F10C7-E415-41D6-A610-EB28CC20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1EA-D590-479C-A87C-8783EF41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EE755-5846-4A9D-A10E-6E6A7A5A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A8A47-AB8F-412D-BEC4-BD58B114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C8B1D-CF16-478C-A985-600B4500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45BB7-C211-48C5-8E8A-756B0029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79C52-6457-43CF-A8A8-076F0A94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F65A0-64AE-4C73-86F8-774A21D1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E8BC5-489D-44E4-9FAC-52384461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62FC7-5F00-48D9-AAB8-FC936CAF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37C5A-D9DF-4B25-95F5-A8B6D4BC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FE52F-0972-4A63-89A2-A78CC529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E0A8-8691-4114-8167-BB3CBA86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CDD00-C330-493D-9F63-EDD81859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81137-FB85-43E1-BEAF-6F0B1257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FD098-9579-4C85-85E5-6CDD7E6F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2A28F-8031-4223-9794-89667C2D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0C4C8-55EC-4983-B253-53D2F6CC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12569-25C6-4FB6-9391-96F814CB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550D3-D033-4917-85F9-58D29D28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8778A-63A9-4754-9AD8-053F22E6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0F1E6-1CB7-4F41-A840-56411CAC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8EAF2-DE5C-4D02-93C1-FA9BE307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4308-9258-40B4-A67D-2AD59835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694BB-EB3C-4E36-8651-096955B1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DB227-55EA-4FAF-B570-563DAC7D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46E5B-B891-413E-AE58-49A61091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D3248-3387-4530-817E-4EA66E7C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6B631-AFBA-48B3-8CA8-1C9FD910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FD7AC-C916-463A-862D-54CA8203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2965A-A241-4A58-AA51-76C7334C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2C9B4-5420-4A72-806C-B7B3D6D3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99D8A-01A8-47E9-9E2E-93FB34A5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7FD00-DE75-4E0F-9502-81CD82E4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5E8A-D719-45AD-ACA0-C5FF601B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4B297-05A8-4BDC-A52D-1AB265EE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98747-8B48-4BF4-90F1-50965C66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C3ADC-DD49-473D-B0EE-1071914B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29611-4074-45D7-88D4-681D28AB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97A83-536E-42BC-9D21-D3798668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7DDA8-53B9-40FE-99C8-A55A8559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49CA1-4753-491E-AEBA-632ED820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92072-4E93-427B-8B51-8363EF0D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09F42-A603-4E89-843F-CD646591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D6BBC-A9C0-40F9-AB5F-FADD84F2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CEE0-D70F-4DD4-8918-9DF3028F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3947F-5ABA-4D43-B89A-A0D66E74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65056-26FE-4514-AE67-A5B257D6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975C2-A59F-4152-AB7C-0E7CE597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EDF4B-922C-4BD1-A2E7-2ADBC870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79BD4-465F-4487-88AD-D30991DE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8BF17-1E0F-4B5F-93CF-ABD846FC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D5849-BAD2-4D8F-9A12-11346AF8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E2123-3A9B-48BE-8C93-E0B109A4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D9AF0-97B5-441A-ADEC-252EC4B9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86B59-B437-4E9B-9411-0C046897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92C5-7E36-4ABD-9C19-A8220DE5A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6AFA-692D-4E7B-855C-303C4240BD5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CC19-08B4-4A6C-B10E-66FE4ED490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B159-0099-405D-865A-874AF7EA4DB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A48E-9212-4050-8CE1-C0C65DA9CE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78CA-721C-49F5-BAD4-D4635C2D4EA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9ECF-F12B-40C9-B6E1-0B89C2FDCE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3C65-4CD6-4EDD-8032-5B45B20E50D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F9BF-1B9B-4C23-908D-791765A48E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C335-96E6-4339-84F0-C7662CA2752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0F2C-7EC1-4152-9AF8-62F1329291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81E9-C624-4E30-B47A-CFE083CC0DE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41FD-2B8D-4B88-AE9E-70E9D6FB2F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A904-88BC-4326-B09A-DD8FBBA89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8654-6755-4951-BF4F-D63156E15A5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4FE1-9706-4FA8-B744-7C1CAD7AD7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42BF-180D-49D6-8D5B-40BBE939E92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3CD8-3CCE-4C3C-9C4C-2DD66F2616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6F6E-A23F-40CC-B0EF-CDC2B9F97FE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1E38-5759-4055-B478-21B9C176F6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9795-AC06-403F-B86C-A88717B16EB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28DD-C0BD-44D9-B24A-9E96E14822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5889-3FBF-4C14-BAC4-EFFC45CE61E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A96C-D9D8-473B-9FE1-FB0A913255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70D0-5190-45DA-9CFF-B9E31E9C736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70AC-FA7B-48EF-B898-28AD74B213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BJ_026"/>
          <p:cNvPicPr/>
          <p:nvPr/>
        </p:nvPicPr>
        <p:blipFill>
          <a:blip r:embed="rId1"/>
          <a:stretch/>
        </p:blipFill>
        <p:spPr>
          <a:xfrm>
            <a:off x="-914400" y="-203040"/>
            <a:ext cx="10591920" cy="706104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ff"/>
                </a:solidFill>
                <a:latin typeface="华文行楷"/>
                <a:ea typeface="华文行楷"/>
              </a:rPr>
              <a:t>三角形全等的判定</a:t>
            </a:r>
            <a:endParaRPr b="0" lang="en-US" sz="8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Bookman Old Style"/>
                <a:ea typeface="华文新魏"/>
              </a:rPr>
              <a:t>初中几何第二册第三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3657600" y="5105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执教人：王臣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7"/>
          <p:cNvSpPr/>
          <p:nvPr/>
        </p:nvSpPr>
        <p:spPr>
          <a:xfrm>
            <a:off x="1371600" y="32767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8"/>
          <p:cNvSpPr/>
          <p:nvPr/>
        </p:nvSpPr>
        <p:spPr>
          <a:xfrm>
            <a:off x="3581280" y="3505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ff"/>
                </a:solidFill>
                <a:latin typeface="Times New Roman"/>
                <a:ea typeface="隶书"/>
              </a:rPr>
              <a:t>第一课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9">
            <a:hlinkClick r:id="" action="ppaction://hlinkshowjump?jump=nextslide"/>
          </p:cNvPr>
          <p:cNvSpPr/>
          <p:nvPr/>
        </p:nvSpPr>
        <p:spPr>
          <a:xfrm>
            <a:off x="8229600" y="63244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MTM_001.MID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75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75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129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例</a:t>
            </a:r>
            <a:r>
              <a:rPr b="1" lang="en-US" sz="4400" spc="-1" strike="noStrike">
                <a:solidFill>
                  <a:srgbClr val="0033cc"/>
                </a:solidFill>
                <a:latin typeface="宋体"/>
              </a:rPr>
              <a:t>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2057400" y="609480"/>
            <a:ext cx="7086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=AD ,∠CAB=∠DA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△ACB ≌ △AD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3200400" y="28954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"/>
          <p:cNvSpPr/>
          <p:nvPr/>
        </p:nvSpPr>
        <p:spPr>
          <a:xfrm>
            <a:off x="6139800" y="2019960"/>
            <a:ext cx="2274840" cy="145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6"/>
          <p:cNvSpPr/>
          <p:nvPr/>
        </p:nvSpPr>
        <p:spPr>
          <a:xfrm flipV="1">
            <a:off x="6142320" y="3463560"/>
            <a:ext cx="2269800" cy="146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7"/>
          <p:cNvSpPr/>
          <p:nvPr/>
        </p:nvSpPr>
        <p:spPr>
          <a:xfrm>
            <a:off x="5486400" y="34732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8"/>
          <p:cNvSpPr/>
          <p:nvPr/>
        </p:nvSpPr>
        <p:spPr>
          <a:xfrm flipH="1">
            <a:off x="5486040" y="2025720"/>
            <a:ext cx="68580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9"/>
          <p:cNvSpPr/>
          <p:nvPr/>
        </p:nvSpPr>
        <p:spPr>
          <a:xfrm>
            <a:off x="5501520" y="3466800"/>
            <a:ext cx="655200" cy="146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0"/>
          <p:cNvSpPr/>
          <p:nvPr/>
        </p:nvSpPr>
        <p:spPr>
          <a:xfrm>
            <a:off x="4876920" y="3168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8381880" y="2940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2"/>
          <p:cNvSpPr/>
          <p:nvPr/>
        </p:nvSpPr>
        <p:spPr>
          <a:xfrm>
            <a:off x="6172200" y="15685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3"/>
          <p:cNvSpPr/>
          <p:nvPr/>
        </p:nvSpPr>
        <p:spPr>
          <a:xfrm>
            <a:off x="6019920" y="4921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AutoShape 14"/>
          <p:cNvSpPr/>
          <p:nvPr/>
        </p:nvSpPr>
        <p:spPr>
          <a:xfrm>
            <a:off x="990720" y="2209680"/>
            <a:ext cx="3797280" cy="3164040"/>
          </a:xfrm>
          <a:prstGeom prst="wedgeRoundRectCallout">
            <a:avLst>
              <a:gd name="adj1" fmla="val 69898"/>
              <a:gd name="adj2" fmla="val -83365"/>
              <a:gd name="adj3" fmla="val 16667"/>
            </a:avLst>
          </a:prstGeom>
          <a:solidFill>
            <a:srgbClr val="ccffff">
              <a:alpha val="50000"/>
            </a:srgbClr>
          </a:solidFill>
          <a:ln w="158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证明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△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ACB ≌ △ADB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这两个条件够吗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还要什么条件呢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15"/>
          <p:cNvSpPr/>
          <p:nvPr/>
        </p:nvSpPr>
        <p:spPr>
          <a:xfrm>
            <a:off x="4267080" y="1143000"/>
            <a:ext cx="441972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129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例</a:t>
            </a:r>
            <a:r>
              <a:rPr b="1" lang="en-US" sz="4400" spc="-1" strike="noStrike">
                <a:solidFill>
                  <a:srgbClr val="0033cc"/>
                </a:solidFill>
                <a:latin typeface="宋体"/>
              </a:rPr>
              <a:t>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2057400" y="609480"/>
            <a:ext cx="7086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=AD ,∠CAB=∠DAB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△ACB ≌ △AD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4"/>
          <p:cNvSpPr/>
          <p:nvPr/>
        </p:nvSpPr>
        <p:spPr>
          <a:xfrm>
            <a:off x="3200400" y="28954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5"/>
          <p:cNvSpPr/>
          <p:nvPr/>
        </p:nvSpPr>
        <p:spPr>
          <a:xfrm>
            <a:off x="6139800" y="2019960"/>
            <a:ext cx="2274840" cy="145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6"/>
          <p:cNvSpPr/>
          <p:nvPr/>
        </p:nvSpPr>
        <p:spPr>
          <a:xfrm flipV="1">
            <a:off x="6142320" y="3463560"/>
            <a:ext cx="2269800" cy="146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7"/>
          <p:cNvSpPr/>
          <p:nvPr/>
        </p:nvSpPr>
        <p:spPr>
          <a:xfrm>
            <a:off x="5486400" y="34732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8"/>
          <p:cNvSpPr/>
          <p:nvPr/>
        </p:nvSpPr>
        <p:spPr>
          <a:xfrm flipH="1">
            <a:off x="5486040" y="2025720"/>
            <a:ext cx="68580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9"/>
          <p:cNvSpPr/>
          <p:nvPr/>
        </p:nvSpPr>
        <p:spPr>
          <a:xfrm>
            <a:off x="5501520" y="3466800"/>
            <a:ext cx="655200" cy="146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0"/>
          <p:cNvSpPr/>
          <p:nvPr/>
        </p:nvSpPr>
        <p:spPr>
          <a:xfrm>
            <a:off x="4876920" y="3168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1"/>
          <p:cNvSpPr/>
          <p:nvPr/>
        </p:nvSpPr>
        <p:spPr>
          <a:xfrm>
            <a:off x="8381880" y="2940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2"/>
          <p:cNvSpPr/>
          <p:nvPr/>
        </p:nvSpPr>
        <p:spPr>
          <a:xfrm>
            <a:off x="6172200" y="15685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13"/>
          <p:cNvSpPr/>
          <p:nvPr/>
        </p:nvSpPr>
        <p:spPr>
          <a:xfrm>
            <a:off x="6019920" y="4921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14"/>
          <p:cNvSpPr/>
          <p:nvPr/>
        </p:nvSpPr>
        <p:spPr>
          <a:xfrm>
            <a:off x="990720" y="2209680"/>
            <a:ext cx="3962160" cy="3733920"/>
          </a:xfrm>
          <a:prstGeom prst="wedgeRoundRectCallout">
            <a:avLst>
              <a:gd name="adj1" fmla="val 64902"/>
              <a:gd name="adj2" fmla="val -78273"/>
              <a:gd name="adj3" fmla="val 16667"/>
            </a:avLst>
          </a:prstGeom>
          <a:solidFill>
            <a:srgbClr val="ccffff">
              <a:alpha val="50000"/>
            </a:srgbClr>
          </a:solidFill>
          <a:ln w="158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证明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△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ACB ≌ △ADB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这两个条件够吗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还要什么条件呢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15"/>
          <p:cNvSpPr/>
          <p:nvPr/>
        </p:nvSpPr>
        <p:spPr>
          <a:xfrm>
            <a:off x="4267080" y="1143000"/>
            <a:ext cx="441972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17"/>
          <p:cNvSpPr/>
          <p:nvPr/>
        </p:nvSpPr>
        <p:spPr>
          <a:xfrm>
            <a:off x="1371600" y="51814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还要一条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129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例</a:t>
            </a:r>
            <a:r>
              <a:rPr b="1" lang="en-US" sz="4400" spc="-1" strike="noStrike">
                <a:solidFill>
                  <a:srgbClr val="0033cc"/>
                </a:solidFill>
                <a:latin typeface="宋体"/>
              </a:rPr>
              <a:t>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2057400" y="609480"/>
            <a:ext cx="7086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=AD ,∠CAB=∠DA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△ACB ≌ △AD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3200400" y="28954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5"/>
          <p:cNvSpPr/>
          <p:nvPr/>
        </p:nvSpPr>
        <p:spPr>
          <a:xfrm>
            <a:off x="6139800" y="2051640"/>
            <a:ext cx="2274840" cy="145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6"/>
          <p:cNvSpPr/>
          <p:nvPr/>
        </p:nvSpPr>
        <p:spPr>
          <a:xfrm flipV="1">
            <a:off x="6142320" y="3495240"/>
            <a:ext cx="2269800" cy="146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7"/>
          <p:cNvSpPr/>
          <p:nvPr/>
        </p:nvSpPr>
        <p:spPr>
          <a:xfrm>
            <a:off x="5486400" y="3505320"/>
            <a:ext cx="297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8"/>
          <p:cNvSpPr/>
          <p:nvPr/>
        </p:nvSpPr>
        <p:spPr>
          <a:xfrm flipH="1">
            <a:off x="5486040" y="2057400"/>
            <a:ext cx="68580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9"/>
          <p:cNvSpPr/>
          <p:nvPr/>
        </p:nvSpPr>
        <p:spPr>
          <a:xfrm>
            <a:off x="5501520" y="3498480"/>
            <a:ext cx="655200" cy="146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10"/>
          <p:cNvSpPr/>
          <p:nvPr/>
        </p:nvSpPr>
        <p:spPr>
          <a:xfrm>
            <a:off x="4876920" y="3168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1"/>
          <p:cNvSpPr/>
          <p:nvPr/>
        </p:nvSpPr>
        <p:spPr>
          <a:xfrm>
            <a:off x="8305920" y="3048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2"/>
          <p:cNvSpPr/>
          <p:nvPr/>
        </p:nvSpPr>
        <p:spPr>
          <a:xfrm>
            <a:off x="6172200" y="15685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3"/>
          <p:cNvSpPr/>
          <p:nvPr/>
        </p:nvSpPr>
        <p:spPr>
          <a:xfrm>
            <a:off x="6019920" y="4921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17"/>
          <p:cNvSpPr/>
          <p:nvPr/>
        </p:nvSpPr>
        <p:spPr>
          <a:xfrm>
            <a:off x="1981080" y="1828800"/>
            <a:ext cx="3657600" cy="1600200"/>
          </a:xfrm>
          <a:prstGeom prst="wedgeEllipseCallout">
            <a:avLst>
              <a:gd name="adj1" fmla="val 72398"/>
              <a:gd name="adj2" fmla="val 23115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既是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一条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18"/>
          <p:cNvSpPr/>
          <p:nvPr/>
        </p:nvSpPr>
        <p:spPr>
          <a:xfrm>
            <a:off x="6705720" y="1371600"/>
            <a:ext cx="2133360" cy="1143000"/>
          </a:xfrm>
          <a:prstGeom prst="cloudCallout">
            <a:avLst>
              <a:gd name="adj1" fmla="val -32365"/>
              <a:gd name="adj2" fmla="val 123333"/>
            </a:avLst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看看线段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A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19"/>
          <p:cNvSpPr/>
          <p:nvPr/>
        </p:nvSpPr>
        <p:spPr>
          <a:xfrm>
            <a:off x="3657600" y="5105520"/>
            <a:ext cx="2362320" cy="1295280"/>
          </a:xfrm>
          <a:prstGeom prst="wedgeRoundRectCallout">
            <a:avLst>
              <a:gd name="adj1" fmla="val 69555"/>
              <a:gd name="adj2" fmla="val -147060"/>
              <a:gd name="adj3" fmla="val 16667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是</a:t>
            </a:r>
            <a:r>
              <a:rPr b="1" i="1" lang="zh-CN" sz="3200" spc="-1" strike="noStrike">
                <a:solidFill>
                  <a:srgbClr val="cc00cc"/>
                </a:solidFill>
                <a:latin typeface="Times New Roman"/>
              </a:rPr>
              <a:t>△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AD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一条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20"/>
          <p:cNvSpPr/>
          <p:nvPr/>
        </p:nvSpPr>
        <p:spPr>
          <a:xfrm>
            <a:off x="5486400" y="3505320"/>
            <a:ext cx="29718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22"/>
          <p:cNvSpPr/>
          <p:nvPr/>
        </p:nvSpPr>
        <p:spPr>
          <a:xfrm>
            <a:off x="1143000" y="3809880"/>
            <a:ext cx="3733920" cy="1219320"/>
          </a:xfrm>
          <a:prstGeom prst="wedgeRectCallout">
            <a:avLst>
              <a:gd name="adj1" fmla="val 90180"/>
              <a:gd name="adj2" fmla="val -76824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△</a:t>
            </a:r>
            <a:r>
              <a:rPr b="1" i="1" lang="en-US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ACB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和</a:t>
            </a: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△</a:t>
            </a:r>
            <a:r>
              <a:rPr b="1" i="1" lang="en-US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ADB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的</a:t>
            </a:r>
            <a:r>
              <a:rPr b="1" lang="zh-CN" sz="3200" spc="-1" strike="noStrike" u="sng">
                <a:solidFill>
                  <a:srgbClr val="ff9900"/>
                </a:solidFill>
                <a:uFillTx/>
                <a:latin typeface="Times New Roman"/>
                <a:ea typeface="黑体"/>
              </a:rPr>
              <a:t>公共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129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例</a:t>
            </a:r>
            <a:r>
              <a:rPr b="1" lang="en-US" sz="4400" spc="-1" strike="noStrike">
                <a:solidFill>
                  <a:srgbClr val="0033cc"/>
                </a:solidFill>
                <a:latin typeface="宋体"/>
              </a:rPr>
              <a:t>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1828800" y="609480"/>
            <a:ext cx="7086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=AD ,∠CAB=∠DA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△ACB ≌ △AD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3200400" y="28954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5"/>
          <p:cNvSpPr/>
          <p:nvPr/>
        </p:nvSpPr>
        <p:spPr>
          <a:xfrm>
            <a:off x="6368400" y="1854720"/>
            <a:ext cx="2274840" cy="145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6"/>
          <p:cNvSpPr/>
          <p:nvPr/>
        </p:nvSpPr>
        <p:spPr>
          <a:xfrm flipV="1">
            <a:off x="6370920" y="3298320"/>
            <a:ext cx="2269800" cy="146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7"/>
          <p:cNvSpPr/>
          <p:nvPr/>
        </p:nvSpPr>
        <p:spPr>
          <a:xfrm>
            <a:off x="5715000" y="3308400"/>
            <a:ext cx="297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8"/>
          <p:cNvSpPr/>
          <p:nvPr/>
        </p:nvSpPr>
        <p:spPr>
          <a:xfrm flipH="1">
            <a:off x="5714640" y="1860480"/>
            <a:ext cx="68580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9"/>
          <p:cNvSpPr/>
          <p:nvPr/>
        </p:nvSpPr>
        <p:spPr>
          <a:xfrm>
            <a:off x="5730120" y="3301560"/>
            <a:ext cx="655200" cy="146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0"/>
          <p:cNvSpPr/>
          <p:nvPr/>
        </p:nvSpPr>
        <p:spPr>
          <a:xfrm>
            <a:off x="5257800" y="2971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1"/>
          <p:cNvSpPr/>
          <p:nvPr/>
        </p:nvSpPr>
        <p:spPr>
          <a:xfrm>
            <a:off x="8381880" y="2851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2"/>
          <p:cNvSpPr/>
          <p:nvPr/>
        </p:nvSpPr>
        <p:spPr>
          <a:xfrm>
            <a:off x="6400800" y="1371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3"/>
          <p:cNvSpPr/>
          <p:nvPr/>
        </p:nvSpPr>
        <p:spPr>
          <a:xfrm>
            <a:off x="6477120" y="4616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9"/>
          <p:cNvSpPr/>
          <p:nvPr/>
        </p:nvSpPr>
        <p:spPr>
          <a:xfrm>
            <a:off x="914400" y="1873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证明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20"/>
          <p:cNvSpPr/>
          <p:nvPr/>
        </p:nvSpPr>
        <p:spPr>
          <a:xfrm>
            <a:off x="1403280" y="24922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CB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和 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21"/>
          <p:cNvSpPr/>
          <p:nvPr/>
        </p:nvSpPr>
        <p:spPr>
          <a:xfrm>
            <a:off x="1042920" y="314172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2"/>
          <p:cNvSpPr/>
          <p:nvPr/>
        </p:nvSpPr>
        <p:spPr>
          <a:xfrm>
            <a:off x="1258920" y="2852640"/>
            <a:ext cx="396252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  =  A D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AB=∠DA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 B = A 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公共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3"/>
          <p:cNvSpPr/>
          <p:nvPr/>
        </p:nvSpPr>
        <p:spPr>
          <a:xfrm>
            <a:off x="1258920" y="48690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∴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B≌△AD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24"/>
          <p:cNvSpPr/>
          <p:nvPr/>
        </p:nvSpPr>
        <p:spPr>
          <a:xfrm>
            <a:off x="4646520" y="4869000"/>
            <a:ext cx="17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SAS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2"/>
          <p:cNvSpPr/>
          <p:nvPr/>
        </p:nvSpPr>
        <p:spPr>
          <a:xfrm>
            <a:off x="2743200" y="213372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27</a:t>
            </a:r>
            <a:r>
              <a:rPr b="1" lang="en-US" sz="4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练习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2"/>
          <p:cNvSpPr/>
          <p:nvPr/>
        </p:nvSpPr>
        <p:spPr>
          <a:xfrm>
            <a:off x="1619280" y="1773360"/>
            <a:ext cx="380988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作业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3333ff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33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cc00cc"/>
                </a:solidFill>
                <a:uFillTx/>
                <a:latin typeface="Times New Roman"/>
              </a:rPr>
              <a:t> 6 , 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1476360" y="1628640"/>
            <a:ext cx="692460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边角边公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有两边和它们的夹边对应相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的两个三角形全等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3"/>
          <p:cNvSpPr/>
          <p:nvPr/>
        </p:nvSpPr>
        <p:spPr>
          <a:xfrm>
            <a:off x="2107800" y="3933720"/>
            <a:ext cx="444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边角边公理简记为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: 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（</a:t>
            </a: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SAS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2340000" y="4724280"/>
            <a:ext cx="3124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S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代表</a:t>
            </a: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: 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代表</a:t>
            </a: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: 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1224000" y="533520"/>
            <a:ext cx="104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华文中宋"/>
                <a:ea typeface="华文中宋"/>
              </a:rPr>
              <a:t>小结</a:t>
            </a:r>
            <a:r>
              <a:rPr b="0" lang="en-US" sz="4000" spc="-1" strike="noStrike">
                <a:solidFill>
                  <a:srgbClr val="ff9900"/>
                </a:solidFill>
                <a:latin typeface="华文中宋"/>
                <a:ea typeface="华文中宋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02.MPG" descr=""/>
          <p:cNvPicPr/>
          <p:nvPr/>
        </p:nvPicPr>
        <p:blipFill>
          <a:blip r:embed="rId1"/>
          <a:stretch/>
        </p:blipFill>
        <p:spPr>
          <a:xfrm>
            <a:off x="533520" y="61920"/>
            <a:ext cx="8839080" cy="6734160"/>
          </a:xfrm>
          <a:prstGeom prst="rect">
            <a:avLst/>
          </a:prstGeom>
          <a:ln w="0">
            <a:noFill/>
          </a:ln>
        </p:spPr>
      </p:pic>
      <p:pic>
        <p:nvPicPr>
          <p:cNvPr id="697" name="03.MPG" descr=""/>
          <p:cNvPicPr/>
          <p:nvPr/>
        </p:nvPicPr>
        <p:blipFill>
          <a:blip r:embed="rId2"/>
          <a:stretch/>
        </p:blipFill>
        <p:spPr>
          <a:xfrm>
            <a:off x="5029200" y="457200"/>
            <a:ext cx="3276720" cy="26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" fill="hold"/>
                                        <p:tgtEl>
                                          <p:spTgt spid="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0" dur="1" fill="hold"/>
                                        <p:tgtEl>
                                          <p:spTgt spid="6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5" dur="1" fill="hold"/>
                                        <p:tgtEl>
                                          <p:spTgt spid="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9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990360" y="3580920"/>
            <a:ext cx="74674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重点、难点、关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重点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.: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三角形全等的判定：边角边公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难点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准确理解全等三角形的判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8483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教学目的</a:t>
            </a:r>
            <a:br>
              <a:rPr sz="4800"/>
            </a:br>
            <a:r>
              <a:rPr b="0" lang="zh-CN" sz="2400" spc="-1" strike="noStrike">
                <a:solidFill>
                  <a:srgbClr val="221304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了解判定全等三角形的意义，掌握边、角、边公理的内容，会用边、角、边公理证明两个三角形全等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          2.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通过全等三角形判定条件的学习，使学生认识事物之间的因果关系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4"/>
          <p:cNvSpPr/>
          <p:nvPr/>
        </p:nvSpPr>
        <p:spPr>
          <a:xfrm>
            <a:off x="1066680" y="7621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教学过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1295280" y="1828800"/>
            <a:ext cx="731520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复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全等三角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示两个三角形全等应注意什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167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问 题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根据定义判定两个三角形全等，需要知道三条边对应相等和三个角对应相等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有没有别的方法可以判定两个三角形全等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1219320" y="762120"/>
            <a:ext cx="40384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二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.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新授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导入新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1476360" y="2637000"/>
            <a:ext cx="692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边角边（</a:t>
            </a: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SAS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）公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有两边和它们的夹角对应相等的两个三角形全等</a:t>
            </a: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3"/>
          <p:cNvSpPr/>
          <p:nvPr/>
        </p:nvSpPr>
        <p:spPr>
          <a:xfrm>
            <a:off x="1371600" y="1752480"/>
            <a:ext cx="6924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有两边和它们的夹角对应相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的两个三角形全等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2099880" y="3357720"/>
            <a:ext cx="444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边角边公理简记为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: 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（</a:t>
            </a: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SAS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4932360" y="4292640"/>
            <a:ext cx="3124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S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代表</a:t>
            </a: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:  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代表</a:t>
            </a: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: 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1295280" y="762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边角边公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2743200" y="213372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27</a:t>
            </a:r>
            <a:r>
              <a:rPr b="1" lang="en-US" sz="4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练习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3276720" y="1871640"/>
            <a:ext cx="35812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△Ⅰ ≌ △Ⅲ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△Ⅱ ≌ △Ⅴ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△Ⅳ ≌ △Ⅷ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△Ⅵ ≌ △Ⅶ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1447920" y="8380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练习   第一题答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129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例</a:t>
            </a:r>
            <a:r>
              <a:rPr b="1" lang="en-US" sz="4400" spc="-1" strike="noStrike">
                <a:solidFill>
                  <a:srgbClr val="0033cc"/>
                </a:solidFill>
                <a:latin typeface="宋体"/>
              </a:rPr>
              <a:t>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2057400" y="609480"/>
            <a:ext cx="7086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∠CAB=∠DA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△AC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≌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△AD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3200400" y="28954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7"/>
          <p:cNvSpPr/>
          <p:nvPr/>
        </p:nvSpPr>
        <p:spPr>
          <a:xfrm>
            <a:off x="6139800" y="2019960"/>
            <a:ext cx="2274840" cy="145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8"/>
          <p:cNvSpPr/>
          <p:nvPr/>
        </p:nvSpPr>
        <p:spPr>
          <a:xfrm flipV="1">
            <a:off x="6142320" y="3463560"/>
            <a:ext cx="2269800" cy="146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9"/>
          <p:cNvSpPr/>
          <p:nvPr/>
        </p:nvSpPr>
        <p:spPr>
          <a:xfrm>
            <a:off x="5486400" y="34732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0"/>
          <p:cNvSpPr/>
          <p:nvPr/>
        </p:nvSpPr>
        <p:spPr>
          <a:xfrm flipH="1">
            <a:off x="5486040" y="2025720"/>
            <a:ext cx="68580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1"/>
          <p:cNvSpPr/>
          <p:nvPr/>
        </p:nvSpPr>
        <p:spPr>
          <a:xfrm>
            <a:off x="5501520" y="3466800"/>
            <a:ext cx="655200" cy="146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2"/>
          <p:cNvSpPr/>
          <p:nvPr/>
        </p:nvSpPr>
        <p:spPr>
          <a:xfrm>
            <a:off x="4876920" y="3168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13"/>
          <p:cNvSpPr/>
          <p:nvPr/>
        </p:nvSpPr>
        <p:spPr>
          <a:xfrm>
            <a:off x="8381880" y="2940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4"/>
          <p:cNvSpPr/>
          <p:nvPr/>
        </p:nvSpPr>
        <p:spPr>
          <a:xfrm>
            <a:off x="6172200" y="15685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5"/>
          <p:cNvSpPr/>
          <p:nvPr/>
        </p:nvSpPr>
        <p:spPr>
          <a:xfrm>
            <a:off x="6019920" y="4921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17"/>
          <p:cNvSpPr/>
          <p:nvPr/>
        </p:nvSpPr>
        <p:spPr>
          <a:xfrm>
            <a:off x="1116000" y="2133720"/>
            <a:ext cx="3743280" cy="2950920"/>
          </a:xfrm>
          <a:prstGeom prst="wedgeRoundRectCallout">
            <a:avLst>
              <a:gd name="adj1" fmla="val 83162"/>
              <a:gd name="adj2" fmla="val -85773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证明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△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ACB ≌ △AD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这两个条件够吗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9"/>
          <p:cNvSpPr/>
          <p:nvPr/>
        </p:nvSpPr>
        <p:spPr>
          <a:xfrm>
            <a:off x="4267080" y="1143000"/>
            <a:ext cx="441972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5:58:33Z</dcterms:created>
  <dc:creator>nanjin-university</dc:creator>
  <dc:description/>
  <dc:language>en-US</dc:language>
  <cp:lastModifiedBy>a</cp:lastModifiedBy>
  <dcterms:modified xsi:type="dcterms:W3CDTF">2015-03-17T07:14:14Z</dcterms:modified>
  <cp:revision>20</cp:revision>
  <dc:subject/>
  <dc:title>3.5  三角形全等的判定（一） 第一课时</dc:title>
</cp:coreProperties>
</file>